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BA0-99B6-49F4-9202-F5A3CFA2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F48-B0D8-444F-9161-00BD5DA3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E88-60FD-46B1-B369-84F345B2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36E-0FE1-43D3-ABF7-5A6F8C85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BF9-BAC8-49FA-BF49-35A50A4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C59-2BAC-4A2F-AFF9-1CD6CE9E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83C-DB44-431A-997E-588D4A2A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EBA-F786-4EF1-93AC-A2BFA50C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51B-4D70-4DF1-8CAE-B0E2B56D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C3E-15B7-4869-8EE3-C89D0CD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BEE-06C2-4708-A268-4AFC4A6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FCB-E649-45D8-A21C-30504F50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65E2-FC99-4331-8D84-95D3506BC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БАСКЕ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084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ст по баскетбо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600360" cy="23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74160" y="346968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9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Нельзя вырывать мяч у соперника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хват мяча двумя рук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хватом мяча одной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даром кула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лением рывка снизу-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1047960" cy="1247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67280" y="4797360"/>
            <a:ext cx="1657440" cy="15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0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броске мяча одной рукой от плеча с места ошибкой является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ибание ног в коленных сустав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нос руки с мячом по средней линии мя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нос руки с мячом сбоку от лиц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лючительное движение ки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1229040" cy="102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380360" y="5084640"/>
            <a:ext cx="102852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1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Бросок мяча одной рукой от плеча в движении считается одним из основных и самым простым в баскетболе. Что является ошибкой в сочетании приёмов «ведение – два шага – бросок»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ение широких шаг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вля мяча в опорном полож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рыгивание вверх при броске мяч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осок мяча правой рукой при отталкивании левой но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77080" y="5084640"/>
            <a:ext cx="1963800" cy="17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1000080" cy="10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2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Выполняя ведение мяча и сближаясь с соперником, игрок защищает мяч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талкивая соперника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орачиваясь к сопернику спин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большим наклоном и поворотом туловища от сопер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1656000" cy="1986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11280" y="476280"/>
            <a:ext cx="1038240" cy="108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3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выходе к кольцу сбоку наиболее результативным оказывается бросок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отскоком мяча от щи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Чистый» бросок мяча в коль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1333440" cy="1000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208764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4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Какие действия при обводке соперника наиболее правильны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редование ведения мяча правой и левой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мяча дальней по отношению к сопернику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мяча ближней по отношению к сопернику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1352520" cy="88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04000" y="5157720"/>
            <a:ext cx="800280" cy="139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5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выполнении «чистого» броска в кольцо (без отскока от щита) баскетболист фиксирует свой взгляд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ближнем крае кольц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дальнем крае кольц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малом квадрате на щ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1028880" cy="961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187308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6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Допускается ли команда до соревнований, если в её составе менее 5 человек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до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пускается с согласия сопер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27640" y="4869000"/>
            <a:ext cx="151308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17.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Команда получает три очка при попадании мяча в кольцо, если мяч брошен . . 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линии штрафного брос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-под щи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-за линии трехочковой з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800000" cy="19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8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На каком расстоянии от игрока, выбрасывающего мяч, должны находиться другие игро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менее 1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менее 1.5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менее 2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1656000" cy="1727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1295280" cy="10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Впервые сборная мужская команда СССР заняла 1-е место на Олимпийских играх в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64 г.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Олимпийских игр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1968 г.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Олимпийских игр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1972 г.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X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Олимпийских иг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97164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43640" y="5157720"/>
            <a:ext cx="2232000" cy="14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9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выполнении штрафного броска каждое попадание засчитыв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одно очк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два оч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три о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0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Игрок, остановившийся после ведения мяча, не имеет права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ть передачу мяча партнёр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ть бросок мяча в кольц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обновить ведение мя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1247760" cy="962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77080" y="4149720"/>
            <a:ext cx="91440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1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ри потере мяча все игроки переходят к защитным действиям. Защитник должен занять позицию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жду нападающим и корзиной которую, он защища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боку от нападающе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 свом щитом.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1513080" cy="17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2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Перехват мяча – это активный приём защиты. Успех в перехвате мяча зависит от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я между игрок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временности и быстроты перехвата мяч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рости передачи мяча между партн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20000" y="479736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4762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3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Неправильный приём мяча часто приводит к повреждению пальцев. Каковы правильные действия травмированного игрока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олжить тренировку до конц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греть повреждённое место и наложить тугую повязк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хладить повреждённое место и наложить тугую повя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36000" y="5157720"/>
            <a:ext cx="1342800" cy="100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131472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4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Играя в зоне нападения, нельзя выполнить передачу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торону кольца сопер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вою зону защит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гроку в зоне штрафного бро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1019160" cy="1257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16720" y="4508640"/>
            <a:ext cx="1324080" cy="101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5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Основными техническими приёмами в баскетболе являются четыре приёма: передача, ловля, ведение мяча 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ыжо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беж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осок мяч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л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бинация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2592360" cy="26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6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Игра начинается выбрасыванием судьёй мяча в центре круга. Разыгрывающим игрокам нельзя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бивать мяч одной р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бивать мяч двумя рук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вить мяч обоими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3860640"/>
            <a:ext cx="2159280" cy="23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047600" cy="107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7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За грубое нарушение правил, за неспортивное поведение игрок получает фол. За какое количество полученных фолов игрок выбывает из иг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я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м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3284640"/>
            <a:ext cx="216072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8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За нарушение правил баскетбола, такие, как: «ведение двумя руками», «двойное ведение», «прыжок с мячом», «пробежка», «3 секунды», «5 секунд», «зона», судья назначает . . 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рафной бросок в кольц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упрежд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расывание из-за боковой ли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16720" y="4149720"/>
            <a:ext cx="1655640" cy="12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Tahoma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Tahoma"/>
              </a:rPr>
              <a:t>Сколько игроков – баскетболистов обеих команд  могут одновременно находиться на баскетбольной площадке во время соревнований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5 челове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10 челове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12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3933720"/>
            <a:ext cx="309744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146232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9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На рисунке 7 показан способ передачи мяча. .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умя руками от живо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умя руками от груд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умя руками от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84720" y="3860640"/>
            <a:ext cx="2230560" cy="15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30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Выберите вариант, который обозначает жест судьи – «перерыв в игре (рис. 8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3384360" cy="227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Е ОТВЕТЫ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3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4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5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6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7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9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0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1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2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3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4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6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7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8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19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0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1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2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3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4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5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6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7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28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30- 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Tahoma"/>
              </a:rPr>
              <a:t>3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Tahoma"/>
              </a:rPr>
              <a:t> В игре баскетболист часто перемещается боком приставными шагами. Эти шаги выполняются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Подпрыгива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Как бы скольж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Переступ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144144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1067040" cy="108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Tahoma"/>
              </a:rPr>
              <a:t>4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ahoma"/>
              </a:rPr>
              <a:t> Перед выполнением приёмов баскетболист принимает стойку баскетболиста. Какое положение является ошибкой в данной стой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Ступни расставлены на ширину плеч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Одна нога выставлена вперё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Ноги выпрямлены в колен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Масса тела равномерно распределена на обеих ног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873080" cy="17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Нельзя делать передачу мяча партнёру, если он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ходится позади вас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ходится далеко от вас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смотрит на вас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Оторвался» от сопер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871640" cy="207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Что является ошибкой при ловле баскетбольного мяча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вля мяча с амортизацией  сгибанием р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вля мяча на прямые ру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вля мяча на уровне груд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ближение кистей рук и расстановка паль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51640" y="3429000"/>
            <a:ext cx="139068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При ведении мяча наиболее часто ошибкой является .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Шлепанье» по мячу расслабленной рук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ение мяча толчком ру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ягкая встреча мяча с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96360" y="4076640"/>
            <a:ext cx="100800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1646280" cy="15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Остановку баскетболист применяет для внезапного прекращения движения. Какое из положений правильно при выполнении остановки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ановка выполнена на согнутые но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несён центр массы тела на выставленную вперёд но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ановка выполнена на прямые но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пы поставлены на одну фронтальную ли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134316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72360" y="515772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4:13:25Z</dcterms:created>
  <dc:creator>user</dc:creator>
  <dc:description/>
  <dc:language>en-US</dc:language>
  <cp:lastModifiedBy>admin</cp:lastModifiedBy>
  <dcterms:modified xsi:type="dcterms:W3CDTF">2013-03-19T18:24:17Z</dcterms:modified>
  <cp:revision>31</cp:revision>
  <dc:subject/>
  <dc:title>БАСКЕТБОЛ</dc:title>
</cp:coreProperties>
</file>