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538-DBEE-4A02-8923-BBB5B829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D86-64C4-46D8-886E-ADB00B4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534-3913-4BF3-8463-C130CE4A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6D4-F2B8-4C61-B1A9-F375A967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5AF-94C9-474F-93DA-15010E8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5EE-5202-43F7-81F0-DFA26595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10C-EFBF-4DBB-9ADC-E8DBCF2A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A69-ADB2-4E0B-856E-132005AC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82C-9693-41F8-B1E7-AF3F4BB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4A0-7B29-4D80-A408-BF33653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1E5-B66A-4640-813B-A15BD80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3D1-8D5E-4A5E-95E8-C94B9A0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72E5-1EBA-4AD9-9F69-3E7D65760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Доброе утр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90400" y="1600200"/>
            <a:ext cx="796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..жить оруж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еть сл..ж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..жить в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.житься на пл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а не прил..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ить зубы на по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а руку на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ти в пол..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Arial"/>
              </a:rPr>
              <a:t>Ум заключается не только в знании, но и в умении прилагать знания на деле. 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(Аристотель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38102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33 (правил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449 или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39621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7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ставьте пропущенные буквы, подбирая провероч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..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.с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..н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..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..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-о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рне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–лаг- - -лож 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3047760"/>
            <a:ext cx="6516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ЛОЖЕНИЕ, ПРЕДЛАГАТЬ, ПРИЛАГАТЕЛЬНО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ИТЬ, РАЗЛОЖИТЬ, ПРИЛАГАТЬ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наблюд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9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04920" y="39625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уйте слова в левой и правой колонк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Попробуйте установить закономерность в написании бук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рне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/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447920" y="45720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сло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438280" y="335268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е и выполните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2514600" y="2057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ь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ельное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562720" y="2057400"/>
            <a:ext cx="220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ие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ие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2514600" y="2057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ь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ельное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562720" y="2057400"/>
            <a:ext cx="220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ние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ние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18"/>
          <p:cNvSpPr/>
          <p:nvPr/>
        </p:nvSpPr>
        <p:spPr>
          <a:xfrm rot="18759000">
            <a:off x="6095880" y="1905120"/>
            <a:ext cx="38088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19"/>
          <p:cNvSpPr/>
          <p:nvPr/>
        </p:nvSpPr>
        <p:spPr>
          <a:xfrm rot="18759000">
            <a:off x="5943600" y="2362320"/>
            <a:ext cx="38088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20"/>
          <p:cNvSpPr/>
          <p:nvPr/>
        </p:nvSpPr>
        <p:spPr>
          <a:xfrm rot="18759000">
            <a:off x="6324480" y="2666520"/>
            <a:ext cx="38124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21"/>
          <p:cNvSpPr/>
          <p:nvPr/>
        </p:nvSpPr>
        <p:spPr>
          <a:xfrm rot="19431000">
            <a:off x="2971440" y="198108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22"/>
          <p:cNvSpPr/>
          <p:nvPr/>
        </p:nvSpPr>
        <p:spPr>
          <a:xfrm rot="19431000">
            <a:off x="3200040" y="274320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23"/>
          <p:cNvSpPr/>
          <p:nvPr/>
        </p:nvSpPr>
        <p:spPr>
          <a:xfrm rot="19431000">
            <a:off x="2819160" y="2362320"/>
            <a:ext cx="38088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суффи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еркнуть согласный в ко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вы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 данных глаголов образуйте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29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-</cp:lastModifiedBy>
  <dcterms:modified xsi:type="dcterms:W3CDTF">2013-02-27T21:00:3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