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B505-194D-4739-A587-26F8EC130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3AF4-6EC9-4322-9DFE-AF7C05CB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63AD-1AC8-48F3-AC59-A86CBF1B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7E21-79B8-486E-88F0-57D875E92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1E4F-30EA-4ED3-A297-955040F8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23B3-7B3E-450F-BC1B-BA82ABFB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BB53-E3AB-49B0-BEA7-8C1B1FFE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B381-6A19-47BD-BEE2-4D2EB435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23B3-FF7D-47E3-9FC5-AE8F13FC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E35E-1881-4CDA-A1EC-FACF687F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F077-6C30-4CDD-B7AB-3BA94E37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6DFF-92E2-42E9-8651-51BBD32D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CE5E-8E42-4D41-AC7E-992962DA9F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Доброе утр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590400" y="1600200"/>
            <a:ext cx="796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..жить оруж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деть сл..жа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..жить в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..житься на пл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а не прил..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..жить зубы на пол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..жа руку на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йти в пол..ж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609588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70c0"/>
                </a:solidFill>
                <a:latin typeface="Arial"/>
              </a:rPr>
              <a:t>Ум заключается не только в знании, но и в умении прилагать знания на деле. </a:t>
            </a: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(Аристотель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438280" y="3200400"/>
            <a:ext cx="381024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. 33 (правил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. 449 или 4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4191120" y="2590920"/>
            <a:ext cx="396216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65784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Вставьте пропущенные буквы, подбирая проверочные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х..д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.се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..н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л..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л..г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уквы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-о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корне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–лаг- - -лож –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2160" y="3047760"/>
            <a:ext cx="6516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ЗЛОЖЕНИЕ, ПРЕДЛАГАТЬ, ПРИЛАГАТЕЛЬНОЕ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ЛОЖИТЬ, РАЗЛОЖИТЬ, ПРИЛАГАТЬ.</a:t>
            </a:r>
            <a:br>
              <a:rPr sz="3200"/>
            </a:br>
            <a:br>
              <a:rPr sz="3200"/>
            </a:b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216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онаблюдае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876920" y="457200"/>
            <a:ext cx="3987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304920" y="3962520"/>
            <a:ext cx="8610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анализируйте слова в левой и правой колонк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Попробуйте установить закономерность в написании бук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корне 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/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ж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447920" y="457200"/>
            <a:ext cx="7391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те слова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438280" y="3352680"/>
            <a:ext cx="5029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судите и выполните в па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1828800" cy="14572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2"/>
          <p:cNvSpPr/>
          <p:nvPr/>
        </p:nvSpPr>
        <p:spPr>
          <a:xfrm>
            <a:off x="2514600" y="2057400"/>
            <a:ext cx="2819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ать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ать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ательное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5562720" y="2057400"/>
            <a:ext cx="2209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жить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жение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жение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2514600" y="2057400"/>
            <a:ext cx="2819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ть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ть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тельное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5562720" y="2057400"/>
            <a:ext cx="2209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ть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ние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ние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rc 18"/>
          <p:cNvSpPr/>
          <p:nvPr/>
        </p:nvSpPr>
        <p:spPr>
          <a:xfrm rot="18759000">
            <a:off x="6095880" y="1905120"/>
            <a:ext cx="380880" cy="381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rc 19"/>
          <p:cNvSpPr/>
          <p:nvPr/>
        </p:nvSpPr>
        <p:spPr>
          <a:xfrm rot="18759000">
            <a:off x="5943600" y="2362320"/>
            <a:ext cx="380880" cy="380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rc 20"/>
          <p:cNvSpPr/>
          <p:nvPr/>
        </p:nvSpPr>
        <p:spPr>
          <a:xfrm rot="18759000">
            <a:off x="6324480" y="2666520"/>
            <a:ext cx="381240" cy="381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rc 21"/>
          <p:cNvSpPr/>
          <p:nvPr/>
        </p:nvSpPr>
        <p:spPr>
          <a:xfrm rot="19431000">
            <a:off x="2971440" y="1981080"/>
            <a:ext cx="38088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rc 22"/>
          <p:cNvSpPr/>
          <p:nvPr/>
        </p:nvSpPr>
        <p:spPr>
          <a:xfrm rot="19431000">
            <a:off x="3200040" y="2743200"/>
            <a:ext cx="38088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rc 23"/>
          <p:cNvSpPr/>
          <p:nvPr/>
        </p:nvSpPr>
        <p:spPr>
          <a:xfrm rot="19431000">
            <a:off x="2819160" y="2362320"/>
            <a:ext cx="38088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елить кор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елить суффик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черкнуть согласный в кор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делать выв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От данных глаголов образуйте существи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лагать –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лагать –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полагать –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5080" y="2174760"/>
            <a:ext cx="41940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полагать –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агать –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лагать –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овери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1 вари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ло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оло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о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2 вари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лага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лаг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ага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лаг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лаг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аг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296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07:50:44Z</dcterms:created>
  <dc:creator>Нина</dc:creator>
  <dc:description/>
  <dc:language>en-US</dc:language>
  <cp:lastModifiedBy>-</cp:lastModifiedBy>
  <dcterms:modified xsi:type="dcterms:W3CDTF">2013-02-27T21:00:34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