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E41-DF71-487D-B3AD-B48D725E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132-CE56-44A3-93D3-FB01597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EFE-E87A-4CEC-B8D7-6C9F6F8A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3B9-FB01-4E94-AC95-63A6F3E5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B1C-B15A-465C-BEAD-66E6944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53A-C638-46D6-BAE4-2725628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2A4-5BB6-45D9-8FEA-7C9CA13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24C-4D33-4BED-B57C-E30B6B8F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739-9F45-40A5-9D6D-6C0CD7F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2D3-BC23-4A18-B101-3F2A870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451-A74B-4C57-9D60-A4CEA7A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78C-5B7E-46D3-97BD-58D8824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995-EF26-4B82-A392-96EE0A454A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тематик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.01.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Users\1\Desktop\9.jpg"/>
          <p:cNvPicPr/>
          <p:nvPr/>
        </p:nvPicPr>
        <p:blipFill>
          <a:blip r:embed="rId1"/>
          <a:stretch/>
        </p:blipFill>
        <p:spPr>
          <a:xfrm>
            <a:off x="0" y="1484280"/>
            <a:ext cx="8893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C:\Users\1\Desktop\001.jpg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C:\Users\1\Desktop\8.jpg"/>
          <p:cNvPicPr/>
          <p:nvPr/>
        </p:nvPicPr>
        <p:blipFill>
          <a:blip r:embed="rId1"/>
          <a:stretch/>
        </p:blipFill>
        <p:spPr>
          <a:xfrm>
            <a:off x="611280" y="162864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0:34:39Z</dcterms:created>
  <dc:creator>1</dc:creator>
  <dc:description/>
  <dc:language>en-US</dc:language>
  <cp:lastModifiedBy>1</cp:lastModifiedBy>
  <dcterms:modified xsi:type="dcterms:W3CDTF">2013-01-09T20:38:18Z</dcterms:modified>
  <cp:revision>4</cp:revision>
  <dc:subject/>
  <dc:title>Математика.</dc:title>
</cp:coreProperties>
</file>