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B86-3583-450F-BC2A-533815A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86D-8445-4E9B-891E-1702B397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B6A-9E24-4035-9DDA-85162011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684-E96E-41A0-B9C5-7002E6A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521-66F9-4A48-84EC-D370480F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7C7-E26B-40FD-8679-BF087DA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9AC-9B40-4521-85D6-5AECF24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FFC-0515-4286-995D-AC7DC9E3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B70-3966-47E7-9018-05FACF32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D6C-9E90-48FB-B697-7391080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0AF-5B1B-43AC-9004-2D7E42F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E59-2960-402E-BE6F-F4F3B91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551B-44B6-418B-A378-AD987D6FCA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тематик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.01.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Users\1\Desktop\9.jpg"/>
          <p:cNvPicPr/>
          <p:nvPr/>
        </p:nvPicPr>
        <p:blipFill>
          <a:blip r:embed="rId1"/>
          <a:stretch/>
        </p:blipFill>
        <p:spPr>
          <a:xfrm>
            <a:off x="0" y="1484280"/>
            <a:ext cx="8893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C:\Users\1\Desktop\001.jpg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C:\Users\1\Desktop\8.jpg"/>
          <p:cNvPicPr/>
          <p:nvPr/>
        </p:nvPicPr>
        <p:blipFill>
          <a:blip r:embed="rId1"/>
          <a:stretch/>
        </p:blipFill>
        <p:spPr>
          <a:xfrm>
            <a:off x="611280" y="162864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0:34:39Z</dcterms:created>
  <dc:creator>1</dc:creator>
  <dc:description/>
  <dc:language>en-US</dc:language>
  <cp:lastModifiedBy>1</cp:lastModifiedBy>
  <dcterms:modified xsi:type="dcterms:W3CDTF">2013-01-09T20:38:18Z</dcterms:modified>
  <cp:revision>4</cp:revision>
  <dc:subject/>
  <dc:title>Математика.</dc:title>
</cp:coreProperties>
</file>