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4.jpeg" ContentType="image/jpeg"/>
  <Override PartName="/ppt/media/image2.wmf" ContentType="image/x-wmf"/>
  <Override PartName="/ppt/media/image1.jpeg" ContentType="image/jpeg"/>
  <Override PartName="/ppt/media/image7.png" ContentType="image/png"/>
  <Override PartName="/ppt/media/image4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BBB-D1D2-43CD-B45D-4D10F464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981-15BC-4F13-94CB-9E564310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559-6CD0-4925-91E8-56131FB9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8EB-C61D-4402-9A65-CCF983A3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C0EE-B575-41F8-9B36-7789EAB7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6F69-F270-4DAC-8CF9-9B5682A2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4D0-BA76-402F-94FC-408DA9B6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3BBC-EE2A-49E7-8AFE-C8CA3506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A801-143E-4C9C-A4C6-026DCAC9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E86E-8BAD-4EF0-A386-D887D63D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07A8-F260-4C68-9AD1-A1CB7100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E47-77D2-496E-B626-8A39BAA7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65DB-F707-4ABB-A756-78DA0139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6AFE-2EBF-46ED-9CCF-72A2292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A4EA-F3C0-47B7-B3A6-B451B301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6457-6D83-417C-8E5D-9EDA8E1A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B71C-CFBA-4F50-95BD-7B7AFD0E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168A-216B-4FC3-BA8E-7CE8CDCF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7227-E901-4790-81CC-3C5BA445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AA37-1231-431E-A59C-B198F47F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EC66-CD1A-4112-AE51-72BF36B0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8C23-BA23-4EF5-81A6-8A27F4E4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54E-4E03-42EF-9EC5-20BD34E0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813E-9D99-4C99-B311-0643C4DB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010B-00F1-429B-999F-A50F5AE0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B484-C7F3-431B-ADCC-D7504CFE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3E5B3-7ECE-4A1B-9AD8-BBFBA600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85E6-9DD0-4609-8D95-4FCDA24D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297B3-49E7-407A-9D99-4F745040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BED5E-F27A-456F-84A9-E39DB962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4C8-C5A2-4BF8-8049-112483E4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B82-BF3B-47E4-BB04-E1512B1C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E81-AEF4-4347-9F20-A7D5B2AD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172-F295-4B57-945E-42BF3D1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4DC-2A74-46EC-83F2-2D2D181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114-9ECB-4AB2-A9AF-A1431ACC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DB14-7BBC-4E3C-90B1-B66E252E1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AFFD-62AE-4954-8481-F5A5B55C54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2141-D49A-4C58-ABFE-1993BEA294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11291" t="5776" r="13058" b="6110"/>
          <a:stretch/>
        </p:blipFill>
        <p:spPr>
          <a:xfrm>
            <a:off x="971640" y="189000"/>
            <a:ext cx="7272360" cy="6352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 rot="20937000">
            <a:off x="2387520" y="2149200"/>
            <a:ext cx="245736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Основные вредные факторы, действующие на человека за компьютером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5545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сидячее положение в течение длительного времен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воздействие электромагнитного излучения монитор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утомление глаз, нагрузка на зрени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перегрузка суставов кисте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стресс при потере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43640" y="4533840"/>
            <a:ext cx="2489400" cy="2324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093080" y="1844640"/>
            <a:ext cx="13460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Сидячее положение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14560" y="1915920"/>
            <a:ext cx="532908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отсюда остеохондроз, а у детей - сколи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У тех, кто много сидит, между сиденьем стула и телом образуется тепловой компресс, что ведет к застою крови в тазовых органах, как следствие - простатит и геморрой, болезни, лечение которых - процесс длительный и малоприятный. Кроме того, малоподвижный образ жизни часто приводит к ожир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592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Электромагнитное излучение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6048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5014" t="6614" r="5067" b="13370"/>
          <a:stretch/>
        </p:blipFill>
        <p:spPr>
          <a:xfrm>
            <a:off x="539640" y="4724280"/>
            <a:ext cx="2881440" cy="1922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642000" y="1268280"/>
            <a:ext cx="2502000" cy="1881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00720" y="4581360"/>
            <a:ext cx="2124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Воздействие на зрение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5051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Глаза регистрируют самую мелкую вибрацию текста или картинки, а тем более мерцание экрана. Перегрузка глаз приводит к потере остроты зрения. Плохо сказываются на зрении неудачный подбор цвета, шрифтов, компоновки окон в используемых Вами программах, неправильное расположение экр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3703" r="0" b="0"/>
          <a:stretch/>
        </p:blipFill>
        <p:spPr>
          <a:xfrm>
            <a:off x="6084720" y="333360"/>
            <a:ext cx="3059280" cy="281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130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Перегрузка суставов кистей рук.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6120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Нервные окончания подушечек пальцев как бы разбиваются от постоянных ударов по клавишам, возникают онемение, слабость, в подушечках бегают мурашки. Это может привести к повреждению суставного и связочного аппарата кисти, а в дальнейшем заболевания кисти могут стать хроничес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5157720"/>
            <a:ext cx="2411280" cy="1549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59640" y="4941720"/>
            <a:ext cx="22860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Bookman Old Style"/>
              </a:rPr>
              <a:t>Стресс при потере информации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6038640" cy="31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Далеко не все пользователи регулярно делают резервные копии своей информации. А ведь и вирусы не дремлют, и винчестеры лучших фирм, бывает, ломаются, и самый опытный программист может иногда нажать не ту кнопку... В результате такого стресса случались и инфар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00720" y="907920"/>
            <a:ext cx="2614680" cy="3097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22860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547640" y="476280"/>
            <a:ext cx="5904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йте 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е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здоров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3779" t="4446" r="9418" b="11254"/>
          <a:stretch/>
        </p:blipFill>
        <p:spPr>
          <a:xfrm>
            <a:off x="2484360" y="3141720"/>
            <a:ext cx="4248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13:05:34Z</dcterms:created>
  <dc:creator>Lisa</dc:creator>
  <dc:description/>
  <dc:language>en-US</dc:language>
  <cp:lastModifiedBy>usmanova</cp:lastModifiedBy>
  <dcterms:modified xsi:type="dcterms:W3CDTF">2008-02-14T08:42:48Z</dcterms:modified>
  <cp:revision>8</cp:revision>
  <dc:subject/>
  <dc:title>Слайд 1</dc:title>
</cp:coreProperties>
</file>