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4.jpeg" ContentType="image/jpeg"/>
  <Override PartName="/ppt/media/image2.wmf" ContentType="image/x-wmf"/>
  <Override PartName="/ppt/media/image1.jpeg" ContentType="image/jpeg"/>
  <Override PartName="/ppt/media/image7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0F1-2A54-426C-B941-13A83FB6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310-D81D-460B-8FCA-93355E3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0E3-76AE-40F2-A41B-23C6CEB0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297-6ED8-41DF-B72F-8622238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B895-9D76-42B1-A3FD-514AE58B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228-9F3D-415F-8769-77B61663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C0FE-58D2-4D9F-A3AD-8E16BECF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A1A8-A48F-4130-8452-A4D291C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E7E-2955-4877-8F07-6D34788E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6B1-FDED-449F-BD65-D6057DF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9AB9-06B0-42D6-8A49-A959CFE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001-D23C-4798-B97E-7B8C7E5F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B209-7F9B-4857-9F19-58C3720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B9D-8F8D-4AED-BA00-2DD10F3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EB22-1367-4A1F-BB85-9B715D0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CF1-9AF2-4F62-A2FF-DF44EEC4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1419-B1D6-4AE3-83B8-2B26BB38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4D9D-55A2-4322-822E-646C0EFE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0BA5-EA99-4318-A82F-57BAC0D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9641-DF43-4FC0-B996-48ED5B71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FDC3-2DE5-44F0-8F55-E01B317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01E3-7989-4BA9-861E-B987A1F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EDB-C4BC-4CF7-AD8D-0719618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567A-F22F-471A-B410-F158599D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0F23-17E9-4AEF-AC5B-496EBA4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FDC8-F83A-4AD0-83D3-9EDD6FA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3C01-0495-4A02-B4A5-5839AF9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0F48-0793-4468-8F67-4078E89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2F9C-25DB-4CA6-8312-AACB44C8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511A-5407-4A14-9AD3-16DA80C2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D57-6EC4-4073-B239-34D7AFE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A42-0DC6-45D4-A2A3-F811D7CD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02A-E3FB-488B-9FFD-B08F4C9A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326-D1A6-4949-A0DB-DEF0768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4F4-FF74-4495-A800-CE393363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9DD-781A-4BEA-95CC-74F9B02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46E6-8611-4313-90F4-54219666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0F9-461D-4F5E-A4CB-B57EC047E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878C-8CE2-4813-80CD-967F8E3F4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1291" t="5776" r="13058" b="6110"/>
          <a:stretch/>
        </p:blipFill>
        <p:spPr>
          <a:xfrm>
            <a:off x="971640" y="189000"/>
            <a:ext cx="7272360" cy="635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 rot="20937000">
            <a:off x="2387520" y="2149200"/>
            <a:ext cx="24573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Основные вредные факторы, действующие на человека за компьютером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554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идячее положение в течение длительного времен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воздействие электромагнитного излучения монитор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утомление глаз, нагрузка на зре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перегрузка суставов кист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тресс при потере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3640" y="4533840"/>
            <a:ext cx="2489400" cy="2324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3460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Сидячее положение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14560" y="1915920"/>
            <a:ext cx="532908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отсюда остеохондроз, а у детей - сколи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У тех, кто много сидит, между сиденьем стула и телом образуется тепловой компресс, что ведет к застою крови в тазовых органах, как следствие - простатит и геморрой, болезни, лечение которых - процесс длительный и малоприятный. Кроме того, малоподвижный образ жизни часто приводит к ожир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592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Электромагнитное излучение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6048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5014" t="6614" r="5067" b="13370"/>
          <a:stretch/>
        </p:blipFill>
        <p:spPr>
          <a:xfrm>
            <a:off x="539640" y="4724280"/>
            <a:ext cx="2881440" cy="1922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42000" y="1268280"/>
            <a:ext cx="2502000" cy="1881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12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Воздействие на зрение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5051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Глаза регистрируют самую мелкую вибрацию текста или картинки, а тем более мерцание экрана. Перегрузка глаз приводит к потере остроты зрения. Плохо сказываются на зрении неудачный подбор цвета, шрифтов, компоновки окон в используемых Вами программах, неправильное расположение экр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3703" r="0" b="0"/>
          <a:stretch/>
        </p:blipFill>
        <p:spPr>
          <a:xfrm>
            <a:off x="6084720" y="333360"/>
            <a:ext cx="3059280" cy="281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13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Перегрузка суставов кистей рук.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6120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Нервные окончания подушечек пальцев как бы разбиваются от постоянных ударов по клавишам, возникают онемение, слабость, в подушечках бегают мурашки. Это может привести к повреждению суставного и связочного аппарата кисти, а в дальнейшем заболевания кисти могут стать хрон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5157720"/>
            <a:ext cx="2411280" cy="1549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2286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Стресс при потере информации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603864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Далеко не все пользователи регулярно делают резервные копии своей информации. А ведь и вирусы не дремлют, и винчестеры лучших фирм, бывает, ломаются, и самый опытный программист может иногда нажать не ту кнопку... В результате такого стресса случались и инфар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2286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547640" y="476280"/>
            <a:ext cx="590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йте 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е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здоров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3779" t="4446" r="9418" b="11254"/>
          <a:stretch/>
        </p:blipFill>
        <p:spPr>
          <a:xfrm>
            <a:off x="2484360" y="3141720"/>
            <a:ext cx="4248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13:05:34Z</dcterms:created>
  <dc:creator>Lisa</dc:creator>
  <dc:description/>
  <dc:language>en-US</dc:language>
  <cp:lastModifiedBy>usmanova</cp:lastModifiedBy>
  <dcterms:modified xsi:type="dcterms:W3CDTF">2008-02-14T08:42:48Z</dcterms:modified>
  <cp:revision>8</cp:revision>
  <dc:subject/>
  <dc:title>Слайд 1</dc:title>
</cp:coreProperties>
</file>