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2AA-A1C3-4162-899F-7D83932F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666-5027-4295-BED7-2C4B184A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E31-97F7-4122-A4BD-3E8EF45F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71A-2100-4212-9CB7-73B80E94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1B2A-2261-4F22-985F-E606F32E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3388-881A-4A20-A817-B9BBAA3B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2219-075A-4EBF-B569-90811C25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94A9-CFDD-4BBE-ACC0-847D1DCB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911F-9066-48E1-A060-14987023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1905-2704-425B-B0E7-5A082744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7E16-1ACC-4525-B1E5-6FA2B464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11D-07B0-4376-8164-F09544F0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BEB0-EB4C-4467-9213-A540C72E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8472-D3B7-454A-9ED1-4FAF2B7B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501F-9D9A-4476-BB3D-83118A3A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5056-3A86-49C4-BEE2-9B6EF47C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A83A-0A90-4393-93AB-93FBE127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71F-F4F9-4796-854B-27DFF610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55C-85C5-4C89-A462-44A14CD9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B92-24E4-4EB8-82FB-05BB1C98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908D-3C69-43B7-AE59-CF4541CB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F79-D562-4C1A-9201-CD1CFE11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BA1E-6A06-4650-801E-2AEAE1D9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A4BF-F5B8-43CD-8176-516E0B3A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A03C-690C-4FCA-A860-49CE8124ED5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A6C9-69FB-4B1A-9672-9AAA2C87AB6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nswer my questions, please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42960" y="18572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Do you help your mother at hom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Do you tidy your room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Do you water the flower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Do you help your mother to cook dinner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he goes shopp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C:\Users\Администратор\Desktop\Новая папка\всехнее\катя\English\картинки\тематические\ku9.jpg"/>
          <p:cNvPicPr/>
          <p:nvPr/>
        </p:nvPicPr>
        <p:blipFill>
          <a:blip r:embed="rId1"/>
          <a:stretch/>
        </p:blipFill>
        <p:spPr>
          <a:xfrm>
            <a:off x="1928880" y="2071800"/>
            <a:ext cx="65008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he feeds the do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C:\Users\Администратор\Desktop\Новая папка\всехнее\катя\English\картинки\тематические\ku12.jpg"/>
          <p:cNvPicPr/>
          <p:nvPr/>
        </p:nvPicPr>
        <p:blipFill>
          <a:blip r:embed="rId1"/>
          <a:stretch/>
        </p:blipFill>
        <p:spPr>
          <a:xfrm>
            <a:off x="1571760" y="1857240"/>
            <a:ext cx="692928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He takes his dog for a wal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4" descr="C:\Users\Администратор\Desktop\Новая папка\всехнее\катя\English\картинки\тематические\ku13.jpg"/>
          <p:cNvPicPr/>
          <p:nvPr/>
        </p:nvPicPr>
        <p:blipFill>
          <a:blip r:embed="rId1"/>
          <a:stretch/>
        </p:blipFill>
        <p:spPr>
          <a:xfrm>
            <a:off x="1785960" y="1857240"/>
            <a:ext cx="65008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68706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He makes his b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2" descr="C:\Users\Администратор\Desktop\Новая папка\всехнее\катя\English\картинки\тематические\ku6.jpg"/>
          <p:cNvPicPr/>
          <p:nvPr/>
        </p:nvPicPr>
        <p:blipFill>
          <a:blip r:embed="rId1"/>
          <a:stretch/>
        </p:blipFill>
        <p:spPr>
          <a:xfrm>
            <a:off x="1428840" y="1785960"/>
            <a:ext cx="678636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428400"/>
            <a:ext cx="857268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</a:rPr>
              <a:t>He answers phone call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7" descr="telefon"/>
          <p:cNvPicPr/>
          <p:nvPr/>
        </p:nvPicPr>
        <p:blipFill>
          <a:blip r:embed="rId1"/>
          <a:stretch/>
        </p:blipFill>
        <p:spPr>
          <a:xfrm>
            <a:off x="2071800" y="1428840"/>
            <a:ext cx="6032520" cy="41637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"/>
          <p:cNvSpPr/>
          <p:nvPr/>
        </p:nvSpPr>
        <p:spPr>
          <a:xfrm>
            <a:off x="8043480" y="50760"/>
            <a:ext cx="8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Listen, read and reme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1428840" y="1000080"/>
            <a:ext cx="6072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ash             wash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elp               help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Go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w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pair            repair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ake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m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lean             clean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ay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la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nswer           answer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eed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f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ater            water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ay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ook              cook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ake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to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Штриховая стрелка вправо 8"/>
          <p:cNvSpPr/>
          <p:nvPr/>
        </p:nvSpPr>
        <p:spPr>
          <a:xfrm>
            <a:off x="2714760" y="114300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Штриховая стрелка вправо 9"/>
          <p:cNvSpPr/>
          <p:nvPr/>
        </p:nvSpPr>
        <p:spPr>
          <a:xfrm>
            <a:off x="2571840" y="157176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Штриховая стрелка вправо 10"/>
          <p:cNvSpPr/>
          <p:nvPr/>
        </p:nvSpPr>
        <p:spPr>
          <a:xfrm>
            <a:off x="2571840" y="192888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Штриховая стрелка вправо 12"/>
          <p:cNvSpPr/>
          <p:nvPr/>
        </p:nvSpPr>
        <p:spPr>
          <a:xfrm>
            <a:off x="2643120" y="2214720"/>
            <a:ext cx="857160" cy="14256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Штриховая стрелка вправо 13"/>
          <p:cNvSpPr/>
          <p:nvPr/>
        </p:nvSpPr>
        <p:spPr>
          <a:xfrm>
            <a:off x="3000240" y="2643120"/>
            <a:ext cx="85752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Штриховая стрелка вправо 14"/>
          <p:cNvSpPr/>
          <p:nvPr/>
        </p:nvSpPr>
        <p:spPr>
          <a:xfrm>
            <a:off x="2928960" y="300024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Штриховая стрелка вправо 15"/>
          <p:cNvSpPr/>
          <p:nvPr/>
        </p:nvSpPr>
        <p:spPr>
          <a:xfrm>
            <a:off x="2786040" y="3357720"/>
            <a:ext cx="857160" cy="14256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Штриховая стрелка вправо 16"/>
          <p:cNvSpPr/>
          <p:nvPr/>
        </p:nvSpPr>
        <p:spPr>
          <a:xfrm>
            <a:off x="2786040" y="371484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Штриховая стрелка вправо 17"/>
          <p:cNvSpPr/>
          <p:nvPr/>
        </p:nvSpPr>
        <p:spPr>
          <a:xfrm>
            <a:off x="3000240" y="4071960"/>
            <a:ext cx="85752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Штриховая стрелка вправо 18"/>
          <p:cNvSpPr/>
          <p:nvPr/>
        </p:nvSpPr>
        <p:spPr>
          <a:xfrm>
            <a:off x="2857680" y="442908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Штриховая стрелка вправо 19"/>
          <p:cNvSpPr/>
          <p:nvPr/>
        </p:nvSpPr>
        <p:spPr>
          <a:xfrm>
            <a:off x="2928960" y="485784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Штриховая стрелка вправо 20"/>
          <p:cNvSpPr/>
          <p:nvPr/>
        </p:nvSpPr>
        <p:spPr>
          <a:xfrm>
            <a:off x="2714760" y="5143680"/>
            <a:ext cx="857160" cy="14256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Штриховая стрелка вправо 21"/>
          <p:cNvSpPr/>
          <p:nvPr/>
        </p:nvSpPr>
        <p:spPr>
          <a:xfrm>
            <a:off x="2786040" y="557208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Штриховая стрелка вправо 22"/>
          <p:cNvSpPr/>
          <p:nvPr/>
        </p:nvSpPr>
        <p:spPr>
          <a:xfrm>
            <a:off x="2714760" y="592920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Управляющая кнопка: звук 1">
            <a:hlinkClick r:id="rId1"/>
          </p:cNvPr>
          <p:cNvSpPr/>
          <p:nvPr/>
        </p:nvSpPr>
        <p:spPr>
          <a:xfrm>
            <a:off x="7667640" y="1285920"/>
            <a:ext cx="576360" cy="7858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85880"/>
              <a:gd name="textAreaBottom" fmla="*/ 748800 h 785880"/>
            </a:gdLst>
            <a:ahLst/>
            <a:rect l="textAreaLeft" t="textAreaTop" r="textAreaRight" b="textAreaBottom"/>
            <a:pathLst>
              <a:path w="21600" h="29447">
                <a:moveTo>
                  <a:pt x="0" y="0"/>
                </a:moveTo>
                <a:lnTo>
                  <a:pt x="21600" y="0"/>
                </a:lnTo>
                <a:lnTo>
                  <a:pt x="21600" y="29447"/>
                </a:lnTo>
                <a:lnTo>
                  <a:pt x="0" y="29447"/>
                </a:lnTo>
                <a:close/>
              </a:path>
              <a:path fill="lightenLess" w="21600" h="294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447">
                <a:moveTo>
                  <a:pt x="21600" y="0"/>
                </a:moveTo>
                <a:lnTo>
                  <a:pt x="21600" y="29447"/>
                </a:lnTo>
                <a:lnTo>
                  <a:pt x="20200" y="28047"/>
                </a:lnTo>
                <a:lnTo>
                  <a:pt x="20200" y="1400"/>
                </a:lnTo>
                <a:close/>
              </a:path>
              <a:path fill="darkenLess" w="21600" h="29447">
                <a:moveTo>
                  <a:pt x="21600" y="29447"/>
                </a:moveTo>
                <a:lnTo>
                  <a:pt x="0" y="29447"/>
                </a:lnTo>
                <a:lnTo>
                  <a:pt x="1400" y="28047"/>
                </a:lnTo>
                <a:lnTo>
                  <a:pt x="20200" y="28047"/>
                </a:lnTo>
                <a:close/>
              </a:path>
              <a:path fill="lighten" w="21600" h="29447">
                <a:moveTo>
                  <a:pt x="0" y="294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047"/>
                </a:lnTo>
                <a:close/>
              </a:path>
              <a:path fill="darken" w="21600" h="29447">
                <a:moveTo>
                  <a:pt x="3794" y="12330"/>
                </a:moveTo>
                <a:lnTo>
                  <a:pt x="8224" y="12330"/>
                </a:lnTo>
                <a:lnTo>
                  <a:pt x="12645" y="7717"/>
                </a:lnTo>
                <a:lnTo>
                  <a:pt x="12645" y="21730"/>
                </a:lnTo>
                <a:lnTo>
                  <a:pt x="8224" y="17117"/>
                </a:lnTo>
                <a:lnTo>
                  <a:pt x="3794" y="17117"/>
                </a:lnTo>
                <a:close/>
              </a:path>
              <a:path fill="darken" w="21600" h="29447">
                <a:moveTo>
                  <a:pt x="14299" y="14724"/>
                </a:moveTo>
                <a:lnTo>
                  <a:pt x="17806" y="14724"/>
                </a:lnTo>
              </a:path>
              <a:path fill="darken" w="21600" h="29447">
                <a:moveTo>
                  <a:pt x="14299" y="12330"/>
                </a:moveTo>
                <a:lnTo>
                  <a:pt x="17806" y="9562"/>
                </a:lnTo>
              </a:path>
              <a:path fill="darken" w="21600" h="29447">
                <a:moveTo>
                  <a:pt x="14299" y="17117"/>
                </a:moveTo>
                <a:lnTo>
                  <a:pt x="17806" y="19885"/>
                </a:lnTo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make the tabl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95280" y="1413000"/>
          <a:ext cx="8229600" cy="4663800"/>
        </p:xfrm>
        <a:graphic>
          <a:graphicData uri="http://schemas.openxmlformats.org/drawingml/2006/table">
            <a:tbl>
              <a:tblPr/>
              <a:tblGrid>
                <a:gridCol w="1800360"/>
                <a:gridCol w="6429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du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Управляющая кнопка: фильм 1"/>
          <p:cNvSpPr/>
          <p:nvPr/>
        </p:nvSpPr>
        <p:spPr>
          <a:xfrm>
            <a:off x="7885080" y="6165720"/>
            <a:ext cx="790560" cy="576360"/>
          </a:xfrm>
          <a:custGeom>
            <a:avLst/>
            <a:gdLst>
              <a:gd name="textAreaLeft" fmla="*/ 37080 w 790560"/>
              <a:gd name="textAreaRight" fmla="*/ 753480 w 7905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22" h="21600">
                <a:moveTo>
                  <a:pt x="0" y="0"/>
                </a:moveTo>
                <a:lnTo>
                  <a:pt x="29622" y="0"/>
                </a:lnTo>
                <a:lnTo>
                  <a:pt x="29622" y="21600"/>
                </a:lnTo>
                <a:lnTo>
                  <a:pt x="0" y="21600"/>
                </a:lnTo>
                <a:close/>
              </a:path>
              <a:path fill="lightenLess" w="29622" h="21600">
                <a:moveTo>
                  <a:pt x="0" y="0"/>
                </a:moveTo>
                <a:lnTo>
                  <a:pt x="29622" y="0"/>
                </a:lnTo>
                <a:lnTo>
                  <a:pt x="28222" y="1400"/>
                </a:lnTo>
                <a:lnTo>
                  <a:pt x="1400" y="1400"/>
                </a:lnTo>
                <a:close/>
              </a:path>
              <a:path fill="darken" w="29622" h="21600">
                <a:moveTo>
                  <a:pt x="29622" y="0"/>
                </a:moveTo>
                <a:lnTo>
                  <a:pt x="29622" y="21600"/>
                </a:lnTo>
                <a:lnTo>
                  <a:pt x="28222" y="20200"/>
                </a:lnTo>
                <a:lnTo>
                  <a:pt x="28222" y="1400"/>
                </a:lnTo>
                <a:close/>
              </a:path>
              <a:path fill="darkenLess" w="29622" h="21600">
                <a:moveTo>
                  <a:pt x="29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22" y="20200"/>
                </a:lnTo>
                <a:close/>
              </a:path>
              <a:path fill="lighten" w="29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22" h="21600">
                <a:moveTo>
                  <a:pt x="7805" y="7301"/>
                </a:moveTo>
                <a:lnTo>
                  <a:pt x="8719" y="7301"/>
                </a:lnTo>
                <a:lnTo>
                  <a:pt x="9102" y="7667"/>
                </a:lnTo>
                <a:lnTo>
                  <a:pt x="18310" y="7667"/>
                </a:lnTo>
                <a:lnTo>
                  <a:pt x="18867" y="8224"/>
                </a:lnTo>
                <a:lnTo>
                  <a:pt x="18867" y="8772"/>
                </a:lnTo>
                <a:lnTo>
                  <a:pt x="20712" y="8772"/>
                </a:lnTo>
                <a:lnTo>
                  <a:pt x="21078" y="8224"/>
                </a:lnTo>
                <a:lnTo>
                  <a:pt x="21818" y="8224"/>
                </a:lnTo>
                <a:lnTo>
                  <a:pt x="21818" y="13376"/>
                </a:lnTo>
                <a:lnTo>
                  <a:pt x="21078" y="13376"/>
                </a:lnTo>
                <a:lnTo>
                  <a:pt x="20712" y="12828"/>
                </a:lnTo>
                <a:lnTo>
                  <a:pt x="18867" y="12828"/>
                </a:lnTo>
                <a:lnTo>
                  <a:pt x="18867" y="14107"/>
                </a:lnTo>
                <a:lnTo>
                  <a:pt x="9284" y="14107"/>
                </a:lnTo>
                <a:lnTo>
                  <a:pt x="9284" y="9877"/>
                </a:lnTo>
                <a:lnTo>
                  <a:pt x="9102" y="9877"/>
                </a:lnTo>
                <a:lnTo>
                  <a:pt x="8719" y="10243"/>
                </a:lnTo>
                <a:lnTo>
                  <a:pt x="7805" y="10243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Mag help her Mum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img131 - копия (4)"/>
          <p:cNvPicPr/>
          <p:nvPr/>
        </p:nvPicPr>
        <p:blipFill>
          <a:blip r:embed="rId1"/>
          <a:stretch/>
        </p:blipFill>
        <p:spPr>
          <a:xfrm>
            <a:off x="-2590920" y="-228600"/>
            <a:ext cx="14277960" cy="7277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371600" y="0"/>
            <a:ext cx="10363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ookman Old Style"/>
              </a:rPr>
              <a:t>Read and complete the text. Answer the question: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How did Mag help her Mu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Last Sunday Mag got (get) up at 9 am. She … (wash) her face and hands, … (clean) her teeth. Then she … (make) her b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At half past nine Mag … (help) her mother to lay the table. She … (have) breakfast with her mum, dad and sister Becky. After breakfast Mag … (water) the flowers and … (feed) her pe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hometask i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ge 39, exercis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6, 7, 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workbook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8153280" cy="144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5400" spc="-1" strike="noStrike">
                <a:solidFill>
                  <a:srgbClr val="0070c0"/>
                </a:solidFill>
                <a:latin typeface="Comic Sans MS"/>
              </a:rPr>
              <a:t>Thank you for your work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2511000"/>
            <a:ext cx="77724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Good bye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71440" y="285480"/>
            <a:ext cx="7072200" cy="14922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ursday, The 28</a:t>
            </a:r>
            <a:r>
              <a:rPr b="0" lang="en-US" sz="44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of Febru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0560" y="2285640"/>
            <a:ext cx="889308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mic Sans MS"/>
              </a:rPr>
              <a:t>“</a:t>
            </a:r>
            <a:r>
              <a:rPr b="1" lang="en-US" sz="7200" spc="-1" strike="noStrike">
                <a:solidFill>
                  <a:srgbClr val="7030a0"/>
                </a:solidFill>
                <a:latin typeface="Comic Sans MS"/>
              </a:rPr>
              <a:t>What do you do to help your family”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735804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he does washing u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C:\Users\Администратор\Desktop\Новая папка\всехнее\катя\English\картинки\тематические\ku7.jpg"/>
          <p:cNvPicPr/>
          <p:nvPr/>
        </p:nvPicPr>
        <p:blipFill>
          <a:blip r:embed="rId1"/>
          <a:stretch/>
        </p:blipFill>
        <p:spPr>
          <a:xfrm>
            <a:off x="1214280" y="1643040"/>
            <a:ext cx="71438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C:\Users\Администратор\Desktop\Новая папка\всехнее\катя\English\картинки\тематические\ku10.jpg"/>
          <p:cNvPicPr/>
          <p:nvPr/>
        </p:nvPicPr>
        <p:blipFill>
          <a:blip r:embed="rId1"/>
          <a:stretch/>
        </p:blipFill>
        <p:spPr>
          <a:xfrm>
            <a:off x="1571760" y="1285920"/>
            <a:ext cx="6500520" cy="4303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857240" y="357120"/>
            <a:ext cx="607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He  cook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429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</a:rPr>
              <a:t>He repairs his bik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6" descr="велосипед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4572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7848720" y="0"/>
            <a:ext cx="15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286840" cy="75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</a:rPr>
              <a:t>She waters the flower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8" descr="Цветы 2"/>
          <p:cNvPicPr/>
          <p:nvPr/>
        </p:nvPicPr>
        <p:blipFill>
          <a:blip r:embed="rId1"/>
          <a:stretch/>
        </p:blipFill>
        <p:spPr>
          <a:xfrm>
            <a:off x="1785960" y="1285920"/>
            <a:ext cx="6400800" cy="45259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8043480" y="50760"/>
            <a:ext cx="8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214280" y="214200"/>
            <a:ext cx="6678720" cy="52563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500040" y="5643720"/>
            <a:ext cx="835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He cleans the room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2600" y="571680"/>
            <a:ext cx="68706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he lays the tab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C:\Users\Администратор\Desktop\Новая папка\всехнее\катя\English\картинки\тематические\ku4.jpg"/>
          <p:cNvPicPr/>
          <p:nvPr/>
        </p:nvPicPr>
        <p:blipFill>
          <a:blip r:embed="rId1"/>
          <a:stretch/>
        </p:blipFill>
        <p:spPr>
          <a:xfrm>
            <a:off x="1857240" y="1928880"/>
            <a:ext cx="6072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480" y="714240"/>
            <a:ext cx="828684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He does his homewor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C:\Users\Администратор\Desktop\Новая папка\всехнее\катя\English\картинки\тематические\ku8.jpg"/>
          <p:cNvPicPr/>
          <p:nvPr/>
        </p:nvPicPr>
        <p:blipFill>
          <a:blip r:embed="rId1"/>
          <a:stretch/>
        </p:blipFill>
        <p:spPr>
          <a:xfrm>
            <a:off x="1928880" y="1928880"/>
            <a:ext cx="62150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6:37:23Z</dcterms:created>
  <dc:creator>Панина Анастасия Владимировна</dc:creator>
  <dc:description/>
  <dc:language>en-US</dc:language>
  <cp:lastModifiedBy>DNA7 X64</cp:lastModifiedBy>
  <dcterms:modified xsi:type="dcterms:W3CDTF">2013-03-20T06:08:33Z</dcterms:modified>
  <cp:revision>25</cp:revision>
  <dc:subject/>
  <dc:title>Answer my questions, please:</dc:title>
</cp:coreProperties>
</file>