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38A-6A40-4CDC-8555-918211BE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003-81BE-478D-8E1B-A3A9E33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490-0404-4E89-9570-36851F00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8D5-DFD1-44F7-8589-4F2184AD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B01E-AD81-45EA-809D-2D813A9E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206-94BB-4DC0-B416-F0C09DE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D7B7-80C6-4512-914C-BFB9A2BB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CA65-77DF-4505-869F-F66DE27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B5C8-F45A-4CFD-BC8A-E5DAB889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27C-CE01-46BE-A679-5723048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66CA-9620-4CAB-ACD2-CC9D3D0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2B9-A75A-43C5-BFE7-FF989ADA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7BA-339F-4FB3-BEBB-B196D6A8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4E67-C388-4DE0-B505-AC5CE5B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95CB-6E4E-43EC-88E2-B430E5F9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0DA1-BAFD-412C-AAC2-EDCD4B54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6775-F3C3-4FD6-A7A7-DA4A8B97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E0D-606F-40FC-8E71-C71B29C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77A-91DF-4F30-90EB-84594F0D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6F0-6252-43B9-AB6F-7F292D0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B84-FBE9-4659-BF7C-44D995F1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538-44E5-4897-BDDE-1491EDD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24C-12D2-4DB8-AB93-C7E20EA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4B1-D863-47D9-983A-90D4E3A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6EC3-42D0-4F4E-9AC1-3C62D68F1D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62E-39F6-4A99-9264-59F0E569C2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swer my questions, please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4296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Do you help your mother at hom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Do you tidy your room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o you water the flower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o you help your mother to cook dinn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goes shopp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C:\Users\Администратор\Desktop\Новая папка\всехнее\катя\English\картинки\тематические\ku9.jpg"/>
          <p:cNvPicPr/>
          <p:nvPr/>
        </p:nvPicPr>
        <p:blipFill>
          <a:blip r:embed="rId1"/>
          <a:stretch/>
        </p:blipFill>
        <p:spPr>
          <a:xfrm>
            <a:off x="1928880" y="2071800"/>
            <a:ext cx="65008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feeds the do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C:\Users\Администратор\Desktop\Новая папка\всехнее\катя\English\картинки\тематические\ku12.jpg"/>
          <p:cNvPicPr/>
          <p:nvPr/>
        </p:nvPicPr>
        <p:blipFill>
          <a:blip r:embed="rId1"/>
          <a:stretch/>
        </p:blipFill>
        <p:spPr>
          <a:xfrm>
            <a:off x="1571760" y="1857240"/>
            <a:ext cx="692928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takes his dog for a wal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C:\Users\Администратор\Desktop\Новая папка\всехнее\катя\English\картинки\тематические\ku13.jpg"/>
          <p:cNvPicPr/>
          <p:nvPr/>
        </p:nvPicPr>
        <p:blipFill>
          <a:blip r:embed="rId1"/>
          <a:stretch/>
        </p:blipFill>
        <p:spPr>
          <a:xfrm>
            <a:off x="1785960" y="1857240"/>
            <a:ext cx="65008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6870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makes his b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2" descr="C:\Users\Администратор\Desktop\Новая папка\всехнее\катя\English\картинки\тематические\ku6.jpg"/>
          <p:cNvPicPr/>
          <p:nvPr/>
        </p:nvPicPr>
        <p:blipFill>
          <a:blip r:embed="rId1"/>
          <a:stretch/>
        </p:blipFill>
        <p:spPr>
          <a:xfrm>
            <a:off x="1428840" y="1785960"/>
            <a:ext cx="6786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5726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He answers phone call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telefon"/>
          <p:cNvPicPr/>
          <p:nvPr/>
        </p:nvPicPr>
        <p:blipFill>
          <a:blip r:embed="rId1"/>
          <a:stretch/>
        </p:blipFill>
        <p:spPr>
          <a:xfrm>
            <a:off x="2071800" y="1428840"/>
            <a:ext cx="6032520" cy="4163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8043480" y="5076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Listen, read and reme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428840" y="100008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sh             wash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lp               help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o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pair            repair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ke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m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ean             clean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y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l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swer           answer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eed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f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ter            water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ay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ok              cook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ake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to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Штриховая стрелка вправо 8"/>
          <p:cNvSpPr/>
          <p:nvPr/>
        </p:nvSpPr>
        <p:spPr>
          <a:xfrm>
            <a:off x="2714760" y="114300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Штриховая стрелка вправо 9"/>
          <p:cNvSpPr/>
          <p:nvPr/>
        </p:nvSpPr>
        <p:spPr>
          <a:xfrm>
            <a:off x="2571840" y="157176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Штриховая стрелка вправо 10"/>
          <p:cNvSpPr/>
          <p:nvPr/>
        </p:nvSpPr>
        <p:spPr>
          <a:xfrm>
            <a:off x="2571840" y="192888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Штриховая стрелка вправо 12"/>
          <p:cNvSpPr/>
          <p:nvPr/>
        </p:nvSpPr>
        <p:spPr>
          <a:xfrm>
            <a:off x="2643120" y="2214720"/>
            <a:ext cx="857160" cy="142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Штриховая стрелка вправо 13"/>
          <p:cNvSpPr/>
          <p:nvPr/>
        </p:nvSpPr>
        <p:spPr>
          <a:xfrm>
            <a:off x="3000240" y="2643120"/>
            <a:ext cx="85752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Штриховая стрелка вправо 14"/>
          <p:cNvSpPr/>
          <p:nvPr/>
        </p:nvSpPr>
        <p:spPr>
          <a:xfrm>
            <a:off x="2928960" y="300024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Штриховая стрелка вправо 15"/>
          <p:cNvSpPr/>
          <p:nvPr/>
        </p:nvSpPr>
        <p:spPr>
          <a:xfrm>
            <a:off x="2786040" y="3357720"/>
            <a:ext cx="857160" cy="142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Штриховая стрелка вправо 16"/>
          <p:cNvSpPr/>
          <p:nvPr/>
        </p:nvSpPr>
        <p:spPr>
          <a:xfrm>
            <a:off x="2786040" y="371484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Штриховая стрелка вправо 17"/>
          <p:cNvSpPr/>
          <p:nvPr/>
        </p:nvSpPr>
        <p:spPr>
          <a:xfrm>
            <a:off x="3000240" y="4071960"/>
            <a:ext cx="85752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Штриховая стрелка вправо 18"/>
          <p:cNvSpPr/>
          <p:nvPr/>
        </p:nvSpPr>
        <p:spPr>
          <a:xfrm>
            <a:off x="2857680" y="442908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Штриховая стрелка вправо 19"/>
          <p:cNvSpPr/>
          <p:nvPr/>
        </p:nvSpPr>
        <p:spPr>
          <a:xfrm>
            <a:off x="2928960" y="485784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Штриховая стрелка вправо 20"/>
          <p:cNvSpPr/>
          <p:nvPr/>
        </p:nvSpPr>
        <p:spPr>
          <a:xfrm>
            <a:off x="2714760" y="5143680"/>
            <a:ext cx="857160" cy="142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Штриховая стрелка вправо 21"/>
          <p:cNvSpPr/>
          <p:nvPr/>
        </p:nvSpPr>
        <p:spPr>
          <a:xfrm>
            <a:off x="2786040" y="557208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Штриховая стрелка вправо 22"/>
          <p:cNvSpPr/>
          <p:nvPr/>
        </p:nvSpPr>
        <p:spPr>
          <a:xfrm>
            <a:off x="2714760" y="5929200"/>
            <a:ext cx="857160" cy="1429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Управляющая кнопка: звук 1">
            <a:hlinkClick r:id="rId1"/>
          </p:cNvPr>
          <p:cNvSpPr/>
          <p:nvPr/>
        </p:nvSpPr>
        <p:spPr>
          <a:xfrm>
            <a:off x="7667640" y="1285920"/>
            <a:ext cx="576360" cy="7858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85880"/>
              <a:gd name="textAreaBottom" fmla="*/ 748800 h 785880"/>
            </a:gdLst>
            <a:ahLst/>
            <a:rect l="textAreaLeft" t="textAreaTop" r="textAreaRight" b="textAreaBottom"/>
            <a:pathLst>
              <a:path w="21600" h="29447">
                <a:moveTo>
                  <a:pt x="0" y="0"/>
                </a:moveTo>
                <a:lnTo>
                  <a:pt x="21600" y="0"/>
                </a:lnTo>
                <a:lnTo>
                  <a:pt x="21600" y="29447"/>
                </a:lnTo>
                <a:lnTo>
                  <a:pt x="0" y="29447"/>
                </a:lnTo>
                <a:close/>
              </a:path>
              <a:path fill="lightenLess" w="21600" h="294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47">
                <a:moveTo>
                  <a:pt x="21600" y="0"/>
                </a:moveTo>
                <a:lnTo>
                  <a:pt x="21600" y="29447"/>
                </a:lnTo>
                <a:lnTo>
                  <a:pt x="20200" y="28047"/>
                </a:lnTo>
                <a:lnTo>
                  <a:pt x="20200" y="1400"/>
                </a:lnTo>
                <a:close/>
              </a:path>
              <a:path fill="darkenLess" w="21600" h="29447">
                <a:moveTo>
                  <a:pt x="21600" y="29447"/>
                </a:moveTo>
                <a:lnTo>
                  <a:pt x="0" y="29447"/>
                </a:lnTo>
                <a:lnTo>
                  <a:pt x="1400" y="28047"/>
                </a:lnTo>
                <a:lnTo>
                  <a:pt x="20200" y="28047"/>
                </a:lnTo>
                <a:close/>
              </a:path>
              <a:path fill="lighten" w="21600" h="29447">
                <a:moveTo>
                  <a:pt x="0" y="294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47"/>
                </a:lnTo>
                <a:close/>
              </a:path>
              <a:path fill="darken" w="21600" h="29447">
                <a:moveTo>
                  <a:pt x="3794" y="12330"/>
                </a:moveTo>
                <a:lnTo>
                  <a:pt x="8224" y="12330"/>
                </a:lnTo>
                <a:lnTo>
                  <a:pt x="12645" y="7717"/>
                </a:lnTo>
                <a:lnTo>
                  <a:pt x="12645" y="21730"/>
                </a:lnTo>
                <a:lnTo>
                  <a:pt x="8224" y="17117"/>
                </a:lnTo>
                <a:lnTo>
                  <a:pt x="3794" y="17117"/>
                </a:lnTo>
                <a:close/>
              </a:path>
              <a:path fill="darken" w="21600" h="29447">
                <a:moveTo>
                  <a:pt x="14299" y="14724"/>
                </a:moveTo>
                <a:lnTo>
                  <a:pt x="17806" y="14724"/>
                </a:lnTo>
              </a:path>
              <a:path fill="darken" w="21600" h="29447">
                <a:moveTo>
                  <a:pt x="14299" y="12330"/>
                </a:moveTo>
                <a:lnTo>
                  <a:pt x="17806" y="9562"/>
                </a:lnTo>
              </a:path>
              <a:path fill="darken" w="21600" h="29447">
                <a:moveTo>
                  <a:pt x="14299" y="17117"/>
                </a:moveTo>
                <a:lnTo>
                  <a:pt x="17806" y="19885"/>
                </a:lnTo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the tab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413000"/>
          <a:ext cx="8229600" cy="4663800"/>
        </p:xfrm>
        <a:graphic>
          <a:graphicData uri="http://schemas.openxmlformats.org/drawingml/2006/table">
            <a:tbl>
              <a:tblPr/>
              <a:tblGrid>
                <a:gridCol w="1800360"/>
                <a:gridCol w="6429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du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Управляющая кнопка: фильм 1"/>
          <p:cNvSpPr/>
          <p:nvPr/>
        </p:nvSpPr>
        <p:spPr>
          <a:xfrm>
            <a:off x="7885080" y="6165720"/>
            <a:ext cx="790560" cy="57636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22" h="21600">
                <a:moveTo>
                  <a:pt x="0" y="0"/>
                </a:moveTo>
                <a:lnTo>
                  <a:pt x="29622" y="0"/>
                </a:lnTo>
                <a:lnTo>
                  <a:pt x="29622" y="21600"/>
                </a:lnTo>
                <a:lnTo>
                  <a:pt x="0" y="21600"/>
                </a:lnTo>
                <a:close/>
              </a:path>
              <a:path fill="lightenLess" w="29622" h="21600">
                <a:moveTo>
                  <a:pt x="0" y="0"/>
                </a:moveTo>
                <a:lnTo>
                  <a:pt x="29622" y="0"/>
                </a:lnTo>
                <a:lnTo>
                  <a:pt x="28222" y="1400"/>
                </a:lnTo>
                <a:lnTo>
                  <a:pt x="1400" y="1400"/>
                </a:lnTo>
                <a:close/>
              </a:path>
              <a:path fill="darken" w="29622" h="21600">
                <a:moveTo>
                  <a:pt x="29622" y="0"/>
                </a:moveTo>
                <a:lnTo>
                  <a:pt x="29622" y="21600"/>
                </a:lnTo>
                <a:lnTo>
                  <a:pt x="28222" y="20200"/>
                </a:lnTo>
                <a:lnTo>
                  <a:pt x="28222" y="1400"/>
                </a:lnTo>
                <a:close/>
              </a:path>
              <a:path fill="darkenLess" w="29622" h="21600">
                <a:moveTo>
                  <a:pt x="29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22" y="20200"/>
                </a:lnTo>
                <a:close/>
              </a:path>
              <a:path fill="lighten" w="29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22" h="21600">
                <a:moveTo>
                  <a:pt x="7805" y="7301"/>
                </a:moveTo>
                <a:lnTo>
                  <a:pt x="8719" y="7301"/>
                </a:lnTo>
                <a:lnTo>
                  <a:pt x="9102" y="7667"/>
                </a:lnTo>
                <a:lnTo>
                  <a:pt x="18310" y="7667"/>
                </a:lnTo>
                <a:lnTo>
                  <a:pt x="18867" y="8224"/>
                </a:lnTo>
                <a:lnTo>
                  <a:pt x="18867" y="8772"/>
                </a:lnTo>
                <a:lnTo>
                  <a:pt x="20712" y="8772"/>
                </a:lnTo>
                <a:lnTo>
                  <a:pt x="21078" y="8224"/>
                </a:lnTo>
                <a:lnTo>
                  <a:pt x="21818" y="8224"/>
                </a:lnTo>
                <a:lnTo>
                  <a:pt x="21818" y="13376"/>
                </a:lnTo>
                <a:lnTo>
                  <a:pt x="21078" y="13376"/>
                </a:lnTo>
                <a:lnTo>
                  <a:pt x="20712" y="12828"/>
                </a:lnTo>
                <a:lnTo>
                  <a:pt x="18867" y="12828"/>
                </a:lnTo>
                <a:lnTo>
                  <a:pt x="18867" y="14107"/>
                </a:lnTo>
                <a:lnTo>
                  <a:pt x="9284" y="14107"/>
                </a:lnTo>
                <a:lnTo>
                  <a:pt x="9284" y="9877"/>
                </a:lnTo>
                <a:lnTo>
                  <a:pt x="9102" y="9877"/>
                </a:lnTo>
                <a:lnTo>
                  <a:pt x="8719" y="10243"/>
                </a:lnTo>
                <a:lnTo>
                  <a:pt x="7805" y="10243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Mag help her Mu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img131 - копия (4)"/>
          <p:cNvPicPr/>
          <p:nvPr/>
        </p:nvPicPr>
        <p:blipFill>
          <a:blip r:embed="rId1"/>
          <a:stretch/>
        </p:blipFill>
        <p:spPr>
          <a:xfrm>
            <a:off x="-2590920" y="-228600"/>
            <a:ext cx="14277960" cy="7277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371600" y="0"/>
            <a:ext cx="10363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Read and complete the text. Answer the question: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How did Mag help her Mu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Last Sunday Mag got (get) up at 9 am. She … (wash) her face and hands, … (clean) her teeth. Then she … (make) her 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At half past nine Mag … (help) her mother to lay the table. She … (have) breakfast with her mum, dad and sister Becky. After breakfast Mag … (water) the flowers and … (feed) her pe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hometask i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39, exercis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, 7, 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workbook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15328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5400" spc="-1" strike="noStrike">
                <a:solidFill>
                  <a:srgbClr val="0070c0"/>
                </a:solidFill>
                <a:latin typeface="Comic Sans MS"/>
              </a:rPr>
              <a:t>Thank you for your work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511000"/>
            <a:ext cx="77724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Good bye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71440" y="285480"/>
            <a:ext cx="7072200" cy="1492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ursday, The 28</a:t>
            </a:r>
            <a:r>
              <a:rPr b="0" lang="en-US" sz="4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of Febru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2285640"/>
            <a:ext cx="889308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mic Sans MS"/>
              </a:rPr>
              <a:t>“</a:t>
            </a:r>
            <a:r>
              <a:rPr b="1" lang="en-US" sz="7200" spc="-1" strike="noStrike">
                <a:solidFill>
                  <a:srgbClr val="7030a0"/>
                </a:solidFill>
                <a:latin typeface="Comic Sans MS"/>
              </a:rPr>
              <a:t>What do you do to help your family”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3580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does washing 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Users\Администратор\Desktop\Новая папка\всехнее\катя\English\картинки\тематические\ku7.jpg"/>
          <p:cNvPicPr/>
          <p:nvPr/>
        </p:nvPicPr>
        <p:blipFill>
          <a:blip r:embed="rId1"/>
          <a:stretch/>
        </p:blipFill>
        <p:spPr>
          <a:xfrm>
            <a:off x="1214280" y="1643040"/>
            <a:ext cx="7143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C:\Users\Администратор\Desktop\Новая папка\всехнее\катя\English\картинки\тематические\ku10.jpg"/>
          <p:cNvPicPr/>
          <p:nvPr/>
        </p:nvPicPr>
        <p:blipFill>
          <a:blip r:embed="rId1"/>
          <a:stretch/>
        </p:blipFill>
        <p:spPr>
          <a:xfrm>
            <a:off x="1571760" y="1285920"/>
            <a:ext cx="6500520" cy="4303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857240" y="357120"/>
            <a:ext cx="607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 cook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429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He repairs his bik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28684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She waters the flowe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Цветы 2"/>
          <p:cNvPicPr/>
          <p:nvPr/>
        </p:nvPicPr>
        <p:blipFill>
          <a:blip r:embed="rId1"/>
          <a:stretch/>
        </p:blipFill>
        <p:spPr>
          <a:xfrm>
            <a:off x="1785960" y="128592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8043480" y="5076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214280" y="214200"/>
            <a:ext cx="6678720" cy="5256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500040" y="5643720"/>
            <a:ext cx="83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e cleans the room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68706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e lays the tab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C:\Users\Администратор\Desktop\Новая папка\всехнее\катя\English\картинки\тематические\ku4.jpg"/>
          <p:cNvPicPr/>
          <p:nvPr/>
        </p:nvPicPr>
        <p:blipFill>
          <a:blip r:embed="rId1"/>
          <a:stretch/>
        </p:blipFill>
        <p:spPr>
          <a:xfrm>
            <a:off x="1857240" y="1928880"/>
            <a:ext cx="6072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714240"/>
            <a:ext cx="828684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e does his homewor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C:\Users\Администратор\Desktop\Новая папка\всехнее\катя\English\картинки\тематические\ku8.jpg"/>
          <p:cNvPicPr/>
          <p:nvPr/>
        </p:nvPicPr>
        <p:blipFill>
          <a:blip r:embed="rId1"/>
          <a:stretch/>
        </p:blipFill>
        <p:spPr>
          <a:xfrm>
            <a:off x="1928880" y="1928880"/>
            <a:ext cx="6215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37:23Z</dcterms:created>
  <dc:creator>Панина Анастасия Владимировна</dc:creator>
  <dc:description/>
  <dc:language>en-US</dc:language>
  <cp:lastModifiedBy>DNA7 X64</cp:lastModifiedBy>
  <dcterms:modified xsi:type="dcterms:W3CDTF">2013-03-20T06:08:33Z</dcterms:modified>
  <cp:revision>25</cp:revision>
  <dc:subject/>
  <dc:title>Answer my questions, please:</dc:title>
</cp:coreProperties>
</file>