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46A-7611-4E59-B72C-A68336FB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C7E-03FA-44C5-90A6-D0DF9A7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A5F-311B-4862-BBCE-4E5D5B0B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B6D-7107-4E6E-B329-51B2D1E5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C20-27D4-41E9-BBCD-3B0035D3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884-9699-4518-95C5-1BC967A2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833B-6C51-452A-9993-B0E82851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679-BA76-42D8-9EE4-A744B1CD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E5E7-A9DC-46B9-9DB8-825091B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EFAD-FFB1-4932-B697-B96C908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2C76-61FF-49FC-98FD-3E9A214E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428-75A5-48FB-ADEB-33D8113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6DC8-820C-4383-B1E1-FB70988A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E478-7A99-4BB0-989D-C4DE61D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8A44-D724-4A81-8A60-43E8601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3FD-F08B-4C9E-9557-E89C36F7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35C2-840F-45BC-AEE8-1F400757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BB2-010F-497A-BA2E-F478034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E86-F1E1-4C0F-AFF8-28A26EE5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D88-3A1F-4C56-9302-05FDF62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B87-36A9-44FF-98E4-5E4ADE38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495-380B-41F8-AF16-98663BA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7D3-BC00-4190-B5D2-A1D161F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7E8-A869-4399-82F2-B42E3640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F83-9743-4958-AB86-37200843670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483-4726-4319-BECF-B037B328C63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1628640"/>
            <a:ext cx="813564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Урок русского язы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22050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Тёмная но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... В лесу такая ти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! Только изредка кричит сыч, да шуршит мы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. Наш шалаш стоит на берегу ручья. В полно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 из-за туч вышла полная луна и осветила на поляне каждую ве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. Свеж воздух! Чувствуе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 дыхание природы? Нужно бере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5e855b"/>
                </a:solidFill>
                <a:latin typeface="Arial"/>
              </a:rPr>
              <a:t> этот хрупкий мир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Мягкий знак в словах бежишь, молчишь, беречь, брошь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) разделительный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ыполняет грамматическую функцию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) показатель мягкост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2205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Разделительный Ь пишется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) между двумя согласными буквами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) между согласной и гласной буквой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) между двумя согласными звуками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Мягкий знак в  русском языке  выполняет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) 1 функцию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) 2 функции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) 3 функци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. Мягкий знак не пишется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) у сущ. ж.р. 3 скл.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) у кратких прилаг.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) у сущ. в Р.п. мн. ч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) у глаголов с шипящими на конц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042920" y="1916280"/>
            <a:ext cx="6985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659640" y="3645000"/>
            <a:ext cx="2151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84280"/>
            <a:ext cx="91440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Шипящие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Щ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СЕГДА ГЛУХИЕ, МЯГКИЕ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Ж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ЗВОНКИЙ, ТВЁРДЫЙ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Ш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ГЛУХОЙ, ТВЁРДЫЙ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05080" y="514440"/>
            <a:ext cx="289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60280"/>
            <a:ext cx="645948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33360"/>
            <a:ext cx="53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Определить часть реч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627200"/>
            <a:ext cx="6356160" cy="1154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84320" y="1798560"/>
            <a:ext cx="28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2852640"/>
            <a:ext cx="1440" cy="639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981000"/>
            <a:ext cx="1800" cy="641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653000"/>
            <a:ext cx="1440" cy="785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510000"/>
            <a:ext cx="335448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1880" y="3510000"/>
            <a:ext cx="301320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378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Женский 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1880" y="376704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Мужской 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2852640"/>
            <a:ext cx="1440" cy="639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8752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5565600"/>
            <a:ext cx="5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8340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31080" y="547992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855b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31080" y="5565600"/>
            <a:ext cx="496800" cy="3542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948280" y="5565600"/>
            <a:ext cx="496800" cy="3542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4653000"/>
            <a:ext cx="0" cy="792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628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Если это существительное с шипящим на конце– определить род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90800" y="1252080"/>
            <a:ext cx="696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аталья  отдал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ключ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т квартиры брату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идишь, как около ручь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ьёт ключ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ро ключ Игорь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узнал в музыкальной шко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48000" y="1125360"/>
            <a:ext cx="2374920" cy="201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77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78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азделительный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42900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3573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Обозначение мягкости соглас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4581360"/>
            <a:ext cx="3168720" cy="1582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4869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9584400">
            <a:off x="3874320" y="1754280"/>
            <a:ext cx="16138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48" y="282"/>
                </a:moveTo>
                <a:arcTo wR="10800" hR="10800" stAng="-6187335" swAng="5510402"/>
                <a:lnTo>
                  <a:pt x="10800" y="10800"/>
                </a:lnTo>
                <a:close/>
              </a:path>
              <a:path fill="none" w="21600" h="21600">
                <a:moveTo>
                  <a:pt x="8348" y="282"/>
                </a:moveTo>
                <a:arcTo wR="10800" hR="10800" stAng="-6187335" swAng="5510402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38200" y="333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10920" y="2421000"/>
            <a:ext cx="1008360" cy="863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2492280"/>
            <a:ext cx="1152360" cy="9367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3141720"/>
            <a:ext cx="0" cy="1439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48000" y="1125360"/>
            <a:ext cx="2374920" cy="201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77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78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азделительный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429000"/>
            <a:ext cx="3168720" cy="1582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3573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Обозначение мягкости соглас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4581360"/>
            <a:ext cx="3168720" cy="1582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указывает 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рамматическую функци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216000" cy="21564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9584400">
            <a:off x="3874320" y="1754280"/>
            <a:ext cx="16138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48" y="282"/>
                </a:moveTo>
                <a:arcTo wR="10800" hR="10800" stAng="-6187335" swAng="5510402"/>
                <a:lnTo>
                  <a:pt x="10800" y="10800"/>
                </a:lnTo>
                <a:close/>
              </a:path>
              <a:path fill="none" w="21600" h="21600">
                <a:moveTo>
                  <a:pt x="8348" y="282"/>
                </a:moveTo>
                <a:arcTo wR="10800" hR="10800" stAng="-6187335" swAng="5510402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38200" y="333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10920" y="2421000"/>
            <a:ext cx="1008360" cy="863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2492280"/>
            <a:ext cx="1152360" cy="9367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141720"/>
            <a:ext cx="0" cy="14396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2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1307880"/>
                <a:gridCol w="1656000"/>
                <a:gridCol w="16081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ущ. Р.п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н. ч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ущ. ж.р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скл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Кратк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ИЛАГА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ЕЛЬНЫ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Глаголы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 лица,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туч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печ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хоро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береч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гру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рож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могуч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глядиш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встреч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вещ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све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учиш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ь</a:t>
                      </a:r>
                      <a:r>
                        <a:rPr b="0" lang="en-US" sz="2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с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052640"/>
            <a:ext cx="91440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пределить часть реч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Существительное        Существительно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ж.р.3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КЛ.,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                      м.р., в Р.п.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мн.ч.,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глагол-                             краткое при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.            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84000" y="2421000"/>
            <a:ext cx="129708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2421000"/>
            <a:ext cx="122400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5229360"/>
            <a:ext cx="720720" cy="57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05264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ПРОСИТ ЗНАНИЙ НАСТОЯЩИ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МЯГКИЙ ЗНАК ПОСЛЕ ШИПЯЩИ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4:06:45Z</dcterms:created>
  <dc:creator>Home</dc:creator>
  <dc:description/>
  <dc:language>en-US</dc:language>
  <cp:lastModifiedBy>1</cp:lastModifiedBy>
  <dcterms:modified xsi:type="dcterms:W3CDTF">2013-03-09T14:54:36Z</dcterms:modified>
  <cp:revision>12</cp:revision>
  <dc:subject/>
  <dc:title>Слайд 1</dc:title>
</cp:coreProperties>
</file>