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0F9-2FC7-4447-A795-4E3491F8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C52-C117-4766-AE4A-F2C66512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89A-885E-47FE-8E20-0AC4261C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549-6DB9-4481-8E9F-86BF492E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9FB4-9D15-452D-BCC6-BE24DB32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B7B-B45E-4BCD-A0EC-643A12A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89FD-EB48-44ED-B517-E93E5D0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A6AF-B1F6-4B4F-919C-9D52BDA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97FB-C599-4375-914E-B7E71A5D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4B4-E4CE-4F4F-B780-607DF0D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8355-52B5-47EA-BD98-E6C0565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052-54D2-4479-89B4-24ED085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B4FB-82FC-4373-B456-3F37E9E4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6C19-6D0C-4307-AFA6-57328C1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374-E93A-42E3-ABF1-57F2EDBB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FF67-D778-41F2-BDF2-D1284A4B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1B2-7027-4837-8599-292786D6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98-1305-4DFE-855D-17A59828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30D-1A81-41D4-8A27-0FDBD654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C1B-D885-414F-BB0B-A94B9080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30D-2A13-4157-A733-A9AFD884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998-9143-4412-8EC1-2EAEA8A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C31-DE14-4A81-A5DA-D381CB8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15A-C7DD-41A4-B88D-BDA58DC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E373-271A-4F06-967A-80CA92A1F65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324-5876-45A5-897B-3C553B834D5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1628640"/>
            <a:ext cx="813564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Урок русского язы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205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Тёмная но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.. В лесу такая ти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! Только изредка кричит сыч, да шуршит мы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 Наш шалаш стоит на берегу ручья. В полно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из-за туч вышла полная луна и осветила на поляне каждую ве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 Свеж воздух! Чувствуе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дыхание природы? Нужно бере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этот хрупкий мир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Мягкий знак в словах бежишь, молчишь, беречь, брошь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разделительный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полняет грамматическую функцию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показатель мягкост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2205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Разделительный Ь пишетс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между двумя согласными буквами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) между согласной и гласной буквой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между двумя согласными звуками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Мягкий знак в  русском языке  выполняет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1 функцию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) 2 функции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3 функци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. Мягкий знак не пишетс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) у сущ. ж.р. 3 скл.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) у кратких прилаг.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) у сущ. в Р.п. мн. ч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) у глаголов с шипящими на конц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042920" y="1916280"/>
            <a:ext cx="6985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2151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Шипящие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Щ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СЕГДА ГЛУХИЕ, МЯГКИЕ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Ж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ЗВОНКИЙ, ТВЁРДЫЙ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Ш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ГЛУХОЙ, ТВЁРДЫЙ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05080" y="514440"/>
            <a:ext cx="289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60280"/>
            <a:ext cx="645948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33360"/>
            <a:ext cx="53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Определить часть реч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627200"/>
            <a:ext cx="6356160" cy="1154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4320" y="1798560"/>
            <a:ext cx="28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2852640"/>
            <a:ext cx="1440" cy="639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981000"/>
            <a:ext cx="1800" cy="641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653000"/>
            <a:ext cx="1440" cy="785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510000"/>
            <a:ext cx="335448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1880" y="3510000"/>
            <a:ext cx="301320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378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Женский 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1880" y="376704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Мужской 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2852640"/>
            <a:ext cx="1440" cy="639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8752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556560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8340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31080" y="547992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31080" y="5565600"/>
            <a:ext cx="496800" cy="3542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948280" y="5565600"/>
            <a:ext cx="496800" cy="3542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4653000"/>
            <a:ext cx="0" cy="792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628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Если это существительное с шипящим на конце– определить род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0800" y="1252080"/>
            <a:ext cx="696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аталья  отдал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ключ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т квартиры брату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идишь, как около ручь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ьёт ключ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ро ключ Игорь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узнал в музыкальной шко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азделительный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4869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9584400">
            <a:off x="3874320" y="1754280"/>
            <a:ext cx="16138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48" y="282"/>
                </a:moveTo>
                <a:arcTo wR="10800" hR="10800" stAng="-6187335" swAng="5510402"/>
                <a:lnTo>
                  <a:pt x="10800" y="10800"/>
                </a:lnTo>
                <a:close/>
              </a:path>
              <a:path fill="none" w="21600" h="21600">
                <a:moveTo>
                  <a:pt x="8348" y="282"/>
                </a:moveTo>
                <a:arcTo wR="10800" hR="10800" stAng="-6187335" swAng="5510402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10920" y="2421000"/>
            <a:ext cx="1008360" cy="863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3141720"/>
            <a:ext cx="0" cy="1439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азделительный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указывает 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рамматическую функци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9584400">
            <a:off x="3874320" y="1754280"/>
            <a:ext cx="16138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48" y="282"/>
                </a:moveTo>
                <a:arcTo wR="10800" hR="10800" stAng="-6187335" swAng="5510402"/>
                <a:lnTo>
                  <a:pt x="10800" y="10800"/>
                </a:lnTo>
                <a:close/>
              </a:path>
              <a:path fill="none" w="21600" h="21600">
                <a:moveTo>
                  <a:pt x="8348" y="282"/>
                </a:moveTo>
                <a:arcTo wR="10800" hR="10800" stAng="-6187335" swAng="5510402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10920" y="2421000"/>
            <a:ext cx="1008360" cy="863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141720"/>
            <a:ext cx="0" cy="1439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2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1307880"/>
                <a:gridCol w="1656000"/>
                <a:gridCol w="16081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ущ. Р.п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ущ. ж.р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Крат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ИЛАГА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ЕЛЬНЫ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Глаголы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лица,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ту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печ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хоро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береч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гру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рож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могу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глядиш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встре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вещ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све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учиш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с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052640"/>
            <a:ext cx="91440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пределить часть реч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Существительное        Существительно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ж.р.3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КЛ.,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                      м.р., в Р.п.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мн.ч.,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глагол-                             краткое при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.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84000" y="2421000"/>
            <a:ext cx="129708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2421000"/>
            <a:ext cx="122400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5229360"/>
            <a:ext cx="720720" cy="57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05264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ПРОСИТ ЗНАНИЙ НАСТОЯЩИ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ЯГКИЙ ЗНАК ПОСЛЕ ШИПЯЩИ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4:06:45Z</dcterms:created>
  <dc:creator>Home</dc:creator>
  <dc:description/>
  <dc:language>en-US</dc:language>
  <cp:lastModifiedBy>1</cp:lastModifiedBy>
  <dcterms:modified xsi:type="dcterms:W3CDTF">2013-03-09T14:54:36Z</dcterms:modified>
  <cp:revision>12</cp:revision>
  <dc:subject/>
  <dc:title>Слайд 1</dc:title>
</cp:coreProperties>
</file>