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D44-8A31-48FB-A688-8DBE803F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632-2304-4268-89DB-40106A8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AF5-F5BB-4979-A804-CA152B46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35A-BE3F-4242-B4F6-77BA8BC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E73DA-9835-442F-AAA4-94D84A31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64A6-7E3D-4588-8D0F-2BC4548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B7981-A457-4D0D-B823-E93F0D37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DD68-9152-4D9A-A51F-4D4F247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BA695-C54E-4600-A862-0574FBA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E7163-DFEE-48C0-9781-FCEC750E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6BEAD-4D37-4CF6-B399-4E56E87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8CB-6589-4A9B-9D9F-48C925F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8FECD-0673-481C-B041-B1E3EFA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4F2A6-EF95-42A2-ACB3-0E1FC01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B712-A6B3-4279-B908-4F3F451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43AE7-73A7-4EE6-9BFF-5B119951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C463D-E606-437D-A0AC-CB894751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8CD-3879-4607-BA17-9487C630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3EC-88EB-4E3C-BDF6-3038CCC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E8E-9718-4122-91EF-D3FFD0D9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15D-359B-4842-A164-ABF172A3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FC5-2240-4100-B07B-66EC55F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79C-9C1B-4CF0-B192-9787E4F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626-64CF-4286-8AEF-B9B39745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D6C-1162-4329-B1CC-0D2CAC136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BBC9-8CA9-4FF7-A755-B39B0022E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665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24000" y="4279680"/>
            <a:ext cx="30877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1979640" y="2092320"/>
            <a:ext cx="443700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мя Числительное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476360" y="2637000"/>
            <a:ext cx="58579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нятие о числительн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я числ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самостоятельная часть речи, обозначающая число, количество и порядок предметов. Отвечает на вопросы: Сколько? который? как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е делятся на три лексико-грамматических разряда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личествен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деся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е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иста пятьдесят од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бирате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в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ер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рядков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тор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т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 числитель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39640" y="1773360"/>
            <a:ext cx="33130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Картинка 4 из 1115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стые, сложные и составные числительны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36720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ислительны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2123640" y="2492280"/>
            <a:ext cx="863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5"/>
          <p:cNvSpPr/>
          <p:nvPr/>
        </p:nvSpPr>
        <p:spPr>
          <a:xfrm>
            <a:off x="3851280" y="234936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6"/>
          <p:cNvSpPr/>
          <p:nvPr/>
        </p:nvSpPr>
        <p:spPr>
          <a:xfrm>
            <a:off x="5076720" y="249228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3933720"/>
            <a:ext cx="255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т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с одним корнем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771640" y="3933720"/>
            <a:ext cx="23050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жн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с несколь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ня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3933720"/>
            <a:ext cx="273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ные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х из нескольких  слов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личественные числительны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значают количество предметов и отвечают на вопрос скольк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енные числительные склоняются по падежам, но не имеют рода и числа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лонение по падежа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п. Сколько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.п. Скольких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п. Скольким кни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п. Сколько кни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.п. Сколькими книг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п. О скольких книг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Картинка 12 из 1115"/>
          <p:cNvPicPr/>
          <p:nvPr/>
        </p:nvPicPr>
        <p:blipFill>
          <a:blip r:embed="rId1"/>
          <a:stretch/>
        </p:blipFill>
        <p:spPr>
          <a:xfrm>
            <a:off x="611280" y="620640"/>
            <a:ext cx="81882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робные числитель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робные числительны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ются разновидностью количественных и служат обозначением дробного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руктур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робных числительных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ая часть (числитель) представляет собой количественное числительное а вторая (знаменатель) — форму роди­тельного падежа порядкового числитель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робные числите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огут обозначать также смешанное чис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именительном и винительном падежах числительные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ишутся с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конце слова.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, пятнадцать, тридцать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ительные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ередин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ьдесят, шестьсот, девятьс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ередине числительных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ятнадцать, шестнадцать, семнадцать, восемнадцать, девятн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пиш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диннадц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ишется с удвоенной согласной букв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0:10:34Z</dcterms:created>
  <dc:creator>Ученик</dc:creator>
  <dc:description/>
  <dc:language>en-US</dc:language>
  <cp:lastModifiedBy>Алёна</cp:lastModifiedBy>
  <dcterms:modified xsi:type="dcterms:W3CDTF">2013-03-20T13:25:18Z</dcterms:modified>
  <cp:revision>7</cp:revision>
  <dc:subject/>
  <dc:title>Муниципальное общеобразовательное учреждение «Средняя общеобразовательная школа №2 «Источник»</dc:title>
</cp:coreProperties>
</file>