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67BE-FDAA-438C-9DE6-3AAB0585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26D-414B-49DB-92FC-CEDD0D5A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8D9-A6D4-4BD0-965E-F5D7B2FE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1C7-A5C0-4972-AEB8-F421B5EA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756D6-1198-48C6-941B-DC60020B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82775-C4F3-4FEC-A5D8-FBD26408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8CA70-AB89-4EF0-9153-70B88E12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8E4A6-01DE-415C-8EB9-0D1FEF58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AC502-2518-43C5-8297-6201A7DB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91EF7-3488-4B17-95E2-C1B2500B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4C81E-9BD3-46E4-B47F-676720BD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A8B-D140-4B7B-8D86-D016B8F6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CEB42-9897-42BE-B93E-3EFA0B19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74358-5B05-4CB4-A47B-A078B445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1462D-8C45-4698-82D4-F4A88BEA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82567-D1DE-4507-96D5-38FD773D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499E5-47F0-4843-8722-659BB161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C53-FD60-4C60-A4CA-5D22523D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106-6F29-42ED-B039-187963E9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059-3812-41CA-B6C6-CD72BB41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B4C-5FF7-4912-B563-AA09DE3E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776-6223-4C82-944C-DD6D3BA6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241-9CB2-4FEF-9DE8-49577DFA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58E2-4FE8-43D0-9093-1FFE389E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586B-8B73-45E9-9987-0B54BFF2E9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4981-76F9-4D6D-B4C3-4181F320F9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46656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724000" y="4279680"/>
            <a:ext cx="30877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1979640" y="2092320"/>
            <a:ext cx="4437000" cy="18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мя Числительное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1476360" y="2637000"/>
            <a:ext cx="5857920" cy="16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нятие о числительно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мя числительно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— самостоятельная часть речи, обозначающая число, количество и порядок предметов. Отвечает на вопросы: Сколько? который? како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ительные делятся на три лексико-грамматических разряда: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личествен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в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я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вадца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ятьдеся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ве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иста пятьдесят оди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биратель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б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во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ятер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рядков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ервы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торо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оты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. числительны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39640" y="1773360"/>
            <a:ext cx="331308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Картинка 4 из 1115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66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стые, сложные и составные числительны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68360" y="1773000"/>
            <a:ext cx="367200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ислительны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4"/>
          <p:cNvSpPr/>
          <p:nvPr/>
        </p:nvSpPr>
        <p:spPr>
          <a:xfrm flipH="1">
            <a:off x="2123640" y="2492280"/>
            <a:ext cx="86364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5"/>
          <p:cNvSpPr/>
          <p:nvPr/>
        </p:nvSpPr>
        <p:spPr>
          <a:xfrm>
            <a:off x="3851280" y="234936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6"/>
          <p:cNvSpPr/>
          <p:nvPr/>
        </p:nvSpPr>
        <p:spPr>
          <a:xfrm>
            <a:off x="5076720" y="2492280"/>
            <a:ext cx="863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50920" y="3933720"/>
            <a:ext cx="2555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стые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а с одним корнем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771640" y="3933720"/>
            <a:ext cx="23050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жные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а с нескольки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ня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08720" y="3933720"/>
            <a:ext cx="2736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ные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ительных из нескольких  слов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личественные числительны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значают количество предметов и отвечают на вопрос скольк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ичественные числительные склоняются по падежам, но не имеют рода и числа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лонение по падежа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.п. Сколько кни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.п. Скольких кни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.п. Скольким книг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п. Сколько кни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.п. Сколькими книга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.п. О скольких книга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Картинка 12 из 1115"/>
          <p:cNvPicPr/>
          <p:nvPr/>
        </p:nvPicPr>
        <p:blipFill>
          <a:blip r:embed="rId1"/>
          <a:stretch/>
        </p:blipFill>
        <p:spPr>
          <a:xfrm>
            <a:off x="611280" y="620640"/>
            <a:ext cx="818820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робные числительны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робные числительные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вляются разновидностью количественных и служат обозначением дробного чис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труктур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робных числительных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ая часть (числитель) представляет собой количественное числительное а вторая (знаменатель) — форму роди­тельного падежа порядкового числительн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робные числитель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огут обозначать также смешанное чис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авил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именительном и винительном падежах числительные от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д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ишутся с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а конце слова.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ять, пятнадцать, тридцать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ительные от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д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8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от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50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д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90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середине сл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ятьдесят, шестьсот, девятьс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середине числительных: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ятнадцать, шестнадцать, семнадцать, восемнадцать, девятнадца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 пиш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3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одиннадца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ишется с удвоенной согласной букв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00:10:34Z</dcterms:created>
  <dc:creator>Ученик</dc:creator>
  <dc:description/>
  <dc:language>en-US</dc:language>
  <cp:lastModifiedBy>Алёна</cp:lastModifiedBy>
  <dcterms:modified xsi:type="dcterms:W3CDTF">2013-03-20T13:25:18Z</dcterms:modified>
  <cp:revision>7</cp:revision>
  <dc:subject/>
  <dc:title>Муниципальное общеобразовательное учреждение «Средняя общеобразовательная школа №2 «Источник»</dc:title>
</cp:coreProperties>
</file>