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560-D7CE-44B5-9CF4-E4E8DDBF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39D1-619E-40F6-99C1-8265BD33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F527E-A7D7-436C-A321-902B9B4B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F3FEE-32B1-4CDB-982B-E6B40C2D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DD556-2EDA-4D2E-8B62-58FF77C7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7CB6D-E38D-4C8B-B84E-3586BFD9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5BD69-F1B1-4166-A51D-3DC8BDAB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7D824-257F-45CA-9E4B-7CEFD029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66747-1D15-42B3-B979-79C64636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88A2A-0B5C-4333-90ED-8F91DC91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BF8BD-9BA2-4A1B-B54B-DF005612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6C8BD-2F3B-4C86-8401-E23A4531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AC6-99B8-4878-989B-AE027C03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F857B-76E2-4BC5-BC19-521FEE3A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0D09B-163E-4006-8114-069DBAAF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D8D0E-8284-436D-B47A-4DB434B2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358EB-5A75-4A0C-AF15-31C955B4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5FF4C-ECCA-447B-8337-0C65A965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E4577-BDF1-49AE-B0CE-DDB54FA4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B369A-6547-4DDF-801B-99759C13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273C5-A636-405D-A92C-5FBF94B3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E5254-034C-4B29-8205-6D7D91FF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96B28-2E59-4FB6-999F-DF452221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99E-3256-4E9E-8DB1-DCDB50B1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D1B0B-110B-4F68-95A9-062CB7E1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78D5E-05D8-467C-871C-10C82397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11932-F4FD-4E0C-B90A-A5E42804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9E1DB-4185-4251-A654-344F287D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77100-E237-44D1-8111-859124AC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14253-83A3-4953-9E0C-2B6AD2BC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E1443-0DE3-4866-853F-926B994C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26C6A-6B29-4C5A-8D71-22469D5B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30040-6913-4ACF-9A15-65975761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69CF7-DBCF-4E65-BECD-272253A0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CD8D-FC06-4C4E-8241-2BBE9939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6A067-F4FD-4883-90EC-23AD048D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827B5-155D-42B5-A2F4-1FFEC088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D314A-E902-4351-BE2E-BBCF3E7E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8908D-9456-4A41-938E-56A15250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3E142-FD85-4872-AA61-AA77AC2A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B6EBE-55D4-4E5F-8DD5-BE7BD2F9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F88B4-CF76-41A1-A588-1385CB4A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C7E81-2225-443B-B897-12468913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043DA-C8E2-445D-8D9D-E395BDDE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C5F76-DD38-4AA4-9E29-2766D037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861F-F805-4EE0-BA89-8699F2C7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188F8-782D-4631-92FD-9F8098D3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7AE13-878E-4B37-8CA7-85168182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7B38C-65A0-40CB-9EFA-641CA7FB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68B8E-F0D8-4ECF-98BB-742B17AE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7548D-39F7-416B-9E37-BC35B9EE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21F2A-2450-44C5-9679-149E3D48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EEB1F-E20A-4109-8783-0AD1D165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2E327-CFC0-46D9-9369-7BC8AEE2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67175-7B9F-4E30-A1D7-BF263D07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5CD5F-311A-48AA-A90B-193FEDE8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08AF-E9E4-4950-B041-9F0671AA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60267-9D21-4944-B874-D9E8DE97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A47CC-C6EA-4336-93BD-5884B005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959FC-0F27-4DDF-9D6A-6A389919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F02F2-E4FB-4F86-A0C0-BD713BA4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71843-B910-4A05-BF11-565E7823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813D1-E9CA-4ED3-AB3F-C8CF2F29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89D9B-880F-4B6E-9290-0444227B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A7C48-56F9-4278-A587-C5B8E4A8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42C02-4467-417A-8DFB-31670561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75147-D952-4D95-89BB-839B8F78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73AF-89AD-4810-B4CC-804FB709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E52E1-6F43-4680-9A84-4DC0C674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6208C-D15A-49F6-885A-E70F9CEB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8E32A-5EE3-4824-9828-EB51F469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B608A-DC84-4DD6-AF18-5A7137EB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7A211-5E50-4606-997A-49076246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E2957-68D4-421E-BD44-E47C0780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34B10-B992-45E4-9D8A-D0F310C3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BF58A6-EE51-40B6-BB8F-B6121DD8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C6555-F903-4BD9-8BB5-7AE4627E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351A55-C9D9-4C29-8166-D05FABC2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38DD-A082-45A2-9ED3-B51BF7E6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52145-406A-464F-9379-61637568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1B306-75DE-4E15-8EE1-FF87DB5E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7200FE-62C1-4BF6-AB2C-456BECBF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6E597B-CA31-4D4F-95E6-DD6912ED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ED7A9-8B01-4B0B-8CC9-4DC855BC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C712B5-A36C-4357-BD7F-499C4560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6E53CC-2579-487B-9C88-382220C1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604838-B80A-4175-84DE-1C320B53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332229-9C31-4BBF-A351-C484CEED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9A4D8-3A98-4892-BC2A-3CA5B918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B01E-ED78-4375-8E5E-070C4096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1CB04-7297-46E5-BA19-B2460E9E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E6DCB0-7AC3-4246-9CF8-9A7E7F15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D46754-D461-4587-B9CB-167C0392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061BE8-9CFC-4A54-98E5-50F4258C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A45186-F2F7-44CB-8F44-7F6CD663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8E70D3-5AAA-43B6-AC18-F63D6274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E0C7C8-7F3E-4D2B-8993-223C9CA3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662D5-0D08-4A8D-A36F-D3EF904F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6EBA91-0135-4EC8-A1A4-264DEC50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564238-3347-4AC9-BCB2-F6BF18A9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205C-2E00-4E68-A3ED-7BAD213E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C2DA47-C05E-48D7-82FB-589F2EDC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D62E77-2AA7-4683-98CE-6D717998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303683-404B-4A38-8B44-71494284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50C3D1-84DC-4712-8962-84870CAB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50AAA1-56F7-4EC7-9E55-7618B32C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EDF00B-989C-4DA6-94C0-D3114C86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54F3C3-4503-44FE-8304-F177A331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FB1BD-1999-49A4-B54F-F93470CA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8CDB3B-FA42-4F44-B45B-FE130A42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4559A5-4B51-467C-A64B-209C1666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92D-3BBE-4074-A145-C06F3D1F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1EC0-025D-4B17-8B10-1513C6B9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873F00-14CE-4D58-8CD3-294A9C5C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C1BEFB-92B9-4EC1-851F-25739FC3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1BCFF3-7E25-4ED3-A04D-B8FF8D2D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3F5C5-7DA7-4777-B289-F7BEDD25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30F353-E8AC-4845-B972-8BEBAF6F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D07B8-9D07-4B93-B33D-DCD0C26B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5E48A7-9110-4EE7-A424-B41CB97C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AD63A6-337C-4869-8EE4-40FD7B7E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942431-645F-4617-BFF0-0CEDF859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18542B-4073-482F-8DCC-35241831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739C-39CF-466B-A90C-5768D3FE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B2015A-0BCD-4D4A-8546-545C2803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5261AC-6C04-4DBC-B2D1-F4460B67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1B1614-D4B3-46EE-A610-88ED16D9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72C8AF-FC90-4952-8FC8-D053211A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E7CCD-B4C4-4EED-93A9-4EF73A1E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9C0AC-F32B-4809-BA68-A5D1B046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29517D-30FF-478A-BBB1-6FCC26D4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87A20-1F8E-4240-A07A-FBFB92EC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5E9399-1A8F-4407-B5F4-BE0EA36E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874ABC-1E2B-4D82-8BA4-5DD5CC7C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0651-0B42-4F12-B36D-30E9993E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8D9039-9A49-4AC5-A53E-1C057B31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3FCDD5-2ABD-458F-A396-90747069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7CACFE-B5B2-4499-9A74-49864804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B24D2E-B4A5-4F7D-A406-9300FFD5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8C6DCF-E4D5-44B9-8C2D-6196A4F2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B263C5-4730-4D81-A003-600FAA28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13ACBA-2EEB-488A-84AC-25B8749D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CBFFF5-D7D7-4B86-BAE9-69A6FDAA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D31A1D-AEFE-4625-AE2C-9F1D1FC8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D28DC8-7683-4D51-8AFE-F23DE66B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EFBE-015F-440B-8D83-18240C33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415161-1E57-40A9-B34D-502D5A57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2D4810-EB05-4736-9B54-F07FED35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BD7E94-B400-4A22-A607-C8A5A390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EEBB0B-0E9C-411B-849F-324E83E5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AD2F55-C60C-4005-BC8C-D74121B3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F68844-52CD-40C4-94F5-3958F421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997F4E-7FA0-4958-A9C1-AEF12303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638515-3F04-4EDD-A24D-7A15E8CD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C8B0DE-71D1-473C-A373-0B3D4AC9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888B07-D066-4088-8C09-6C49D53B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55BF-6F48-4688-8C8D-74C70E64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9B72C8-A944-4411-ACA1-1764758A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85CF0B-B359-4E9D-AD55-7FF70099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EC15F1-64B2-4F90-9017-175FEC89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E18A0C-3A3E-4F18-8848-90A1D78C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BB68C3-54E3-40AC-B171-6DF3E195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E7943A-85B4-4891-8460-6BE75D43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05544-4050-4505-B796-B4B1CE15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B2289-8DB3-4AF0-8533-F4D79BDD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277EB4-5BCC-4E77-832D-D5F02BA2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34354B-ABEF-4A8B-8BC5-0AABEA6E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BCB1-8D24-417B-8221-BA8DABA6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CFCF2A-DE8A-4022-BC30-471B5EB5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281FD1-C82A-4C63-986E-E829A44A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EFF869-192A-43EF-B402-63773938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B131D8-5617-44FB-99E5-5ED65951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87F56B-6FCF-4FF9-91EC-F5FE2857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7059CF-41DE-4AC2-B877-5B702F64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5AE192-B0C8-4345-A758-6D6B1D60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28DF27-4295-44D9-A9E4-84C26888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EB1ADF-4179-4717-A493-47FE4829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D96498-C81D-47D0-898B-B59AEF1E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FD60-C11B-4268-9585-9B6513FB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A0C6CC-C303-4438-934A-E5C11BB2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1AE1EF-93EA-404C-960C-D4D68A91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0FCF85-2B38-467B-9D2E-D69F341B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751760-F15E-4857-98F9-72084B4A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FBB98A-9063-479F-A8B0-474EBD72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40D323-FB9E-4295-958E-714B4F83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E42BA2-4527-4728-A218-DE04198B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A10696-4C30-4552-9E74-8649CB8A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BC87D1-5A1C-4C71-A117-8A421169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D90975-11D1-4E36-B25C-2DE05E9A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CC6F1-1AAD-4FDD-9B25-A3972D96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2F9148-6F2D-4CD0-B43D-A4212FAA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A743A2-CA78-4E97-B04A-76322776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93CC49-1A2B-44A5-A3BA-B2A8F8CA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A88293-A9F7-4460-9BAC-83778DF1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70A0F6-6AB2-49A4-89B3-E56C0FA4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A747B8-AA16-46AC-AB4D-5F5AA260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E95B85-E5E7-421E-BB1A-8571F2A4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67B82B-7B5D-4782-84C9-1815019C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5F0464-321C-4F15-A11C-DEB94448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4B90D9-1C7F-4E4F-A6AB-84A0E483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9B528-16F8-4C60-BC85-37D51D0E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6514B8-CF6F-45ED-82D6-C550B451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9D122F-A616-45FA-BF9D-27B81BD3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87C7AC-5677-46FE-8BA0-D0FAE0F5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69A64F-29C8-4A58-A2B1-4705259D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AAA120-CEB0-4F8A-94AB-F106C7AC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40E2B2-1D2E-4F10-AFBA-D228703E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16DA19-B790-4579-8B57-FE01741F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1B4AAA-53E7-4698-8DBD-5C5FD832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1754E4-13DC-4BC3-A434-A4329567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876104-2218-47E9-9080-3FCF0644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EE846-C68B-4CB5-BAE3-B87B6D55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AE2558-3D90-49D9-974A-9007F781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3E3BC6-2EE9-49D4-B013-FB0E2CA4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103424-F206-423F-A941-214035F0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9FAA4E-9C37-460D-AFCD-27EDB3A7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AFBF1A-4A2D-4883-A0C3-CB9DDA32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9FB0A8-EE23-4D0C-A045-DC690593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1D00E8-2B33-4A65-99B6-8E90C190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16FBC4-0617-42A0-9812-ABF2E30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497097-92C4-4259-BFDA-12689C77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52E00E-48F0-4F3E-867D-90AB17EE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01F-1CB8-4ED0-B242-862715C6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B40D-8713-462F-8610-2AEF8FE1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A487DE-C815-4F28-BE6D-1DBC2750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D0FC49-12DF-4D36-AF7A-8FBC6869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C827D0-70A5-4145-B27F-5E626B2C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0A7648-075F-46C1-B4B0-0E8EDDE9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42D89B-5937-4082-9083-8FC77880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100F85-5FCF-4150-B307-C76FB5E9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4C9AE6-C380-47A7-BE0B-CC2BC85D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AFC202-A31D-485B-A110-C3D17FB5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0732C5-0EE0-4C78-9A21-6863A802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AE2C0A-57D6-4F8D-B511-FBE5DB4E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7689-4D2F-4ABB-8148-B25895CD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D2CD17-59B4-445D-BD86-B7006EDD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2F5706-55AB-4DE9-B743-7B19D716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C507BB-4D58-4AB0-B60B-51468543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2E31A9-3CC0-42D5-B0C5-345FA0A0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9C15E0-8632-4683-9261-5B4684CE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0CC233-A4A2-4C72-AA09-3334D2E9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89426B-9B10-48BF-9125-B8FFE73E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4A86B7-18F9-4018-9554-70C1A33F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368D2A-6DCD-437A-9E2E-97F65963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820AA8-526D-446C-9A89-D186FAA3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B7D0C-7CC2-4040-BE9D-741B5185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B681F4-17CC-472D-8072-ADF533E8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A8B93A-219E-4552-A575-12466F09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9A5AB2-212E-4D33-A995-92059214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6558EA-4F30-47FF-B805-576A1CAB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FDD45A-A3AD-407C-B1A6-AEB8B058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EDC8A5-3118-421B-ABE5-CE1B3D93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FADA20-EAF7-49AB-8B27-37A617FC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A36C6E-87C9-47CB-936A-701510CF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43F542-3455-402E-AC93-99F4B5CA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A4BC21-A0FF-4C59-90AB-B7A050FD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321AB-5BED-4CAA-9FB2-459F5BA8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B72A62-6AD0-4875-B9FE-9D262F4C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20FAAA-3A6A-4BCB-AD6B-C52E04EF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AF685B-BA13-4BD8-B3DF-090B8CE6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129A49-F4E0-4CBB-8F29-CB5A0BED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68DD7B-A7B1-472B-9460-2DBBE14E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6E316A-5FB7-40B5-AD0B-4E5AC630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59D341-B98B-4454-8458-7FB2D890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35A267-B71F-4784-B2A8-B1E8270D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D63724-318B-43AA-8051-3A7A3462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E9B1C4-6868-4B84-8950-8D34DE84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0C73-8C82-4271-8FAB-CB83178C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2DCA08-8762-4DDF-B549-ACAC00DB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E6C0EE-02F2-47AE-9BF3-FA25F174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E3339E-00BF-407A-9842-73534759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3B29BD-027D-4DC6-86DD-AE09FC93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CAD2B1-A796-4367-881A-94BE88F3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8E5434-EBAE-48DF-A369-99BF39C9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AAB59B-F92D-4935-87D8-AEC21F7D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DBEC92-7299-4533-BBB6-1C6F7C3C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AA9963-41A7-4C92-9A1A-060F4DE1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3C9C00-3349-49E3-A096-7FED1F46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3EF7F-23EA-403E-8957-8A3DB659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88B545-67AC-4B27-ACFD-C3E435FD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D662E2-5F14-4196-9EB0-618CCCCA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4C9783-87D9-4B5A-A812-34DD85B4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DB9B08-7A8C-48C5-9F08-40FD889D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39C267-D747-4BB7-B048-7A28F3E3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2C4E58-8B39-4A51-AAA0-6B11B9DF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06F0EA-34D8-420A-BB03-C60E38BD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E10426-3F11-403C-96C3-7275C263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94E3F5-57F4-407E-97FD-F7CD106F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67C7B1-C199-4E2B-9944-15CAD6B1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828F4-7CD7-4809-8878-94EF71C2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4D01D3-ABAF-456D-94C8-69C83BE0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92D5BB-BC49-41DC-B2F5-2063481A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1AB3DF-421E-4096-AB05-30929DE7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7A6175-83C8-4E7A-A38A-AAF6F80F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CA825D-06A6-4016-9F1A-FE1B468E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65635A-CA52-40DC-ACB8-3362E6C5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5E2F4F-B263-4F5F-8584-5F577FA4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FB4EFD-407E-42D6-9CFB-1452BF0E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6FF768-694D-4C1E-B3D0-32D7EBE4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A80B06-CDFC-4537-8E57-027641D7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91DBB-FCF9-45AD-8AB9-3ED45531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22ABEE-59CC-4BB6-A9F3-2C6EF055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27B837-9126-485C-A884-528D1C9C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7233D8-E98C-4590-BB5A-5CDC39C3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7375E0-32A3-401B-8CF1-E979B94D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04F256-34BA-49DE-9F13-EFFEBF84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21524A-3DC7-41F4-900E-C1FCC7B9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44533A-93DE-4AA3-96E3-FE39BD96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374212-E821-4C83-843B-8CECFBF6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6168722-8E32-4009-A82F-1D85F194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7D525E-DD08-4583-8CDE-9FBA4D0D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86993-C46D-4A8E-810C-C88E8CF4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B714F1-E3D5-48F8-A131-768EB98C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BA1EA6-B2D2-44C3-BD56-0D19C4E5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F9349A-1ABC-4445-9CD9-86C4AFB5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3C2A94-8725-4225-9EC9-D47FC1BE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CF996C-797D-41F7-A0C1-D571C359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C8763E4-D05A-4B90-93A9-9BC31FFE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E6D82E2-7C7D-4C04-9100-73AA8A66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CBB5794-D7CC-4171-86C3-FB562928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0BF48BA-A645-47F5-9A3C-CBF1759B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116DE33-1E59-43E4-AD4E-E0642084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FEE3B-8DAF-4E9D-A8F2-329571B5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F463EA4-39F6-41DB-AB30-903667B1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79650A1-1206-49EA-B90C-7CA23C3E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E116928-C633-416C-8219-86BCB2C6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1E94298-8E01-43A6-9FB5-C975D961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BD26893-687E-42B7-80D0-D82EF069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11FE103-711F-4A0A-8277-868E635B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6048A15-D871-471C-A414-B6E4E3AD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648CD5-87A1-46E7-9DE2-86F570EC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1871B6-33FA-4627-AAF0-EB1474B5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DE47AF-3D17-4D8D-AF36-6A3CBD9A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7AE-9567-48BD-8FC8-2AC4B1C7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9BC3C-8E6D-46DD-B048-81C89EBA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E6F1FA-5829-4708-ABA8-424699EA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DD03FD-E75D-4341-8AA1-BEC853D6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2537B4-5518-4AE4-B4FB-766D2F1E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B977BD-0007-453F-8497-E7949EBC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549B28-95BB-479D-8096-2FDD2E74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F49EE9-5C99-45CD-9253-8AB90872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32DC23-A38F-487E-9C9D-D08F9058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DADEC4-A740-4A24-8727-5925ADC4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798721-AE14-475E-B2A7-FFC88EF7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BB87D15-A3FC-4A95-964D-5AB9BA5C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DEC8E-9F94-4C7A-B932-72A70253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39DB780-D08B-4806-8471-84C374D2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DDCAE52-3DA3-4BBC-81C2-6D5E5CAD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CA9BC09-453D-4E07-A159-AA0D100F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CF7E40F-9032-46FF-AE9E-7E5B7F2A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51055A2-F38D-4FCD-8DB7-E92E9994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8161019-E8B4-45BF-B35C-E551653D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054F9AD-A4F1-416C-9AEB-ECA22F1C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DEA3CC6-BD29-4188-B477-E2A8C2DD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589404D-A7B7-42B7-8C4E-99D942A0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D2B0079-D978-48B3-B242-35ECFEE8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F8ABF-7922-4A97-A9B6-ECFDDDEF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697B350-3C1B-4E4B-AF28-0E5F2AE2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EA6391D-8F9F-485E-B05B-8A34CE9D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37B508F-3C61-4483-B3BE-1D02F46B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393FCB8-45EC-4840-B172-23A0F86D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092CA4C-7549-4A00-8F68-988C31AE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943415E-BC9C-4544-80F7-7EDA8EB3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852AEDF-2FF6-4A80-9BA1-04A48F6A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54D640D-C28C-4301-9EFA-3B2EA20B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8E8C683-1410-48AD-BB19-85E2398E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64805E2-8620-4113-B9B1-55BA0E24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826FE-528C-4927-AB1C-6FD41AF8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214C16B-12E4-43CD-AE7B-E24B5F1F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6EB8665-0005-4D80-903F-DEBB1594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C6C378F-CBFE-4B6B-B397-35BF92EA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62D0651-C5CB-4B87-942E-150969B0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FB639DA-27E6-4EF1-B91C-56B1825F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D3A70CC-91AD-4956-A24A-E981B5B3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CD7A820-6E29-418F-95C0-C9AB8EEE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9B7D52B-E26A-4869-B56E-6B234220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71AB5DE-5085-4730-A9A4-8C94C40A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0CC529B-B2F3-4C53-B7FE-610E82D6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59E20-D08E-4AB0-BED6-2344C159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C3B914F-86BC-42BE-9BA1-C1CC7FE0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1758683-3D62-45B1-BFFE-E840E5E2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8133AF6-DEDD-4696-8B00-66D33D49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AB68456-E359-4132-8DE1-B468CB59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1B34A1A-95A1-431C-BD0E-5FDA4141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6B26D-E55E-4166-8807-C5EFAF1D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DEB41-35D0-4205-9EA7-4F270D1C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319AE-C0C6-4819-84FC-4A846BF9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E319A-CB24-45FF-B480-1D9F771F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61EB7-55AC-4D9B-A860-905C5475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5DC-3409-4022-AAD0-57FB2931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FABFA-B344-4282-852E-C2311BF2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19549-9C68-4CA4-A1DE-7FEF95B5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AD297-E1C7-4B03-A247-8F7E2049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4E1F2-7833-4B52-B92A-03FFC66B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95A7E-DB29-4278-9842-50FB81E2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6C5F3-3868-4DE5-8870-903BB278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ED94E-5A40-406B-9793-B0B81158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9A462-AF11-4CAE-BC86-3BFC8E24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C2329-8EC0-40FC-A3CC-AE3AB058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7F33B-0039-42B2-8A81-99EC4083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BF3-D33F-48C0-8215-0C496542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8E3B3-C8F0-4A98-8D55-B5FF1209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F7F24-F016-4D7F-8B64-5B414A3C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A7E9C-3350-4BFD-A33D-AF17B0C4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BF6D5-5403-47A1-9490-08486395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CB23A-8A46-47ED-A165-4D9561FB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48CA1-5571-4491-A495-B2AF290F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FEE4A-F2C6-4681-970E-BF3FB4E8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2CBEF-F494-4EC7-BDFD-59C4C6D6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F33B4-51F2-462E-B463-A1BB982B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0CC35-4F9A-4640-A012-7E8E88B8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DB3-E6D4-428D-87E7-3BF41442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54B3A-634F-48F8-8986-7EA1798A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05430-EC54-4E85-A7C1-69935C89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EC9F7-EAA9-488F-BEF3-50B258E0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87DED-4F6E-4B1A-8ED1-34321348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8EE51-13A5-4E31-8DB5-91254DF9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9CB0D-028C-4B6A-92CA-48053C4B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35670-584A-4AE9-BD22-164CBEB5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0810C-1DE7-4F78-8BE1-834D68EF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76BC0-A020-4248-A888-D82B04A3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841A8-74A0-4CDC-92E2-252ABDAA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BA6-701F-4C49-9C90-3E6ECBE7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742DA-0272-43A8-929D-FA2F0891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A2D1D-9BCC-4C49-B599-5D1C9609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90FAE-1374-4B1E-84A2-ECD81281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060EE-54D9-4E5A-BD9E-E8D33A7B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61BAB-38D6-4F8D-8DAA-E203D781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52247-E8D3-4702-ADAC-770B5D7F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08377-BF4D-4050-A7CB-596414A3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39DAA-0B46-4A15-AFF8-C60C22D2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4DA83-FB9C-4297-894E-0F20ADF8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5AC35-BECB-4723-84DE-DFF7F010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9F6-59ED-4CB6-ADB8-DCACF220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57F6A-C637-48F2-A281-FAA77EE6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60FFB-2EBF-4D90-A251-20473294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595D0-2716-4095-804F-495895A6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98F8E-E59A-43D2-B0A0-EACFE4CA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9695D-2194-4C74-B4EA-4BCD4075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F73C6-0B1D-40F1-814C-76B77C78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04EEA-03F9-44A8-AAED-BEF5064F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EA74A-FAC6-45B3-A526-26BB09FB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D6A61-998C-42BF-BDE0-619B48F7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FCA3C-76C6-4CD8-ACED-2C4DABAC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DFDE-3091-440B-991B-7527621A3D3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88A3-2DDD-4FEA-A782-56F2B7F50210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оугольник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оугольник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оугольник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Прямоугольник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Прямоугольник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Прямоугольник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оугольник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Прямоугольник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243D-6A60-4404-B7E2-2724752EB37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олилиния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Полилиния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олилиния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Полилиния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Полилиния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олилиния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олилиния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олилиния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Полилиния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Полилиния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Полилиния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Полилиния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олилиния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Полилиния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Полилиния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ямоугольник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оугольник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оугольник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ямоугольник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2969-FD2A-4FC7-B41A-01D18471BB3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0E41-EFCA-489F-B884-3D6F87951FA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Прямоугольник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Прямоугольник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Прямоугольник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Прямоугольник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оугольник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Прямоугольник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Прямоугольник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Прямоугольник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Прямоугольник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Прямоугольник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9E0F-E212-48B9-8876-60EF7025D6B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4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4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4376-78D2-4511-8E5F-7A61F261C5E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Прямоугольник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Прямая соединительная линия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Группа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711" name="Прямая соединительная линия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Прямая соединительная линия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Прямая соединительная линия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4" name="Группа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715" name="Прямая соединительная линия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Прямая соединительная линия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Прямая соединительная линия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Группа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719" name="Прямая соединительная линия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Прямая соединительная линия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Прямая соединительная линия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46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47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48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6C9A-20D6-4960-8036-9A310C802D3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49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0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1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C12B-7276-46DA-91DE-402388E9F75B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2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3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C075-A787-4EA7-A476-1199BF1FB2D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5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6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7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FC7E-60A6-451C-B70D-A973F558E8B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C336-EAC7-4B40-B0B1-EFC50F96EB0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5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5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4522-764A-44F5-8F05-A9D073743B7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1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2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3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C4DE-FCD5-4AD9-B60C-122B273402E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64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65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66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ED85-2A5F-482B-BFE9-FCDD8694FA6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67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68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69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71F6-D047-4E57-AD63-F04509ACB0E3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4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06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7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26E9-2462-4E6E-BB57-01B8153A41C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10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11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1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7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7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D0CA-1CE1-4D61-8D13-9E316DC47E5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15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D3CC-E87C-49CB-985F-44386BA4176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203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027D-E5EA-4A21-BD6D-939F76D0ABC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F21D-CE89-4CCE-9F4B-AA4276233AE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288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8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8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8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4179-5766-4E36-805F-3D801190476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7BE1-45ED-4730-B0B2-C3E308107AC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dt" idx="8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ftr" idx="8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sldNum" idx="9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5DC1-A1D6-4C5D-BEEE-0EF5E51EC37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 type="dt" idx="9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 type="ftr" idx="9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 type="sldNum" idx="9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7800-0ABB-43D8-B636-F92EBB2EC45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9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9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9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5777-59C9-41FC-B92C-ED9C30CB283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9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sldNum" idx="9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0A72-753C-4A8D-9371-89DAEF3C1FA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ftr" idx="9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 type="dt" idx="10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 type="ftr" idx="10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 type="sldNum" idx="10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DD46-0E73-4A12-8683-D81357243B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 type="dt" idx="10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 type="sldNum" idx="10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52B3-C051-461E-88F7-67676F2321B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 type="ftr" idx="10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0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sldNum" idx="10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E386-B9C3-41AD-81A8-2943A9DB626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ftr" idx="10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 type="dt" idx="10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 type="sldNum" idx="11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4C05-0413-4ECB-9845-682785C6AF1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 type="ftr" idx="11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3061-E8A6-461E-9997-2197395FDE7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4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0758-7673-4258-909A-2F9FADC77C4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BA7B-671E-4EC3-8907-D9DE2949D576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1751-2FC1-4CD1-89A9-D0787A750F6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6272-19F9-451C-8AF0-DBDC7F489277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3F81-4956-4A71-90D5-877237C5A287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hat do you feel about the situation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718" name="Содержимое 4" descr="Wed Feb 03 12-45-52.bmp"/>
          <p:cNvPicPr/>
          <p:nvPr/>
        </p:nvPicPr>
        <p:blipFill>
          <a:blip r:embed="rId1"/>
          <a:stretch/>
        </p:blipFill>
        <p:spPr>
          <a:xfrm>
            <a:off x="1362240" y="1744560"/>
            <a:ext cx="5657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1" name="Схема 2" descr=""/>
          <p:cNvPicPr/>
          <p:nvPr/>
        </p:nvPicPr>
        <p:blipFill>
          <a:blip r:embed="rId1"/>
          <a:stretch/>
        </p:blipFill>
        <p:spPr>
          <a:xfrm>
            <a:off x="378000" y="-12600"/>
            <a:ext cx="846756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uess the topic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0" name="Овал 14"/>
          <p:cNvSpPr/>
          <p:nvPr/>
        </p:nvSpPr>
        <p:spPr>
          <a:xfrm>
            <a:off x="2133720" y="2057400"/>
            <a:ext cx="2209680" cy="11430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Облако 15"/>
          <p:cNvSpPr/>
          <p:nvPr/>
        </p:nvSpPr>
        <p:spPr>
          <a:xfrm>
            <a:off x="7238880" y="0"/>
            <a:ext cx="1600200" cy="2362320"/>
          </a:xfrm>
          <a:prstGeom prst="pi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r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Шестиугольник 16"/>
          <p:cNvSpPr/>
          <p:nvPr/>
        </p:nvSpPr>
        <p:spPr>
          <a:xfrm>
            <a:off x="533520" y="3352680"/>
            <a:ext cx="2286000" cy="182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kidna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Скругленный прямоугольник 17"/>
          <p:cNvSpPr/>
          <p:nvPr/>
        </p:nvSpPr>
        <p:spPr>
          <a:xfrm>
            <a:off x="4191120" y="3733920"/>
            <a:ext cx="2133360" cy="13716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eal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Равнобедренный треугольник 18"/>
          <p:cNvSpPr/>
          <p:nvPr/>
        </p:nvSpPr>
        <p:spPr>
          <a:xfrm>
            <a:off x="4495680" y="1523880"/>
            <a:ext cx="1524240" cy="1828800"/>
          </a:xfrm>
          <a:prstGeom prst="triangle">
            <a:avLst>
              <a:gd name="adj" fmla="val 500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Капля 19"/>
          <p:cNvSpPr/>
          <p:nvPr/>
        </p:nvSpPr>
        <p:spPr>
          <a:xfrm>
            <a:off x="2666880" y="4114800"/>
            <a:ext cx="1447920" cy="2743200"/>
          </a:xfrm>
          <a:prstGeom prst="pi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ki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Табличка 20"/>
          <p:cNvSpPr/>
          <p:nvPr/>
        </p:nvSpPr>
        <p:spPr>
          <a:xfrm>
            <a:off x="6477120" y="2362320"/>
            <a:ext cx="1371600" cy="1981080"/>
          </a:xfrm>
          <a:custGeom>
            <a:avLst/>
            <a:gdLst>
              <a:gd name="textAreaLeft" fmla="*/ 161640 w 1371600"/>
              <a:gd name="textAreaRight" fmla="*/ 1209960 w 1371600"/>
              <a:gd name="textAreaTop" fmla="*/ 161640 h 1981080"/>
              <a:gd name="textAreaBottom" fmla="*/ 1819440 h 1981080"/>
            </a:gdLst>
            <a:ahLst/>
            <a:rect l="textAreaLeft" t="textAreaTop" r="textAreaRight" b="textAreaBottom"/>
            <a:pathLst>
              <a:path w="21600" h="31196">
                <a:moveTo>
                  <a:pt x="3600" y="0"/>
                </a:moveTo>
                <a:arcTo wR="3600" hR="3600" stAng="0" swAng="5400000"/>
                <a:lnTo>
                  <a:pt x="0" y="27596"/>
                </a:lnTo>
                <a:arcTo wR="3600" hR="3600" stAng="16200000" swAng="5400000"/>
                <a:lnTo>
                  <a:pt x="18000" y="31196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Хорда 21"/>
          <p:cNvSpPr/>
          <p:nvPr/>
        </p:nvSpPr>
        <p:spPr>
          <a:xfrm>
            <a:off x="7467480" y="4267080"/>
            <a:ext cx="1676520" cy="2133720"/>
          </a:xfrm>
          <a:prstGeom prst="pi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i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Блок-схема: перфолента 22"/>
          <p:cNvSpPr/>
          <p:nvPr/>
        </p:nvSpPr>
        <p:spPr>
          <a:xfrm>
            <a:off x="5181480" y="5334120"/>
            <a:ext cx="1828800" cy="1414440"/>
          </a:xfrm>
          <a:prstGeom prst="flowChartPunchedTap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unish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7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9" name="Заголовок 1" descr=""/>
          <p:cNvPicPr/>
          <p:nvPr/>
        </p:nvPicPr>
        <p:blipFill>
          <a:blip r:embed="rId1"/>
          <a:stretch/>
        </p:blipFill>
        <p:spPr>
          <a:xfrm>
            <a:off x="701640" y="1974960"/>
            <a:ext cx="8167680" cy="2073240"/>
          </a:xfrm>
          <a:prstGeom prst="rect">
            <a:avLst/>
          </a:prstGeom>
          <a:ln w="0">
            <a:noFill/>
          </a:ln>
        </p:spPr>
      </p:pic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380880" y="16336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39" dur="2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2285640" y="2895480"/>
            <a:ext cx="6172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WHAT CAN YOU ADVICE WITNESS?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f39d"/>
              </a:solidFill>
              <a:latin typeface="Century Schoolbook"/>
            </a:endParaRPr>
          </a:p>
        </p:txBody>
      </p:sp>
      <p:pic>
        <p:nvPicPr>
          <p:cNvPr id="1733" name="Рисунок 3" descr="045bd34e[1].jpg"/>
          <p:cNvPicPr/>
          <p:nvPr/>
        </p:nvPicPr>
        <p:blipFill>
          <a:blip r:embed="rId1"/>
          <a:stretch/>
        </p:blipFill>
        <p:spPr>
          <a:xfrm>
            <a:off x="2082960" y="304920"/>
            <a:ext cx="5898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1735" name="Заголовок 1" descr=""/>
          <p:cNvPicPr/>
          <p:nvPr/>
        </p:nvPicPr>
        <p:blipFill>
          <a:blip r:embed="rId1"/>
          <a:stretch/>
        </p:blipFill>
        <p:spPr>
          <a:xfrm>
            <a:off x="-19080" y="438120"/>
            <a:ext cx="90298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TextBox 4"/>
          <p:cNvSpPr/>
          <p:nvPr/>
        </p:nvSpPr>
        <p:spPr>
          <a:xfrm>
            <a:off x="533520" y="380880"/>
            <a:ext cx="80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 i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, vacuuming, earing, tea-break, out, whi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TextBox 5"/>
          <p:cNvSpPr/>
          <p:nvPr/>
        </p:nvSpPr>
        <p:spPr>
          <a:xfrm>
            <a:off x="609480" y="1905120"/>
            <a:ext cx="815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did you see Lady Alton’s 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you go into the … room this morning while Lady Alton was ou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lways have a … at half past 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… the carp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… I’m wearing my bo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where were you working while she was …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TextBox 1"/>
          <p:cNvSpPr/>
          <p:nvPr/>
        </p:nvSpPr>
        <p:spPr>
          <a:xfrm>
            <a:off x="560160" y="609480"/>
            <a:ext cx="51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the pictures from 1 to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TextBox 1"/>
          <p:cNvSpPr/>
          <p:nvPr/>
        </p:nvSpPr>
        <p:spPr>
          <a:xfrm>
            <a:off x="304920" y="533520"/>
            <a:ext cx="853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spaces in the sent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ppened … she … … the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… vacuuming the carpet … she … the table ...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se …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the flowers … everyw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she … them into the waste b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ly she … the 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0" name="Схема 1" descr=""/>
          <p:cNvPicPr/>
          <p:nvPr/>
        </p:nvPicPr>
        <p:blipFill>
          <a:blip r:embed="rId1"/>
          <a:stretch/>
        </p:blipFill>
        <p:spPr>
          <a:xfrm>
            <a:off x="1517760" y="1371600"/>
            <a:ext cx="61084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0-08-24T14:45:15Z</dcterms:modified>
  <cp:revision>14</cp:revision>
  <dc:subject/>
  <dc:title>What do you feel about the situation?</dc:title>
</cp:coreProperties>
</file>