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80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</p:sldMasterIdLst>
  <p:sldIdLst>
    <p:sldId id="256" r:id="rId39"/>
    <p:sldId id="257" r:id="rId40"/>
    <p:sldId id="258" r:id="rId41"/>
    <p:sldId id="259" r:id="rId42"/>
    <p:sldId id="260" r:id="rId43"/>
    <p:sldId id="261" r:id="rId44"/>
    <p:sldId id="262" r:id="rId45"/>
    <p:sldId id="263" r:id="rId46"/>
    <p:sldId id="264" r:id="rId47"/>
    <p:sldId id="265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" Target="slides/slide1.xml"/><Relationship Id="rId40" Type="http://schemas.openxmlformats.org/officeDocument/2006/relationships/slide" Target="slides/slide2.xml"/><Relationship Id="rId41" Type="http://schemas.openxmlformats.org/officeDocument/2006/relationships/slide" Target="slides/slide3.xml"/><Relationship Id="rId42" Type="http://schemas.openxmlformats.org/officeDocument/2006/relationships/slide" Target="slides/slide4.xml"/><Relationship Id="rId43" Type="http://schemas.openxmlformats.org/officeDocument/2006/relationships/slide" Target="slides/slide5.xml"/><Relationship Id="rId44" Type="http://schemas.openxmlformats.org/officeDocument/2006/relationships/slide" Target="slides/slide6.xml"/><Relationship Id="rId45" Type="http://schemas.openxmlformats.org/officeDocument/2006/relationships/slide" Target="slides/slide7.xml"/><Relationship Id="rId46" Type="http://schemas.openxmlformats.org/officeDocument/2006/relationships/slide" Target="slides/slide8.xml"/><Relationship Id="rId47" Type="http://schemas.openxmlformats.org/officeDocument/2006/relationships/slide" Target="slides/slide9.xml"/><Relationship Id="rId48" Type="http://schemas.openxmlformats.org/officeDocument/2006/relationships/slide" Target="slides/slide10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7C46-E6A2-4038-B793-0A31CB8F7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007B-4233-40C7-9D43-28FE16CF9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4F3FB2-ACCF-4F2E-8005-4B9EB6FD3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1BD90C-3214-4001-87C0-3B1866785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6BFCC2-D8A1-4A50-B088-8C296ED30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31B5C7-64D0-49D5-A55F-22CBD82A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936313-9B5E-46D0-AD52-F4B3A852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3E236E-16B9-4D57-9650-7DD4A977D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198452-CECE-4227-B2A5-29D954CAD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946940-4FC3-43C1-A031-63EE3A272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F58048-75E3-4047-99F2-7FD140A38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293BD9-9FB2-4D9D-B445-C555A21F0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EAE0-6C1F-462A-AB2E-F8E848338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E6082F-D13F-49E7-A6DC-1E5195A31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0EEB30-C7B1-4C5B-8514-385B6050B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30DDE2-A75D-4985-989F-0491D324F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84FFC2-8640-4944-8323-82C742832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333F05-CABF-4D10-9C8E-F1F709805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8F04E9-B900-416D-B8B5-A15BF415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FF335E-88E9-4B70-A0F6-C1764A127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FA6905-7469-4BD2-9A1B-DB80386A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DC0AEC-925D-42D6-9587-E90CA30DF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CBAFD7-74BB-4E30-953C-B5DBF16C0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A2D4-2647-4D3B-A5EF-6028E286F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B39C27-55A7-44E9-B3E0-D31074277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670941-D773-405A-9D24-316B25C2F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FAB354-A9EF-4843-9AFD-2715CACC1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614E39-226C-43DF-8710-CD20EBC86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AE46B9-5809-498A-A9CA-0D6BA7A60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03E765-CC1D-49F9-995B-0D89F54B3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C5F243-737C-4939-BC5F-7E9834C04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E4621F-DD3E-4A74-98F1-7FDEF3C9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4E94A3-C645-4696-9343-11AFAAEC8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B783B0-9101-436A-8ADC-22CBDC15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7ED7A-5391-4F0E-8C3A-BD741D488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339D18-24B7-4681-B486-325A2BE2D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FE7A9C-DA3D-4B27-BB5A-DB99338F8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5011D9-72B5-4B5F-B897-05EBFDA80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6C6BD2-039E-4BDD-BCA6-B2B07FD12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FEAD0D-EB47-4EA0-96EE-1165BED8A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AC48D8-3B80-4F73-9CA9-FA5F75B9B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128C3A-7439-4A41-9A0A-88648AFB3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DFD3F0-CE28-4667-91D3-DEF49FB04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CA6134-2A6B-4B2B-B5C8-6D08ADBDC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6C3ACC-8A04-4C9E-A78B-AAFDFE9C4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9738D-2B40-4E31-9F74-2CAA508C5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50300E-187C-4602-B62D-352EC9574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8EA775-BE50-484A-A4C8-C45BFE0A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34707F-DFA7-4AD5-B1FD-627264F21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D46C6A-1A52-4427-BA12-81A4650BF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91FCEE-2084-4CF2-A6F3-4933BD0FE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C22C2E-06AC-4B51-A456-EDDACDFD3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911223-03FF-4CF1-B509-B9746AD3D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34E8D8-B312-4B7F-8504-909550A4B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6A9721-C806-4E14-B600-DCD862D22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142308-C6E9-4BEA-8BF0-DE0D98B45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A0D34-C42B-42FE-B6E3-4B907393A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49530C-D623-481A-AEFB-954533E72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91EF2C-9D96-49B5-A31B-765DEA9F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0363D6-895A-4E2C-84BA-C7DDE315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18AF57-C56D-4EC9-B6AC-19B3F211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18D705-A6BD-4F6C-8C7D-6B729B2DA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B4974E-B535-4D56-8FB9-5EB47705B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691D84-43E3-428E-80C3-773FA0D1B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329730-A379-40B8-BEAB-1DAD7BE3C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C207EE-CC21-4ED2-AACE-AAA71DB08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8ACF12-281D-4FA1-9064-19E12DF0E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97DDD-77C6-468D-859B-D7E5AED2E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2D601E-9E72-4D7A-8D90-9BF7602BE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38E274-164C-42D4-8368-4865532C6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20E258-9883-4CD9-8E08-6396B42E6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2DA315-58DF-4875-A426-E9D32DA0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CD18DB-346D-4109-95D9-764BA396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C8A9A0-1D66-4EBE-8F6B-E13DF8535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09B576-0D4B-46AA-BFBE-9994A693F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85E192-AA94-4AC8-8E8D-B74D9AFB6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98244A-57D7-426A-97E5-4D2645599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5BCF94-E4DA-453E-8969-3661D15BE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BC4A8-CBA4-4F3A-8EF4-4EE5A6835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BDF23C-488A-49C3-8308-ABC5DDBDC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D3C465-7490-4081-B378-9E268E5AD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432487-54E2-4367-B1FF-6D65292BA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C46AAB-3F03-4F0E-977D-736AEA7BD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D09628-8E68-4F60-B840-287FE872B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D18D11-CE0D-4191-B3B6-17A6A39A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47822D-F7B6-4E36-AF11-639084B7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630B74-C453-4713-9891-8B1BF78E3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5DCF3C-FFD5-4A84-BF49-BBFE1EEFD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C9CCC7-AFA7-4648-9411-196621582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7340F-67D6-4EE1-9727-2E5A0D510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5CE801-584D-43EA-B7C2-346655607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630F6F-9B54-4452-B056-4400F9953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4CB225-9E27-4CDD-9DC8-8498986BC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24D4E1-CF79-449A-851A-FB0FDB6C9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E36CA9-967A-41CA-AE66-02238C94B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5789F2-A324-45E5-B7C1-0C81BC458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AC5F48-0073-4A0C-88D6-5A834E2B6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738F47-106B-45FB-A8B8-E006BF10E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EC49A1-E3CA-42EE-89B1-20810738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C55514-8326-451A-A235-8286E439F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73B78-D565-4DD9-87DE-FB1C9424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7E7858-7602-40A4-AC81-E5BC91794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CDD1C8-B186-4AED-BB7F-375FFCB3B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B8176E-CCA7-4980-B178-6EA76C862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852BE1-AF79-4315-8A95-BB052DFEF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C68511-BB28-4E75-8C78-6C6F51261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8DE647-0580-4B08-8F5E-16EC344B4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D397ED-FB00-4DFD-A3D8-9FC77B6A4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FD6021-D5A9-48A1-A2D8-99AAFABA0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6F97A2-1E98-456D-975C-D7562706E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2B065A-21ED-4BC8-8DBF-2EF883EA3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9308-530A-4E55-9C05-EA676FAC3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50036-2B95-430F-B435-8969B70C5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96D2CA-1B44-42FC-9F47-65BA650F0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3DB255-9BF6-4EAD-A43C-57CFEBB2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40C3E8-64C2-4684-8311-6722D3BF8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3F03D5-1E4F-4D47-9BF9-6E2B300B2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FD1092-2A20-468B-A473-58F0E6524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9008BD-8F32-4EDF-B4F5-66F80F0C2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BC2E3B-C49D-447D-A7DD-3A00C7839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A4CBB5-5DF4-4C4A-AC8A-078C152DD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A97FBD-4E11-4B75-A52C-F06FC449F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D530D0-E47C-49B4-9D83-17D54B0FB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11216-BB46-449E-93F5-4BB052748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086E9F-4AA3-4945-AFE6-8DE6297F9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D93298-099C-4981-86D0-BA96CC091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7A595B-1522-4A35-819F-53FD53E2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3EF26C-5E52-4094-B883-D524DB363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023A55-D940-447D-A644-8DEC4CC96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B67EB3-0FF7-4818-B2DE-7B4EED670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2C18EA-83F9-4EE4-BE58-36CE4C14C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117C64-7F6E-421F-A604-51909EADB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09DC6F-2B84-4B89-93FB-7CB306385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D1E55C-C574-4F82-8509-1D5ACFBC0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A42FE-D010-44BE-9A07-0B58AF806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F0DAA3-7422-4FE0-B8EE-D64342B44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B039A6-500E-49D3-BA52-5EB46D54E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B448D8-01E3-4EAD-9623-A13F0B599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BEF3A1-501A-4971-BA7E-0B9DAB2E9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791338-4CF5-4DE6-A8E7-FB4A058DB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9648B8-F2ED-41E6-9B0E-664D8FC5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6F06AC-0028-4A25-B505-42EBD2493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13556D-6AD6-4DC6-A9E3-BF31864C1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C969AA-94C8-4B7E-9A4A-9B46FCBDD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DFD531-7EE3-426A-A0C6-6413F3786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8B1A2-E380-49C8-946A-1F99A18F9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01F10C-A18B-4722-BB21-415849FE2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D35724-05FB-4926-AECC-E6EA9D66F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A73A11-4D45-4D28-B59B-FB45C6FE2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E31587-2B60-4565-ACF6-A4EAAAC91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672569-3196-4D4D-A1C2-DC473EE8B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3DF11D-E7F5-4087-B664-8898B7C4B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52081F-FCBB-4785-812D-154FAAC02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CD4AA1-14AE-4DEC-94D6-8E0368B93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CD78CE-C2FF-488B-B2AB-9EA6DF55F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D43901-D1C7-461D-ACF0-A4B67B747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0E225-3304-428D-8593-F5D4E89E1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C06855-D39B-4ACA-AE22-159177151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3EA2EF0-4DF2-4953-A622-EB711E53E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3DCF572-906C-406E-9FAD-7B8354C79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9D9BD0-BDFC-4225-ACC7-6F7191EF0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D9665E-731D-46EE-9658-9FD34C567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8B3491-7736-45A4-A1FB-876EAE400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7318FE-375F-4CCE-918B-9D6187C19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B3B2B3-6958-467C-A1D0-823B73C98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ED1DD0-136C-4776-A96F-9EAA66DAD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7B3487-DD8C-4B67-BCAC-81E300F61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96C2F-68A8-4A1A-9655-C7B552FE5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7EEC76-1BC8-4179-9674-C8162FAC1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EB9F80-4DFD-4D48-9F3B-C837756A2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217AEA-A338-4AD7-8C73-111F14E16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1E86E3B-B4B0-4CFD-B67B-AF7925143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2996801-7DAC-4F14-9437-96F75F57F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997EECE-C645-4A7B-BD33-AAE1E1197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38F8641-1093-4B83-866F-2BCBD4E2A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95B02AD-1FE1-4277-8C0B-3AA7D6083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BFDD14C-6BA8-4CC1-A15C-F76D15B64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7C869A0-339A-44E7-B53D-9FDE4062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A4481-46CE-43A9-AA49-6106E9FEA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BE693CA-2C0E-4B86-BDF1-9AEB3DD6E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D58B945-01A6-4DE8-901D-789528F4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A7F9E07-801D-4340-A6DF-4C26DB5B1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14598AD-8F56-4245-A2A3-C28D6BF6F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D97CBA8-B964-4AAC-B26F-5C08D0519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FB85EB2-F181-4BE7-ACBB-B47EAA359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1033B4A-F46D-44DD-B718-5610F4546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D8C046D-681A-4417-8519-F4B210113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434C38C-9E02-47EF-A3B4-CE5ACA8D4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7BE72B5-C108-4BC2-A859-41E619C90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6BA33-CE43-47D2-AEAF-4E6E176DA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21ECB21-7B8D-430D-A02A-E9A11633E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2BB90AC-3E4E-4A97-83B2-6DD6343CD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3DB0181-2591-419B-A2D3-D3397F9F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0B1E534-551C-43E7-A65F-DC9BD7113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7738C53-9DA4-4598-BE40-5873BDC89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21C9A18-779B-431C-87D5-6D662C930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02C21F5-8542-461B-B01F-0599D4507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C44C239-9AE2-45A0-AEAB-20BB95D2A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93BB675-0797-4E3E-B30D-B13A2C906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2CC29FD-01BA-46FF-8EB0-25C5A53F1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1AABA-A337-4AF9-AAFF-BCF742AA7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D66B09C-7C10-4D1E-AFDC-171DCEA76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A2D67F4-6370-4059-8341-26EDE8D28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6F0D14C-96D4-4646-9ACE-38C4C00E2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B463396-B04A-4108-9715-A96CD4CB8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151B009-8561-4008-848C-1716ABC14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9DD6356-81F0-4482-B5A3-4CA6C83C0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A4C7660-C70E-49EB-B30F-87D2FEB43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8B965BC-B74B-4E88-9FD7-F73D2DD25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6972A63-332E-473B-BBC4-AE567C37F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ECB1326-F0FD-4C2C-954C-75DA6D9DE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66A74-E625-4B9E-B94B-768C34EC5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FD4958B-BA74-4193-8DD6-9639B34BB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59C3BC5-9A58-43B8-815F-33E1385CC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6AAC3F2-456E-4534-A3FE-2534AFB1C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31DB5FF-ADE3-4842-9AC6-D21574557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8D97DD1-33EB-46D5-8147-B46CF79BD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05C75E0-A3CB-4BEB-94EA-6AA490B5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1D9E210-CFA1-42A5-AD68-FD7BF6288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E2ACD92-B006-459E-AF8F-4421C766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AD596F4-18D2-4856-B13D-148974E32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DED66B2-6948-4098-944E-DBA26FF93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B729-35DD-4C98-B8CA-FE9CDDDD5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106D9-5F89-4273-9CD6-307225D79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51CEF36-6E99-4AC4-841E-9E58D19CB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7081182-AF3D-4413-BAE8-8A02692A1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158F12E-AB0B-401F-BA8B-46D17AF22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8F714C0-2341-4BCD-86B5-7A901D134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9B53F26-7861-41A5-8098-044E72EA3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BFF2076-0043-4B0C-8CEC-7A842B711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E053154-60FE-493B-94F4-1BCA855E2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BCE07FC-AF58-4586-B3D9-68FD44803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0343772-A1F1-4B15-B774-D81351605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6D75242-46E7-4AC4-9370-8FF4B9DB5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0DF60-0555-4562-97BF-3E6D7046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9ED636A-6A83-4953-97DF-0F5A1DFCC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C85CC6B-BD39-4D88-B537-7F566AAC9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1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3D0E134-CDA2-4458-97F8-6C7830F4C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71144FC-8F94-45E6-935E-672E34245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5FC819C-5570-4BB1-BA53-D729A5DBD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C79C572-14D1-4636-BCA1-7E90ECB0D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1C5A199-A451-4785-9ABE-E742D6F4B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B74A5C9-8351-4126-B3E8-F286A08F0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6E120ED-D98C-4AE2-A282-8343D21B4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E6B976D-CD3A-4E09-9612-E69906710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D3EE2-22BC-42C6-BE0A-88FA9DC3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1C8EEA5-A6A4-4A4D-984A-A39A7C11E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B723EC7-837E-416F-B363-416C3AF69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295D683-387D-4BDE-9CEF-C16CBD640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AE4F177-8E3C-4780-A0DF-CA77206C8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2A0589E-F20B-4827-822B-8FFAA6D8E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580ECDE-FE72-4CB4-A36B-C642733ED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152F65E-99B3-4F50-8B24-6554E30A8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3ECFD2E-DE0D-4905-9F41-2008CFC92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8CAA89C-821B-4AE5-A621-4BAE5034C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BEFEF4A-E7E5-45C5-91B5-43AADF87C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B08F4-CA83-40BF-A331-4C1FD48BC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ECABEB1-ABD7-4840-9329-897577453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D2C049B-5562-4E71-B859-B1B1D33AE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38D1117-135C-475E-8818-1749E5AC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CE5CA74-2117-435F-849C-82C560E34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EAE4A06-E790-4EEF-AAA6-B01104F26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253E1D0-7283-4D6F-A585-AC0B83994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D9D480E-5ECD-4EE7-B738-82EDF1836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B719978-2942-4A14-8020-321E1F007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2BC4EB9-931F-4DB9-B731-12A0C63C5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39CB2D2-3677-4E35-900F-6D45476D0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84B08-64D2-4F19-9212-502BFFF1C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3297D1E-5505-47B5-A244-FB007B77C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42F4E4F-A26F-47F2-893D-658940275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174DB51-4660-4821-988E-C1DBF40ED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D5BC7C0-83DF-46D0-BC60-40FB9E077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2142851-3215-42C7-9B3A-C711F9D0B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926C407-72C5-4E91-AE78-68A15B451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D637201-111B-4242-8E54-F6C17563E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3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085775E-0015-4775-888B-3E735EAB4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8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9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0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8FD8FB6-301E-4B1D-91E5-F0A1B2654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49C7FAC-53C0-4B61-837A-953C77D43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E063F-EDA1-4E47-9E7C-E4ED06DF1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2E18F92-6807-4B7A-9626-CDC49D17A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AC85F06-0482-4546-82CB-D740A88FA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1E09DF6-CD59-443A-A737-D414F9432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529882B-A14A-4C2F-A664-F478E02EA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6833D85-766D-4D46-A6F4-1F70EC194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D4B2A86-69E7-4972-9751-89800259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3F8F8BB-6EC2-4039-A1AC-FB05F122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81E06D5-FCB3-407A-BBCD-80631CBAE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FE3EF90-980A-4E5B-BC64-D204700AE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4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FBC1A0B-4E88-4625-A1C9-F4AEC9866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E0B87-034B-4A44-B3CE-F3E55D957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0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1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5790619-FE9A-4DA8-9C1A-C52F7A938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0A0651A-DFBC-4969-B9E2-051AB93AC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40DC89C-D72C-4C2E-B934-34740B79A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818AE35-B629-40B1-8109-A280E2F98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975F7D1-2F94-4C66-BFA1-A1F33E53F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9D82AD6-5164-4B7E-90E9-21AC4BBB6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305552F-00AA-4FD8-97ED-8823B5395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A2A5963-B061-4290-8A6E-3789B792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EB60EE8-36D9-414A-82C5-EE7334BF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F28D2C7-92B9-4A55-BDCD-3CDACAC8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6F9BF-DFAA-4EFB-BB69-771CA09BE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84C36EB-20E1-4485-BB39-1477BB23C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6A50D1B-304E-492F-830D-F6F51605F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447DC7B-37AA-440C-9B44-BA11CA7D3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3283A4C-3D7E-4670-884C-A31298660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BF6D435-2022-4F62-A9F1-08879C443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9EFFE68-118A-4DAF-98FF-2F7BA0101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9451D9E-76E1-452B-916E-684D99937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1B9297E-A9D2-440C-A0EB-DCE66EE59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90A2B37-2161-4FC4-BEA3-49F5DE96C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E002EB2-6F07-4A12-B740-6DE909875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7076F-34D4-4FDE-AF11-22BDEB527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D89400D-4FF3-4CAD-A8BB-392E03EA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18AFE1A-4A0E-4D7C-8355-7A2DCF7C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8BAD493-2F06-466E-B939-C54FC28FF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E880360-735D-4DB2-8341-B6A85F54E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CE6274D-759E-4B13-8E52-D5A24E61D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9F692246-F6A9-4736-A0E2-FE2667BA0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6CA45B27-1D98-4FA3-98BA-EC97EF1C5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1F5066C5-864C-4A56-9F94-E646B745A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28A53A15-2951-41FF-893B-F50F29DF7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1EC765DA-5334-4E5F-A73F-C44D3D04E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456F0-6BD6-4218-9C37-CD16AE23F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B3703932-9A43-4059-A0FC-6C0945AA6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3EA80D9D-88E1-45AD-A45E-20D84550C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92F2A690-7DAA-4AFE-BDF2-6D34CDCF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E037019E-B667-4F5B-9722-8367BDE4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DCFE3133-629B-4AFE-ACAE-558154139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2D6069F1-461C-423A-A116-435C3D765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95E2E058-2E1E-48D7-BF3C-F17014F54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87DBC56-B382-42E7-9EE1-AB50A0DF3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5622E93-F0BB-4E04-BA92-6A8D0A843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A190732-5D2C-4B2D-989F-B04A6C694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7F6D-1F92-43AD-819E-388790F79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A3E29-C17C-4DA4-A410-4903E16B0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BD1DA10-9B33-4D1C-AA48-07DAEF4F6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BE5EE03-5A42-4DD1-86AE-6A4275D00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A9F61A1-53AC-4A02-8B17-3D172332D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F744329-A29B-4843-A1EF-A4EB6A96F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228FA53-418A-433A-9965-DBEED41C6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E1ED7F4-0F46-42B9-9C61-2CD39BDA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1C68D48-705B-46FD-B5D7-CF2C212B1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DB5D8E3-A39B-48D5-AA6C-CDEF24CC5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C7E9D21-B5EC-4F6E-90C8-D50AC9B8E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02E8C482-E3C1-43F0-BEAD-1BD73FC28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B1574-8274-4980-BB24-431A59B71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E3ADB8A3-DA8A-48CA-AC29-94F742203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603F12E5-6EBD-487E-87FD-2B1BFE072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18454BAF-4B23-4721-8383-1F20BF1D9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B18591F7-73C9-49EA-9588-35712DA38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5102432C-AD41-4E8B-AF28-708F2FA32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06E43CE4-4059-4CD2-8F88-EE84CEDC4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1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E0D08D76-4700-47B5-868F-43A5B90C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1740524A-AE8A-4A23-8F74-5AC260644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196BE7DE-1425-44A2-B96E-0F4040FFE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3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C40FF56B-D263-4915-A089-E3ABE40D2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6E070-E983-4E61-9891-51F018182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8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9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0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35B88A2A-B4D3-4F6A-B519-48177F1A6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93DA52F4-2CB9-4371-8901-5F647F645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FB99012A-F0B6-4F04-BDA1-5C4C2B0D9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65252F89-0B8B-47F9-94CB-0D6FFEEE6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DECAF5B1-AB3E-44BD-B490-48B650985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FCEF7CBF-5949-44E6-AB11-EB92C46B5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AF1D4E22-F9B5-41F8-A7CB-2E64CD70D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610A89F7-3359-4567-9517-9DDD6ABF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72D21C35-6C1D-4216-8E72-4A5538D0D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080F1935-BB7A-4A73-AD0C-EE28FE31E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76ACA-636F-4225-B0EA-5E7018A99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3070008A-BF8D-42AF-8843-102286361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3BD86CA5-3EF1-4DF6-97B6-C7DE1EB5A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D9E28953-F4D4-4B04-AF9E-EA037C7AA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A791410D-3862-4561-8ADF-B0A9C82CF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BCC9B7BA-8898-4285-8B10-DD9A115E8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0577958A-AB73-4417-8504-626F72F1D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E9F7FF81-28BD-4B93-8141-310407F71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B98AD4C0-6AA2-4ED0-915F-DE7C8E389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F8ABDF9C-0FB0-4C0E-AB98-54F366B5B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765B70EC-951B-412F-92C8-46848D9CE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279B1-4EA4-41CB-B319-0F4B51A0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3BD22C3C-7E55-4DCD-B980-AECD8AF0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D7B4AE44-40B5-435C-BB66-1787C8757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738EC1E9-2B46-40C4-BC1C-9DA65F71C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259BCCCC-D602-422B-986E-405DB72DA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7B371BF7-83DD-439F-B35B-3CC9D3D82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EA212-81BB-4284-A10A-E384ED174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04DC4-9F8E-4804-B49D-C1144F369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A6947-5FF6-4E0D-81F8-F00BA9EB4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3EEC3-879B-44C8-9C34-2A30E6F15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EAA01-4386-4108-B1A1-E99285402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AF13-95AA-4BD4-A1F6-D13C171E4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357C3-7C54-4EE8-B4B1-8D70963CA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77554-EAAE-47E7-A5A4-69AFCD163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64DDC7-8272-46E0-B5C2-99CF4DDF9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9253D-8B2E-4318-9AC4-4284A51B8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FE33D-B35D-4134-ADD1-BC75B1239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3ACC9-A2B5-4BF4-96C6-2040898C0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247A5-FEBA-4E30-93ED-06AE6657B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2B486D-4BD8-45CC-9268-8934FF6C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3C0A2F-411B-4C9D-BCB7-71E215F0A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024A8-F674-496E-8E6F-CF6A26041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F3A8-270C-40E9-BCB0-23339E1AD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9D4EC9-90E8-4355-BE93-5CB141D96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EFE11A-24DE-451F-A126-2E4A653C7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20DDA0-9067-4BF5-BD45-AE831A10A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658ECB-7A2E-413E-9BE5-BFCEB7F60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3F4F44-1A5E-4863-9B0B-CB9E4C596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27A1C6-7B0D-4025-99AB-B14A82373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86FBA0-4923-42B9-A099-A2F8E9550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5ACAC1-3583-4C33-BEBC-72A12D56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B6BFD0-3DB3-41B1-9991-172A9024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C58F2A-72DD-4B3C-B939-29EE1493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CB80-C3DF-44FB-8212-0270E154D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7050FF-C9BA-4C29-BE22-252FE3180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E1CE40-56E7-4D28-AA3D-F503DA218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465B7C-A8AF-4E33-A553-3B4DE9509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9C8AC5-351D-4CD1-B413-14B6CC78C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15D8A8-C822-49A2-BBC1-F405A873F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E3310B-CD0C-4003-B75F-0DE4618F8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7A2F64-83E5-4130-8273-1F0EB443D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49AD2B-4F44-4F70-9124-2B669BD9A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CC6AF8-8853-49A3-8E8D-346E816E7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98F113-DD06-4CCC-A67F-8199C801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231C-EB02-4FE3-A247-15AE5A2A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E1FC8F-CCC9-4C8B-9659-812D71F82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5805F9-7E19-4737-85BC-16CB0727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8E3722-0EE1-4848-BE11-9676E4354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8964DF-2432-4D80-986D-7145DC7D2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02A530-399B-4259-B155-461852445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BCA58D-7518-477B-9113-BB9D723F4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0E9323-3E90-4D92-93F9-AFC1AA951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3E156E-6FA9-4DAA-9B66-D4B084BA4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17C3D7-1D31-45B5-9D46-337E9B1C5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F659E8-A5CD-49A7-B469-C5EFDAB76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9D60-50F2-4DC5-89AB-80BC6B433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299433-F35C-4690-859E-DAD5CCB4B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EC524E-36D0-4209-B286-BFBEAE94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3062D7-1AD8-4819-9B48-7207D9C4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F97D8B-34AB-4334-8778-2BB08806C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73F799-10F0-4613-8EB2-CC44D273D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E8E4E3-3524-4C59-B346-B0817F53E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9A06D8-C210-4AEA-85BB-258F0D0F0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998ED7-3968-4EA5-84F2-42778993C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10FDA4-B3DA-419F-B907-4147818B9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E813C4-F818-4212-8DCA-B40113ADA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89.xml"/><Relationship Id="rId7" Type="http://schemas.openxmlformats.org/officeDocument/2006/relationships/slideLayout" Target="../slideLayouts/slideLayout290.xml"/><Relationship Id="rId8" Type="http://schemas.openxmlformats.org/officeDocument/2006/relationships/slideLayout" Target="../slideLayouts/slideLayout291.xml"/><Relationship Id="rId9" Type="http://schemas.openxmlformats.org/officeDocument/2006/relationships/slideLayout" Target="../slideLayouts/slideLayout292.xml"/><Relationship Id="rId10" Type="http://schemas.openxmlformats.org/officeDocument/2006/relationships/slideLayout" Target="../slideLayouts/slideLayout293.xml"/><Relationship Id="rId11" Type="http://schemas.openxmlformats.org/officeDocument/2006/relationships/slideLayout" Target="../slideLayouts/slideLayout294.xml"/><Relationship Id="rId12" Type="http://schemas.openxmlformats.org/officeDocument/2006/relationships/slideLayout" Target="../slideLayouts/slideLayout295.xml"/><Relationship Id="rId13" Type="http://schemas.openxmlformats.org/officeDocument/2006/relationships/slideLayout" Target="../slideLayouts/slideLayout296.xml"/><Relationship Id="rId14" Type="http://schemas.openxmlformats.org/officeDocument/2006/relationships/slideLayout" Target="../slideLayouts/slideLayout297.xml"/><Relationship Id="rId15" Type="http://schemas.openxmlformats.org/officeDocument/2006/relationships/slideLayout" Target="../slideLayouts/slideLayout298.xml"/><Relationship Id="rId16" Type="http://schemas.openxmlformats.org/officeDocument/2006/relationships/slideLayout" Target="../slideLayouts/slideLayout299.xml"/><Relationship Id="rId17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4C26F-8A65-4209-8A7E-F8BB3AFF74E0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8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9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30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9A3FE-EE75-4B26-9A76-93A63A5F6C07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Прямоугольник 31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Прямоугольник 3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Прямоугольник 3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Прямоугольник 4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Прямоугольник 41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Прямоугольник 55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Прямоугольник 64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Прямоугольник 65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Прямоугольник 66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3539D-F780-42A3-BBC2-70B86358516A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Полилиния 13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Полилиния 14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Полилиния 12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Полилиния 15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Полилиния 16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Полилиния 17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Полилиния 18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Полилиния 19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Полилиния 20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Полилиния 21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Полилиния 22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Полилиния 23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Полилиния 24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Полилиния 25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Полилиния 26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Прямоугольник 6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Прямоугольник 7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Прямоугольник 8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Прямоугольник 9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Прямоугольник 10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Прямоугольник 11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3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ftr" idx="3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sldNum" idx="3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7FED7-2606-4AAB-BE7B-A8CDF6601E3E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dt" idx="3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 type="ftr" idx="3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 type="sldNum" idx="3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FE215-5910-4595-A975-F5FDE1B95B16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Прямоугольник 24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Прямоугольник 15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Прямоугольник 16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Прямоугольник 17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Прямоугольник 18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Прямоугольник 19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Прямоугольник 20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Прямоугольник 21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Прямоугольник 28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Прямоугольник 29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4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4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4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14955-EB41-4530-B8EB-99C32E0550EC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4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4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4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7091B-88B6-4099-B628-11A3D1E2F48B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Прямоугольник 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Прямая соединительная линия 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0" name="Группа 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711" name="Прямая соединительная линия 14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Прямая соединительная линия 15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Прямая соединительная линия 16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4" name="Группа 13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715" name="Прямая соединительная линия 10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Прямая соединительная линия 11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Прямая соединительная линия 12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8" name="Группа 17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719" name="Прямая соединительная линия 18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Прямая соединительная линия 19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Прямая соединительная линия 20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 type="dt" idx="46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 type="ftr" idx="47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 type="sldNum" idx="48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D8EEC-D7E6-44D3-A58B-C7343101BC8B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Равнобедренный треугольник 6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 type="dt" idx="49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 type="ftr" idx="50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 type="sldNum" idx="51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AE9FC-4E25-4503-93A6-7740E6188A32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 type="dt" idx="52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 type="ftr" idx="53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 type="sldNum" idx="54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FC122-619D-49DE-A8C4-2171BB6FDF3C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Прямоугольный треугольник 8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Равнобедренный треугольник 7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Прямая соединительная линия 10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Прямая соединительная линия 9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 type="dt" idx="55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 type="ftr" idx="56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 type="sldNum" idx="57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E20C7-785B-4C07-9EC8-E6887700D234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247FB-B8FD-46F2-8154-341A7241FD80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 type="dt" idx="58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 type="ftr" idx="59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 type="sldNum" idx="60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F1194-FBEE-48C9-A4BE-A5FC4C00A192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 type="dt" idx="61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 type="ftr" idx="62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 type="sldNum" idx="63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89447-EFF8-41F9-8BBD-B6BD832A1DA6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dt" idx="64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 type="ftr" idx="65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 type="sldNum" idx="66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81E1B-BFB0-48C0-AF99-763277FB5338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 type="dt" idx="67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 type="ftr" idx="68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PlaceHolder 5"/>
          <p:cNvSpPr>
            <a:spLocks noGrp="1"/>
          </p:cNvSpPr>
          <p:nvPr>
            <p:ph type="sldNum" idx="69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68A5C-E220-4A29-8677-CA4A820EF910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4" name="Прямая соединительная линия 6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106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6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6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dt" idx="7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 type="ftr" idx="7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 type="sldNum" idx="72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3BCCC-D2B9-417E-BF57-16F062B87D1D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8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109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11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112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14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115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6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 type="dt" idx="7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 type="ftr" idx="74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5"/>
          <p:cNvSpPr>
            <a:spLocks noGrp="1"/>
          </p:cNvSpPr>
          <p:nvPr>
            <p:ph type="sldNum" idx="75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257CA-851A-4B13-87C1-CB4BB0DEE8CB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6"/>
    <p:sldLayoutId id="2147483962" r:id="rId7"/>
    <p:sldLayoutId id="2147483963" r:id="rId8"/>
    <p:sldLayoutId id="2147483964" r:id="rId9"/>
    <p:sldLayoutId id="2147483965" r:id="rId10"/>
    <p:sldLayoutId id="2147483966" r:id="rId11"/>
    <p:sldLayoutId id="2147483967" r:id="rId12"/>
    <p:sldLayoutId id="2147483968" r:id="rId13"/>
    <p:sldLayoutId id="2147483969" r:id="rId14"/>
    <p:sldLayoutId id="2147483970" r:id="rId15"/>
    <p:sldLayoutId id="2147483971" r:id="rId16"/>
    <p:sldLayoutId id="2147483972" r:id="rId17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Прямая соединительная линия 6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159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0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6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 type="dt" idx="7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 type="ftr" idx="7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5"/>
          <p:cNvSpPr>
            <a:spLocks noGrp="1"/>
          </p:cNvSpPr>
          <p:nvPr>
            <p:ph type="sldNum" idx="7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EAC64-7D51-4AA1-811B-F42D35C9A2C4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2" name="Прямая соединительная линия 10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203" name="Прямая соединительная линия 10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4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0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 type="dt" idx="7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 type="ftr" idx="8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PlaceHolder 5"/>
          <p:cNvSpPr>
            <a:spLocks noGrp="1"/>
          </p:cNvSpPr>
          <p:nvPr>
            <p:ph type="sldNum" idx="81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63415-CAE7-4BB9-8B2F-B18712B83479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 type="dt" idx="8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 type="ftr" idx="8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PlaceHolder 5"/>
          <p:cNvSpPr>
            <a:spLocks noGrp="1"/>
          </p:cNvSpPr>
          <p:nvPr>
            <p:ph type="sldNum" idx="8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07369-1397-479C-BE90-857893AAEC36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7" name="Прямая соединительная линия 7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1288" name="Прямая соединительная линия 7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9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9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 type="dt" idx="8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 type="ftr" idx="8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PlaceHolder 5"/>
          <p:cNvSpPr>
            <a:spLocks noGrp="1"/>
          </p:cNvSpPr>
          <p:nvPr>
            <p:ph type="sldNum" idx="8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D861C-D682-4A66-A00C-5468251E3F52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935AD-1D2D-4376-9136-3905C80B40F2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 type="dt" idx="8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4"/>
          <p:cNvSpPr>
            <a:spLocks noGrp="1"/>
          </p:cNvSpPr>
          <p:nvPr>
            <p:ph type="ftr" idx="8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5" name="PlaceHolder 5"/>
          <p:cNvSpPr>
            <a:spLocks noGrp="1"/>
          </p:cNvSpPr>
          <p:nvPr>
            <p:ph type="sldNum" idx="9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BFC41-9BD6-4BE7-9411-798DFB876CBB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74" name="PlaceHolder 3"/>
          <p:cNvSpPr>
            <a:spLocks noGrp="1"/>
          </p:cNvSpPr>
          <p:nvPr>
            <p:ph type="dt" idx="9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4"/>
          <p:cNvSpPr>
            <a:spLocks noGrp="1"/>
          </p:cNvSpPr>
          <p:nvPr>
            <p:ph type="ftr" idx="9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6" name="PlaceHolder 5"/>
          <p:cNvSpPr>
            <a:spLocks noGrp="1"/>
          </p:cNvSpPr>
          <p:nvPr>
            <p:ph type="sldNum" idx="9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1544C-E7E1-4B12-BFB0-6E9005895567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Прямоугольник 9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4" name="Прямоугольник 11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5" name="Прямоугольник 1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6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7" name="Прямая соединительная линия 10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8" name="Прямая соединительная линия 17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9" name="Прямая соединительная линия 19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0" name="Прямая соединительная линия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1" name="Прямая соединительная линия 1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2" name="Прямая соединительная линия 21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3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4" name="Овал 20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5" name="Овал 22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6" name="Овал 23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7" name="Овал 25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8" name="Овал 24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 type="dt" idx="9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4"/>
          <p:cNvSpPr>
            <a:spLocks noGrp="1"/>
          </p:cNvSpPr>
          <p:nvPr>
            <p:ph type="ftr" idx="9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3" name="PlaceHolder 5"/>
          <p:cNvSpPr>
            <a:spLocks noGrp="1"/>
          </p:cNvSpPr>
          <p:nvPr>
            <p:ph type="sldNum" idx="9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6C20A-04A1-448C-9AED-CB6067AAECF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 type="dt" idx="9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 type="sldNum" idx="9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61D67-7470-4A66-9830-9D8F2F386BD0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 type="ftr" idx="9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Прямоугольник 8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8" name="Прямоугольник 9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9" name="Прямоугольник 10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0" name="Прямоугольник 11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1" name="Прямая соединительная линия 12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2" name="Прямая соединительная линия 13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3" name="Прямая соединительная линия 14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4" name="Прямая соединительная линия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5" name="Прямая соединительная линия 16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6" name="Прямоугольник 1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7" name="Овал 1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8" name="Овал 19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9" name="Овал 2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0" name="Овал 21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1" name="Овал 22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2" name="Прямая соединительная линия 25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 type="dt" idx="10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PlaceHolder 4"/>
          <p:cNvSpPr>
            <a:spLocks noGrp="1"/>
          </p:cNvSpPr>
          <p:nvPr>
            <p:ph type="ftr" idx="10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7" name="PlaceHolder 5"/>
          <p:cNvSpPr>
            <a:spLocks noGrp="1"/>
          </p:cNvSpPr>
          <p:nvPr>
            <p:ph type="sldNum" idx="10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64C0B-B563-4805-9801-5F3378EE54A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 type="dt" idx="10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 type="sldNum" idx="10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58CAA-2D7D-4CE3-B980-61A0F5607A79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PlaceHolder 5"/>
          <p:cNvSpPr>
            <a:spLocks noGrp="1"/>
          </p:cNvSpPr>
          <p:nvPr>
            <p:ph type="ftr" idx="10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Прямая соединительная линия 9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2" name="Прямая соединительная линия 7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3" name="Прямая соединительная линия 8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4" name="Прямая соединительная линия 10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5" name="Прямоугольник 11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6" name="Прямая соединительная линия 12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7" name="Овал 1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 type="dt" idx="10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 type="sldNum" idx="10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E164F-ADAF-4C7A-8FDD-34BA150E8F2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5"/>
          <p:cNvSpPr>
            <a:spLocks noGrp="1"/>
          </p:cNvSpPr>
          <p:nvPr>
            <p:ph type="ftr" idx="10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Прямая соединительная линия 8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0" name="Овал 12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1" name="Прямая соединительная линия 9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2" name="Прямоугольник 10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3" name="Прямая соединительная линия 11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4" name="Прямая соединительная линия 18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5" name="Прямая соединительная линия 19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8" name="PlaceHolder 3"/>
          <p:cNvSpPr>
            <a:spLocks noGrp="1"/>
          </p:cNvSpPr>
          <p:nvPr>
            <p:ph type="dt" idx="10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4"/>
          <p:cNvSpPr>
            <a:spLocks noGrp="1"/>
          </p:cNvSpPr>
          <p:nvPr>
            <p:ph type="sldNum" idx="11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9FDDD-6323-42D7-A446-82838D43F82D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PlaceHolder 5"/>
          <p:cNvSpPr>
            <a:spLocks noGrp="1"/>
          </p:cNvSpPr>
          <p:nvPr>
            <p:ph type="ftr" idx="11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38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F10B8-82DA-47FE-981F-C05D988F083C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145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46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8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49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5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BF233-A908-475E-A70E-0CD915551716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Полилиния 6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Полилиния 7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84A3B-B0FE-4B05-8143-0B949664439B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Полилиния 6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Полилиния 8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9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20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21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E015C-B361-40D7-A74C-AD0F3419EA75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22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23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24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406EB-D351-4A99-8469-B86FCF89EC14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25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26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27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C3001-E8C7-4FAE-A9EF-2703EE21A7BD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0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What do you feel about the situation?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1718" name="Содержимое 4" descr="Wed Feb 03 12-45-52.bmp"/>
          <p:cNvPicPr/>
          <p:nvPr/>
        </p:nvPicPr>
        <p:blipFill>
          <a:blip r:embed="rId1"/>
          <a:stretch/>
        </p:blipFill>
        <p:spPr>
          <a:xfrm>
            <a:off x="1362240" y="1744560"/>
            <a:ext cx="5657760" cy="42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1" name="Схема 2" descr=""/>
          <p:cNvPicPr/>
          <p:nvPr/>
        </p:nvPicPr>
        <p:blipFill>
          <a:blip r:embed="rId1"/>
          <a:stretch/>
        </p:blipFill>
        <p:spPr>
          <a:xfrm>
            <a:off x="378000" y="-12600"/>
            <a:ext cx="8467560" cy="68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Guess the topic!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0" name="Овал 14"/>
          <p:cNvSpPr/>
          <p:nvPr/>
        </p:nvSpPr>
        <p:spPr>
          <a:xfrm>
            <a:off x="2133720" y="2057400"/>
            <a:ext cx="2209680" cy="114300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mur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1" name="Облако 15"/>
          <p:cNvSpPr/>
          <p:nvPr/>
        </p:nvSpPr>
        <p:spPr>
          <a:xfrm>
            <a:off x="7238880" y="0"/>
            <a:ext cx="1600200" cy="2362320"/>
          </a:xfrm>
          <a:prstGeom prst="pi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r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2" name="Шестиугольник 16"/>
          <p:cNvSpPr/>
          <p:nvPr/>
        </p:nvSpPr>
        <p:spPr>
          <a:xfrm>
            <a:off x="533520" y="3352680"/>
            <a:ext cx="2286000" cy="18288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kidnapp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3" name="Скругленный прямоугольник 17"/>
          <p:cNvSpPr/>
          <p:nvPr/>
        </p:nvSpPr>
        <p:spPr>
          <a:xfrm>
            <a:off x="4191120" y="3733920"/>
            <a:ext cx="2133360" cy="1371600"/>
          </a:xfrm>
          <a:prstGeom prst="roundRect">
            <a:avLst>
              <a:gd name="adj" fmla="val 16667"/>
            </a:avLst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teal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4" name="Равнобедренный треугольник 18"/>
          <p:cNvSpPr/>
          <p:nvPr/>
        </p:nvSpPr>
        <p:spPr>
          <a:xfrm>
            <a:off x="4495680" y="1523880"/>
            <a:ext cx="1524240" cy="1828800"/>
          </a:xfrm>
          <a:prstGeom prst="triangle">
            <a:avLst>
              <a:gd name="adj" fmla="val 50000"/>
            </a:avLst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5" name="Капля 19"/>
          <p:cNvSpPr/>
          <p:nvPr/>
        </p:nvSpPr>
        <p:spPr>
          <a:xfrm>
            <a:off x="2666880" y="4114800"/>
            <a:ext cx="1447920" cy="2743200"/>
          </a:xfrm>
          <a:prstGeom prst="pi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kill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6" name="Табличка 20"/>
          <p:cNvSpPr/>
          <p:nvPr/>
        </p:nvSpPr>
        <p:spPr>
          <a:xfrm>
            <a:off x="6477120" y="2362320"/>
            <a:ext cx="1371600" cy="1981080"/>
          </a:xfrm>
          <a:custGeom>
            <a:avLst/>
            <a:gdLst>
              <a:gd name="textAreaLeft" fmla="*/ 161640 w 1371600"/>
              <a:gd name="textAreaRight" fmla="*/ 1209960 w 1371600"/>
              <a:gd name="textAreaTop" fmla="*/ 161640 h 1981080"/>
              <a:gd name="textAreaBottom" fmla="*/ 1819440 h 1981080"/>
            </a:gdLst>
            <a:ahLst/>
            <a:rect l="textAreaLeft" t="textAreaTop" r="textAreaRight" b="textAreaBottom"/>
            <a:pathLst>
              <a:path w="21600" h="31196">
                <a:moveTo>
                  <a:pt x="3600" y="0"/>
                </a:moveTo>
                <a:arcTo wR="3600" hR="3600" stAng="0" swAng="5400000"/>
                <a:lnTo>
                  <a:pt x="0" y="27596"/>
                </a:lnTo>
                <a:arcTo wR="3600" hR="3600" stAng="16200000" swAng="5400000"/>
                <a:lnTo>
                  <a:pt x="18000" y="31196"/>
                </a:lnTo>
                <a:arcTo wR="3600" hR="3600" stAng="10800000" swAng="5400000"/>
                <a:lnTo>
                  <a:pt x="21600" y="3600"/>
                </a:lnTo>
                <a:arcTo wR="3600" hR="3600" stAng="5400000" swAng="5400000"/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e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7" name="Хорда 21"/>
          <p:cNvSpPr/>
          <p:nvPr/>
        </p:nvSpPr>
        <p:spPr>
          <a:xfrm>
            <a:off x="7467480" y="4267080"/>
            <a:ext cx="1676520" cy="2133720"/>
          </a:xfrm>
          <a:prstGeom prst="pi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pris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8" name="Блок-схема: перфолента 22"/>
          <p:cNvSpPr/>
          <p:nvPr/>
        </p:nvSpPr>
        <p:spPr>
          <a:xfrm>
            <a:off x="5181480" y="5334120"/>
            <a:ext cx="1828800" cy="1414440"/>
          </a:xfrm>
          <a:prstGeom prst="flowChartPunchedTap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punish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7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2" dur="2000" fill="hold"/>
                                        <p:tgtEl>
                                          <p:spTgt spid="17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6" dur="2000" fill="hold"/>
                                        <p:tgtEl>
                                          <p:spTgt spid="171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9" name="Заголовок 1" descr=""/>
          <p:cNvPicPr/>
          <p:nvPr/>
        </p:nvPicPr>
        <p:blipFill>
          <a:blip r:embed="rId1"/>
          <a:stretch/>
        </p:blipFill>
        <p:spPr>
          <a:xfrm>
            <a:off x="701640" y="1974960"/>
            <a:ext cx="8167680" cy="2073240"/>
          </a:xfrm>
          <a:prstGeom prst="rect">
            <a:avLst/>
          </a:prstGeom>
          <a:ln w="0">
            <a:noFill/>
          </a:ln>
        </p:spPr>
      </p:pic>
      <p:sp>
        <p:nvSpPr>
          <p:cNvPr id="1730" name="PlaceHolder 1"/>
          <p:cNvSpPr>
            <a:spLocks noGrp="1"/>
          </p:cNvSpPr>
          <p:nvPr>
            <p:ph/>
          </p:nvPr>
        </p:nvSpPr>
        <p:spPr>
          <a:xfrm>
            <a:off x="380880" y="1633680"/>
            <a:ext cx="7848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7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7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mp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139" dur="2000" fill="hold"/>
                                        <p:tgtEl>
                                          <p:spTgt spid="1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2285640" y="2895480"/>
            <a:ext cx="61722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39d"/>
                </a:solidFill>
                <a:latin typeface="Century Schoolbook"/>
              </a:rPr>
              <a:t>WHAT CAN YOU ADVICE WITNESS?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2285640" y="50101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fff39d"/>
              </a:solidFill>
              <a:latin typeface="Century Schoolbook"/>
            </a:endParaRPr>
          </a:p>
        </p:txBody>
      </p:sp>
      <p:pic>
        <p:nvPicPr>
          <p:cNvPr id="1733" name="Рисунок 3" descr="045bd34e[1].jpg"/>
          <p:cNvPicPr/>
          <p:nvPr/>
        </p:nvPicPr>
        <p:blipFill>
          <a:blip r:embed="rId1"/>
          <a:stretch/>
        </p:blipFill>
        <p:spPr>
          <a:xfrm>
            <a:off x="2082960" y="304920"/>
            <a:ext cx="589896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/>
          </p:nvPr>
        </p:nvSpPr>
        <p:spPr>
          <a:xfrm>
            <a:off x="380520" y="16765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ddd2b1"/>
              </a:solidFill>
              <a:latin typeface="Franklin Gothic Book"/>
            </a:endParaRPr>
          </a:p>
        </p:txBody>
      </p:sp>
      <p:pic>
        <p:nvPicPr>
          <p:cNvPr id="1735" name="Заголовок 1" descr=""/>
          <p:cNvPicPr/>
          <p:nvPr/>
        </p:nvPicPr>
        <p:blipFill>
          <a:blip r:embed="rId1"/>
          <a:stretch/>
        </p:blipFill>
        <p:spPr>
          <a:xfrm>
            <a:off x="-19080" y="438120"/>
            <a:ext cx="902988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TextBox 4"/>
          <p:cNvSpPr/>
          <p:nvPr/>
        </p:nvSpPr>
        <p:spPr>
          <a:xfrm>
            <a:off x="533520" y="380880"/>
            <a:ext cx="806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ll in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wing, vacuuming, earing, tea-break, out, while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7" name="TextBox 5"/>
          <p:cNvSpPr/>
          <p:nvPr/>
        </p:nvSpPr>
        <p:spPr>
          <a:xfrm>
            <a:off x="609480" y="1905120"/>
            <a:ext cx="8153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did you see Lady Alton’s …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d you go into the … room this morning while Lady Alton was ou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always have a … at half past t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was … the carpe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… I’m wearing my boo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where were you working while she was …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TextBox 1"/>
          <p:cNvSpPr/>
          <p:nvPr/>
        </p:nvSpPr>
        <p:spPr>
          <a:xfrm>
            <a:off x="560160" y="609480"/>
            <a:ext cx="518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mber the pictures from 1 to 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TextBox 1"/>
          <p:cNvSpPr/>
          <p:nvPr/>
        </p:nvSpPr>
        <p:spPr>
          <a:xfrm>
            <a:off x="304920" y="533520"/>
            <a:ext cx="8534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ete the spaces in the sentenc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ppened … she … … the roo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 … vacuuming the carpet … she … the table ....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vase …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n the flowers … everyw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n she … them into the waste b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ally she … the ta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0" name="Схема 1" descr=""/>
          <p:cNvPicPr/>
          <p:nvPr/>
        </p:nvPicPr>
        <p:blipFill>
          <a:blip r:embed="rId1"/>
          <a:stretch/>
        </p:blipFill>
        <p:spPr>
          <a:xfrm>
            <a:off x="1517760" y="1371600"/>
            <a:ext cx="610848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ome</cp:lastModifiedBy>
  <dcterms:modified xsi:type="dcterms:W3CDTF">2010-08-24T14:45:15Z</dcterms:modified>
  <cp:revision>14</cp:revision>
  <dc:subject/>
  <dc:title>What do you feel about the situation?</dc:title>
</cp:coreProperties>
</file>