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B73C-67CB-45FD-8798-58203066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B2CB-E185-4532-8A35-F039CD32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93D1-56DA-4370-BDC8-FEBB7C0B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BBEE-1CC3-41DA-946A-1D6D6BF8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0A86-27F2-40C1-B866-26CE6172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4514-8A35-42C3-BE0E-CB50EF1B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9B4F-F562-44AB-917D-3516509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A510-E1EA-4973-BBFB-58197A53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1EF9-30F2-488C-9960-83AD21DB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F1AC-9269-420F-8721-E2C3089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5DB1-79A6-4B36-A086-4CEAAB01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1ECA-B132-441D-B116-E83BADF2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E4D9-10B2-4943-A63E-7B8A5182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350C-E251-4DCD-B608-7EFED01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5DB2-A7A2-4524-838E-CCE018EE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3171-A152-4FA9-A780-85354C79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4B3F-9DC3-4137-91F2-F586D9E2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5AE8-4A1E-4C83-A47B-97367E2E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0EA3-4B57-4DC5-A949-EC7D4666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3A5C-FEF2-4DD9-8E29-2B457416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CE0E-F827-4C79-8105-4CAB767E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5B50-9D96-441D-97AD-E454210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B095-FB73-4D0B-83A6-94C7F2F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8D62-F05B-4DEB-BD0C-B4ED1028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495C2D-A349-43AF-8A2D-F552E5EED4C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d2b8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2cab2"/>
                </a:gs>
                <a:gs pos="100000">
                  <a:srgbClr val="f9f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efde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d2b8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2cab2"/>
                </a:gs>
                <a:gs pos="100000">
                  <a:srgbClr val="f9f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efde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FBDC15-DDFF-4B84-A9CB-9F1FFE2132B2}" type="slidenum">
              <a:rPr b="0" lang="ru-RU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1"/>
          <p:cNvSpPr txBox="1"/>
          <p:nvPr/>
        </p:nvSpPr>
        <p:spPr>
          <a:xfrm>
            <a:off x="826920" y="1413000"/>
            <a:ext cx="7453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йствия с дробям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нукяна  даниела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6Б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872320" y="5300640"/>
            <a:ext cx="301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Туап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имназия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хметзянова И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ибольшее натуральное число, на которое делятся без остатка числа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 и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 называется 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наибольшим общим делителем чисел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Garamond"/>
              </a:rPr>
              <a:t>a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 и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Garamond"/>
              </a:rPr>
              <a:t>b</a:t>
            </a: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.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пример: НОД(6;8)=2.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5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ются два числа, произведение которых равно 1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Два числа, произведение которых равно 1 называются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взаимно обратными числами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пример: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31" name="Объект 1"/>
          <p:cNvGraphicFramePr/>
          <p:nvPr/>
        </p:nvGraphicFramePr>
        <p:xfrm>
          <a:off x="3924360" y="3860640"/>
          <a:ext cx="4276800" cy="25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860640"/>
                    <a:ext cx="4276800" cy="25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6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Что надо сделать, чтобы найти дробь от числа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тобы найти дробь от числа, надо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число умножить на эту дробь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пример: найти    от 80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Решение: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5003640" y="3573360"/>
          <a:ext cx="44640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3573360"/>
                    <a:ext cx="4464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1"/>
          <p:cNvGraphicFramePr/>
          <p:nvPr/>
        </p:nvGraphicFramePr>
        <p:xfrm>
          <a:off x="3492360" y="5013360"/>
          <a:ext cx="39276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013360"/>
                    <a:ext cx="39276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7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ется наименьшее натуральное число, которое делится на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 b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без остатка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именьшее натуральное число, которое делится на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 b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без остатка называют 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наименьшим общим кратным чисел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Garamond"/>
              </a:rPr>
              <a:t>a 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и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Garamond"/>
              </a:rPr>
              <a:t> b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пример: НОК(7;8)=56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11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ют частное двух чисел или выражений, в котором знак деления обозначают дробной чертой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астное двух чисел или выражений, в котором знак деления обозначают дробной чертой называют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дробным выражением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пример: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49" name="Объект 1"/>
          <p:cNvGraphicFramePr/>
          <p:nvPr/>
        </p:nvGraphicFramePr>
        <p:xfrm>
          <a:off x="3708360" y="5013360"/>
          <a:ext cx="302436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013360"/>
                    <a:ext cx="302436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Решите примеры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1)                         5)                           9)    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2)                         6)                          10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3)                         7)                          11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4)                         8)                          12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971640" y="1413000"/>
          <a:ext cx="1152360" cy="10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11523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971640" y="2421000"/>
          <a:ext cx="115236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421000"/>
                    <a:ext cx="11523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900000" y="3500280"/>
          <a:ext cx="1297080" cy="97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500280"/>
                    <a:ext cx="1297080" cy="9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900000" y="4508640"/>
          <a:ext cx="1513080" cy="102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4508640"/>
                    <a:ext cx="15130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7"/>
          <p:cNvGraphicFramePr/>
          <p:nvPr/>
        </p:nvGraphicFramePr>
        <p:xfrm>
          <a:off x="3348000" y="1341360"/>
          <a:ext cx="1297080" cy="108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1341360"/>
                    <a:ext cx="12970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8"/>
          <p:cNvGraphicFramePr/>
          <p:nvPr/>
        </p:nvGraphicFramePr>
        <p:xfrm>
          <a:off x="3473280" y="2349360"/>
          <a:ext cx="1043280" cy="111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73280" y="2349360"/>
                    <a:ext cx="10432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9"/>
          <p:cNvGraphicFramePr/>
          <p:nvPr/>
        </p:nvGraphicFramePr>
        <p:xfrm>
          <a:off x="3543480" y="3429000"/>
          <a:ext cx="90612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43480" y="3429000"/>
                    <a:ext cx="906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0"/>
          <p:cNvGraphicFramePr/>
          <p:nvPr/>
        </p:nvGraphicFramePr>
        <p:xfrm>
          <a:off x="3397320" y="4508640"/>
          <a:ext cx="1123920" cy="102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97320" y="4508640"/>
                    <a:ext cx="112392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1"/>
          <p:cNvGraphicFramePr/>
          <p:nvPr/>
        </p:nvGraphicFramePr>
        <p:xfrm>
          <a:off x="6060960" y="1413000"/>
          <a:ext cx="1054080" cy="1020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0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60960" y="1413000"/>
                    <a:ext cx="10540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2"/>
          <p:cNvGraphicFramePr/>
          <p:nvPr/>
        </p:nvGraphicFramePr>
        <p:xfrm>
          <a:off x="6151680" y="2421000"/>
          <a:ext cx="944280" cy="104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51680" y="2421000"/>
                    <a:ext cx="9442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3"/>
          <p:cNvGraphicFramePr/>
          <p:nvPr/>
        </p:nvGraphicFramePr>
        <p:xfrm>
          <a:off x="6132600" y="3429000"/>
          <a:ext cx="984240" cy="984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32600" y="3429000"/>
                    <a:ext cx="9842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4"/>
          <p:cNvGraphicFramePr/>
          <p:nvPr/>
        </p:nvGraphicFramePr>
        <p:xfrm>
          <a:off x="6156360" y="4508640"/>
          <a:ext cx="1430280" cy="1082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6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56360" y="4508640"/>
                    <a:ext cx="143028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Ответьте на вопросы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349360" cy="38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65,-65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65,-65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Ответы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1)                         5)                           9)    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2)                         6)                          10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3)                         7)                          11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4)                         8)                          12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900000" y="1052640"/>
          <a:ext cx="7444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052640"/>
                    <a:ext cx="744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"/>
          <p:cNvGraphicFramePr/>
          <p:nvPr/>
        </p:nvGraphicFramePr>
        <p:xfrm>
          <a:off x="900000" y="2565360"/>
          <a:ext cx="79056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565360"/>
                    <a:ext cx="7905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826920" y="4149720"/>
          <a:ext cx="920880" cy="12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149720"/>
                    <a:ext cx="9208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900000" y="5632560"/>
          <a:ext cx="830520" cy="122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5632560"/>
                    <a:ext cx="83052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7"/>
          <p:cNvGraphicFramePr/>
          <p:nvPr/>
        </p:nvGraphicFramePr>
        <p:xfrm>
          <a:off x="3348000" y="1052640"/>
          <a:ext cx="1224000" cy="116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1052640"/>
                    <a:ext cx="12240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8"/>
          <p:cNvGraphicFramePr/>
          <p:nvPr/>
        </p:nvGraphicFramePr>
        <p:xfrm>
          <a:off x="3419640" y="2565360"/>
          <a:ext cx="668160" cy="129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9640" y="2565360"/>
                    <a:ext cx="6681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9"/>
          <p:cNvGraphicFramePr/>
          <p:nvPr/>
        </p:nvGraphicFramePr>
        <p:xfrm>
          <a:off x="3419640" y="4365720"/>
          <a:ext cx="585720" cy="72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19640" y="4365720"/>
                    <a:ext cx="585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0"/>
          <p:cNvGraphicFramePr/>
          <p:nvPr/>
        </p:nvGraphicFramePr>
        <p:xfrm>
          <a:off x="3419640" y="5950080"/>
          <a:ext cx="433080" cy="69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4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9640" y="5950080"/>
                    <a:ext cx="43308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1"/>
          <p:cNvGraphicFramePr/>
          <p:nvPr/>
        </p:nvGraphicFramePr>
        <p:xfrm>
          <a:off x="6156360" y="2852640"/>
          <a:ext cx="539640" cy="719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6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2852640"/>
                    <a:ext cx="539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2"/>
          <p:cNvGraphicFramePr/>
          <p:nvPr/>
        </p:nvGraphicFramePr>
        <p:xfrm>
          <a:off x="6084720" y="981000"/>
          <a:ext cx="706680" cy="1224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8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84720" y="981000"/>
                    <a:ext cx="7066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3"/>
          <p:cNvGraphicFramePr/>
          <p:nvPr/>
        </p:nvGraphicFramePr>
        <p:xfrm>
          <a:off x="6084720" y="4076640"/>
          <a:ext cx="790920" cy="12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0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84720" y="4076640"/>
                    <a:ext cx="790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4"/>
          <p:cNvGraphicFramePr/>
          <p:nvPr/>
        </p:nvGraphicFramePr>
        <p:xfrm>
          <a:off x="6156360" y="5877000"/>
          <a:ext cx="555480" cy="647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2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56360" y="5877000"/>
                    <a:ext cx="5554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Найдите ошибки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204" name="Объект 1"/>
          <p:cNvGraphicFramePr/>
          <p:nvPr/>
        </p:nvGraphicFramePr>
        <p:xfrm>
          <a:off x="0" y="907920"/>
          <a:ext cx="9036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036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шибки были под номерами 1,4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Garamond"/>
              </a:rPr>
              <a:t>Правильные решения: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208" name="Объект 1"/>
          <p:cNvGraphicFramePr/>
          <p:nvPr/>
        </p:nvGraphicFramePr>
        <p:xfrm>
          <a:off x="179280" y="2997360"/>
          <a:ext cx="881532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997360"/>
                    <a:ext cx="881532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!!!Спасибо за внимание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11" name="Улыбающееся лицо 3"/>
          <p:cNvSpPr/>
          <p:nvPr/>
        </p:nvSpPr>
        <p:spPr>
          <a:xfrm>
            <a:off x="2340000" y="1628640"/>
            <a:ext cx="4103640" cy="3745080"/>
          </a:xfrm>
          <a:prstGeom prst="smileyFace">
            <a:avLst>
              <a:gd name="adj" fmla="val 92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1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ется число, которое имеет два делителя: единицу и само это число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Число, которое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имеет два делителя: единицу и само это число называют 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простым</a:t>
            </a: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.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пример: 3; 5; 7.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2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ется деление числителя и знаменателя на одно и то же число, отличное от единицы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Деление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ислителя и знаменателя на одно и то же число, отличное от единицы называют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сокращением дроби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пример: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2139840" y="5229360"/>
          <a:ext cx="5370480" cy="13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9840" y="5229360"/>
                    <a:ext cx="537048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3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йти число по данному значению его дроби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тобы найти число по данному значению его дроби надо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значение разделить на дробь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пример: найдите число которого равны 12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Решение: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8028000" y="3716280"/>
          <a:ext cx="47448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3716280"/>
                    <a:ext cx="4744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Объект 1"/>
          <p:cNvGraphicFramePr/>
          <p:nvPr/>
        </p:nvGraphicFramePr>
        <p:xfrm>
          <a:off x="3132000" y="5805360"/>
          <a:ext cx="5308560" cy="9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5805360"/>
                    <a:ext cx="530856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4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ется наибольшее натуральное число, на которое делятся без остатка числа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 и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14:37Z</dcterms:created>
  <dc:creator>HER</dc:creator>
  <dc:description/>
  <dc:language>en-US</dc:language>
  <cp:lastModifiedBy>user</cp:lastModifiedBy>
  <dcterms:modified xsi:type="dcterms:W3CDTF">2013-03-20T04:58:54Z</dcterms:modified>
  <cp:revision>17</cp:revision>
  <dc:subject/>
  <dc:title>Конкурс «Гонки»</dc:title>
</cp:coreProperties>
</file>