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B5E5-8AB5-47DB-81EB-FCF7F242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3478-AC70-49D1-BF36-5AE96217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07ED-7F5C-4C69-B25B-7711B4EC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5AF43-FD93-4E0B-872D-81F8E126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6BA-0A4D-45D4-9CB8-1C6CDED0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F2D7-CF21-40CE-BE33-B3330016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CB2A-341A-4E53-A7E3-9A9F85FD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E233-7DFE-4429-8CBC-B90DD36B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BEFB-7294-44F3-B10F-FC3F6075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3BFA-36F8-48D5-A1D2-8833FAB1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26C7-1C2B-451A-A4B2-6044A20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94D4-443E-48F6-8A56-72ED4AE7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DFCE-55A3-4F38-A495-47515083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7077-63AB-4519-ACB4-8DF149C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815E-2154-44AF-B9A3-70D5CCA4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8E9C-980B-46EE-AD6E-8D0965CC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7566-9B24-4565-A98E-71B6163C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3A47-32BC-4AED-B8CD-435D7DDC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202D-C4C2-4F39-B2C4-F207ADDC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0DC7-AA7B-46E7-876C-379A9ADF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F7CC-CFBA-462F-B852-671A470B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D418-AAEC-48B6-9886-65516A2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C6D1-70C3-4238-9719-AD03B29C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2A0D-8089-4E55-9B0A-190FAEF9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C4F383-AE1F-4AD1-9BEB-694ACC9DEE8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d2b8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2cab2"/>
                </a:gs>
                <a:gs pos="100000">
                  <a:srgbClr val="f9f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efde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d2b8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2cab2"/>
                </a:gs>
                <a:gs pos="100000">
                  <a:srgbClr val="f9f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efde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E60D5E-1C8F-4BE3-995D-B6FC64EADE5C}" type="slidenum">
              <a:rPr b="0" lang="ru-RU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1"/>
          <p:cNvSpPr txBox="1"/>
          <p:nvPr/>
        </p:nvSpPr>
        <p:spPr>
          <a:xfrm>
            <a:off x="826920" y="1413000"/>
            <a:ext cx="74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йствия с дробям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нукяна  даниела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6Б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872320" y="5300640"/>
            <a:ext cx="30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Туап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имназия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хметзянова И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ибольшее натуральное число, на которое делятся без остатка числа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называется 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наибольшим общим делителем чисел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Garamond"/>
              </a:rPr>
              <a:t>a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 и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Garamond"/>
              </a:rPr>
              <a:t>b</a:t>
            </a: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.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пример: НОД(6;8)=2.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5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ются два числа, произведение которых равно 1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ва числа, произведение которых равно 1 называются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взаимно обратными числами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31" name="Объект 1"/>
          <p:cNvGraphicFramePr/>
          <p:nvPr/>
        </p:nvGraphicFramePr>
        <p:xfrm>
          <a:off x="3924360" y="3860640"/>
          <a:ext cx="4276800" cy="25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860640"/>
                    <a:ext cx="4276800" cy="25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6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Что надо сделать, чтобы найти дробь от числа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тобы найти дробь от числа, надо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число умножить на эту дробь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 найти    от 80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ешение: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5003640" y="3573360"/>
          <a:ext cx="44640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3573360"/>
                    <a:ext cx="4464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1"/>
          <p:cNvGraphicFramePr/>
          <p:nvPr/>
        </p:nvGraphicFramePr>
        <p:xfrm>
          <a:off x="3492360" y="5013360"/>
          <a:ext cx="39276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013360"/>
                    <a:ext cx="39276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7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ется наименьшее натуральное число, которое делится на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 b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без остатка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именьшее натуральное число, которое делится на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 b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без остатка называют 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наименьшим общим кратным чисел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Garamond"/>
              </a:rPr>
              <a:t>a 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и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Garamond"/>
              </a:rPr>
              <a:t> b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пример: НОК(7;8)=56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11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ют частное двух чисел или выражений, в котором знак деления обозначают дробной чертой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астное двух чисел или выражений, в котором знак деления обозначают дробной чертой называют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дробным выражением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49" name="Объект 1"/>
          <p:cNvGraphicFramePr/>
          <p:nvPr/>
        </p:nvGraphicFramePr>
        <p:xfrm>
          <a:off x="3708360" y="5013360"/>
          <a:ext cx="302436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013360"/>
                    <a:ext cx="302436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Решите примеры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1)                         5)                           9)    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2)                         6)                          10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3)                         7)                          11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4)                         8)                          12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971640" y="1413000"/>
          <a:ext cx="1152360" cy="10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11523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971640" y="2421000"/>
          <a:ext cx="115236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421000"/>
                    <a:ext cx="11523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900000" y="3500280"/>
          <a:ext cx="1297080" cy="97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500280"/>
                    <a:ext cx="129708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900000" y="4508640"/>
          <a:ext cx="1513080" cy="102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4508640"/>
                    <a:ext cx="15130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3348000" y="1341360"/>
          <a:ext cx="1297080" cy="108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1341360"/>
                    <a:ext cx="12970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8"/>
          <p:cNvGraphicFramePr/>
          <p:nvPr/>
        </p:nvGraphicFramePr>
        <p:xfrm>
          <a:off x="3473280" y="2349360"/>
          <a:ext cx="1043280" cy="111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73280" y="2349360"/>
                    <a:ext cx="10432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9"/>
          <p:cNvGraphicFramePr/>
          <p:nvPr/>
        </p:nvGraphicFramePr>
        <p:xfrm>
          <a:off x="3543480" y="3429000"/>
          <a:ext cx="90612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43480" y="3429000"/>
                    <a:ext cx="906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0"/>
          <p:cNvGraphicFramePr/>
          <p:nvPr/>
        </p:nvGraphicFramePr>
        <p:xfrm>
          <a:off x="3397320" y="4508640"/>
          <a:ext cx="1123920" cy="102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97320" y="4508640"/>
                    <a:ext cx="112392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1"/>
          <p:cNvGraphicFramePr/>
          <p:nvPr/>
        </p:nvGraphicFramePr>
        <p:xfrm>
          <a:off x="6060960" y="1413000"/>
          <a:ext cx="1054080" cy="1020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0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60960" y="1413000"/>
                    <a:ext cx="10540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2"/>
          <p:cNvGraphicFramePr/>
          <p:nvPr/>
        </p:nvGraphicFramePr>
        <p:xfrm>
          <a:off x="6151680" y="2421000"/>
          <a:ext cx="944280" cy="104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1680" y="2421000"/>
                    <a:ext cx="9442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3"/>
          <p:cNvGraphicFramePr/>
          <p:nvPr/>
        </p:nvGraphicFramePr>
        <p:xfrm>
          <a:off x="6132600" y="3429000"/>
          <a:ext cx="984240" cy="984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32600" y="3429000"/>
                    <a:ext cx="9842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4"/>
          <p:cNvGraphicFramePr/>
          <p:nvPr/>
        </p:nvGraphicFramePr>
        <p:xfrm>
          <a:off x="6156360" y="4508640"/>
          <a:ext cx="1430280" cy="1082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6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56360" y="4508640"/>
                    <a:ext cx="14302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Ответьте на вопросы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349360" cy="38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65,-65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65,-65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Ответы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1)                         5)                           9)    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2)                         6)                          10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3)                         7)                          11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4)                         8)                          12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900000" y="1052640"/>
          <a:ext cx="7444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052640"/>
                    <a:ext cx="744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"/>
          <p:cNvGraphicFramePr/>
          <p:nvPr/>
        </p:nvGraphicFramePr>
        <p:xfrm>
          <a:off x="900000" y="2565360"/>
          <a:ext cx="79056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565360"/>
                    <a:ext cx="7905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826920" y="4149720"/>
          <a:ext cx="920880" cy="12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149720"/>
                    <a:ext cx="9208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900000" y="5632560"/>
          <a:ext cx="830520" cy="12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5632560"/>
                    <a:ext cx="8305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7"/>
          <p:cNvGraphicFramePr/>
          <p:nvPr/>
        </p:nvGraphicFramePr>
        <p:xfrm>
          <a:off x="3348000" y="1052640"/>
          <a:ext cx="1224000" cy="116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1052640"/>
                    <a:ext cx="12240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8"/>
          <p:cNvGraphicFramePr/>
          <p:nvPr/>
        </p:nvGraphicFramePr>
        <p:xfrm>
          <a:off x="3419640" y="2565360"/>
          <a:ext cx="668160" cy="129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2565360"/>
                    <a:ext cx="6681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9"/>
          <p:cNvGraphicFramePr/>
          <p:nvPr/>
        </p:nvGraphicFramePr>
        <p:xfrm>
          <a:off x="3419640" y="4365720"/>
          <a:ext cx="585720" cy="72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9640" y="4365720"/>
                    <a:ext cx="585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0"/>
          <p:cNvGraphicFramePr/>
          <p:nvPr/>
        </p:nvGraphicFramePr>
        <p:xfrm>
          <a:off x="3419640" y="5950080"/>
          <a:ext cx="433080" cy="69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4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9640" y="5950080"/>
                    <a:ext cx="43308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1"/>
          <p:cNvGraphicFramePr/>
          <p:nvPr/>
        </p:nvGraphicFramePr>
        <p:xfrm>
          <a:off x="6156360" y="2852640"/>
          <a:ext cx="539640" cy="719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6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2852640"/>
                    <a:ext cx="539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2"/>
          <p:cNvGraphicFramePr/>
          <p:nvPr/>
        </p:nvGraphicFramePr>
        <p:xfrm>
          <a:off x="6084720" y="981000"/>
          <a:ext cx="706680" cy="1224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8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84720" y="981000"/>
                    <a:ext cx="7066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3"/>
          <p:cNvGraphicFramePr/>
          <p:nvPr/>
        </p:nvGraphicFramePr>
        <p:xfrm>
          <a:off x="6084720" y="4076640"/>
          <a:ext cx="790920" cy="12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0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84720" y="4076640"/>
                    <a:ext cx="790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4"/>
          <p:cNvGraphicFramePr/>
          <p:nvPr/>
        </p:nvGraphicFramePr>
        <p:xfrm>
          <a:off x="6156360" y="5877000"/>
          <a:ext cx="555480" cy="647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2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56360" y="5877000"/>
                    <a:ext cx="5554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Найдите ошибк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204" name="Объект 1"/>
          <p:cNvGraphicFramePr/>
          <p:nvPr/>
        </p:nvGraphicFramePr>
        <p:xfrm>
          <a:off x="0" y="907920"/>
          <a:ext cx="9036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036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шибки были под номерами 1,4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Garamond"/>
              </a:rPr>
              <a:t>Правильные решения: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208" name="Объект 1"/>
          <p:cNvGraphicFramePr/>
          <p:nvPr/>
        </p:nvGraphicFramePr>
        <p:xfrm>
          <a:off x="179280" y="2997360"/>
          <a:ext cx="881532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997360"/>
                    <a:ext cx="881532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!!!Спасибо за внимание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11" name="Улыбающееся лицо 3"/>
          <p:cNvSpPr/>
          <p:nvPr/>
        </p:nvSpPr>
        <p:spPr>
          <a:xfrm>
            <a:off x="2340000" y="1628640"/>
            <a:ext cx="4103640" cy="3745080"/>
          </a:xfrm>
          <a:prstGeom prst="smileyFace">
            <a:avLst>
              <a:gd name="adj" fmla="val 92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1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ется число, которое имеет два делителя: единицу и само это число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Число, которое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имеет два делителя: единицу и само это число называют 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Garamond"/>
              </a:rPr>
              <a:t>простым</a:t>
            </a: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пример: 3; 5; 7.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2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ется деление числителя и знаменателя на одно и то же число, отличное от единицы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еление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ислителя и знаменателя на одно и то же число, отличное от единицы называют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сокращением дроби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2139840" y="5229360"/>
          <a:ext cx="5370480" cy="13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9840" y="5229360"/>
                    <a:ext cx="537048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3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йти число по данному значению его дроби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aramond"/>
              </a:rPr>
              <a:t>Ответ:</a:t>
            </a:r>
            <a:endParaRPr b="1" lang="en-US" sz="4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тобы найти число по данному значению его дроби надо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значение разделить на дробь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пример: найдите число которого равны 12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ешение: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8028000" y="3716280"/>
          <a:ext cx="47448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3716280"/>
                    <a:ext cx="4744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Объект 1"/>
          <p:cNvGraphicFramePr/>
          <p:nvPr/>
        </p:nvGraphicFramePr>
        <p:xfrm>
          <a:off x="3132000" y="5805360"/>
          <a:ext cx="5308560" cy="9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5805360"/>
                    <a:ext cx="530856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опрос №4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Как называется наибольшее натуральное число, на которое делятся без остатка числа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14:37Z</dcterms:created>
  <dc:creator>HER</dc:creator>
  <dc:description/>
  <dc:language>en-US</dc:language>
  <cp:lastModifiedBy>user</cp:lastModifiedBy>
  <dcterms:modified xsi:type="dcterms:W3CDTF">2013-03-20T04:58:54Z</dcterms:modified>
  <cp:revision>17</cp:revision>
  <dc:subject/>
  <dc:title>Конкурс «Гонки»</dc:title>
</cp:coreProperties>
</file>