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9F5-F595-4832-B6EE-99C4D391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7D3-C56E-4A6F-B799-423F6280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3F5-AE23-473F-9C80-96A49427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C7F-135C-42FB-8AD3-35EB23F7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000C-428E-430B-BE3F-EC45BEC5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5F9F-E8DD-485A-A484-C3AFD38D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2E21-A359-43F9-82D7-6CB2AEF4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327D-4899-471A-971A-36A92355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2261-0B85-4633-956A-445F37A4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9526-82AE-4050-B1AE-FC5E52D6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4B01-678E-4CB4-AD33-0D1802FE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37D-E44B-430B-ADDA-CC04C959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8A13-C477-4273-B08C-424D8C94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D575-7176-4F0B-A37F-C4ABC2C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C102-4E3E-4DE2-864F-09C36B1C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CC4D-E629-4FEA-ABAB-8855D921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F255-CC0B-4CF2-9798-334B9522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A915-A0B1-4ED8-ACDD-FAF6AF5E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42CBE-3243-4D29-8492-99FE783C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2809-E406-458D-800C-E13806CC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DE3B-F9DD-497B-8B0D-47BD63D3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5BDA-1F14-4E97-ACAF-C502F226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4E4-470B-4D02-9743-B7CA8D78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35DD-406D-4905-8F5D-D4C2C32A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682C-B8EA-4788-876C-76A726D0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AFAD-B3D3-4993-B477-D2043620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111B-CB7C-4F64-9DE2-A17A88A3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D418-5C4D-49B6-BC47-70749A14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86D3-BD2F-4E3A-B652-DA5F449D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D684-82BE-4421-8690-DE5FAC6C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090-193A-4558-B61F-E66B75B4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A44-7D11-4212-A28F-CD6BD825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922-2BB3-448E-9B0D-28705903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E8D-1AAC-4D2D-A88C-ECC2176F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0F9-7FF0-4D4E-BAAD-68D07B17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CA1-77F5-4D75-8CD8-69AAD782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A5D3-3148-4E24-96FF-1BCF08BEB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FBE3-5227-40F1-B5B6-32FD544FC6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35DC-011A-4574-9F00-D6693DDBDA8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Пирамида здорового питания"/>
          <p:cNvPicPr/>
          <p:nvPr/>
        </p:nvPicPr>
        <p:blipFill>
          <a:blip r:embed="rId1"/>
          <a:stretch/>
        </p:blipFill>
        <p:spPr>
          <a:xfrm>
            <a:off x="1600200" y="1523880"/>
            <a:ext cx="5257800" cy="4087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80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3415"/>
                </a:solidFill>
                <a:latin typeface="Arial"/>
              </a:rPr>
              <a:t>Здоровое питание для шк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00200" y="1600200"/>
            <a:ext cx="579132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190512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3415"/>
                </a:solidFill>
                <a:latin typeface="Garamond"/>
              </a:rPr>
              <a:t>ПИТАНИЕ</a:t>
            </a:r>
            <a:br>
              <a:rPr sz="5400"/>
            </a:br>
            <a:r>
              <a:rPr b="1" lang="en-US" sz="5400" spc="-1" strike="noStrike">
                <a:solidFill>
                  <a:srgbClr val="0033cc"/>
                </a:solidFill>
                <a:latin typeface="Garamond"/>
              </a:rPr>
              <a:t>(</a:t>
            </a:r>
            <a:r>
              <a:rPr b="1" lang="en-US" sz="4800" spc="-1" strike="noStrike">
                <a:solidFill>
                  <a:srgbClr val="0033cc"/>
                </a:solidFill>
                <a:latin typeface="Garamond"/>
              </a:rPr>
              <a:t>питаться)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762120" y="12193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553080" y="99072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657600"/>
            <a:ext cx="76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343400" y="609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057040" y="36576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35053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-36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91520" y="27432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4495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304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343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33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какой целью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7724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ищ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единственный источник, с которым ребенок получает необходимый пластический материал и энергию. Нормальная деятельность головного мозга и организма зависит в основном от качества употребляемой пищи. Родителям полезно знать о том, что «трудный» характер ребенка часто является результатом нерационального питания, что правильное питание улучшает умственные способности, развивает память у детей и таким образом облегчает для него процесс обуч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415"/>
                </a:solidFill>
                <a:latin typeface="Arial"/>
              </a:rPr>
              <a:t>ПРАВИЛА ЗДОРОВОГО П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должен есть разнообразные пищевые продукты. Ежедневный рацион ребенка должен содержать около 15 наименований разных продуктов питания. В течение недели рацион питания должен включать не менее 30 наименований разных продуктов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ый день в рационе питания ребенка должны присутствовать следующие продукты: мясо, сливочное масло, молоко, хлеб, крупы, свежие овощи и фрукты. Ряд продуктов: рыба, яйца, сметана, творог и другие кисломолочные продукты, сыр — не обязательно должны входить в рацион питания каждый день, но в течение недели должны присутствовать 2—3 раза обяз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должен питаться не менее 4 раз в де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еся в первую смену в 7:30—8:30 должны получать завтрак (дома, перед уходом в школу), в 11:00—12:00 — горячий зав­трак в школе, в 14:30—15:30 — после окончания занятий — обед в школе (обязательно для учащихся групп продленного дня) или дома, а в 19:00—19:30 — ужин (до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304920"/>
            <a:ext cx="8915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употреблять йодированную с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ежсезонье (осень — зима, зима — весна) ребенок должен получать витаминно-минеральные комплексы, рекомендованные для детей соответствующе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обогащения рациона питания школьника витамином «С» рекомендуем обеспечить ежедневный прием отвара шипо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ем пищи должен проходить в спокойной обстан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у ребенка имеет место дефицит или избыток массы тела, необходима консультация врача, так как в этом случае рацион питания ребенка должен быть скорректирован с учетом степени отклонения физического развития от н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цион питания школьника, занимающегося спортом, должен быть скорректирован с учетом объема физической нагрузки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комендуется употреблять пищу, состоящую на 15 −20% из белков, на 20 −30% из жиров, на 50- 55% из углеводов, содержащихся в овощах, фруктах, злаках, ореха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http://www.liceum4.ru/images/stories/articles/16102010/food/003.jpg"/>
          <p:cNvPicPr/>
          <p:nvPr/>
        </p:nvPicPr>
        <p:blipFill>
          <a:blip r:embed="rId1"/>
          <a:stretch/>
        </p:blipFill>
        <p:spPr>
          <a:xfrm>
            <a:off x="1219320" y="380880"/>
            <a:ext cx="1904760" cy="1333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j0413448"/>
          <p:cNvPicPr/>
          <p:nvPr/>
        </p:nvPicPr>
        <p:blipFill>
          <a:blip r:embed="rId2"/>
          <a:stretch/>
        </p:blipFill>
        <p:spPr>
          <a:xfrm>
            <a:off x="6400800" y="228600"/>
            <a:ext cx="1160640" cy="135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1752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олезные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752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3415"/>
                </a:solidFill>
                <a:latin typeface="Arial"/>
              </a:rPr>
              <a:t>Вредные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ременный школьник, по мнению диетологов, должен есть не менее  … ….    раз в день, причем на завтрак, обед и ужин непременно должно быть  ……            блюдо. Для растущего организма обязательны молоко, творог, сыр, кисломолочные продукты — источники ……… и белка. Дефицит кальция и фосфора также помогут восполнить ………. блюда. В качестве гарнира лучше использовать не картошку или макароны, а тушеные или вареные …………. (капусту, свеклу, лук, морковь, бобовые, чеснок и капусту). За день школьники должны выпивать не менее одного-полутора литров ……………., но не газированной воды, а фруктовых или овощных ……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80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f3415"/>
                </a:solidFill>
                <a:uFillTx/>
                <a:latin typeface="Arial"/>
              </a:rPr>
              <a:t>Рекомендации:</a:t>
            </a:r>
            <a:r>
              <a:rPr b="1" lang="en-US" sz="2400" spc="-1" strike="noStrike">
                <a:solidFill>
                  <a:srgbClr val="ef3415"/>
                </a:solidFill>
                <a:latin typeface="Arial"/>
              </a:rPr>
              <a:t> В питании всё должно быть в м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ища должна быть                                   разнообразн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Еда должна быть                                       тёпл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ережёвывать пищу нужно                       тщ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ужно побольше есть                                овощи и фрук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ужно кушать в день                                  3-4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ельзя кушать перед                                 с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е есть копчёного,                                      жареного и остр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оменьше кушать                                        слад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е перекусывать                                    чипсами, сухари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286000"/>
            <a:ext cx="3657600" cy="4343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447920" y="175248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838080" y="3049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"/>
              </a:rPr>
              <a:t>Х- </a:t>
            </a: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"/>
              </a:rPr>
              <a:t>О- </a:t>
            </a: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5T21:21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