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033A-E904-4DD5-9DDB-2E395F66E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4560-EF92-4F02-98F8-D3B0ABFE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9E7F-A16A-4A96-859D-E2935C03F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4997-3432-48D4-84C5-46917987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12C1-F17C-421C-B19A-5AC3CADA9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4BA0-F91F-4DAA-8DB9-70B53E3B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C0E3-0F33-445D-AF35-DDE1FA10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EB1E-2006-4893-95E8-3270C6DC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A1D3-E13D-49AC-8C56-E7DA0855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212B-6D6D-4B38-9B17-10A8709B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88FA-551A-4631-A40A-039E77C4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3A3E-D09D-4A86-8AEA-9C673230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175D-A8CC-41F0-A602-90E3DB84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FF4B-F3A3-4C75-863D-81BDEE6E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3A82-B574-473B-983C-DAF7100F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2E71-D80C-4686-9E3C-131986BD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522B-F7AB-49DA-960B-805F182F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2EB27-CAF5-4392-9F8C-2A514DAF7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B5456-124F-4E7B-AD6D-53A1AF79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71B78-2279-4E15-8D16-84A01E5A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BCE8E-42F0-4D58-92DE-F812BF5D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57950-F30E-4BB8-BA00-AA0DE3D1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5A11-148C-4144-8240-7947D5EE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5EEB5-D7B6-41FC-9C81-B2451CDE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DA292-D4AD-4B44-9A30-D116AE8A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E6AA5-C9AA-4908-8BEB-EAD9409A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D9A3D-F73D-409F-A82C-2A925622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2C4C6-3284-49FB-B30C-82BB8357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F08DE-C603-4D2D-8FAF-6959B6DF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2A487-48AF-4BBA-84CD-9C88A2155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D3B1-516E-4232-B739-2A8831AE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344E-F4C4-4C71-A5F9-8301DF5A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D4EB-273E-4EF3-87F2-ECBE3849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8A1E-E6C4-478D-8002-573A4238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46F7-62B8-4A80-BB0F-9EA36909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9F40-E39B-4587-AAF4-C1C4E882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EC15-CA2C-4032-8DDB-EB654DCEB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04D9-DF2B-4B61-B4CA-C7DA86B8185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8F17-EB72-4C68-9E03-E042DF5A552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" descr="Пирамида здорового питания"/>
          <p:cNvPicPr/>
          <p:nvPr/>
        </p:nvPicPr>
        <p:blipFill>
          <a:blip r:embed="rId1"/>
          <a:stretch/>
        </p:blipFill>
        <p:spPr>
          <a:xfrm>
            <a:off x="1600200" y="1523880"/>
            <a:ext cx="5257800" cy="4087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5800" y="3808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3415"/>
                </a:solidFill>
                <a:latin typeface="Arial"/>
              </a:rPr>
              <a:t>Здоровое питание для школь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600200" y="1600200"/>
            <a:ext cx="5791320" cy="2057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33720" y="1905120"/>
            <a:ext cx="4572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3415"/>
                </a:solidFill>
                <a:latin typeface="Garamond"/>
              </a:rPr>
              <a:t>ПИТАНИЕ</a:t>
            </a:r>
            <a:br>
              <a:rPr sz="5400"/>
            </a:br>
            <a:r>
              <a:rPr b="1" lang="en-US" sz="5400" spc="-1" strike="noStrike">
                <a:solidFill>
                  <a:srgbClr val="0033cc"/>
                </a:solidFill>
                <a:latin typeface="Garamond"/>
              </a:rPr>
              <a:t>(</a:t>
            </a:r>
            <a:r>
              <a:rPr b="1" lang="en-US" sz="4800" spc="-1" strike="noStrike">
                <a:solidFill>
                  <a:srgbClr val="0033cc"/>
                </a:solidFill>
                <a:latin typeface="Garamond"/>
              </a:rPr>
              <a:t>питаться)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762120" y="12193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553080" y="990720"/>
            <a:ext cx="12956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3657600"/>
            <a:ext cx="763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343400" y="609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057040" y="36576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05720" y="3505320"/>
            <a:ext cx="76176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-360" y="2819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391520" y="2743200"/>
            <a:ext cx="1523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44956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304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0" y="43434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чему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5335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какой целью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77724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Пищ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единственный источник, с которым ребенок получает необходимый пластический материал и энергию. Нормальная деятельность головного мозга и организма зависит в основном от качества употребляемой пищи. Родителям полезно знать о том, что «трудный» характер ребенка часто является результатом нерационального питания, что правильное питание улучшает умственные способности, развивает память у детей и таким образом облегчает для него процесс обуче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73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3415"/>
                </a:solidFill>
                <a:latin typeface="Arial"/>
              </a:rPr>
              <a:t>ПРАВИЛА ЗДОРОВОГО ПИТ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бенок должен есть разнообразные пищевые продукты. Ежедневный рацион ребенка должен содержать около 15 наименований разных продуктов питания. В течение недели рацион питания должен включать не менее 30 наименований разных продуктов 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ждый день в рационе питания ребенка должны присутствовать следующие продукты: мясо, сливочное масло, молоко, хлеб, крупы, свежие овощи и фрукты. Ряд продуктов: рыба, яйца, сметана, творог и другие кисломолочные продукты, сыр — не обязательно должны входить в рацион питания каждый день, но в течение недели должны присутствовать 2—3 раза обяза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бенок должен питаться не менее 4 раз в день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ащиеся в первую смену в 7:30—8:30 должны получать завтрак (дома, перед уходом в школу), в 11:00—12:00 — горячий зав­трак в школе, в 14:30—15:30 — после окончания занятий — обед в школе (обязательно для учащихся групп продленного дня) или дома, а в 19:00—19:30 — ужин (дом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8600" y="304920"/>
            <a:ext cx="89154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едует употреблять йодированную со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межсезонье (осень — зима, зима — весна) ребенок должен получать витаминно-минеральные комплексы, рекомендованные для детей соответствующего возр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обогащения рациона питания школьника витамином «С» рекомендуем обеспечить ежедневный прием отвара шипов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ем пищи должен проходить в спокойной обстанов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у ребенка имеет место дефицит или избыток массы тела, необходима консультация врача, так как в этом случае рацион питания ребенка должен быть скорректирован с учетом степени отклонения физического развития от нор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цион питания школьника, занимающегося спортом, должен быть скорректирован с учетом объема физической нагрузки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екомендуется употреблять пищу, состоящую на 15 −20% из белков, на 20 −30% из жиров, на 50- 55% из углеводов, содержащихся в овощах, фруктах, злаках, орехах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2" descr="http://www.liceum4.ru/images/stories/articles/16102010/food/003.jpg"/>
          <p:cNvPicPr/>
          <p:nvPr/>
        </p:nvPicPr>
        <p:blipFill>
          <a:blip r:embed="rId1"/>
          <a:stretch/>
        </p:blipFill>
        <p:spPr>
          <a:xfrm>
            <a:off x="1219320" y="380880"/>
            <a:ext cx="1904760" cy="1333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j0413448"/>
          <p:cNvPicPr/>
          <p:nvPr/>
        </p:nvPicPr>
        <p:blipFill>
          <a:blip r:embed="rId2"/>
          <a:stretch/>
        </p:blipFill>
        <p:spPr>
          <a:xfrm>
            <a:off x="6400800" y="228600"/>
            <a:ext cx="1160640" cy="1359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33520" y="17524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Полезные проду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17524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3415"/>
                </a:solidFill>
                <a:latin typeface="Arial"/>
              </a:rPr>
              <a:t>Вредные проду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22860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временный школьник, по мнению диетологов, должен есть не менее  … ….    раз в день, причем на завтрак, обед и ужин непременно должно быть  ……            блюдо. Для растущего организма обязательны молоко, творог, сыр, кисломолочные продукты — источники ……… и белка. Дефицит кальция и фосфора также помогут восполнить ………. блюда. В качестве гарнира лучше использовать не картошку или макароны, а тушеные или вареные …………. (капусту, свеклу, лук, морковь, бобовые, чеснок и капусту). За день школьники должны выпивать не менее одного-полутора литров ……………., но не газированной воды, а фруктовых или овощных ……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8380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f3415"/>
                </a:solidFill>
                <a:uFillTx/>
                <a:latin typeface="Arial"/>
              </a:rPr>
              <a:t>Рекомендации:</a:t>
            </a:r>
            <a:r>
              <a:rPr b="1" lang="en-US" sz="2400" spc="-1" strike="noStrike">
                <a:solidFill>
                  <a:srgbClr val="ef3415"/>
                </a:solidFill>
                <a:latin typeface="Arial"/>
              </a:rPr>
              <a:t> В питании всё должно быть в мер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Пища должна быть                                   разнообразно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Еда должна быть                                       тёпло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пережёвывать пищу нужно                       тща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Нужно побольше есть                                овощи и фрукт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Нужно кушать в день                                  3-4 р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Нельзя кушать перед                                 сн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Не есть копчёного,                                      жареного и острог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Поменьше кушать                                        слад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Не перекусывать                                    чипсами, сухарик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2286000"/>
            <a:ext cx="3657600" cy="4343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1447920" y="1752480"/>
          <a:ext cx="6095880" cy="40636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838080" y="304920"/>
            <a:ext cx="7162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"/>
              </a:rPr>
              <a:t>Х- </a:t>
            </a:r>
            <a:r>
              <a:rPr b="1" lang="en-US" sz="2400" spc="-1" strike="noStrike">
                <a:solidFill>
                  <a:srgbClr val="000000"/>
                </a:solidFill>
                <a:latin typeface="comic"/>
              </a:rPr>
              <a:t>В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"/>
              </a:rPr>
              <a:t>О- </a:t>
            </a:r>
            <a:r>
              <a:rPr b="1" lang="en-US" sz="2400" spc="-1" strike="noStrike">
                <a:solidFill>
                  <a:srgbClr val="000000"/>
                </a:solidFill>
                <a:latin typeface="comic"/>
              </a:rPr>
              <a:t>НЕВ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0-25T21:21:4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