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60BE-4119-4D21-B375-6C51D795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BC2A-8178-4ECE-BAF4-4FF99196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C6BE-93A0-4C38-BECA-1482C4DC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8A68-0177-46AA-B50E-5FB09494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928B-48BD-43C1-A499-4B8368A9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C182-87EC-46CB-8C9E-B706C9AB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D1BC-9B55-49AD-8AFC-CF4634BA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3EF0-DAD7-4CA6-A2C0-88C638D5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9057-D323-4412-92D7-4A679AE3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75DC-C49E-4A3F-A101-AB7F42C3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0615-A14A-4EB3-A29E-F1C6EA3A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5A12-85F6-4AD1-A7A2-05EDED9C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8D9C-DC69-44BD-AABC-FFC6ED6C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CEA0-2A63-4CD5-BE33-90B8045D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9917-851A-4336-95D3-FB578BC7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0B01-165F-4374-8317-622E88AA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063B-F2A8-426E-9BE4-AB15B5E7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F4A3-9BD2-46C1-829F-C3007F03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37ADF-7304-4280-954E-1BCC2F2C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BD3C-E009-442E-AB79-6482AA95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41840-97D5-4AFE-963A-2A59CFEC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C5266-5685-453D-AD19-D1D3AAF2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EF15-92B6-4FFB-80F3-B57D0EB5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DA73-F3A4-42FE-BA8D-3FBAE23E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3655-38DC-46EB-A458-7F0BD269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83C8-0BBB-4D76-A3F8-56858376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AE719-1C54-4B80-8A79-24A7C42B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7DDE-EC5E-41F5-964C-30C87B83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7D33D-4793-48B0-8E9C-7A51672B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432D-6004-421D-82E0-5EB1757C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843C-ECDA-4C2C-B564-B6ADD028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DD0A-EC74-45C4-86FF-EF47FAAE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4DB5-824F-49D5-9F66-4BFA48A2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6223-F03D-4134-8680-630ED1B1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C378-2EE8-40FC-BF30-FDECB6DB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D1DE-E0F5-466B-9FA8-922B3BEC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8204-C370-42F0-AC65-BC52A669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1C94-7CA1-484F-85C7-76AEC645C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B387-BC6F-4189-B23B-E528EF365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777240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fdef6"/>
                </a:solidFill>
                <a:latin typeface="Arial"/>
              </a:rPr>
              <a:t>Дорожный марафон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7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учающая иг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5, 6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готовила учи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БОУ Ворошиловская СОШ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бедева О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5580000" y="35002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C</a:t>
            </a: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лайд </a:t>
            </a:r>
            <a:br>
              <a:rPr sz="4800"/>
            </a:b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«Чёрный ящик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 лежит в чёрном ящи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пасибо за игру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 rot="21240000">
            <a:off x="1187280" y="3789000"/>
            <a:ext cx="17938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46094 -0.07361 E">
                                      <p:cBhvr>
                                        <p:cTn id="49" dur="3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Марафон – это длительное, многоэтапное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оревнова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Мы побываем с вами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50920" y="260280"/>
          <a:ext cx="8642160" cy="5977080"/>
        </p:xfrm>
        <a:graphic>
          <a:graphicData uri="http://schemas.openxmlformats.org/drawingml/2006/table">
            <a:tbl>
              <a:tblPr/>
              <a:tblGrid>
                <a:gridCol w="2592360"/>
                <a:gridCol w="3168720"/>
                <a:gridCol w="2881080"/>
              </a:tblGrid>
              <a:tr h="32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1749600" cy="12920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 rot="19933800">
            <a:off x="0" y="907920"/>
            <a:ext cx="28735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гадочный зна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916360" y="692280"/>
            <a:ext cx="280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ощад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бус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   ?  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  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3" name=""/>
          <p:cNvSpPr txBox="1"/>
          <p:nvPr/>
        </p:nvSpPr>
        <p:spPr>
          <a:xfrm rot="1666200">
            <a:off x="6211440" y="907560"/>
            <a:ext cx="2376720" cy="19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сенна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танов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755640" y="4869000"/>
            <a:ext cx="1440000" cy="11523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539640" y="3716280"/>
            <a:ext cx="1733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вед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рядо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843280" y="3573360"/>
            <a:ext cx="3023640" cy="2616120"/>
            <a:chOff x="2843280" y="3573360"/>
            <a:chExt cx="3023640" cy="2616120"/>
          </a:xfrm>
        </p:grpSpPr>
        <p:sp>
          <p:nvSpPr>
            <p:cNvPr id="567" name="Puzzle3"/>
            <p:cNvSpPr/>
            <p:nvPr/>
          </p:nvSpPr>
          <p:spPr>
            <a:xfrm>
              <a:off x="4315680" y="3573360"/>
              <a:ext cx="1188360" cy="13903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Puzzle2"/>
            <p:cNvSpPr/>
            <p:nvPr/>
          </p:nvSpPr>
          <p:spPr>
            <a:xfrm>
              <a:off x="3970080" y="4586040"/>
              <a:ext cx="1896840" cy="12661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Puzzle4"/>
            <p:cNvSpPr/>
            <p:nvPr/>
          </p:nvSpPr>
          <p:spPr>
            <a:xfrm>
              <a:off x="3235680" y="4570560"/>
              <a:ext cx="1143720" cy="16189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Puzzle1"/>
            <p:cNvSpPr/>
            <p:nvPr/>
          </p:nvSpPr>
          <p:spPr>
            <a:xfrm>
              <a:off x="2843280" y="3993840"/>
              <a:ext cx="1920600" cy="9651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"/>
          <p:cNvSpPr txBox="1"/>
          <p:nvPr/>
        </p:nvSpPr>
        <p:spPr>
          <a:xfrm rot="20911800">
            <a:off x="3133440" y="3841920"/>
            <a:ext cx="280512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рожный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абиринт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"/>
          <p:cNvSpPr txBox="1"/>
          <p:nvPr/>
        </p:nvSpPr>
        <p:spPr>
          <a:xfrm rot="1105800">
            <a:off x="6465960" y="3144960"/>
            <a:ext cx="2012760" cy="24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ё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щ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659640" y="5157720"/>
            <a:ext cx="1512720" cy="7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6659640" y="5373720"/>
            <a:ext cx="1368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04000" y="5661000"/>
            <a:ext cx="144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740720" y="544500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Сектор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«Дорожный лабиринт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биринт – это запутанная сеть дорожек, ходов, сообщающихся друг с друг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Сектор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«Площадь ребусов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бус – это слово, предложение, фраза, зашифрованные при помощи значков, рисунков, циф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Сектор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«Песенная остановка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ть песню о пешеходах, водителях, каком-либо транспортном средстве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Сектор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«Загадочный знак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ки важные дорожные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пас взрослых и ребя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ти!  Будьте осторожн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йте, что нельзя, что можн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яйте непреложно всё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знаки говоря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468360" y="1241280"/>
            <a:ext cx="8280360" cy="529776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Наведи порядок!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525636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Наведи порядок!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21:12:27Z</dcterms:created>
  <dc:creator>Lebedev</dc:creator>
  <dc:description/>
  <dc:language>en-US</dc:language>
  <cp:lastModifiedBy>Lebedev</cp:lastModifiedBy>
  <dcterms:modified xsi:type="dcterms:W3CDTF">2012-09-16T18:40:19Z</dcterms:modified>
  <cp:revision>4</cp:revision>
  <dc:subject/>
  <dc:title>Дорожный марафон</dc:title>
</cp:coreProperties>
</file>