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B05D-0D96-43B3-B7D0-CAAADA50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ED8C-43EB-4CA0-BFBF-41E4C679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A1E8-C175-402E-AA6B-1DEA2D1E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A579-72DC-4B79-8E10-B6D49392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2C2-1D6A-4774-AC72-E1128AB7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5A62-6A78-4634-AC2A-02B1BAF4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1379-BED4-439C-8D2F-E357574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C2B3-AFEB-469A-B415-4BB1AB33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1E90-B035-4B19-9D7F-2D0476DE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9833-0876-4560-B4E7-3706A099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50FF-59A7-41A1-BCF0-94A9F9A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4DDE-EA09-4A0B-B698-ADFA69F0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484-F530-44DF-BF78-A837EC31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11F-A227-4A56-BDD4-4D48189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21AD-D0BD-4615-9855-5296172B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2BE-D446-4EDE-AFE7-A9E86A52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863B-19AD-4CB6-A244-DC0A9BCF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9B17-DE20-4D91-8B1B-E3816CD5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0F9A-4B91-47B9-8D27-DC02EAF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1182-4CFA-4F16-97B1-E23FDCCD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10C6-38F8-414D-BAC8-293D7E0F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5987-E06E-4F9D-86A0-10B104F6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BEEF-5FBE-4463-9603-0D8D1DF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3960-A2F5-4FFD-9BEE-68EEDD7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1361-9D76-458D-BD4C-DC1B58F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7346-66FF-4902-9EFD-CF52906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20A9-3F34-4D92-9A0B-FF2D029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935C-B409-4658-8127-4415BAD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07BB-9817-418E-9FC3-F78D4EDD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297E-070B-4949-888E-F3C683DA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0685-35D2-4280-A906-D009A37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7F16-53B8-455C-A6F9-8D8D0B32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8C07-852F-4158-B5E7-7687ECCE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6F38-8C89-47A1-8528-67EBB0A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8D62-3EFD-4AB1-B538-1C018B02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B92F-3049-4EAB-8B82-51B316B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F3F4-30C5-4654-87B0-66F5E053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5CA-9CD0-4E26-AD6A-F595722FB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D258-CF0C-4FEF-B9DE-479F64DEB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77724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ef6"/>
                </a:solidFill>
                <a:latin typeface="Arial"/>
              </a:rPr>
              <a:t>Дорожный марафон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7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учающая иг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5, 6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готовила уч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БОУ Ворошиловская СО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бедева О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</a:t>
            </a: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лайд </a:t>
            </a:r>
            <a:br>
              <a:rPr sz="4800"/>
            </a:b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«Чёрный ящик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 лежит в чёрном ящи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пасибо за игр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 rot="21240000">
            <a:off x="1187280" y="3789000"/>
            <a:ext cx="17938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46094 -0.07361 E">
                                      <p:cBhvr>
                                        <p:cTn id="49" dur="3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Марафон – это длительное, многоэтапное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оревнов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Мы побываем с вами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50920" y="260280"/>
          <a:ext cx="8642160" cy="5977080"/>
        </p:xfrm>
        <a:graphic>
          <a:graphicData uri="http://schemas.openxmlformats.org/drawingml/2006/table">
            <a:tbl>
              <a:tblPr/>
              <a:tblGrid>
                <a:gridCol w="2592360"/>
                <a:gridCol w="3168720"/>
                <a:gridCol w="2881080"/>
              </a:tblGrid>
              <a:tr h="32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1749600" cy="12920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 rot="19933800">
            <a:off x="0" y="907920"/>
            <a:ext cx="28735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адочный зна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916360" y="692280"/>
            <a:ext cx="280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ощад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   ?  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  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 rot="1666200">
            <a:off x="6211440" y="907560"/>
            <a:ext cx="237672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сенн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танов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1440000" cy="11523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539640" y="3716280"/>
            <a:ext cx="1733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вед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ряд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843280" y="3573360"/>
            <a:ext cx="3023640" cy="2616120"/>
            <a:chOff x="2843280" y="3573360"/>
            <a:chExt cx="3023640" cy="2616120"/>
          </a:xfrm>
        </p:grpSpPr>
        <p:sp>
          <p:nvSpPr>
            <p:cNvPr id="567" name="Puzzle3"/>
            <p:cNvSpPr/>
            <p:nvPr/>
          </p:nvSpPr>
          <p:spPr>
            <a:xfrm>
              <a:off x="4315680" y="3573360"/>
              <a:ext cx="1188360" cy="1390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Puzzle2"/>
            <p:cNvSpPr/>
            <p:nvPr/>
          </p:nvSpPr>
          <p:spPr>
            <a:xfrm>
              <a:off x="3970080" y="4586040"/>
              <a:ext cx="1896840" cy="1266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Puzzle4"/>
            <p:cNvSpPr/>
            <p:nvPr/>
          </p:nvSpPr>
          <p:spPr>
            <a:xfrm>
              <a:off x="3235680" y="4570560"/>
              <a:ext cx="1143720" cy="16189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Puzzle1"/>
            <p:cNvSpPr/>
            <p:nvPr/>
          </p:nvSpPr>
          <p:spPr>
            <a:xfrm>
              <a:off x="2843280" y="3993840"/>
              <a:ext cx="1920600" cy="9651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"/>
          <p:cNvSpPr txBox="1"/>
          <p:nvPr/>
        </p:nvSpPr>
        <p:spPr>
          <a:xfrm rot="20911800">
            <a:off x="3133440" y="3841920"/>
            <a:ext cx="280512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рожный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бирин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"/>
          <p:cNvSpPr txBox="1"/>
          <p:nvPr/>
        </p:nvSpPr>
        <p:spPr>
          <a:xfrm rot="1105800">
            <a:off x="6465960" y="3144960"/>
            <a:ext cx="2012760" cy="24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ё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659640" y="5157720"/>
            <a:ext cx="151272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659640" y="5373720"/>
            <a:ext cx="1368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04000" y="566100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740720" y="544500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Дорожный лабиринт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биринт – это запутанная сеть дорожек, ходов, сообщающихся друг с дру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Площадь ребусов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бус – это слово, предложение, фраза, зашифрованные при помощи значков, рисунков, циф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Песенная остановка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ть песню о пешеходах, водителях, каком-либо транспортном средств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Загадочный знак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и важные дорожные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ас взрослых и реб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ти!  Будьте осторожн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йте, что нельзя, что мож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яйте непреложно всё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наки говоря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68360" y="1241280"/>
            <a:ext cx="8280360" cy="52977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Наведи порядок!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2563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Наведи порядок!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21:12:27Z</dcterms:created>
  <dc:creator>Lebedev</dc:creator>
  <dc:description/>
  <dc:language>en-US</dc:language>
  <cp:lastModifiedBy>Lebedev</cp:lastModifiedBy>
  <dcterms:modified xsi:type="dcterms:W3CDTF">2012-09-16T18:40:19Z</dcterms:modified>
  <cp:revision>4</cp:revision>
  <dc:subject/>
  <dc:title>Дорожный марафон</dc:title>
</cp:coreProperties>
</file>