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0752-ED2C-4FE3-841D-877B8CC9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E0C7-F83A-4384-B52E-320E104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E812-1CA6-4F5E-8927-4F0D5D4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4119-C23C-4361-90D6-1DF94A87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B10-4AC7-4348-A769-53F7B790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166F-D5C8-461F-990C-D17B583B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1D1-4557-41D3-833E-7B56D4B0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7622-A26F-44E1-ADC6-BE67F9F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6B9-8456-4E91-A0D5-5852361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A99-5F62-40C2-B416-F1FCC21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0699-DC29-4607-9986-5197B76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5AEC-B416-496B-B210-E6AD010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61B-C3CC-4976-A454-0A786FC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D8FC-027E-4770-ABE2-2B86D03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242-4A81-44F0-8DC8-B0C108C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1329-D526-4C82-B93C-C269D5CB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5F0D-39CB-49CA-A5EF-1B092C7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75B7-4677-4F27-AE13-D4E4C7C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6348-8E37-44BA-AE82-13DED210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0A18-0413-45F5-A78A-D7ED948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D233-953B-4886-A584-406EDD05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E840-FB8C-4093-822D-7B13846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C28C-8097-464D-9BEA-1728A1E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FEF9-591D-4840-A0D1-D0C8B6C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E09-7F8F-47FF-B347-85A6C469A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E73-B888-4F20-88AC-10A473449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6"/>
          <p:cNvSpPr/>
          <p:nvPr/>
        </p:nvSpPr>
        <p:spPr>
          <a:xfrm>
            <a:off x="2227320" y="2708280"/>
            <a:ext cx="691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77db"/>
                </a:solidFill>
                <a:latin typeface="Monotype Corsiva"/>
              </a:rPr>
              <a:t>Скрытая опасность неформальных объединений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11280" y="37893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977db"/>
                </a:solidFill>
                <a:latin typeface="Monotype Corsiva"/>
              </a:rPr>
              <a:t>Есть ли она и как это определи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064760" y="4653000"/>
            <a:ext cx="48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нстрационно-обучающие 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внеклассной работе  «Уроки толерант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 Овчарова О.Э.-учитель хим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ный руководитель 11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СОШ № 466 Курортн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61560" y="6308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549360"/>
            <a:ext cx="770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467e0"/>
                  </a:solidFill>
                  <a:miter/>
                </a:ln>
                <a:solidFill>
                  <a:srgbClr val="6467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СТРЕМИЗМ</a:t>
            </a:r>
            <a:endParaRPr b="1" lang="en-US" sz="1800" spc="1" strike="noStrike">
              <a:ln w="12600">
                <a:solidFill>
                  <a:srgbClr val="6467e0"/>
                </a:solidFill>
                <a:miter/>
              </a:ln>
              <a:solidFill>
                <a:srgbClr val="6467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467e0"/>
                  </a:solidFill>
                  <a:miter/>
                </a:ln>
                <a:solidFill>
                  <a:srgbClr val="6467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ТЬ II</a:t>
            </a:r>
            <a:endParaRPr b="1" lang="en-US" sz="1800" spc="1" strike="noStrike">
              <a:ln w="12600">
                <a:solidFill>
                  <a:srgbClr val="6467e0"/>
                </a:solidFill>
                <a:miter/>
              </a:ln>
              <a:solidFill>
                <a:srgbClr val="6467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250920" y="18900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раждебно или асоциально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настроенные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скинхэды, Р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пники, люб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ц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ериодически: футбольные фанаты и металлист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6" descr="gop.jpg"/>
          <p:cNvPicPr/>
          <p:nvPr/>
        </p:nvPicPr>
        <p:blipFill>
          <a:blip r:embed="rId2"/>
          <a:stretch/>
        </p:blipFill>
        <p:spPr>
          <a:xfrm>
            <a:off x="324000" y="2924280"/>
            <a:ext cx="3565440" cy="35654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IMG_2005-10-05-001.jpg"/>
          <p:cNvPicPr/>
          <p:nvPr/>
        </p:nvPicPr>
        <p:blipFill>
          <a:blip r:embed="rId3"/>
          <a:stretch/>
        </p:blipFill>
        <p:spPr>
          <a:xfrm rot="424800">
            <a:off x="4932000" y="2565000"/>
            <a:ext cx="3830760" cy="2468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57" name="Содержимое 3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396720" y="981000"/>
            <a:ext cx="5040000" cy="4751640"/>
          </a:xfrm>
          <a:prstGeom prst="irregularSeal2">
            <a:avLst/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869800">
            <a:off x="128520" y="2622960"/>
            <a:ext cx="36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Все неформальные подростково-молодёжные объединения, можно отнести к категории досуговых, то есть ориентированных, главным образом, на свободное времяпрепров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189000"/>
            <a:ext cx="65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ледует различать группировки экстремистской направленности от неформальных молодёжных объ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748800">
            <a:off x="3697200" y="2082960"/>
            <a:ext cx="5435640" cy="3995640"/>
          </a:xfrm>
          <a:prstGeom prst="irregularSeal2">
            <a:avLst/>
          </a:prstGeom>
          <a:solidFill>
            <a:srgbClr val="787e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 rot="1287600">
            <a:off x="4168080" y="2976120"/>
            <a:ext cx="4863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Экстремистские (радикальные) организации обычно декларируют, против чего они борются, и какие законные или незаконные методы они собираются использ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64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1"/>
          <p:cNvPicPr/>
          <p:nvPr/>
        </p:nvPicPr>
        <p:blipFill>
          <a:blip r:embed="rId2"/>
          <a:stretch/>
        </p:blipFill>
        <p:spPr>
          <a:xfrm rot="20496000">
            <a:off x="395280" y="692280"/>
            <a:ext cx="4195800" cy="2990880"/>
          </a:xfrm>
          <a:prstGeom prst="rect">
            <a:avLst/>
          </a:prstGeom>
          <a:ln w="9360">
            <a:solidFill>
              <a:srgbClr val="787e8a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547640" y="3429000"/>
            <a:ext cx="614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пециалисты отмеч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что наиболее уязвимой средой для проникновения идей экстремизма являются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одро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 ещё несформировавшейся и легко поддающейся влиянию психи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1258920" y="549360"/>
            <a:ext cx="69292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дним из самых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оложительных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моментов существования субкультур является то, что благодаря принадлежности к социальному меньшинству участники субкультур могут испытывать гораздо более ощутимый уровень доверия к таким же, как о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0" name="Содержимое 3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1116000" y="189000"/>
            <a:ext cx="69120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Отрицательным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моментом существования субкультур является то, что в силу определенных социальных запретов в жизни часто происходят акты недопонимания между представителями различных субкультур или между участниками субкультур и людьми, не причисляющими себя к какой либо груп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3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468360" y="476280"/>
            <a:ext cx="5294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ак ли страшен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неформал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2771640" y="2492280"/>
            <a:ext cx="30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042920" y="443700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у страха глаза велик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78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3" descr=""/>
          <p:cNvPicPr/>
          <p:nvPr/>
        </p:nvPicPr>
        <p:blipFill>
          <a:blip r:embed="rId2"/>
          <a:stretch/>
        </p:blipFill>
        <p:spPr>
          <a:xfrm>
            <a:off x="0" y="1628640"/>
            <a:ext cx="9077400" cy="41101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5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5394240" cy="700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2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5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5394600" cy="7077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3" descr=""/>
          <p:cNvPicPr/>
          <p:nvPr/>
        </p:nvPicPr>
        <p:blipFill>
          <a:blip r:embed="rId3"/>
          <a:stretch/>
        </p:blipFill>
        <p:spPr>
          <a:xfrm>
            <a:off x="66600" y="692280"/>
            <a:ext cx="9077400" cy="6877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6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9640" y="189000"/>
            <a:ext cx="6048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Жизнь наша устроена на аналогиях, упорядочивании и систематизации. Тот факт, что в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обществе появилась потребность в объединении,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говорит, несомненно, о том, что общество развивается и переживает новый эволюционный этап своего развития. Для того, чтобы социум шел по пути прогресса необходимо осознание каждым его членом значимости субкультур. Только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через толерантность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и взаимопонимание мы можем получить надежду на то, что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перемены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, сквозь которые проходит человечество,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будут носить положительный характер.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43600" y="27082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wikipedi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268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http://dic.academic.ru/dic.nsf/polit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680" y="3429000"/>
            <a:ext cx="59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http://www.ozmo.ru/index.php/bezopasnost/extremi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4520" y="1916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http://www.bibliofon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440" y="3933720"/>
            <a:ext cx="81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http://images.yandex.ru/yandsearch?text=экстремизм в молодеж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0160" y="4724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http://alt-sector.net/subkultu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2880" y="551664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http://molodej.org/cubkultury-et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БИБЛИОГРАФ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5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60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то такие неформалы и почему они объединяю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95280" y="1557360"/>
            <a:ext cx="6840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аждому из нас случалось идти по улице, ехать в метро или просто смотреть телевизор и видеть людей, которые чем-то непохожи на других. У кого-то на голове ирокез, кто-то весь в металле, а кто-то в черной коже проносится мимо вас на мотоцикле. Чаще всего это и есть неформалы – представители современных субкультур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71640" y="1268280"/>
            <a:ext cx="7489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ПАСИБО ЗА ВНИМАНИЕ !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09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395280" y="571680"/>
            <a:ext cx="63914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Все молодежные объединения можно разделить на следующие групп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24000" y="18900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оциально-активные: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бщества защиты истории и окружающей среды, пациф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6" descr="21855304adc6.jpg"/>
          <p:cNvPicPr/>
          <p:nvPr/>
        </p:nvPicPr>
        <p:blipFill>
          <a:blip r:embed="rId2"/>
          <a:stretch/>
        </p:blipFill>
        <p:spPr>
          <a:xfrm>
            <a:off x="1835280" y="4076640"/>
            <a:ext cx="4032000" cy="2603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03d2fd08204b.jpg"/>
          <p:cNvPicPr/>
          <p:nvPr/>
        </p:nvPicPr>
        <p:blipFill>
          <a:blip r:embed="rId3"/>
          <a:stretch/>
        </p:blipFill>
        <p:spPr>
          <a:xfrm rot="20498400">
            <a:off x="480600" y="153180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789000">
            <a:off x="5292360" y="1699920"/>
            <a:ext cx="3668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graf_b2.jpg"/>
          <p:cNvPicPr/>
          <p:nvPr/>
        </p:nvPicPr>
        <p:blipFill>
          <a:blip r:embed="rId2"/>
          <a:stretch/>
        </p:blipFill>
        <p:spPr>
          <a:xfrm rot="1158600">
            <a:off x="4788000" y="2636640"/>
            <a:ext cx="3960720" cy="2041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95280" y="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упп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овременного искусств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фитте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рейк-дансе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современные художни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ульпторы, музыкальные групп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887640" cy="2524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0" y="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личающиеся определенны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ировоззрением и образом жизни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ипп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ндианис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стам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8" descr="Pink Scene Hair Style.jpg"/>
          <p:cNvPicPr/>
          <p:nvPr/>
        </p:nvPicPr>
        <p:blipFill>
          <a:blip r:embed="rId2"/>
          <a:stretch/>
        </p:blipFill>
        <p:spPr>
          <a:xfrm rot="777600">
            <a:off x="6588000" y="620640"/>
            <a:ext cx="2089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19120.jpg"/>
          <p:cNvPicPr/>
          <p:nvPr/>
        </p:nvPicPr>
        <p:blipFill>
          <a:blip r:embed="rId3"/>
          <a:stretch/>
        </p:blipFill>
        <p:spPr>
          <a:xfrm>
            <a:off x="395280" y="62064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1739.jpg"/>
          <p:cNvPicPr/>
          <p:nvPr/>
        </p:nvPicPr>
        <p:blipFill>
          <a:blip r:embed="rId4"/>
          <a:stretch/>
        </p:blipFill>
        <p:spPr>
          <a:xfrm rot="19984800">
            <a:off x="179280" y="4220640"/>
            <a:ext cx="2808360" cy="2008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190-1.jpg"/>
          <p:cNvPicPr/>
          <p:nvPr/>
        </p:nvPicPr>
        <p:blipFill>
          <a:blip r:embed="rId5"/>
          <a:stretch/>
        </p:blipFill>
        <p:spPr>
          <a:xfrm>
            <a:off x="3708360" y="2781360"/>
            <a:ext cx="1758960" cy="2663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95280" y="0"/>
            <a:ext cx="831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спортом: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портивные фан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лл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ейт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рит – байк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йке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6" descr="690178c6a5172a320599f0f114df7d16.jpg"/>
          <p:cNvPicPr/>
          <p:nvPr/>
        </p:nvPicPr>
        <p:blipFill>
          <a:blip r:embed="rId2"/>
          <a:stretch/>
        </p:blipFill>
        <p:spPr>
          <a:xfrm>
            <a:off x="1547640" y="4176720"/>
            <a:ext cx="3672000" cy="2446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picture_37.jpeg"/>
          <p:cNvPicPr/>
          <p:nvPr/>
        </p:nvPicPr>
        <p:blipFill>
          <a:blip r:embed="rId3"/>
          <a:stretch/>
        </p:blipFill>
        <p:spPr>
          <a:xfrm rot="20732400">
            <a:off x="324000" y="1341360"/>
            <a:ext cx="3082680" cy="2632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1st-22-china-costarica-chinese-fan.jpg"/>
          <p:cNvPicPr/>
          <p:nvPr/>
        </p:nvPicPr>
        <p:blipFill>
          <a:blip r:embed="rId4"/>
          <a:stretch/>
        </p:blipFill>
        <p:spPr>
          <a:xfrm rot="849600">
            <a:off x="6372000" y="404640"/>
            <a:ext cx="215100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68360" y="1890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 играми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уходом в другую реальность: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ролеви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олкиен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ей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7" descr="r031.jpg"/>
          <p:cNvPicPr/>
          <p:nvPr/>
        </p:nvPicPr>
        <p:blipFill>
          <a:blip r:embed="rId2"/>
          <a:stretch/>
        </p:blipFill>
        <p:spPr>
          <a:xfrm rot="20875800">
            <a:off x="583920" y="277452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673800" cy="2449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46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14200"/>
            <a:ext cx="8715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язанные с музыкой, музыкальные фанаты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оследователи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культур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узыкальных стилей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к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с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н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о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эпе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анс- культура.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6" descr="b01167350881.jpg"/>
          <p:cNvPicPr/>
          <p:nvPr/>
        </p:nvPicPr>
        <p:blipFill>
          <a:blip r:embed="rId2"/>
          <a:stretch/>
        </p:blipFill>
        <p:spPr>
          <a:xfrm rot="291600">
            <a:off x="6227280" y="1197000"/>
            <a:ext cx="2648160" cy="2881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57494289_1183156657_07.jpg"/>
          <p:cNvPicPr/>
          <p:nvPr/>
        </p:nvPicPr>
        <p:blipFill>
          <a:blip r:embed="rId3"/>
          <a:stretch/>
        </p:blipFill>
        <p:spPr>
          <a:xfrm rot="20965800">
            <a:off x="395280" y="386028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25:05Z</dcterms:created>
  <dc:creator>Пользователь</dc:creator>
  <dc:description/>
  <dc:language>en-US</dc:language>
  <cp:lastModifiedBy>User</cp:lastModifiedBy>
  <dcterms:modified xsi:type="dcterms:W3CDTF">2012-11-19T20:04:25Z</dcterms:modified>
  <cp:revision>35</cp:revision>
  <dc:subject/>
  <dc:title>Слайд 1</dc:title>
</cp:coreProperties>
</file>