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B9BA-7308-4B61-B9DB-A0F9FD7F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2D7A-21BF-495E-A6B7-9338909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5CAD-68EA-4053-AF8C-B6534A1E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AC4C-79E9-4905-88DD-967DB876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6EDF-DDCD-411E-95B5-D08E4A29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273C-F8A4-492E-AABC-73703EBF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B52-333B-4046-9C6D-06874DF9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4614-6D1D-4FF6-91BB-2FBBBFA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041-AB9D-40C0-B01C-EFFDA1A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F669-A536-43A5-AB13-0D1A695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0C6C-9F91-4BC6-90B9-28312FB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D98A-1F61-457D-9CFD-2755624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A4F0-54F7-4EC8-8575-5DBE7B16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7B60-0C06-4160-8AF8-E946E08D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7173-B80B-457D-9D49-9168C9B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DBED-3B48-4579-BAAF-F476D394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4553-955F-4097-BF54-DEFC949E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959A-7E08-45AA-9F96-77DFFD1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ABA0-90DB-4934-A6D8-B1F7BDE3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8BAB-1A9F-4797-AB5A-73DD7B5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45B2-A86D-493E-8797-FFA0AE4F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E1B4-B13C-4A24-90C3-9A67D85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B529-8340-41A0-94E7-FA55106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DE4B-83C0-4401-909D-F68A6D2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527C-80DD-4E62-B052-8852362A3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187-BAA5-452F-BF04-7408CD9C5E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6"/>
          <p:cNvSpPr/>
          <p:nvPr/>
        </p:nvSpPr>
        <p:spPr>
          <a:xfrm>
            <a:off x="2227320" y="2708280"/>
            <a:ext cx="691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77db"/>
                </a:solidFill>
                <a:latin typeface="Monotype Corsiva"/>
              </a:rPr>
              <a:t>Скрытая опасность неформальных объединений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11280" y="37893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977db"/>
                </a:solidFill>
                <a:latin typeface="Monotype Corsiva"/>
              </a:rPr>
              <a:t>Есть ли она и как это определи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4064760" y="4653000"/>
            <a:ext cx="48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нстрационно-обучающие 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внеклассной работе  «Уроки толерант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 Овчарова О.Э.-учитель хим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ный руководитель 11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БОУ СОШ № 466 Курортн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61560" y="6308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549360"/>
            <a:ext cx="770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467e0"/>
                  </a:solidFill>
                  <a:miter/>
                </a:ln>
                <a:solidFill>
                  <a:srgbClr val="6467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СТРЕМИЗМ</a:t>
            </a:r>
            <a:endParaRPr b="1" lang="en-US" sz="1800" spc="1" strike="noStrike">
              <a:ln w="12600">
                <a:solidFill>
                  <a:srgbClr val="6467e0"/>
                </a:solidFill>
                <a:miter/>
              </a:ln>
              <a:solidFill>
                <a:srgbClr val="6467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467e0"/>
                  </a:solidFill>
                  <a:miter/>
                </a:ln>
                <a:solidFill>
                  <a:srgbClr val="6467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АСТЬ II</a:t>
            </a:r>
            <a:endParaRPr b="1" lang="en-US" sz="1800" spc="1" strike="noStrike">
              <a:ln w="12600">
                <a:solidFill>
                  <a:srgbClr val="6467e0"/>
                </a:solidFill>
                <a:miter/>
              </a:ln>
              <a:solidFill>
                <a:srgbClr val="6467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250920" y="18900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раждебно или асоциально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настроенные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нки, скинхэды, Р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опники, люб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цис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ериодически: футбольные фанаты и металлист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Рисунок 6" descr="gop.jpg"/>
          <p:cNvPicPr/>
          <p:nvPr/>
        </p:nvPicPr>
        <p:blipFill>
          <a:blip r:embed="rId2"/>
          <a:stretch/>
        </p:blipFill>
        <p:spPr>
          <a:xfrm>
            <a:off x="324000" y="2924280"/>
            <a:ext cx="3565440" cy="35654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IMG_2005-10-05-001.jpg"/>
          <p:cNvPicPr/>
          <p:nvPr/>
        </p:nvPicPr>
        <p:blipFill>
          <a:blip r:embed="rId3"/>
          <a:stretch/>
        </p:blipFill>
        <p:spPr>
          <a:xfrm rot="424800">
            <a:off x="4932000" y="2565000"/>
            <a:ext cx="3830760" cy="2468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57" name="Содержимое 3" descr="18_04_6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396720" y="981000"/>
            <a:ext cx="5040000" cy="4751640"/>
          </a:xfrm>
          <a:prstGeom prst="irregularSeal2">
            <a:avLst/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869800">
            <a:off x="128520" y="2622960"/>
            <a:ext cx="36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Все неформальные подростково-молодёжные объединения, можно отнести к категории досуговых, то есть ориентированных, главным образом, на свободное времяпрепров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189000"/>
            <a:ext cx="65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ледует различать группировки экстремистской направленности от неформальных молодёжных объеди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748800">
            <a:off x="3697200" y="2082960"/>
            <a:ext cx="5435640" cy="3995640"/>
          </a:xfrm>
          <a:prstGeom prst="irregularSeal2">
            <a:avLst/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 rot="1287600">
            <a:off x="4168080" y="2976120"/>
            <a:ext cx="4863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Экстремистские (радикальные) организации обычно декларируют, против чего они борются, и какие законные или незаконные методы они собираются использо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64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1"/>
          <p:cNvPicPr/>
          <p:nvPr/>
        </p:nvPicPr>
        <p:blipFill>
          <a:blip r:embed="rId2"/>
          <a:stretch/>
        </p:blipFill>
        <p:spPr>
          <a:xfrm rot="20496000">
            <a:off x="395280" y="692280"/>
            <a:ext cx="4195800" cy="2990880"/>
          </a:xfrm>
          <a:prstGeom prst="rect">
            <a:avLst/>
          </a:prstGeom>
          <a:ln w="9360">
            <a:solidFill>
              <a:srgbClr val="787e8a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547640" y="3429000"/>
            <a:ext cx="614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пециалисты отмечаю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что наиболее уязвимой средой для проникновения идей экстремизма являются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одро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 ещё несформировавшейся и легко поддающейся влиянию психи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1258920" y="549360"/>
            <a:ext cx="69292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дним из самых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положительных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моментов существования субкультур является то, что благодаря принадлежности к социальному меньшинству участники субкультур могут испытывать гораздо более ощутимый уровень доверия к таким же, как о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70" name="Содержимое 3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1116000" y="189000"/>
            <a:ext cx="691200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Отрицательным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моментом существования субкультур является то, что в силу определенных социальных запретов в жизни часто происходят акты недопонимания между представителями различных субкультур или между участниками субкультур и людьми, не причисляющими себя к какой либо групп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73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468360" y="476280"/>
            <a:ext cx="5294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ак ли страшен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неформал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2771640" y="2492280"/>
            <a:ext cx="30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ИЛ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042920" y="4437000"/>
            <a:ext cx="55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у страха глаза велики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78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3" descr=""/>
          <p:cNvPicPr/>
          <p:nvPr/>
        </p:nvPicPr>
        <p:blipFill>
          <a:blip r:embed="rId2"/>
          <a:stretch/>
        </p:blipFill>
        <p:spPr>
          <a:xfrm>
            <a:off x="0" y="1628640"/>
            <a:ext cx="9077400" cy="411012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5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5394240" cy="700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82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5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5394600" cy="7077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 3" descr=""/>
          <p:cNvPicPr/>
          <p:nvPr/>
        </p:nvPicPr>
        <p:blipFill>
          <a:blip r:embed="rId3"/>
          <a:stretch/>
        </p:blipFill>
        <p:spPr>
          <a:xfrm>
            <a:off x="66600" y="692280"/>
            <a:ext cx="9077400" cy="6877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86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9640" y="189000"/>
            <a:ext cx="604836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Жизнь наша устроена на аналогиях, упорядочивании и систематизации. Тот факт, что в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обществе появилась потребность в объединении,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 говорит, несомненно, о том, что общество развивается и переживает новый эволюционный этап своего развития. Для того, чтобы социум шел по пути прогресса необходимо осознание каждым его членом значимости субкультур. Только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через толерантность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 и взаимопонимание мы можем получить надежду на то, что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перемены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, сквозь которые проходит человечество,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будут носить положительный характер.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43600" y="27082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wikipedi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268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http://dic.academic.ru/dic.nsf/polit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680" y="3429000"/>
            <a:ext cx="59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http://www.ozmo.ru/index.php/bezopasnost/extremi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4520" y="1916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http://www.bibliofond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440" y="3933720"/>
            <a:ext cx="81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http://images.yandex.ru/yandsearch?text=экстремизм в молодеж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0160" y="4724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http://alt-sector.net/subkultu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2880" y="551664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http://molodej.org/cubkultury-et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БИБЛИОГРАФ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05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2602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Кто такие неформалы и почему они объединяют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95280" y="1557360"/>
            <a:ext cx="6840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аждому из нас случалось идти по улице, ехать в метро или просто смотреть телевизор и видеть людей, которые чем-то непохожи на других. У кого-то на голове ирокез, кто-то весь в металле, а кто-то в черной коже проносится мимо вас на мотоцикле. Чаще всего это и есть неформалы – представители современных субкультур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71640" y="1268280"/>
            <a:ext cx="74898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ПАСИБО ЗА ВНИМАНИЕ !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09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395280" y="571680"/>
            <a:ext cx="63914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Все молодежные объединения можно разделить на следующие групп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24000" y="18900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оциально-активные: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общества защиты истории и окружающей среды, пациф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6" descr="21855304adc6.jpg"/>
          <p:cNvPicPr/>
          <p:nvPr/>
        </p:nvPicPr>
        <p:blipFill>
          <a:blip r:embed="rId2"/>
          <a:stretch/>
        </p:blipFill>
        <p:spPr>
          <a:xfrm>
            <a:off x="1835280" y="4076640"/>
            <a:ext cx="4032000" cy="2603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03d2fd08204b.jpg"/>
          <p:cNvPicPr/>
          <p:nvPr/>
        </p:nvPicPr>
        <p:blipFill>
          <a:blip r:embed="rId3"/>
          <a:stretch/>
        </p:blipFill>
        <p:spPr>
          <a:xfrm rot="20498400">
            <a:off x="480600" y="1531800"/>
            <a:ext cx="316728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789000">
            <a:off x="5292360" y="1699920"/>
            <a:ext cx="3668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graf_b2.jpg"/>
          <p:cNvPicPr/>
          <p:nvPr/>
        </p:nvPicPr>
        <p:blipFill>
          <a:blip r:embed="rId2"/>
          <a:stretch/>
        </p:blipFill>
        <p:spPr>
          <a:xfrm rot="1158600">
            <a:off x="4788000" y="2636640"/>
            <a:ext cx="3960720" cy="2041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95280" y="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упп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овременного искусств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фиттер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рейк-дансер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современные художни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ульпторы, музыкальные групп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887640" cy="2524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0" y="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личающиеся определенным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мировоззрением и образом жизни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о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хипп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ндианис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н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стам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8" descr="Pink Scene Hair Style.jpg"/>
          <p:cNvPicPr/>
          <p:nvPr/>
        </p:nvPicPr>
        <p:blipFill>
          <a:blip r:embed="rId2"/>
          <a:stretch/>
        </p:blipFill>
        <p:spPr>
          <a:xfrm rot="777600">
            <a:off x="6588000" y="620640"/>
            <a:ext cx="2089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19120.jpg"/>
          <p:cNvPicPr/>
          <p:nvPr/>
        </p:nvPicPr>
        <p:blipFill>
          <a:blip r:embed="rId3"/>
          <a:stretch/>
        </p:blipFill>
        <p:spPr>
          <a:xfrm>
            <a:off x="395280" y="62064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1739.jpg"/>
          <p:cNvPicPr/>
          <p:nvPr/>
        </p:nvPicPr>
        <p:blipFill>
          <a:blip r:embed="rId4"/>
          <a:stretch/>
        </p:blipFill>
        <p:spPr>
          <a:xfrm rot="19984800">
            <a:off x="179280" y="4220640"/>
            <a:ext cx="2808360" cy="2008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190-1.jpg"/>
          <p:cNvPicPr/>
          <p:nvPr/>
        </p:nvPicPr>
        <p:blipFill>
          <a:blip r:embed="rId5"/>
          <a:stretch/>
        </p:blipFill>
        <p:spPr>
          <a:xfrm>
            <a:off x="3708360" y="2781360"/>
            <a:ext cx="1758960" cy="2663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95280" y="0"/>
            <a:ext cx="831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язанные с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портом: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портивные фан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лл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ейт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рит – байк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айкер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6" descr="690178c6a5172a320599f0f114df7d16.jpg"/>
          <p:cNvPicPr/>
          <p:nvPr/>
        </p:nvPicPr>
        <p:blipFill>
          <a:blip r:embed="rId2"/>
          <a:stretch/>
        </p:blipFill>
        <p:spPr>
          <a:xfrm>
            <a:off x="1547640" y="4176720"/>
            <a:ext cx="3672000" cy="2446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picture_37.jpeg"/>
          <p:cNvPicPr/>
          <p:nvPr/>
        </p:nvPicPr>
        <p:blipFill>
          <a:blip r:embed="rId3"/>
          <a:stretch/>
        </p:blipFill>
        <p:spPr>
          <a:xfrm rot="20732400">
            <a:off x="324000" y="1341360"/>
            <a:ext cx="3082680" cy="2632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1st-22-china-costarica-chinese-fan.jpg"/>
          <p:cNvPicPr/>
          <p:nvPr/>
        </p:nvPicPr>
        <p:blipFill>
          <a:blip r:embed="rId4"/>
          <a:stretch/>
        </p:blipFill>
        <p:spPr>
          <a:xfrm rot="849600">
            <a:off x="6372000" y="404640"/>
            <a:ext cx="2151000" cy="3214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68360" y="18900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язанные с играми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уходом в другую реальность: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ролеви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олкиенис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ей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7" descr="r031.jpg"/>
          <p:cNvPicPr/>
          <p:nvPr/>
        </p:nvPicPr>
        <p:blipFill>
          <a:blip r:embed="rId2"/>
          <a:stretch/>
        </p:blipFill>
        <p:spPr>
          <a:xfrm rot="20875800">
            <a:off x="583920" y="277452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673800" cy="2449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46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14200"/>
            <a:ext cx="8715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язанные с музыкой, музыкальные фанаты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оследователи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культур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музыкальных стилей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к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еталлис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н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о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эп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анс- культура.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6" descr="b01167350881.jpg"/>
          <p:cNvPicPr/>
          <p:nvPr/>
        </p:nvPicPr>
        <p:blipFill>
          <a:blip r:embed="rId2"/>
          <a:stretch/>
        </p:blipFill>
        <p:spPr>
          <a:xfrm rot="291600">
            <a:off x="6227280" y="1197000"/>
            <a:ext cx="2648160" cy="28814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57494289_1183156657_07.jpg"/>
          <p:cNvPicPr/>
          <p:nvPr/>
        </p:nvPicPr>
        <p:blipFill>
          <a:blip r:embed="rId3"/>
          <a:stretch/>
        </p:blipFill>
        <p:spPr>
          <a:xfrm rot="20965800">
            <a:off x="395280" y="386028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6:25:05Z</dcterms:created>
  <dc:creator>Пользователь</dc:creator>
  <dc:description/>
  <dc:language>en-US</dc:language>
  <cp:lastModifiedBy>User</cp:lastModifiedBy>
  <dcterms:modified xsi:type="dcterms:W3CDTF">2012-11-19T20:04:25Z</dcterms:modified>
  <cp:revision>35</cp:revision>
  <dc:subject/>
  <dc:title>Слайд 1</dc:title>
</cp:coreProperties>
</file>