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C47-E1C3-4972-BB13-692949A2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7F1-AA19-46A1-BBED-85A3A4AC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FF1-9403-4C6C-B356-ED8EE54D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D9B7-CA73-427D-BDF1-C04D6FC2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20E2-56D4-4871-A242-AD4FA3BB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BBA0-E249-43E5-A916-38A5D013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6D4F-3A00-4F2E-BB90-7EE10717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1944-EE00-4718-B524-CD6FE2B6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397D-BA6E-4BF7-8EAD-4DBA36B0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8EFF-D5BF-4562-A969-32C3553F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2123-E3E2-40DC-8C12-E0AFE51D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826-76FB-46D9-8E5B-65EEBF31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8546-10D8-4CDA-B0F2-7427FF90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35B5-E1F2-4563-9C9B-DF5DC744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44D7-0931-438A-9C3A-440BD8EA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EB24-CFAF-4FF2-AE02-28A094F4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99DD-200D-4A92-98E5-4E582B03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A2C33-0F56-4235-8E74-46761823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60B02-D36F-4A9E-BFCD-CF97F02D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3C71C-024E-4471-B7B6-612F0D05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DB7F3-AB20-41FD-9C3D-F637005D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83031-4F07-4326-A301-132FB6A7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763-C4E4-468E-A4C2-FA2B9D41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1DD1-FB39-4742-A227-737F5299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0AF98-92DD-4E36-AA09-6E38B0F9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6D7DE-EBEA-4CD0-9295-3FEF6A20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62EC1-C884-41F9-81E9-6927296E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FFF51-E528-407D-8738-C908665F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55683-4153-49A1-9E97-E91DC171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60A8F-EA02-44ED-AC32-B06CC583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A6027-00C4-406C-977D-EA39141B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95BB6-533F-4A5F-88AC-48FE197D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7C2D1-AEFF-4A1A-9913-2A1B92A7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EBE-F9AF-4CD1-BF52-3668E1E8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E2ED9-5A65-4528-8390-648DDDC5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0254D-338B-43B7-8913-54AA2C80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8174C-A745-499D-ACF8-A50CD6DE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EF02B-34E3-4F65-8E0D-0B87BD0E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688D4-EB8A-4695-9869-442C0027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7A645-6773-49CF-A08E-7B7E8EB3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6DC6F-4729-409B-B8B8-F91386A0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5A06A-7D7F-4926-9C09-6D07400F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8AF95-36DA-4FBE-B1B2-13996C77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97AA1-E152-4973-B626-52911024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62F1-58A9-4D50-B936-5143EE55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21D47-95BF-4029-84ED-4F0D073A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8CFE0-E744-40BC-A26B-EBCB9D84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F6518-3C87-4D20-AD79-766E4915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23AA0-0028-486B-BF76-DF5ECD2C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0BD12-32FE-47C4-9D8C-255CBEC9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9181B-F639-4634-9E10-68A973C6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8F488-A062-4444-98F7-99C7F8FE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CA8A6-830B-43D9-BC65-04C22123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84A0C-26D3-45D7-8898-AA687BEA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A44A9-5B03-46C7-B8CC-47C0BB00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788-F5B0-4B73-9F9B-20B1C10D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79E46-97FA-4F32-A204-E2223B7C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8043A-CAF7-441A-AFC1-8AAD4483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2DD52-C86E-41EC-A195-F30AD323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11BCD-81AD-4C06-921D-B06FDB3C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A7560-2373-4BB2-85FC-D05FF4C0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BE959-D984-4E13-9226-7C76D352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AFF4A-FB9B-4B0B-AEF9-5BF21A26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EF28B-2316-4C7A-90CB-E666E146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74A43-2E08-4E2E-9C03-D6D118E3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C35F9-1859-4175-9C77-157569C3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92E-E178-4593-83EA-3892A374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0EDE1-8B98-4ADB-950B-EC6C270A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E7319-BFD8-4480-A974-12A1715D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D75A9-23EC-4395-8982-4862FA79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422C5-4E85-4EF5-91E3-7A3F96C2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58C4E-BE1B-492D-BDB7-EDBB307C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FCF38-F15C-4333-900A-D823954D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BC38C-F8D8-4A96-ACBE-306F4853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190F0-B642-48C3-92D1-A8906716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DF6CB-F7A0-41BD-BF41-B34E5ACF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0000C-0400-4802-84F6-6BBA9311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C4A-2343-4DA9-9A95-A1BC080A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9B76F-F2C0-448C-AB29-18C15FA9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98FD6-39F7-4615-A7BF-11A42977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F7B9F-A804-4903-81AE-C153C35F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BCD02-4025-4A8E-B55F-EBD17AFD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E05DD-9A4F-45C3-A749-9F7C2C21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1CCBA-58AC-4465-A52F-E9EF97B3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BD629-B4C1-462A-A31C-0BA40813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CB432-90D3-4A8C-A64D-5207627F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CE470-FB53-45B7-80BE-10087186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5047B-A6E6-4EBD-94CD-CE47E777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D06-311D-4A90-B384-F1127180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512E4-3905-4F80-A198-D02B3C0D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5C681-683E-405B-B973-518AC51A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57A9D-8C18-44FB-8BA9-18C58719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F747E-C96A-42A5-A008-444A067E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F6115-D3C1-4538-96E6-F9B0BC97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A8AED-78DF-4382-A49F-4D23F4E7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5D0F6-20B2-45C7-B6AB-0BD2BE4E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099B-90B5-4D18-B2E1-BDBD2BE445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7CB8-EE08-44E5-BA0A-38B2460A94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AF03-481F-4921-8694-23F6F9B1CF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2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545B-7454-4430-AE16-099FF607BDE3}" type="slidenum"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70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F332-3221-4DA2-9C3D-5A7A7C1EDDCE}" type="slidenum"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21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59B9-4CBB-428F-821E-97FBD908B633}" type="slidenum"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D6F4-BEDB-4D7E-A8A4-D223C0E05A13}" type="slidenum"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79B9-14FE-4C90-91B9-C0D8A19B8CEC}" type="slidenum"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 rot="20901000">
            <a:off x="622080" y="152964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7030a0"/>
                </a:solidFill>
                <a:latin typeface="Verdana"/>
              </a:rPr>
              <a:t>В МИРЕ ФРАЗЕОЛОГИЗМОВ </a:t>
            </a:r>
            <a:br>
              <a:rPr sz="4100"/>
            </a:br>
            <a:endParaRPr b="1" lang="en-US" sz="41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140360" y="4436640"/>
            <a:ext cx="4248000" cy="17528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Русский язы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1"/>
          <p:cNvSpPr/>
          <p:nvPr/>
        </p:nvSpPr>
        <p:spPr>
          <a:xfrm>
            <a:off x="1297080" y="907920"/>
            <a:ext cx="35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Verdana"/>
              </a:rPr>
              <a:t>Угадай фразеолог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2233800" cy="21765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2"/>
          <a:stretch/>
        </p:blipFill>
        <p:spPr>
          <a:xfrm>
            <a:off x="6227640" y="3933720"/>
            <a:ext cx="2303640" cy="2210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"/>
          <p:cNvPicPr/>
          <p:nvPr/>
        </p:nvPicPr>
        <p:blipFill>
          <a:blip r:embed="rId3"/>
          <a:stretch/>
        </p:blipFill>
        <p:spPr>
          <a:xfrm>
            <a:off x="900000" y="4076640"/>
            <a:ext cx="2714760" cy="19098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38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7" descr="C:\Users\Галина\Desktop\на всех.jpg"/>
          <p:cNvPicPr/>
          <p:nvPr/>
        </p:nvPicPr>
        <p:blipFill>
          <a:blip r:embed="rId4"/>
          <a:stretch/>
        </p:blipFill>
        <p:spPr>
          <a:xfrm>
            <a:off x="3995640" y="3789360"/>
            <a:ext cx="1809720" cy="24382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394" name="Picture 18" descr="C:\Users\Галина\Desktop\наломать.jpg"/>
          <p:cNvPicPr/>
          <p:nvPr/>
        </p:nvPicPr>
        <p:blipFill>
          <a:blip r:embed="rId5"/>
          <a:stretch/>
        </p:blipFill>
        <p:spPr>
          <a:xfrm>
            <a:off x="3492360" y="1557360"/>
            <a:ext cx="2266920" cy="17143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395" name="Picture 19" descr="C:\Users\Галина\Desktop\спустя.jpg"/>
          <p:cNvPicPr/>
          <p:nvPr/>
        </p:nvPicPr>
        <p:blipFill>
          <a:blip r:embed="rId6"/>
          <a:stretch/>
        </p:blipFill>
        <p:spPr>
          <a:xfrm>
            <a:off x="6300720" y="1125360"/>
            <a:ext cx="1895400" cy="24004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2"/>
          <p:cNvSpPr/>
          <p:nvPr/>
        </p:nvSpPr>
        <p:spPr>
          <a:xfrm>
            <a:off x="1853280" y="2060640"/>
            <a:ext cx="52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"/>
          <p:cNvSpPr/>
          <p:nvPr/>
        </p:nvSpPr>
        <p:spPr>
          <a:xfrm>
            <a:off x="539640" y="983160"/>
            <a:ext cx="7993080" cy="825480"/>
          </a:xfrm>
          <a:prstGeom prst="rect">
            <a:avLst/>
          </a:prstGeom>
          <a:noFill/>
          <a:ln w="28440">
            <a:solidFill>
              <a:srgbClr val="a3b6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 Narrow"/>
                <a:ea typeface="Times New Roman"/>
              </a:rPr>
              <a:t>Фразеологизмы или фразеологические обороты - целостные (устойчивые) сочетания слов, постоянные по составу и зна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"/>
          <p:cNvSpPr/>
          <p:nvPr/>
        </p:nvSpPr>
        <p:spPr>
          <a:xfrm>
            <a:off x="1130400" y="141300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3"/>
          <p:cNvSpPr/>
          <p:nvPr/>
        </p:nvSpPr>
        <p:spPr>
          <a:xfrm>
            <a:off x="755640" y="2205000"/>
            <a:ext cx="4572000" cy="14655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Verdana"/>
              </a:rPr>
              <a:t>С конца 18 века они объяснялись в специальных сборниках и толковых словарях под различными названиями: крылатые выражения, афоризмы, идиомы, пословицы и погово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"/>
          <p:cNvSpPr/>
          <p:nvPr/>
        </p:nvSpPr>
        <p:spPr>
          <a:xfrm>
            <a:off x="755640" y="4508640"/>
            <a:ext cx="4608360" cy="119124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Verdana"/>
              </a:rPr>
              <a:t>М.В.Ломоносов, составляя план словаря русского литературного языка, указывал, что в него должны войти «фразесы», «реч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7" descr="http://rupoem.ru/images/lomonosov.jpg"/>
          <p:cNvPicPr/>
          <p:nvPr/>
        </p:nvPicPr>
        <p:blipFill>
          <a:blip r:embed="rId1"/>
          <a:stretch/>
        </p:blipFill>
        <p:spPr>
          <a:xfrm>
            <a:off x="6084720" y="2637000"/>
            <a:ext cx="2244960" cy="263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826920" y="909000"/>
            <a:ext cx="7490160" cy="459720"/>
          </a:xfrm>
          <a:prstGeom prst="rect">
            <a:avLst/>
          </a:prstGeom>
          <a:solidFill>
            <a:srgbClr val="ffffff"/>
          </a:solidFill>
          <a:ln w="42480">
            <a:solidFill>
              <a:srgbClr val="d7d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c00000"/>
                </a:solidFill>
                <a:latin typeface="Cambria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Фразеологические словари русского литературного языка</a:t>
            </a:r>
            <a:r>
              <a:rPr b="0" lang="ru-RU" sz="2400" spc="-1" strike="noStrike">
                <a:solidFill>
                  <a:srgbClr val="c00000"/>
                </a:solidFill>
                <a:latin typeface="Cambria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http://t0.gstatic.com/images?q=tbn:ANd9GcRjoZPHGaKPshp7da7UkHIJoGX6XgYVvnt6t788DsKrwc1c2MbP47rVog"/>
          <p:cNvPicPr/>
          <p:nvPr/>
        </p:nvPicPr>
        <p:blipFill>
          <a:blip r:embed="rId1"/>
          <a:stretch/>
        </p:blipFill>
        <p:spPr>
          <a:xfrm>
            <a:off x="2771640" y="1484280"/>
            <a:ext cx="1584360" cy="2449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http://t2.gstatic.com/images?q=tbn:ANd9GcTOX7x2DvEOSU0ObkaN0CtLd2qfYyRKZ8NeDm8H1LqbsQppPtPj9UzQNw"/>
          <p:cNvPicPr/>
          <p:nvPr/>
        </p:nvPicPr>
        <p:blipFill>
          <a:blip r:embed="rId2"/>
          <a:stretch/>
        </p:blipFill>
        <p:spPr>
          <a:xfrm>
            <a:off x="5003640" y="1628640"/>
            <a:ext cx="1468440" cy="1916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http://t1.gstatic.com/images?q=tbn:ANd9GcSepMr-Rgukh5aHMVFHW55wkSlm2FJzcZS8yrYc2uq-hS3FbLDd4wR6y_Bc"/>
          <p:cNvPicPr/>
          <p:nvPr/>
        </p:nvPicPr>
        <p:blipFill>
          <a:blip r:embed="rId3"/>
          <a:stretch/>
        </p:blipFill>
        <p:spPr>
          <a:xfrm>
            <a:off x="1258920" y="3930480"/>
            <a:ext cx="1441440" cy="2186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http://t1.gstatic.com/images?q=tbn:ANd9GcSXZG4HhqwOm01eGGzlb4DL2tGQ2rQa_ZzDeSEZ-uUjp_yfh-KY9alOzLGE"/>
          <p:cNvPicPr/>
          <p:nvPr/>
        </p:nvPicPr>
        <p:blipFill>
          <a:blip r:embed="rId4"/>
          <a:stretch/>
        </p:blipFill>
        <p:spPr>
          <a:xfrm>
            <a:off x="3760920" y="3933720"/>
            <a:ext cx="1674720" cy="2224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2" descr="http://t3.gstatic.com/images?q=tbn:ANd9GcT7aEdZAWBdcIMA6ds6_5esfvaIwId9oJMtlGGVN0eeB9HeGlyHTyPl03I"/>
          <p:cNvPicPr/>
          <p:nvPr/>
        </p:nvPicPr>
        <p:blipFill>
          <a:blip r:embed="rId5"/>
          <a:stretch/>
        </p:blipFill>
        <p:spPr>
          <a:xfrm>
            <a:off x="7164360" y="1700280"/>
            <a:ext cx="1309680" cy="2023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4" descr="http://t2.gstatic.com/images?q=tbn:ANd9GcQIyybxxJKyhWUN_AhEAOaQA2cEYUl1xfpec0XMf3tVeCnxpGXkj_rRzg"/>
          <p:cNvPicPr/>
          <p:nvPr/>
        </p:nvPicPr>
        <p:blipFill>
          <a:blip r:embed="rId6"/>
          <a:stretch/>
        </p:blipFill>
        <p:spPr>
          <a:xfrm>
            <a:off x="6300720" y="4024440"/>
            <a:ext cx="1430280" cy="2212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6" descr="http://t1.gstatic.com/images?q=tbn:ANd9GcSXdthLXabzZSW30rAMQbua5Wj6BbiEoai7FlzXZhJegp9iXbHFYu4I6uFv"/>
          <p:cNvPicPr/>
          <p:nvPr/>
        </p:nvPicPr>
        <p:blipFill>
          <a:blip r:embed="rId7"/>
          <a:stretch/>
        </p:blipFill>
        <p:spPr>
          <a:xfrm>
            <a:off x="826920" y="1708200"/>
            <a:ext cx="1441440" cy="1950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2916360" y="693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Типы фразеолог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611280" y="1522440"/>
            <a:ext cx="4032000" cy="13107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Фразеологическое сращение.</a:t>
            </a:r>
            <a:r>
              <a:rPr b="0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Например: водить за нос </a:t>
            </a:r>
            <a:r>
              <a:rPr b="0" lang="ru-RU" sz="1600" spc="-1" strike="noStrike">
                <a:solidFill>
                  <a:srgbClr val="660066"/>
                </a:solidFill>
                <a:latin typeface="Cambria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 обманывать, седьмая вода на киселе </a:t>
            </a:r>
            <a:r>
              <a:rPr b="0" lang="ru-RU" sz="1600" spc="-1" strike="noStrike">
                <a:solidFill>
                  <a:srgbClr val="660066"/>
                </a:solidFill>
                <a:latin typeface="Cambria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 дальнее родство, чёрная кошка пробежала </a:t>
            </a:r>
            <a:r>
              <a:rPr b="0" lang="ru-RU" sz="1600" spc="-1" strike="noStrike">
                <a:solidFill>
                  <a:srgbClr val="660066"/>
                </a:solidFill>
                <a:latin typeface="Cambria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 поссорились, во весь опор </a:t>
            </a:r>
            <a:r>
              <a:rPr b="0" lang="ru-RU" sz="1600" spc="-1" strike="noStrike">
                <a:solidFill>
                  <a:srgbClr val="660066"/>
                </a:solidFill>
                <a:latin typeface="Cambria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 очень быстр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708360" y="2934720"/>
            <a:ext cx="4608720" cy="20408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Фразеологическ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Например: белая ворона </a:t>
            </a: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о человеке, резко выделяющемся среди других, игра не стоит свеч </a:t>
            </a: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затрачиваемые средства не оправдываются, плыть по течению </a:t>
            </a: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пассивно подчиняться обстоятельствам, делать из мухи слона </a:t>
            </a: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предавать незначительному большое значение, плясать под чужую дудку </a:t>
            </a: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делать так, как кому-то удоб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4211640" y="5162040"/>
            <a:ext cx="4176720" cy="10674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Фразеологические сочетания.</a:t>
            </a:r>
            <a:r>
              <a:rPr b="0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Например: разинуть рот (варежку), опрометью мчаться (кинуться), оказать влияние (поддержку, помощь, услуг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http://t3.gstatic.com/images?q=tbn:ANd9GcQD_Fc9BupwKyeXkZLv4q7UGu9chjKfwP59Rs4iyKSlDtsHL-rUZvHMqQ"/>
          <p:cNvPicPr/>
          <p:nvPr/>
        </p:nvPicPr>
        <p:blipFill>
          <a:blip r:embed="rId1"/>
          <a:stretch/>
        </p:blipFill>
        <p:spPr>
          <a:xfrm>
            <a:off x="5651640" y="1341360"/>
            <a:ext cx="2305080" cy="1243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http://t2.gstatic.com/images?q=tbn:ANd9GcQk-sryM_OI6eLHO5qPS9kPsOgDTvB07h9bwyIh6F3nwQZOy5AIA4aH-A"/>
          <p:cNvPicPr/>
          <p:nvPr/>
        </p:nvPicPr>
        <p:blipFill>
          <a:blip r:embed="rId2"/>
          <a:stretch/>
        </p:blipFill>
        <p:spPr>
          <a:xfrm>
            <a:off x="1187280" y="3500280"/>
            <a:ext cx="1837080" cy="1855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1"/>
          <p:cNvSpPr/>
          <p:nvPr/>
        </p:nvSpPr>
        <p:spPr>
          <a:xfrm>
            <a:off x="468360" y="476280"/>
            <a:ext cx="8280360" cy="53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Фразеологические синони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В два счёта</a:t>
            </a: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В мгновение ока</a:t>
            </a: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В один мах </a:t>
            </a: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Одна нога здесь, другая там </a:t>
            </a: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Во весь дух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Во все лопатки</a:t>
            </a: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Во всю прыть</a:t>
            </a: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Изо всех с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Что есть духу</a:t>
            </a: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Что есть си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На всех парус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Очень быст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Фразеологические антони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Arial"/>
              </a:rPr>
              <a:t>                               </a:t>
            </a:r>
            <a:r>
              <a:rPr b="1" i="1" lang="ru-RU" sz="1600" spc="-1" strike="noStrike">
                <a:solidFill>
                  <a:srgbClr val="7030a0"/>
                </a:solidFill>
                <a:latin typeface="Arial"/>
              </a:rPr>
              <a:t>Кот наплакал (очень мало) – куры не клюют (очень много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Arial"/>
              </a:rPr>
              <a:t>                               </a:t>
            </a:r>
            <a:r>
              <a:rPr b="1" i="1" lang="ru-RU" sz="1600" spc="-1" strike="noStrike">
                <a:solidFill>
                  <a:srgbClr val="7030a0"/>
                </a:solidFill>
                <a:latin typeface="Arial"/>
              </a:rPr>
              <a:t>как кошка с собакой (недружно) – душа в душу (дружно)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Рисунок 2" descr="https://encrypted-tbn1.gstatic.com/images?q=tbn:ANd9GcS9ID9AL225HhbRWNnBg18g6GXgaCC31WufKfzpVMMPnMm0RMV_gZ6Nnbc"/>
          <p:cNvPicPr/>
          <p:nvPr/>
        </p:nvPicPr>
        <p:blipFill>
          <a:blip r:embed="rId1"/>
          <a:stretch/>
        </p:blipFill>
        <p:spPr>
          <a:xfrm>
            <a:off x="755640" y="3933720"/>
            <a:ext cx="1432080" cy="2205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C:\Users\Галина\Desktop\на всех.jpg"/>
          <p:cNvPicPr/>
          <p:nvPr/>
        </p:nvPicPr>
        <p:blipFill>
          <a:blip r:embed="rId2"/>
          <a:stretch/>
        </p:blipFill>
        <p:spPr>
          <a:xfrm>
            <a:off x="5796000" y="1341360"/>
            <a:ext cx="1809720" cy="2438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"/>
          <p:cNvSpPr/>
          <p:nvPr/>
        </p:nvSpPr>
        <p:spPr>
          <a:xfrm rot="21376800">
            <a:off x="1200240" y="691920"/>
            <a:ext cx="66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 Narrow"/>
                <a:ea typeface="Times New Roman"/>
              </a:rPr>
              <a:t>Источники русских фразеологизмов.</a:t>
            </a:r>
            <a:r>
              <a:rPr b="0" i="1" lang="ru-RU" sz="3200" spc="-1" strike="noStrike">
                <a:solidFill>
                  <a:srgbClr val="a50021"/>
                </a:solidFill>
                <a:latin typeface="Arial Narrow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3059280" y="177876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 Narrow"/>
                <a:ea typeface="Times New Roman"/>
              </a:rPr>
              <a:t>Фразеологизмы русского происхож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Подавляющее большинство русских фразеологизмов возникло в самом русском языке или досталось русскому языку от языка-пред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900000" y="430848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Arial Narrow"/>
                <a:ea typeface="Times New Roman"/>
              </a:rPr>
              <a:t>Заимствованные фразеологизмы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Заимствованные фразеологизмы делятся на заимствованные из старославянского языка и заимствования из западноевропейских язы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http://rudocs.exdat.com/pars_docs/tw_refs/126/125184/125184_html_41df8870.jpg"/>
          <p:cNvPicPr/>
          <p:nvPr/>
        </p:nvPicPr>
        <p:blipFill>
          <a:blip r:embed="rId1"/>
          <a:stretch/>
        </p:blipFill>
        <p:spPr>
          <a:xfrm>
            <a:off x="971640" y="1484280"/>
            <a:ext cx="1584360" cy="22860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371" name="Picture 10" descr="http://rudocs.exdat.com/pars_docs/tw_refs/126/125184/125184_html_m239481a1.jpg"/>
          <p:cNvPicPr/>
          <p:nvPr/>
        </p:nvPicPr>
        <p:blipFill>
          <a:blip r:embed="rId2"/>
          <a:stretch/>
        </p:blipFill>
        <p:spPr>
          <a:xfrm>
            <a:off x="6084720" y="3213000"/>
            <a:ext cx="2295720" cy="25210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372" name="TextBox 7"/>
          <p:cNvSpPr/>
          <p:nvPr/>
        </p:nvSpPr>
        <p:spPr>
          <a:xfrm>
            <a:off x="763560" y="38606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Заткнуть за поя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8"/>
          <p:cNvSpPr/>
          <p:nvPr/>
        </p:nvSpPr>
        <p:spPr>
          <a:xfrm>
            <a:off x="6091200" y="595008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е в своей тарел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"/>
          <p:cNvSpPr/>
          <p:nvPr/>
        </p:nvSpPr>
        <p:spPr>
          <a:xfrm>
            <a:off x="971640" y="62100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Использование фразеологизмов в литературных произвед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900000" y="1197000"/>
          <a:ext cx="7272360" cy="4705200"/>
        </p:xfrm>
        <a:graphic>
          <a:graphicData uri="http://schemas.openxmlformats.org/drawingml/2006/table">
            <a:tbl>
              <a:tblPr/>
              <a:tblGrid>
                <a:gridCol w="1776600"/>
                <a:gridCol w="2212920"/>
                <a:gridCol w="3282840"/>
              </a:tblGrid>
              <a:tr h="36540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30244"/>
                          </a:solidFill>
                          <a:latin typeface="Arial Narrow"/>
                          <a:ea typeface="Times New Roman"/>
                        </a:rPr>
                        <a:t>Название сказ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30244"/>
                          </a:solidFill>
                          <a:latin typeface="Arial Narrow"/>
                          <a:ea typeface="Times New Roman"/>
                        </a:rPr>
                        <a:t>Фразеолог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30244"/>
                          </a:solidFill>
                          <a:latin typeface="Arial Narrow"/>
                          <a:ea typeface="Times New Roman"/>
                        </a:rPr>
                        <a:t>Лексическое значение фразеологиз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«Дикий помещ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Держать камень за пазух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Таить злоб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Ни пяди не уступ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Нисколько не отд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Стоять на своё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Добиваться выполнения своих треб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«Вяленая воб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Моя хата с кра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Нежелание принимать участие в каких-либо дел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На бобах развод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Гад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С Макаром телят не гоняющим познакоми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Отдалённое место, где никто не быв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«Премудрый пискар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Некуда носа высуну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Некуда вый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Ума па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Иметь много у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Гляди в 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Будь бдител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Ступай за семь вёрст киселя хлеб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Отправляться далеко за чем-нибу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Сон в ру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Arial Narrow"/>
                          <a:ea typeface="Times New Roman"/>
                        </a:rPr>
                        <a:t>Вещий с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826920" y="765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Употребление фразеологизмов учащимися и уч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395280" y="1370520"/>
            <a:ext cx="3960720" cy="17974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Анкета для учащих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 Narrow"/>
                <a:ea typeface="Times New Roman"/>
              </a:rPr>
              <a:t>1.Знаете ли вы, что такое фразеологиз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 Narrow"/>
                <a:ea typeface="Times New Roman"/>
              </a:rPr>
              <a:t>2.Приведите примеры фразеологизм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 Narrow"/>
                <a:ea typeface="Times New Roman"/>
              </a:rPr>
              <a:t>3.Употребляете ли вы фразеологизмы в своей речи, понимаете их значени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 Narrow"/>
                <a:ea typeface="Times New Roman"/>
              </a:rPr>
              <a:t>4.Знаете, откуда пришли к нам фразеологизм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859280" y="4302000"/>
            <a:ext cx="3816360" cy="1797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 Narrow"/>
                <a:ea typeface="Times New Roman"/>
              </a:rPr>
              <a:t>Анкета для уч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1.Используете ли вы фразеологизмы в своей реч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2.Используете ли вы фразеологизмы при общении с учащими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3.Назовите те, которые используете чаще вс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4"/>
          <p:cNvSpPr/>
          <p:nvPr/>
        </p:nvSpPr>
        <p:spPr>
          <a:xfrm>
            <a:off x="4500720" y="1197000"/>
            <a:ext cx="40129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1.Клевать носом; 2.как в воду глядеть; 3.сломя голову; 4.на краю света; 5.зарубить на носу; 6.спустя рукава; 7.бить баклуши; 8.белая ворона; 9.засучив рукава; 10.намылить шею; 11.сломя голову; 12.водить за нос; 13. Ахиллесова пята; 14.Архимедов рычаг; 15.ударить в грязь лицом;16.как с гуся вода; 17.высунув язык; 18.висеть на телефоне; 19.повесить нос; 20.повесить голову; 21.валять дура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5"/>
          <p:cNvSpPr/>
          <p:nvPr/>
        </p:nvSpPr>
        <p:spPr>
          <a:xfrm>
            <a:off x="539640" y="3716280"/>
            <a:ext cx="3961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Заговаривать зубы, водить за нос, висеть на телефоне, вешать лапшу на уши, зарубить на носу, надуть губы, вилами по воде писано, медвежья услуга, отложить в долгий ящик, типун тебе на язык, подложить свинью, сесть в лужу, как пить дать, держать в ежовых рукавицах, быть на седьмом небе, губа не д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1"/>
          <p:cNvSpPr/>
          <p:nvPr/>
        </p:nvSpPr>
        <p:spPr>
          <a:xfrm>
            <a:off x="1019520" y="692280"/>
            <a:ext cx="23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26920" y="1281240"/>
            <a:ext cx="7417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1.Фразеологизмы обогащают нашу речь, так как используются преимущественно в устной речи. Фразеологизмы позволяют точно, метко и сжато охарактеризовать ситуацию и выразить свое отношение к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2.Чтобы правильно употреблять фразеологизмы в речи, надо знать их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3.Фразеологизмы делятся на исконно русские и заимствованные, часть фразеологизмов имеют своим источником разговорную речь, другие </a:t>
            </a:r>
            <a:r>
              <a:rPr b="0" lang="ru-RU" sz="2000" spc="-1" strike="noStrike">
                <a:solidFill>
                  <a:srgbClr val="000099"/>
                </a:solidFill>
                <a:latin typeface="Cambria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 книжные. Фразеологизмы могут иметь синонимы или антони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4.Фразеологизмы широко  используются в художественной литерат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5.Учащиеся знают мало фразеологизмов, не могут назвать источники фразеологизмов  и редко используют их в свое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Учителя часто используют фразеологизмы на уроках и во внеурочной деятельности, выражая с их помощью своё отношение к происходящим событиям и поступкам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3T16:07:55Z</dcterms:created>
  <dc:creator>Галина</dc:creator>
  <dc:description/>
  <dc:language>en-US</dc:language>
  <cp:lastModifiedBy>Галина</cp:lastModifiedBy>
  <dcterms:modified xsi:type="dcterms:W3CDTF">2013-03-16T12:09:55Z</dcterms:modified>
  <cp:revision>62</cp:revision>
  <dc:subject/>
  <dc:title>ФРАЗЕОЛОГИЗМЫ  И ИХ УПОТРЕБЛЕНИЕ  В СОВРЕМЕННОМ ЯЗЫКЕ</dc:title>
</cp:coreProperties>
</file>