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17B-B818-4DD4-AC3C-63A7FD23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8F0-5EE0-45FE-B884-474C0FA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7D-6460-4ACA-95BC-4232BB07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2F2-8E4A-4574-B6C7-39668B98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69A1-A7F3-4044-8CE6-BBD965CC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667-84E3-4160-BE8D-12F3CDA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CB20-2925-4CD4-A2AA-53D92E08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CF6-9B0B-40C9-A06C-49E80309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5C38-1917-4027-940D-E2B5712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7725-1082-4BF6-AF3F-E3CBE46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A1E-1A2E-4915-9214-14F98363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1CE-EC1F-42A9-BAD0-342E6E2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F72C-71A8-478E-B6FF-7BFA1A4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2DB6-2BF6-41B5-B29D-3DB6FE8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40D-C7C5-4470-B406-9BD4C99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5C3-4E03-4849-993C-ED2C5E3A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AA3-12E0-46CE-9C54-44A8A41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F7DE-4155-4460-8489-A1BFC026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D8BD-4737-43C0-8807-1E13DB1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9B00-7B3F-4D83-BDBC-7A69C71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194F-614F-40E7-AADD-6EB6A1A6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42E7-A2C6-4DD5-AE67-27616F9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AF5-1F78-4C6E-9F5F-1B4C63C8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75BB-042D-4BC5-844D-E92C65BD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C049-A570-428C-874B-91365F1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9ACD-4DEB-45D5-9F2E-963CFFC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20EF-41DE-4B31-9D11-FB22079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1878-19DD-49C0-9888-D721004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6A78-81DE-4B13-85CC-8028624A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D653-D895-43F9-A2A7-68B35780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363A-A561-4DB2-B7A9-35879808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D852-DB34-4B2A-92AE-C139086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D11B-DEC8-41AF-8905-09C3500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FC7-4036-4055-BCFC-86705DB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A614-DB1F-4954-A49A-0875EBC7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0F72-A08F-4E92-8BB1-9E91309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DABF-3730-4293-AA71-A611C13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33DC-18CE-4D67-8974-45558F7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015C-5B58-41EC-B639-DF1E405F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C2D8-AB43-45C6-A8D0-325A7A5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4E342-FF79-4031-891A-6D5AC00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B0C7-F6FC-45F1-AD1D-7C83D5FE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C40E-1D40-4EAC-B07F-9F6A09DE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615DC-F66A-43B2-B1E4-0EF11FC2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AC7-8B11-4519-9C62-91D8199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E7C0-7A15-4875-BED6-97CFA33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7AC13-3EA3-4E14-A613-8DB20E74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D472-19A5-47CB-BDB4-010FFF9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4EAF-9AF9-4E2A-AC72-AF8593F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3C79-0028-4102-846F-DC35352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7979-37A4-4DDD-93E4-82C8412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8151-7B09-4DA7-BFCE-9743891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2A84-D541-4F90-8333-F8F9B1E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997DD-F36C-4143-990F-1EFF3C95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F75C-DB41-42E2-99E5-6E935223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BF7-A729-4FB3-A35D-076C68D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E90A-7C29-4DDD-A55C-25A17CB3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4D138-0068-492F-9FA8-3B488B25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74E9C-DE00-474B-9999-20FA26ED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9ABA-53BB-4FBC-9E2D-030A641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54A1-ED26-4D50-9213-A672206E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1325-193C-4309-9D38-058FD3F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FD60-0CF4-4482-B23C-499E7108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3380-D322-4798-B315-513AFF9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B275-43EB-4319-AC26-9C3DEF4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06A4-BC63-401C-8E5C-F22A3EF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B6B-EE13-4C07-87D1-5A93FB9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F30C-E6E4-42E2-8F55-8FDFB47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4279-5102-4352-91CE-BEF7F221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ACDD-4455-4CB4-BBD3-58137252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80A8-D688-47E6-A5DA-3DB9E3C8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E784C-4F60-431E-B561-DE63BDDB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0206-BD78-4CF9-811B-621F51C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9705-5727-4F55-BF77-995F756B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C05C1-8C66-4A9B-94A5-3DE8C00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8C29-3C6B-4898-BFD6-C7BECEF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706E-6C36-41D0-BA73-37E785A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D55-5314-4D21-B148-3FEB806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9A1D1-F829-4F7E-9925-6BD0C1BA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3A978-2B83-4C6A-9A75-C711BE7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862DD-7501-4E65-A6A8-4B70CB3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34C4C-1F8E-4DD6-94D1-C1CBD92C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2A11-4053-4274-A23D-CC4943E5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ABCCA-7875-4AF6-B75C-7073A8FD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AE762-1EA0-422F-A12A-D8BAE39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3A94F-150A-49DF-B555-266AEEB6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1D75-9857-4BB1-A1B7-B25F62A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67400-8045-45B4-836F-9EE0997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BE5-23D0-42EB-AB17-E0B0EF1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A869A-AA0A-4752-B16A-83D1DEA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F287-97ED-4E3D-AC66-8415242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5D0E-9B4E-475A-A0C9-DA669CD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451E-A4F4-4FE6-B1A0-8095BCA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0CAAF-E19F-4835-A619-E52F818F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F0D06-E0FC-4B56-980B-24BA2F2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2F60-99BE-4F5E-A34E-07D6195C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CFBC-0128-4C82-843C-62BE72AB9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3D3-0210-4D43-89A7-9E81B62F8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796-1C10-4047-B4B3-86AD8C080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2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E75-C147-4A31-9F3E-09D05F125E28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7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E6D5-CF3A-4361-9051-FDB9F19F4243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1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B9BA-6B75-4C84-B8C4-31E187E3A461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1A02-313B-48B6-AF13-DAEDE12D14B7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97F-7BE2-4CF1-A21F-F650232B900A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 rot="20901000">
            <a:off x="622080" y="15296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Verdana"/>
              </a:rPr>
              <a:t>В МИРЕ ФРАЗЕОЛОГИЗМОВ </a:t>
            </a:r>
            <a:br>
              <a:rPr sz="4100"/>
            </a:br>
            <a:endParaRPr b="1" lang="en-US" sz="41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140360" y="4436640"/>
            <a:ext cx="42480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297080" y="9079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Угадай фразео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233800" cy="2176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303640" cy="2210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714760" cy="1909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3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7" descr="C:\Users\Галина\Desktop\на всех.jpg"/>
          <p:cNvPicPr/>
          <p:nvPr/>
        </p:nvPicPr>
        <p:blipFill>
          <a:blip r:embed="rId4"/>
          <a:stretch/>
        </p:blipFill>
        <p:spPr>
          <a:xfrm>
            <a:off x="3995640" y="3789360"/>
            <a:ext cx="1809720" cy="2438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394" name="Picture 18" descr="C:\Users\Галина\Desktop\наломать.jpg"/>
          <p:cNvPicPr/>
          <p:nvPr/>
        </p:nvPicPr>
        <p:blipFill>
          <a:blip r:embed="rId5"/>
          <a:stretch/>
        </p:blipFill>
        <p:spPr>
          <a:xfrm>
            <a:off x="3492360" y="1557360"/>
            <a:ext cx="2266920" cy="171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395" name="Picture 19" descr="C:\Users\Галина\Desktop\спустя.jpg"/>
          <p:cNvPicPr/>
          <p:nvPr/>
        </p:nvPicPr>
        <p:blipFill>
          <a:blip r:embed="rId6"/>
          <a:stretch/>
        </p:blipFill>
        <p:spPr>
          <a:xfrm>
            <a:off x="6300720" y="1125360"/>
            <a:ext cx="1895400" cy="2400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1853280" y="206064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539640" y="983160"/>
            <a:ext cx="7993080" cy="825480"/>
          </a:xfrm>
          <a:prstGeom prst="rect">
            <a:avLst/>
          </a:prstGeom>
          <a:noFill/>
          <a:ln w="28440">
            <a:solidFill>
              <a:srgbClr val="a3b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 Narrow"/>
                <a:ea typeface="Times New Roman"/>
              </a:rPr>
              <a:t>Фразеологизмы или фразеологические обороты - целостные (устойчивые) сочетания слов, постоянные по составу и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130400" y="14130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755640" y="2205000"/>
            <a:ext cx="4572000" cy="1465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Verdana"/>
              </a:rPr>
              <a:t>С конца 18 века они объяснялись в специальных сборниках и толковых словарях под различными названиями: крылатые выражения, афоризмы, идиомы, пословицы и погов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755640" y="4508640"/>
            <a:ext cx="4608360" cy="119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Verdana"/>
              </a:rPr>
              <a:t>М.В.Ломоносов, составляя план словаря русского литературного языка, указывал, что в него должны войти «фразесы», «ре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http://rupoem.ru/images/lomonosov.jpg"/>
          <p:cNvPicPr/>
          <p:nvPr/>
        </p:nvPicPr>
        <p:blipFill>
          <a:blip r:embed="rId1"/>
          <a:stretch/>
        </p:blipFill>
        <p:spPr>
          <a:xfrm>
            <a:off x="6084720" y="2637000"/>
            <a:ext cx="22449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826920" y="909000"/>
            <a:ext cx="7490160" cy="459720"/>
          </a:xfrm>
          <a:prstGeom prst="rect">
            <a:avLst/>
          </a:prstGeom>
          <a:solidFill>
            <a:srgbClr val="ffffff"/>
          </a:solidFill>
          <a:ln w="42480">
            <a:solidFill>
              <a:srgbClr val="d7d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Фразеологические словари русского литературного языка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http://t0.gstatic.com/images?q=tbn:ANd9GcRjoZPHGaKPshp7da7UkHIJoGX6XgYVvnt6t788DsKrwc1c2MbP47rVog"/>
          <p:cNvPicPr/>
          <p:nvPr/>
        </p:nvPicPr>
        <p:blipFill>
          <a:blip r:embed="rId1"/>
          <a:stretch/>
        </p:blipFill>
        <p:spPr>
          <a:xfrm>
            <a:off x="2771640" y="1484280"/>
            <a:ext cx="1584360" cy="2449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t2.gstatic.com/images?q=tbn:ANd9GcTOX7x2DvEOSU0ObkaN0CtLd2qfYyRKZ8NeDm8H1LqbsQppPtPj9UzQNw"/>
          <p:cNvPicPr/>
          <p:nvPr/>
        </p:nvPicPr>
        <p:blipFill>
          <a:blip r:embed="rId2"/>
          <a:stretch/>
        </p:blipFill>
        <p:spPr>
          <a:xfrm>
            <a:off x="5003640" y="1628640"/>
            <a:ext cx="1468440" cy="1916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http://t1.gstatic.com/images?q=tbn:ANd9GcSepMr-Rgukh5aHMVFHW55wkSlm2FJzcZS8yrYc2uq-hS3FbLDd4wR6y_Bc"/>
          <p:cNvPicPr/>
          <p:nvPr/>
        </p:nvPicPr>
        <p:blipFill>
          <a:blip r:embed="rId3"/>
          <a:stretch/>
        </p:blipFill>
        <p:spPr>
          <a:xfrm>
            <a:off x="1258920" y="3930480"/>
            <a:ext cx="1441440" cy="2186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t1.gstatic.com/images?q=tbn:ANd9GcSXZG4HhqwOm01eGGzlb4DL2tGQ2rQa_ZzDeSEZ-uUjp_yfh-KY9alOzLGE"/>
          <p:cNvPicPr/>
          <p:nvPr/>
        </p:nvPicPr>
        <p:blipFill>
          <a:blip r:embed="rId4"/>
          <a:stretch/>
        </p:blipFill>
        <p:spPr>
          <a:xfrm>
            <a:off x="3760920" y="3933720"/>
            <a:ext cx="167472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http://t3.gstatic.com/images?q=tbn:ANd9GcT7aEdZAWBdcIMA6ds6_5esfvaIwId9oJMtlGGVN0eeB9HeGlyHTyPl03I"/>
          <p:cNvPicPr/>
          <p:nvPr/>
        </p:nvPicPr>
        <p:blipFill>
          <a:blip r:embed="rId5"/>
          <a:stretch/>
        </p:blipFill>
        <p:spPr>
          <a:xfrm>
            <a:off x="7164360" y="1700280"/>
            <a:ext cx="1309680" cy="202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http://t2.gstatic.com/images?q=tbn:ANd9GcQIyybxxJKyhWUN_AhEAOaQA2cEYUl1xfpec0XMf3tVeCnxpGXkj_rRzg"/>
          <p:cNvPicPr/>
          <p:nvPr/>
        </p:nvPicPr>
        <p:blipFill>
          <a:blip r:embed="rId6"/>
          <a:stretch/>
        </p:blipFill>
        <p:spPr>
          <a:xfrm>
            <a:off x="6300720" y="4024440"/>
            <a:ext cx="1430280" cy="2212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6" descr="http://t1.gstatic.com/images?q=tbn:ANd9GcSXdthLXabzZSW30rAMQbua5Wj6BbiEoai7FlzXZhJegp9iXbHFYu4I6uFv"/>
          <p:cNvPicPr/>
          <p:nvPr/>
        </p:nvPicPr>
        <p:blipFill>
          <a:blip r:embed="rId7"/>
          <a:stretch/>
        </p:blipFill>
        <p:spPr>
          <a:xfrm>
            <a:off x="826920" y="1708200"/>
            <a:ext cx="1441440" cy="195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2916360" y="693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Типы фразеолог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11280" y="1522440"/>
            <a:ext cx="4032000" cy="1310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Фразеологическое сращение.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Например: водить за нос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обманывать, седьмая вода на киселе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дальнее родство, чёрная кошка пробежала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поссорились, во весь опор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очень быст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708360" y="2934720"/>
            <a:ext cx="4608720" cy="20408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Фразеологическ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апример: белая ворона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о человеке, резко выделяющемся среди других, игра не стоит свеч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затрачиваемые средства не оправдываются, плыть по течению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пассивно подчиняться обстоятельствам, делать из мухи слона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предавать незначительному большое значение, плясать под чужую дудку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делать так, как кому-то удоб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4211640" y="5162040"/>
            <a:ext cx="4176720" cy="10674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Фразеологические сочетания.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Например: разинуть рот (варежку), опрометью мчаться (кинуться), оказать влияние (поддержку, помощь, услуг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http://t3.gstatic.com/images?q=tbn:ANd9GcQD_Fc9BupwKyeXkZLv4q7UGu9chjKfwP59Rs4iyKSlDtsHL-rUZvHMqQ"/>
          <p:cNvPicPr/>
          <p:nvPr/>
        </p:nvPicPr>
        <p:blipFill>
          <a:blip r:embed="rId1"/>
          <a:stretch/>
        </p:blipFill>
        <p:spPr>
          <a:xfrm>
            <a:off x="5651640" y="1341360"/>
            <a:ext cx="2305080" cy="124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http://t2.gstatic.com/images?q=tbn:ANd9GcQk-sryM_OI6eLHO5qPS9kPsOgDTvB07h9bwyIh6F3nwQZOy5AIA4aH-A"/>
          <p:cNvPicPr/>
          <p:nvPr/>
        </p:nvPicPr>
        <p:blipFill>
          <a:blip r:embed="rId2"/>
          <a:stretch/>
        </p:blipFill>
        <p:spPr>
          <a:xfrm>
            <a:off x="1187280" y="3500280"/>
            <a:ext cx="1837080" cy="185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468360" y="476280"/>
            <a:ext cx="828036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Фразеологические синони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два счёта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мгновение ока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один мах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Одна нога здесь, другая там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есь дух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се лопатки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сю прыть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Изо всех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Что есть духу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Что есть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На всех пару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Очень быс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Фразеологические антони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Кот наплакал (очень мало) – куры не клюют (очень мног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как кошка с собакой (недружно) – душа в душу (дружно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2" descr="https://encrypted-tbn1.gstatic.com/images?q=tbn:ANd9GcS9ID9AL225HhbRWNnBg18g6GXgaCC31WufKfzpVMMPnMm0RMV_gZ6Nnbc"/>
          <p:cNvPicPr/>
          <p:nvPr/>
        </p:nvPicPr>
        <p:blipFill>
          <a:blip r:embed="rId1"/>
          <a:stretch/>
        </p:blipFill>
        <p:spPr>
          <a:xfrm>
            <a:off x="755640" y="3933720"/>
            <a:ext cx="1432080" cy="2205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:\Users\Галина\Desktop\на всех.jpg"/>
          <p:cNvPicPr/>
          <p:nvPr/>
        </p:nvPicPr>
        <p:blipFill>
          <a:blip r:embed="rId2"/>
          <a:stretch/>
        </p:blipFill>
        <p:spPr>
          <a:xfrm>
            <a:off x="5796000" y="1341360"/>
            <a:ext cx="18097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 rot="21376800">
            <a:off x="1200240" y="69192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Narrow"/>
                <a:ea typeface="Times New Roman"/>
              </a:rPr>
              <a:t>Источники русских фразеологизмов.</a:t>
            </a:r>
            <a:r>
              <a:rPr b="0" i="1" lang="ru-RU" sz="3200" spc="-1" strike="noStrike">
                <a:solidFill>
                  <a:srgbClr val="a50021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3059280" y="17787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 Narrow"/>
                <a:ea typeface="Times New Roman"/>
              </a:rPr>
              <a:t>Фразеологизмы русского происхож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Подавляющее большинство русских фразеологизмов возникло в самом русском языке или досталось русскому языку от языка-пре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900000" y="430848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 Narrow"/>
                <a:ea typeface="Times New Roman"/>
              </a:rPr>
              <a:t>Заимствованные фразеологизмы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Заимствованные фразеологизмы делятся на заимствованные из старославянского языка и заимствования из западноевропейских язы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http://rudocs.exdat.com/pars_docs/tw_refs/126/125184/125184_html_41df8870.jpg"/>
          <p:cNvPicPr/>
          <p:nvPr/>
        </p:nvPicPr>
        <p:blipFill>
          <a:blip r:embed="rId1"/>
          <a:stretch/>
        </p:blipFill>
        <p:spPr>
          <a:xfrm>
            <a:off x="971640" y="1484280"/>
            <a:ext cx="1584360" cy="2286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71" name="Picture 10" descr="http://rudocs.exdat.com/pars_docs/tw_refs/126/125184/125184_html_m239481a1.jpg"/>
          <p:cNvPicPr/>
          <p:nvPr/>
        </p:nvPicPr>
        <p:blipFill>
          <a:blip r:embed="rId2"/>
          <a:stretch/>
        </p:blipFill>
        <p:spPr>
          <a:xfrm>
            <a:off x="6084720" y="3213000"/>
            <a:ext cx="2295720" cy="2521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372" name="TextBox 7"/>
          <p:cNvSpPr/>
          <p:nvPr/>
        </p:nvSpPr>
        <p:spPr>
          <a:xfrm>
            <a:off x="763560" y="3860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ткнуть за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6091200" y="59500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в своей таре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971640" y="621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Использование фразеологизмов в литературных произвед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00000" y="1197000"/>
          <a:ext cx="7272360" cy="4705200"/>
        </p:xfrm>
        <a:graphic>
          <a:graphicData uri="http://schemas.openxmlformats.org/drawingml/2006/table">
            <a:tbl>
              <a:tblPr/>
              <a:tblGrid>
                <a:gridCol w="1776600"/>
                <a:gridCol w="2212920"/>
                <a:gridCol w="3282840"/>
              </a:tblGrid>
              <a:tr h="3654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Фразеолог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Лексическое значение фразеолог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Дикий помещ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Держать камень за пазух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Таить зло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и пяди не уступ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исколько не от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тоять на сво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Добиваться выполнения своих треб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Вяленая воб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Моя хата с кр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желание принимать участие в каких-либо де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а бобах развод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Га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 Макаром телят не гоняющим познаком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Отдалённое место, где никто не быв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Премудрый пискар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куда носа высу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куда вый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Ума па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Иметь много 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Гляди в 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Будь бдите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тупай за семь вёрст киселя хлеб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Отправляться далеко за чем-нибу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он в ру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Вещий 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826920" y="765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Употребление фразеологизмов учащимися и уч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95280" y="1370520"/>
            <a:ext cx="3960720" cy="1797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Анкета для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1.Знаете ли вы, что такое фразеологиз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2.Приведите примеры фразеологиз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3.Употребляете ли вы фразеологизмы в своей речи, понимаете их знач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4.Знаете, откуда пришли к нам фразеологиз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859280" y="4302000"/>
            <a:ext cx="3816360" cy="1797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Анкета для уч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1.Используете ли вы фразеологизмы в своей реч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2.Используете ли вы фразеологизмы при общении с учащими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3.Назовите те, которые используете чаще вс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4500720" y="1197000"/>
            <a:ext cx="4012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1.Клевать носом; 2.как в воду глядеть; 3.сломя голову; 4.на краю света; 5.зарубить на носу; 6.спустя рукава; 7.бить баклуши; 8.белая ворона; 9.засучив рукава; 10.намылить шею; 11.сломя голову; 12.водить за нос; 13. Ахиллесова пята; 14.Архимедов рычаг; 15.ударить в грязь лицом;16.как с гуся вода; 17.высунув язык; 18.висеть на телефоне; 19.повесить нос; 20.повесить голову; 21.валять дур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539640" y="3716280"/>
            <a:ext cx="39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Заговаривать зубы, водить за нос, висеть на телефоне, вешать лапшу на уши, зарубить на носу, надуть губы, вилами по воде писано, медвежья услуга, отложить в долгий ящик, типун тебе на язык, подложить свинью, сесть в лужу, как пить дать, держать в ежовых рукавицах, быть на седьмом небе, губа не д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1019520" y="69228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26920" y="1281240"/>
            <a:ext cx="7417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1.Фразеологизмы обогащают нашу речь, так как используются преимущественно в устной речи. Фразеологизмы позволяют точно, метко и сжато охарактеризовать ситуацию и выразить свое отношение к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2.Чтобы правильно употреблять фразеологизмы в речи, надо знать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3.Фразеологизмы делятся на исконно русские и заимствованные, часть фразеологизмов имеют своим источником разговорную речь, другие </a:t>
            </a:r>
            <a:r>
              <a:rPr b="0" lang="ru-RU" sz="2000" spc="-1" strike="noStrike">
                <a:solidFill>
                  <a:srgbClr val="000099"/>
                </a:solidFill>
                <a:latin typeface="Cambri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книжные. Фразеологизмы могут иметь синонимы или антони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4.Фразеологизмы широко  используются в художественной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5.Учащиеся знают мало фразеологизмов, не могут назвать источники фразеологизмов  и редко используют их в сво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Учителя часто используют фразеологизмы на уроках и во внеурочной деятельности, выражая с их помощью своё отношение к происходящим событиям и поступкам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6:07:55Z</dcterms:created>
  <dc:creator>Галина</dc:creator>
  <dc:description/>
  <dc:language>en-US</dc:language>
  <cp:lastModifiedBy>Галина</cp:lastModifiedBy>
  <dcterms:modified xsi:type="dcterms:W3CDTF">2013-03-16T12:09:55Z</dcterms:modified>
  <cp:revision>62</cp:revision>
  <dc:subject/>
  <dc:title>ФРАЗЕОЛОГИЗМЫ  И ИХ УПОТРЕБЛЕНИЕ  В СОВРЕМЕННОМ ЯЗЫКЕ</dc:title>
</cp:coreProperties>
</file>