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0FB-21F0-4CCD-8881-8CBD12A5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7C5-1A3C-460D-AABB-29C2C4EE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BFF-BBD9-48D6-BF6F-DEB12434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18B-1D4C-4181-854D-7B04BF56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2B82-BE48-431E-9890-5F823476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C4AC-4461-442E-810B-A571E9B4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2915-590A-4658-B882-7B8C1015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9548-6B1E-4665-B883-9D033A92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F89-3191-4759-B2B9-D3B553BC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28A9-9C77-4F6F-B25D-38D1D868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14EF-DDE2-4602-A8BF-E2663EB8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DA4-B9E1-4C4E-8EF4-EA157754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B5E3-C80E-405A-9E2D-4C46AB2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B589-E567-464D-B7B6-308BCB5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AA80-7429-4533-A1C3-4406E322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6D69-18B6-4087-AC85-69A4E129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088F-770B-4C00-B21B-23291672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E72-998F-464A-8F46-066EA18E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DC8-C00B-40BA-AA56-947AD7B0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516-2D3C-4F2B-96B8-84DA9E7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59D-F5AC-4919-B557-AEC466DF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B79-1521-4D90-AF00-D79E80F1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F54-52F9-4B38-84B0-87A139BB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895-298F-4027-B5E3-1A66E838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C4A9-7C41-4DA2-83E5-60DAA48B426D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4ECF-8449-459C-A285-285AA9BCCE07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мпетентностный подход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образовании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3715920"/>
            <a:ext cx="6400800" cy="27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Дитрих Е.А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Материалы к педсовету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2010 – 2011 учебный год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МКОУ «Шайковская СОШ № 2»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Калужская область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Цели школьного образования с точки зрения компетентностного подхода</a:t>
            </a:r>
            <a:r>
              <a:rPr b="0" lang="ru-RU" sz="36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471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учиться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решать познавательные проблемы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ориентироваться в ключевых проблемах современной жизни, решать аналитические проблемы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ориентироваться в мире духовных ценностей, отражающих разные культуры и мировоззрения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решать проблемы, связанные с реализацией определённых социальных ролей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решать проблемы, общие для различных видов профессиональной и иной деятельности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учить решать проблемы профессионального выбора, включая подготовку к дальнейшему обучению в учебных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заведениях системы профессионального образования.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Технологии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применение которых способствует успешной реализаци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компетентностного подхода</a:t>
            </a:r>
            <a:r>
              <a:rPr b="0" lang="ru-RU" sz="4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3440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проектная технология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дискуссии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проблемного обучения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развивающего обучения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«обучение в сотрудничестве»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личностно-ориентированное обучение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разноуровневого обучения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технология «Портфель ученика»;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entury Gothic"/>
              </a:rPr>
              <a:t>и т.д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1819440" y="390600"/>
            <a:ext cx="55051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Компетенция = Компетентность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Способность делать что-либо хорошо или эффективно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Соответствие требованиям, предъявляемым при устройстве на работу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Способность выполнять особые трудовые функции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КОМПЕТЕНЦИЯ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Способность делать что-либо хорошо или эффективно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Соответствие требованиям, предъявляемым при устройстве на работу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Способность выполнять особые трудовые функции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КОМПЕТЕНТНОСТЬ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основывающаяся на знаниях, интеллектуально- и личностно-обусловленная социально-профессиональ-ная жизнедеятельность человека.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Gothic"/>
              </a:rPr>
              <a:t>Компетентнос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умение активно использовать полученные личные и профессиональные знания и навыки в практической или научной деятельности.  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Элементы понятия «компетентность»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907160" cy="4525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знания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выки 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пособность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тереотипы поведения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силия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ОМПЕТЕНТНОСТИ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33843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ЛЮЧЕВЫЕ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особность учащихся самостоятельно действовать в ситуации неопределённости при решении актуальных для них проблем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35280" y="1557000"/>
            <a:ext cx="505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ЕДМЕТНЫЕ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ческая способность, необходимая для эффективного выполнения конкретного действия в конкретной предметной области и включающая узкоспециальные знания, особого рода предметные навыки, способы мышления, а также понимание ответственности за свои действия. 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Необходимо формирование развивающей среды, способствующей росту компетентностей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Rectangle 3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868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Деятельность учителя при реализации компетентностного подхода</a:t>
            </a:r>
            <a:r>
              <a:rPr b="0" lang="ru-RU" sz="36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8002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сключить награждения и призы за правильно выполненные задания, ограничиваясь лишь оцениванием и похвалой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иучать ребенка к анализу и сравнению своих собственных результатов и достижений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Не навязывать учебных целей "сверху". Совместная работа с ребенком по выработке целей и задач.  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мнить, что наказание за неправильное решение учебной задачи отрицательно влияет на отношение ребенка к учебной деятельности.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араться избегать установления временных ограничений там, где это представляется возможным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ледить за тем, чтобы учебные задания имели уровень оптимальной сложности, способствовали проявлению мастерства и компетентности ребенка.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доставлять ребенку право выбора учебной задачи, не ограничивая при этом его свободы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дбирать учебные задания с элементом новизны и непредсказуемости.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аботать с субъективным (собственным, присвоенным) учебным материалом ребенк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аже в предметн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5:17:45Z</dcterms:created>
  <dc:creator>Дитрих</dc:creator>
  <dc:description/>
  <cp:keywords/>
  <dc:language>en-US</dc:language>
  <cp:lastModifiedBy>Школа</cp:lastModifiedBy>
  <dcterms:modified xsi:type="dcterms:W3CDTF">2013-03-20T06:47:52Z</dcterms:modified>
  <cp:revision>34</cp:revision>
  <dc:subject/>
  <dc:title>Компетентностный подход  в образован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