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101-FD71-4C5B-92DA-DA812CC1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F09-47CD-4A61-A08E-C11E2A19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084-493A-4268-84C4-1C2BC3E4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CA9-210B-4891-9E3C-2F67B238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6679-8F20-4E90-A486-3F3EC2CE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1E8B-D005-4BE0-BA94-B591CB88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3377-6986-4F37-B2F1-C06657E1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5DB1-DD5A-4515-BFB0-0523AABB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4382-3D50-4657-AEA9-F426C29C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A6E9-7D15-49C4-AD99-392DD7FE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05E9-E100-467D-B4E4-9E42EC68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F8B-6347-4F6B-A3E0-92D0DDE5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59E3-2CC8-4046-B525-A419A0A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3E9B-533C-4C92-BD7A-432BBC81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A340-939C-44F6-A1FC-67AD69B3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E368-0B66-4254-A823-429576A6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F57-73D4-4E2B-9310-070C61FE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1B7-BA67-4F41-AD9C-3F12CFA9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0F0-7F49-4DFC-85B6-CF60CDD1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09C-E2D1-4A67-BF17-F29BEA95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DC1-8401-4EC8-A6A0-4438CC1D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AC5-A1F9-4758-B5FD-681A00A2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C4A-D422-4B28-AD88-99FDDE5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671-B486-40CD-9032-8FA1003B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01A5-C607-4E99-B22A-D8EC5F0370D7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1115-D945-44D0-9143-23151125FFF0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мпетентностный подход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образовании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3715920"/>
            <a:ext cx="6400800" cy="27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Дитрих Е.А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Материалы к педсовету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2010 – 2011 учебный год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МКОУ «Шайковская СОШ № 2»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Калужская область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Цели школьного образования с точки зрения компетентностного подхода</a:t>
            </a:r>
            <a:r>
              <a:rPr b="0" lang="ru-RU" sz="36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471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учиться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решать познавательные проблемы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ориентироваться в ключевых проблемах современной жизни, решать аналитические проблемы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ориентироваться в мире духовных ценностей, отражающих разные культуры и мировоззрения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решать проблемы, связанные с реализацией определённых социальных ролей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решать проблемы, общие для различных видов профессиональной и иной деятельности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решать проблемы профессионального выбора, включая подготовку к дальнейшему обучению в учебных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заведениях системы профессионального образования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Технологии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применение которых способствует успешной реализаци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компетентностного подхода</a:t>
            </a:r>
            <a:r>
              <a:rPr b="0" lang="ru-RU" sz="4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3440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проектная технология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дискуссии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проблемного обучения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развивающего обучения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«обучение в сотрудничестве»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личностно-ориентированное обучение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разноуровневого обучения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«Портфель ученика»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и т.д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1819440" y="390600"/>
            <a:ext cx="55051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Компетенция = Компетентность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Способность делать что-либо хорошо или эффективно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Соответствие требованиям, предъявляемым при устройстве на работу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Способность выполнять особые трудовые функции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КОМПЕТЕНЦИЯ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Способность делать что-либо хорошо или эффективно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Соответствие требованиям, предъявляемым при устройстве на работу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Способность выполнять особые трудовые функции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КОМПЕТЕНТНОСТЬ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основывающаяся на знаниях, интеллектуально- и личностно-обусловленная социально-профессиональ-ная жизнедеятельность человека.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Gothic"/>
              </a:rPr>
              <a:t>Компетентнос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умение активно использовать полученные личные и профессиональные знания и навыки в практической или научной деятельности.  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Элементы понятия «компетентность»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907160" cy="4525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знания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выки 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пособность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тереотипы поведения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силия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ОМПЕТЕНТНОСТИ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33843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ЛЮЧЕВЫЕ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особность учащихся самостоятельно действовать в ситуации неопределённости при решении актуальных для них проблем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35280" y="1557000"/>
            <a:ext cx="505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ЕДМЕТНЫЕ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ческая способность, необходимая для эффективного выполнения конкретного действия в конкретной предметной области и включающая узкоспециальные знания, особого рода предметные навыки, способы мышления, а также понимание ответственности за свои действия. 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Необходимо формирование развивающей среды, способствующей росту компетентностей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Rectangle 3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868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Деятельность учителя при реализации компетентностного подхода</a:t>
            </a:r>
            <a:r>
              <a:rPr b="0" lang="ru-RU" sz="36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8002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сключить награждения и призы за правильно выполненные задания, ограничиваясь лишь оцениванием и похвалой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иучать ребенка к анализу и сравнению своих собственных результатов и достижений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Не навязывать учебных целей "сверху". Совместная работа с ребенком по выработке целей и задач. 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мнить, что наказание за неправильное решение учебной задачи отрицательно влияет на отношение ребенка к учебной деятельности.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араться избегать установления временных ограничений там, где это представляется возможным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ледить за тем, чтобы учебные задания имели уровень оптимальной сложности, способствовали проявлению мастерства и компетентности ребенка.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доставлять ребенку право выбора учебной задачи, не ограничивая при этом его свободы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дбирать учебные задания с элементом новизны и непредсказуемости.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аботать с субъективным (собственным, присвоенным) учебным материалом ребенк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аже в предметн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5:17:45Z</dcterms:created>
  <dc:creator>Дитрих</dc:creator>
  <dc:description/>
  <cp:keywords/>
  <dc:language>en-US</dc:language>
  <cp:lastModifiedBy>Школа</cp:lastModifiedBy>
  <dcterms:modified xsi:type="dcterms:W3CDTF">2013-03-20T06:47:52Z</dcterms:modified>
  <cp:revision>34</cp:revision>
  <dc:subject/>
  <dc:title>Компетентностный подход  в образован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