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19.gif" ContentType="image/gif"/>
  <Override PartName="/ppt/media/image21.jpeg" ContentType="image/jpeg"/>
  <Override PartName="/ppt/media/image16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4.gif" ContentType="image/gif"/>
  <Override PartName="/ppt/media/image31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14B-E8F1-41BD-970F-F6663707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A05-C94B-4B07-9464-2DD5D01B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C2E-FA7D-488B-BAEA-E464598D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AAA-89A9-40FD-B22A-91754555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8433-26F3-4991-9A79-F1D74818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FDD0-DE92-4997-8596-FF8041C4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69EF-023A-46AA-9A27-E52DE97D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A22-68BA-4FA5-925B-D78AAF10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0259-7C03-4C71-8049-76FB5378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329-24C1-4752-803D-178F84E0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6828-507D-408F-A853-42927FC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D60-F3B5-4B14-9BD8-53275107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A02-C6B3-4C09-AA5A-8AB51FF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A058-881E-49FB-B202-342E1C2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7FC7-EF38-4FC6-BDD8-994AA30D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4304-015F-44CB-AE5F-CC54CA6D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EF2B-BF61-445C-BCEE-6705A2F0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0518-24AE-4B14-BFF3-A8A89976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B56F-3C91-4E74-BC43-196F57D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3374-9519-413B-9D5E-FFB8E53D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AFA1-1B1F-4945-9FAA-1DBCB2A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3EFB-C2EB-4E93-8012-C55C246B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0E3-B111-46A0-B4B3-3E8A08F0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3749-A722-4D6E-A33E-101B9E5E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FEA3-770D-4128-B105-253FB609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43E4-2486-4485-ABB3-33DE3270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9F3B-3E91-49C8-A018-4D9A9CB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5859-8255-463F-B75E-7524ABC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4EE8-6B7F-4927-9BD8-93611B60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EC06-839F-4FE2-8C04-298DD209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B78A-CC62-4C61-84A9-CD7F5AEB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FED2-BE95-41AC-9B95-8C92D4D4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A0B8-CFAC-4BFB-97D1-D9A51701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689-73FB-46D1-8E48-FEF8010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1C78-B672-4246-B025-3B975E8A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09D9C-ABCD-487B-8643-3EF7162C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F5DB-5F2F-40EA-8B16-8BEB85D5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7CDA-C0A9-408E-8006-799929D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39E9-8C85-474E-94ED-27BDCC59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880E-59C1-4EFF-85E8-1037C34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6DAD-8DC7-4FF6-882C-71F06E94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BD31-773B-4A03-92F1-E958E908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D73C-BFFD-4F7A-A381-55150C2F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F9011-3FB9-4848-8413-AC32ED72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724-FF24-41E3-9508-444E98BD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8B3A-DC79-4D29-BD72-7531FCE9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4F93-1931-4809-A7AD-06C14F01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EFF8-22AD-4AAA-9B62-6854C71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7349-1071-4455-9364-91D05B3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D4B0-50E9-421B-AE61-D97DA268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F3A8A-1837-4545-A44B-8A09D878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3DEC-5E71-4286-9A03-0C2FDB9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9386-2DC3-4C7A-9E56-2DE0E7EC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A5D6-7B59-4569-ACE0-B0755E1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E48C7-61BE-4546-8858-49D981FE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C6A-F60B-4C13-9D14-071F3990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8C19-0AA4-4EBA-84F1-6246DAB1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614C4-A746-4B26-9002-7F8E5C72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C9F8F-7CE1-4DD9-B34B-F230142C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9402B-3AB0-4E39-8DB2-90FB63CE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E8AB-886B-492D-863B-C2B7FB3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C4B6-647A-4B9E-9BD1-DD82CCD5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4844-7726-4BFC-AEFB-A81FD9B3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F9E9E-98B6-4FFD-8DAC-41EEE3E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C737-E831-4C90-AA05-120EF3F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DB7FB-557B-4887-9175-4756FB4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078-6E21-4636-876D-E8F2B90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9F39F-6A3F-4A2E-A21C-14C66A1F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8D214-5340-4339-B608-6FCC6952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AA5E-C367-4B21-8024-F5E89F7D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F97F4-2F3D-4C40-ADD5-C21BE16E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36F8-524F-4CA4-BE0C-6D4A9F1E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B9C31-3A8C-41A2-B019-A1FEE3EF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4CE0-2E54-42D4-B719-AAE1F935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9C47F-2990-40BB-B39C-AAF77556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1B1A-AB5A-4D7E-9A59-DEDF911E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760B-23EB-4E85-A264-0AE02DD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E9C-186F-4679-9DB0-40BF083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B880E-6AA8-4C7C-BD53-C8C84D8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190EE-6DDD-45B4-941A-555DE83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D77AA-8F1C-4F63-951C-8029E1C7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961CB-7146-472F-93F2-859170D7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712CC-BA0C-4F07-BA6F-0D41AC9E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B2FDA-657A-4E69-BF48-712BD3EE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B5D82-F4CE-411A-8D78-1B90966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0D51-1D11-40F2-BE5D-347809F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94BD1-57B7-4C6C-BBE2-61E136A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6C665-DA13-4AD5-8F2A-61FA6A0D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6D4-8D5F-4E0D-ADA3-DC98B93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6A524-E4BC-4659-BC7C-BEC6C36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10C82-82A0-48D7-A1B1-C7BB43BD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07407-B30B-4E39-A3DD-209FDF46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911CA-70D3-4536-8A1E-D9689180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C007-8ED1-4483-8A09-FF898AF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F71D-2B2F-4F56-8874-3A2E48D7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57FFE-A714-4FEB-893A-CCF10CBA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407D-5F72-4915-96BE-E7A78383A8E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3000-303E-40FF-87F3-8A6EE680F06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E751-CCA8-49C5-A9CA-3B7BE56221F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0937-301C-4576-85AB-DC472445F94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1682-4D7D-4D83-BC85-2143A2BB683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65FD-609C-4A39-A14C-F71D935A3D4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EB3F-1676-450B-8D10-951E6BC5B5BD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A464-69A1-44B3-BB20-73A36C13F33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0" y="191844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ны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«Я и мои пра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400644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73" name="Схема 5" descr=""/>
          <p:cNvPicPr/>
          <p:nvPr/>
        </p:nvPicPr>
        <p:blipFill>
          <a:blip r:embed="rId2"/>
          <a:stretch/>
        </p:blipFill>
        <p:spPr>
          <a:xfrm>
            <a:off x="231840" y="1365120"/>
            <a:ext cx="8778960" cy="4102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едискриминация (статья 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Picture 2" descr="C:\Documents and Settings\Наталья\Мои документы\Мои рисунки\99_1.jpg"/>
          <p:cNvPicPr/>
          <p:nvPr/>
        </p:nvPicPr>
        <p:blipFill>
          <a:blip r:embed="rId1"/>
          <a:stretch/>
        </p:blipFill>
        <p:spPr>
          <a:xfrm>
            <a:off x="1928880" y="2928960"/>
            <a:ext cx="5143320" cy="36828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500040" y="92664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не должны подвергаться какой-либо дискриминации по признаку 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Calibri"/>
              </a:rPr>
              <a:t>"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расы, цвета кожи, пола, языка, религии, политических или иных убеждений, национального, этнического или социального происхождения, имущественного положения, состояния здоровь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обстоятельств рождения ребенка, его родителей или законных опекунов или каких-либо иных обстоятельств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H:\МАМА\АНИМАШКИ\7de2f52d7e092eb3600c2b41a224e24b.gif"/>
          <p:cNvPicPr/>
          <p:nvPr/>
        </p:nvPicPr>
        <p:blipFill>
          <a:blip r:embed="rId2"/>
          <a:stretch/>
        </p:blipFill>
        <p:spPr>
          <a:xfrm>
            <a:off x="357120" y="3429000"/>
            <a:ext cx="1071720" cy="2679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:\МАМА\АНИМАШКИ\6236051.gif"/>
          <p:cNvPicPr/>
          <p:nvPr/>
        </p:nvPicPr>
        <p:blipFill>
          <a:blip r:embed="rId3"/>
          <a:stretch/>
        </p:blipFill>
        <p:spPr>
          <a:xfrm>
            <a:off x="7429680" y="3143160"/>
            <a:ext cx="105084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Наилучшее обеспечение интересов ребенка (статья 3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357120" y="122112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Во всех решениях или действиях, которые затрагивают ребенка или детей как группу, в первую очередь необходимо учитывать наилучшие интересы ребенка. Это остается справедливым, независимо от того, принимаются ли решения правительственными, административными или судебными властями, либо сем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C:\Documents and Settings\Наталья\Мои документы\Мои рисунки\3578.jpg"/>
          <p:cNvPicPr/>
          <p:nvPr/>
        </p:nvPicPr>
        <p:blipFill>
          <a:blip r:embed="rId1"/>
          <a:stretch/>
        </p:blipFill>
        <p:spPr>
          <a:xfrm>
            <a:off x="1928880" y="2857680"/>
            <a:ext cx="5238720" cy="3485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:\МАМА\Для сайта\gif_animated\002131.gif"/>
          <p:cNvPicPr/>
          <p:nvPr/>
        </p:nvPicPr>
        <p:blipFill>
          <a:blip r:embed="rId2"/>
          <a:stretch/>
        </p:blipFill>
        <p:spPr>
          <a:xfrm>
            <a:off x="0" y="407196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:\МАМА\Для сайта\gif_animated\002131.gif"/>
          <p:cNvPicPr/>
          <p:nvPr/>
        </p:nvPicPr>
        <p:blipFill>
          <a:blip r:embed="rId3"/>
          <a:stretch/>
        </p:blipFill>
        <p:spPr>
          <a:xfrm>
            <a:off x="857160" y="5000760"/>
            <a:ext cx="905040" cy="90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:\МАМА\Для сайта\gif_animated\002131.gif"/>
          <p:cNvPicPr/>
          <p:nvPr/>
        </p:nvPicPr>
        <p:blipFill>
          <a:blip r:embed="rId4"/>
          <a:stretch/>
        </p:blipFill>
        <p:spPr>
          <a:xfrm>
            <a:off x="428760" y="328608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H:\МАМА\Для сайта\gif_animated\002131.gif"/>
          <p:cNvPicPr/>
          <p:nvPr/>
        </p:nvPicPr>
        <p:blipFill>
          <a:blip r:embed="rId5"/>
          <a:stretch/>
        </p:blipFill>
        <p:spPr>
          <a:xfrm>
            <a:off x="7572240" y="328608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:\МАМА\Для сайта\gif_animated\002131.gif"/>
          <p:cNvPicPr/>
          <p:nvPr/>
        </p:nvPicPr>
        <p:blipFill>
          <a:blip r:embed="rId6"/>
          <a:stretch/>
        </p:blipFill>
        <p:spPr>
          <a:xfrm>
            <a:off x="7929720" y="414324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H:\МАМА\Для сайта\gif_animated\002131.gif"/>
          <p:cNvPicPr/>
          <p:nvPr/>
        </p:nvPicPr>
        <p:blipFill>
          <a:blip r:embed="rId7"/>
          <a:stretch/>
        </p:blipFill>
        <p:spPr>
          <a:xfrm>
            <a:off x="7286760" y="5214960"/>
            <a:ext cx="904680" cy="904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Право на жизнь, выживание и развитие (статья 6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285840" y="143244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имеют право на выживание и всестороннее развитие, включая физическое, эмоциональное, психосоциальное, познавательное социальное и культур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C:\Documents and Settings\Наталья\Мои документы\Мои рисунки\pic01.jpg"/>
          <p:cNvPicPr/>
          <p:nvPr/>
        </p:nvPicPr>
        <p:blipFill>
          <a:blip r:embed="rId1"/>
          <a:stretch/>
        </p:blipFill>
        <p:spPr>
          <a:xfrm>
            <a:off x="2500200" y="2286000"/>
            <a:ext cx="3000600" cy="3997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H:\МАМА\АНИМАШКИ\6f95c142022010aff6af7f0ca5166009.gif"/>
          <p:cNvPicPr/>
          <p:nvPr/>
        </p:nvPicPr>
        <p:blipFill>
          <a:blip r:embed="rId2"/>
          <a:stretch/>
        </p:blipFill>
        <p:spPr>
          <a:xfrm>
            <a:off x="571680" y="4357800"/>
            <a:ext cx="1928520" cy="2011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:\МАМА\Презентации\Сашина презентация\359504974.gif"/>
          <p:cNvPicPr/>
          <p:nvPr/>
        </p:nvPicPr>
        <p:blipFill>
          <a:blip r:embed="rId3"/>
          <a:stretch/>
        </p:blipFill>
        <p:spPr>
          <a:xfrm>
            <a:off x="5286240" y="1857240"/>
            <a:ext cx="3357720" cy="2748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Взгляды ребёнка (статья 12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285840" y="136404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ям необходимо давать возможность участвовать в решении всех вопросов, касающихся их жизни, и обеспечивать свободу выражения их мнений. Они имеют право на то, чтобы к их мнению прислушивались и самым серьезным образом принимали его во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C:\Documents and Settings\Наталья\Мои документы\Мои рисунки\centerimg_index.jpg"/>
          <p:cNvPicPr/>
          <p:nvPr/>
        </p:nvPicPr>
        <p:blipFill>
          <a:blip r:embed="rId1"/>
          <a:stretch/>
        </p:blipFill>
        <p:spPr>
          <a:xfrm>
            <a:off x="1143000" y="2928960"/>
            <a:ext cx="69627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4" descr=""/>
          <p:cNvPicPr/>
          <p:nvPr/>
        </p:nvPicPr>
        <p:blipFill>
          <a:blip r:embed="rId1"/>
          <a:stretch/>
        </p:blipFill>
        <p:spPr>
          <a:xfrm>
            <a:off x="274680" y="2700360"/>
            <a:ext cx="8594640" cy="1384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D:\Права ребенка\44baf1b9d1bc76008382292dfaf65e18.jpg"/>
          <p:cNvPicPr/>
          <p:nvPr/>
        </p:nvPicPr>
        <p:blipFill>
          <a:blip r:embed="rId2"/>
          <a:stretch/>
        </p:blipFill>
        <p:spPr>
          <a:xfrm>
            <a:off x="285840" y="214200"/>
            <a:ext cx="2000160" cy="241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4143240" y="1199160"/>
            <a:ext cx="478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имя и гражданство при рождении, а также право знать своих родителей и рассчитывать на их з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pic>
        <p:nvPicPr>
          <p:cNvPr id="400" name="Picture 3" descr="C:\Documents and Settings\школа\Мои документы\Загрузки\семья.jpg"/>
          <p:cNvPicPr/>
          <p:nvPr/>
        </p:nvPicPr>
        <p:blipFill>
          <a:blip r:embed="rId1"/>
          <a:stretch/>
        </p:blipFill>
        <p:spPr>
          <a:xfrm>
            <a:off x="428760" y="1428840"/>
            <a:ext cx="3508200" cy="4708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4143240" y="1728360"/>
            <a:ext cx="471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уважать право ребенка на свободу мысли, совести и религии. Родители или опекуны ребенка должны разъяснить ему это пра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5, 16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4500720" y="1442520"/>
            <a:ext cx="46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меют право встречаться и объединяться в группы, если только это не нарушает общественную безопасность и порядо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C:\Documents and Settings\школа\Рабочий стол\Новая папка\e8dfd0978469.jpg"/>
          <p:cNvPicPr/>
          <p:nvPr/>
        </p:nvPicPr>
        <p:blipFill>
          <a:blip r:embed="rId1"/>
          <a:stretch/>
        </p:blipFill>
        <p:spPr>
          <a:xfrm>
            <a:off x="357120" y="1357200"/>
            <a:ext cx="4071960" cy="34545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285840" y="486468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 ребенок имеет право на личную жизнь,  на защиту от незаконного посягательства на его честь и репут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7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3929040" y="1357200"/>
            <a:ext cx="50007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доступ к информации и материалам, способствующим духовному и моральному благополучию, здоровому физическому и психическому развитию реб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" descr="C:\Documents and Settings\школа\Рабочий стол\Новая папка\5486bdef0a0b559d73daf16f3c3d3c98.jpg"/>
          <p:cNvPicPr/>
          <p:nvPr/>
        </p:nvPicPr>
        <p:blipFill>
          <a:blip r:embed="rId1"/>
          <a:srcRect l="5580" t="0" r="5083" b="0"/>
          <a:stretch/>
        </p:blipFill>
        <p:spPr>
          <a:xfrm>
            <a:off x="500040" y="171468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0" y="1924560"/>
            <a:ext cx="8785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евиз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люди рождаются свободными и равными в своем достоинстве и пра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 Всеобщая Декларация прав человека. Статья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4071960" y="1349280"/>
            <a:ext cx="4786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всех видов насилия, отсутствия заботы и плохого обращения со стороны родителей или других лиц, а также помогать ребенку, подвергшемуся жестокому обращению со стороны взросл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basik.ru/images/2691/short.jpg"/>
          <p:cNvPicPr/>
          <p:nvPr/>
        </p:nvPicPr>
        <p:blipFill>
          <a:blip r:embed="rId1"/>
          <a:stretch/>
        </p:blipFill>
        <p:spPr>
          <a:xfrm>
            <a:off x="500040" y="1500120"/>
            <a:ext cx="3500640" cy="348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19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5" name="Прямоугольник 5"/>
          <p:cNvSpPr/>
          <p:nvPr/>
        </p:nvSpPr>
        <p:spPr>
          <a:xfrm>
            <a:off x="4714920" y="1357200"/>
            <a:ext cx="42148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лишается своей семьи, то он вправе рассчитывать на особую защиту и помощь со стороны государства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http://ugorsk.ru/razdel/social_sf/opeka/priemnaj%20semaj%20%20Cippo.jpg"/>
          <p:cNvPicPr/>
          <p:nvPr/>
        </p:nvPicPr>
        <p:blipFill>
          <a:blip r:embed="rId1"/>
          <a:srcRect l="3126" t="0" r="3126" b="0"/>
          <a:stretch/>
        </p:blipFill>
        <p:spPr>
          <a:xfrm>
            <a:off x="357120" y="1357200"/>
            <a:ext cx="4286160" cy="31482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7"/>
          <p:cNvSpPr/>
          <p:nvPr/>
        </p:nvSpPr>
        <p:spPr>
          <a:xfrm>
            <a:off x="285840" y="4857840"/>
            <a:ext cx="8572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может передать ребенка на воспитание тем людям, которые уважают его родные язык, религию и культур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4572000" y="1643040"/>
            <a:ext cx="435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храну своего здоровья: на получение медицинской помощи, чистой питьевой воды и полноценного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http://aif.ru/application/public/article/272/934a053b2f4005184b3e3dfdd967b585_big.jpg"/>
          <p:cNvPicPr/>
          <p:nvPr/>
        </p:nvPicPr>
        <p:blipFill>
          <a:blip r:embed="rId1"/>
          <a:srcRect l="16504" t="18449" r="24961" b="24182"/>
          <a:stretch/>
        </p:blipFill>
        <p:spPr>
          <a:xfrm>
            <a:off x="500040" y="1643040"/>
            <a:ext cx="3882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8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2" name="Прямоугольник 5"/>
          <p:cNvSpPr/>
          <p:nvPr/>
        </p:nvSpPr>
        <p:spPr>
          <a:xfrm>
            <a:off x="4143240" y="1285920"/>
            <a:ext cx="48578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бразование. Начальное образование должно быть обязательным и бесплатным, среднее и высшее - доступным для всех детей. В школах должны соблюдаться права ребенка и проявляться уважение к его человеческому достоинств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http://image.websib.ru/06/img/kid_with_book.jpg"/>
          <p:cNvPicPr/>
          <p:nvPr/>
        </p:nvPicPr>
        <p:blipFill>
          <a:blip r:embed="rId1"/>
          <a:stretch/>
        </p:blipFill>
        <p:spPr>
          <a:xfrm>
            <a:off x="357120" y="1428840"/>
            <a:ext cx="3743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0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4286160" y="1006560"/>
            <a:ext cx="4714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принадлежит к этническому, религиозному или языковому меньшинству, он имеет право говорить на родном языке и соблюдать родные обычаи, исповедовать свою религ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http://dob.1september.ru/2002/20/3.jpg"/>
          <p:cNvPicPr/>
          <p:nvPr/>
        </p:nvPicPr>
        <p:blipFill>
          <a:blip r:embed="rId1"/>
          <a:stretch/>
        </p:blipFill>
        <p:spPr>
          <a:xfrm>
            <a:off x="428760" y="19288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1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4929120" y="119916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тдых и игры, а также на участие в культурной и творческ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http://www.mddm.org/decor/arch/black06/009.jpg"/>
          <p:cNvPicPr/>
          <p:nvPr/>
        </p:nvPicPr>
        <p:blipFill>
          <a:blip r:embed="rId1"/>
          <a:srcRect l="7238" t="0" r="1620" b="0"/>
          <a:stretch/>
        </p:blipFill>
        <p:spPr>
          <a:xfrm>
            <a:off x="357120" y="150012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2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31" name="Rectangle 1"/>
          <p:cNvSpPr/>
          <p:nvPr/>
        </p:nvSpPr>
        <p:spPr>
          <a:xfrm>
            <a:off x="4572000" y="159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должно защищать ребенка от опасной, вредной и непосильно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е должна мешать образованию и духовно-физическому развитию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http://www.childjustice.org/assets/images/Child-Labour05b.jpg"/>
          <p:cNvPicPr/>
          <p:nvPr/>
        </p:nvPicPr>
        <p:blipFill>
          <a:blip r:embed="rId1"/>
          <a:stretch/>
        </p:blipFill>
        <p:spPr>
          <a:xfrm>
            <a:off x="857160" y="1571760"/>
            <a:ext cx="2762280" cy="38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67644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txBody>
          <a:bodyPr lIns="2743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4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4572000" y="1299960"/>
            <a:ext cx="43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обеспечивает, чтобы ни один ребенок не подвергался пыткам, жестокому обращению, незаконному аресту и лишению свободы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http://schelkovo-blagochin.orthodoxy.ru/press/svetilnik/2008_102/images/ystic_1.jpg"/>
          <p:cNvPicPr/>
          <p:nvPr/>
        </p:nvPicPr>
        <p:blipFill>
          <a:blip r:embed="rId1"/>
          <a:stretch/>
        </p:blipFill>
        <p:spPr>
          <a:xfrm>
            <a:off x="571680" y="1643040"/>
            <a:ext cx="3786120" cy="268776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7"/>
          <p:cNvSpPr/>
          <p:nvPr/>
        </p:nvSpPr>
        <p:spPr>
          <a:xfrm>
            <a:off x="571680" y="48578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лишенный свободы ребенок имеет право поддерживать контакты со своей семьей, получать правовую помощь и искать защиту в су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minjust.tatar.ru/rus/file/news/news_33971.jpg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8" descr=""/>
          <p:cNvPicPr/>
          <p:nvPr/>
        </p:nvPicPr>
        <p:blipFill>
          <a:blip r:embed="rId2"/>
          <a:stretch/>
        </p:blipFill>
        <p:spPr>
          <a:xfrm>
            <a:off x="1011240" y="609480"/>
            <a:ext cx="8327880" cy="2170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http://blago.katren.ru/assets/images/99_1.jpg"/>
          <p:cNvPicPr/>
          <p:nvPr/>
        </p:nvPicPr>
        <p:blipFill>
          <a:blip r:embed="rId3"/>
          <a:stretch/>
        </p:blipFill>
        <p:spPr>
          <a:xfrm>
            <a:off x="2143080" y="2786040"/>
            <a:ext cx="476244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179280" y="98100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кета «Умеем ли мы общаться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В классе начался спор на повышенных то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ак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 принимаю учас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ишь кратко высказываюсь в защиту той точки зрения, которую считаю прави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Активно вмешиваюсь и «вызываю огонь на себ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-2124000" y="424080"/>
            <a:ext cx="878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у много н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Чтобы счастливо пр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ен дождь и даже лу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но с кем-нибудь др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ен ветер, нужно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но солнце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ужно счастье, нужн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И родные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4"/>
          <p:cNvSpPr/>
          <p:nvPr/>
        </p:nvSpPr>
        <p:spPr>
          <a:xfrm>
            <a:off x="324000" y="1700280"/>
            <a:ext cx="84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Часто ли вы спорите с друзь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олько в шутку и то, если это люди необидчи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ишь по принципиальным вопро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поры – моя стих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4"/>
          <p:cNvSpPr/>
          <p:nvPr/>
        </p:nvSpPr>
        <p:spPr>
          <a:xfrm>
            <a:off x="324000" y="170028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Дома на обед подали несоленый суп. Ваша Реак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 буду поднимать бучу из –за  пустя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олча возьму соло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е удержусь от едких замечаний, и, быть может, демонстративно откажусь от 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324000" y="1700280"/>
            <a:ext cx="84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а улице или в транспорте наступили вам на н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 возмущением посмотрю на обид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ухо, без эмоций сделаю замеч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скажусь, не стесняясь в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http://lastohka1962.rusedu.net/gallery/3558/Bezymyannyi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4"/>
          <p:cNvSpPr/>
          <p:nvPr/>
        </p:nvSpPr>
        <p:spPr>
          <a:xfrm>
            <a:off x="324000" y="170028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  Кто- то в семье купил вещь, которая вам не нр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омол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граничусь коротким, но тактичным комментар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ыскажу все, что я дум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tvoyrebenok.ru/images/presentation/nice/m/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3" descr=""/>
          <p:cNvPicPr/>
          <p:nvPr/>
        </p:nvPicPr>
        <p:blipFill>
          <a:blip r:embed="rId2"/>
          <a:stretch/>
        </p:blipFill>
        <p:spPr>
          <a:xfrm>
            <a:off x="-115920" y="476280"/>
            <a:ext cx="7345440" cy="395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-2052720" y="18036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 без прир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синеющих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о иметь своб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агадок и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жить на бело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 остался рядом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главное заме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почувствовать вокруг.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lastohka1962.rusedu.net/gallery/3558/Bezymyannyi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468360" y="1341360"/>
            <a:ext cx="8136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права есть у реб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статочно ли прав у детей? (да, нет, не зн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ую роль играют права в жизни человека?   (очень большую, не очень большую, маленькую, никакой, не зн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ожешь и ты добиться, чтобы твои права уважали? (да, нет, не всегда, не зн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lastohka1962.rusedu.net/gallery/3558/Bezymyannyi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79280" y="1341360"/>
            <a:ext cx="878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кие черты характера помогают человеку добиться уважения своих пра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защищают права ребенка в нашей стране? (хорошо, плохо, никак, не зна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Какие права ты считаешь самыми важными для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Кто больше всего нуждается в защите своих пра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Как ты считаешь, в каком воз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говорить детям о правах ребе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Текст 8" descr=""/>
          <p:cNvPicPr/>
          <p:nvPr/>
        </p:nvPicPr>
        <p:blipFill>
          <a:blip r:embed="rId1"/>
          <a:stretch/>
        </p:blipFill>
        <p:spPr>
          <a:xfrm>
            <a:off x="1292400" y="4187880"/>
            <a:ext cx="6791040" cy="126216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9" descr=""/>
          <p:cNvPicPr/>
          <p:nvPr/>
        </p:nvPicPr>
        <p:blipFill>
          <a:blip r:embed="rId2"/>
          <a:stretch/>
        </p:blipFill>
        <p:spPr>
          <a:xfrm>
            <a:off x="1066680" y="2577960"/>
            <a:ext cx="7467840" cy="1603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C:\Documents and Settings\Наталья\Мои документы\Мои рисунки\sd10.gif"/>
          <p:cNvPicPr/>
          <p:nvPr/>
        </p:nvPicPr>
        <p:blipFill>
          <a:blip r:embed="rId3"/>
          <a:stretch/>
        </p:blipFill>
        <p:spPr>
          <a:xfrm>
            <a:off x="0" y="357120"/>
            <a:ext cx="235260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3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Documents and Settings\Наталья\Мои документы\Мои рисунки\2009_04_10_16_41_163466668.jpg"/>
          <p:cNvPicPr/>
          <p:nvPr/>
        </p:nvPicPr>
        <p:blipFill>
          <a:blip r:embed="rId2"/>
          <a:stretch/>
        </p:blipFill>
        <p:spPr>
          <a:xfrm>
            <a:off x="4889520" y="1214280"/>
            <a:ext cx="4254480" cy="5121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Documents and Settings\Наталья\Мои документы\Мои рисунки\babies.jpg"/>
          <p:cNvPicPr/>
          <p:nvPr/>
        </p:nvPicPr>
        <p:blipFill>
          <a:blip r:embed="rId3"/>
          <a:stretch/>
        </p:blipFill>
        <p:spPr>
          <a:xfrm>
            <a:off x="0" y="1214280"/>
            <a:ext cx="5072040" cy="50724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7"/>
          <p:cNvSpPr/>
          <p:nvPr/>
        </p:nvSpPr>
        <p:spPr>
          <a:xfrm>
            <a:off x="0" y="11430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3 году неправительственной организацией "Международный союз спасения детей" была разработана первая Декларация о правах ребенка, содержащая основные условия, которым должно следовать общество, чтобы обеспечить соответствующую защиту детей и заботу о них. Декларация была одобрена в 1924 году Ассамблеей Лиги Наций и получила название Женевской. "Быть объектом особой заботы и помощи со стороны общества и государства», - такое отношение к детям провозгласила «Всеобщая декларация прав человека", принятая ООН 10 декабря 1948 года. В 1959 году Генеральная Ассамблея ООН принимает новую Декларацию прав ребенка, содержащую 10 принципов обеспечения защиты и благосостоя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ноября 1989 года Конвенция о правах ребенка единогласно принимается Генеральной Ассамблеей ООН. Государства, подписавшие Конвенцию, приняли на себя правовую ответственность за действия в отношении детей, обязались пересмотреть свое национальное законодательство в соответствии с положениями этого международного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нашей страны Конвенция о правах ребенка вступила в законную силу 15 сентября 199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44600" y="426960"/>
            <a:ext cx="8431200" cy="762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Наталья\Мои документы\Мои рисунки\ef45a1b3ee50.jpg"/>
          <p:cNvPicPr/>
          <p:nvPr/>
        </p:nvPicPr>
        <p:blipFill>
          <a:blip r:embed="rId2"/>
          <a:stretch/>
        </p:blipFill>
        <p:spPr>
          <a:xfrm>
            <a:off x="428760" y="1285920"/>
            <a:ext cx="3714480" cy="32637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5"/>
          <p:cNvSpPr/>
          <p:nvPr/>
        </p:nvSpPr>
        <p:spPr>
          <a:xfrm>
            <a:off x="4286160" y="12859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уязвимы, чем взрослые, к условия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олее подвержены влиянию действий или бездействия прави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собенно уязвимы к эксплуатации и дурному обра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е голосуют, не имеют политического и экономического влияния. Слишком часто их голоса не слыш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428760" y="50007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это служило основанием для разработки документа, направленного на обеспечение прав детей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Лена</cp:lastModifiedBy>
  <dcterms:modified xsi:type="dcterms:W3CDTF">2013-03-20T19:21:20Z</dcterms:modified>
  <cp:revision>82</cp:revision>
  <dc:subject/>
  <dc:title>Слайд 1</dc:title>
</cp:coreProperties>
</file>