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19.gif" ContentType="image/gif"/>
  <Override PartName="/ppt/media/image21.jpeg" ContentType="image/jpeg"/>
  <Override PartName="/ppt/media/image16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4.gif" ContentType="image/gif"/>
  <Override PartName="/ppt/media/image31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6EC-3256-4169-9093-331420CD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1F5-9A2E-49D3-8BF0-A0D9B298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B11-11B4-41F9-8BBD-EF3B6418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17-9F3E-48DF-9768-B22B1BF1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2518-79F7-41A5-8CF0-CA47F86C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75AC-B21C-4AC8-829E-5D5C851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2406-97E6-4716-85B6-6BBFD78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F2F-1AB5-4306-B9B3-F4959D3C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A6E-A201-433C-BF20-5C5B6AF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A4E-28DC-434D-A898-8D2AECE4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7D46-2EB9-477A-938C-4EC8F6F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BE5-C41D-47F3-B2AC-E0115BE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DDD-5798-49C1-83BE-41321BB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8867-052A-40B9-BBCF-2D9436FD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7F2-C0FA-489A-BAF6-B6F366CF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B64B-B716-49D9-8656-E173AD19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406-E1C8-4959-B64B-8FA3B4A9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D1DB-7A39-4CC3-ADA3-08E37D7A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C93B-96A0-47E8-926C-D15528D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3D43-1541-4DB0-9F98-094A79D4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9FBC-67A5-4546-9A5B-58A93C5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1984-5EFC-499A-868A-B229AEE5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8F-5605-48DB-9CB3-68CA18ED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0633-1E7E-4ACB-A352-25A6F973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CFCF-B3E9-48B1-BE55-97E00F7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E347-011A-443C-B7DE-7B91683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0390-9AC6-4473-AFCF-82F9993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4456-6390-4967-BD85-3D648ED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0853-FF11-4CEC-93C3-7326A15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AB7B-7AF4-4FA5-8CB4-86000D76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6037-C13A-479C-95BE-08077721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87D9-72EA-443D-9DC8-A3E2FB4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5B0C-B219-423D-9F8F-76F234E4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D6F-2E26-4BB1-AA4E-C3260BD9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89A3-5E6C-4696-A7B7-F17B8CA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1AAB-55DF-4DB1-903B-9657364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2892-0B76-4735-951B-F8EF5E7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08C1-B970-4B0A-944F-BA73CDD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E307-8393-424E-89B2-6C5BFC4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22BC-ACC3-48F2-B381-4E633D3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E777-05D2-42BB-B31C-823898E9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98FE-EDD0-49EE-9D2B-255AA614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D3F8-904A-4852-86DF-D94F8F3C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5A6D-D5A6-4F7E-AB12-7A1011E7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828-8C7E-4ADE-8FE0-6737DBF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FBEF-5254-407B-ABEB-644C619B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721E-4FFC-4617-822A-0C7BF73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E482-7F98-4147-A5A7-4C98BC0C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C15D-CDEA-4449-8DEC-4506118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1C6DB-42D2-46AB-8913-86D0DBF6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6000-FAEE-4F41-9CF2-CEDA11E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1DB1-3E44-4680-A823-A2C4A1A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9264-C82A-40A6-A207-3F64605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426B-52D3-40E8-83D4-8149943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368D-C8D4-48DB-8F8F-B97B7300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937-D205-48C1-BBB0-41A5DA2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B03E-F743-4483-ADCA-E575FDEF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D317-F4E1-4637-941A-4D12998F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F88C-4250-471F-B4C5-22BDC5C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EA16-90B4-4B08-9CCA-1F5BC6BA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0A28-B1F7-4B56-B435-E88CEA8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E94E-8A7B-438F-85E2-ACCCCFA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A61A-4371-43D4-A28A-B67670B4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D679-7FCD-47F2-9286-EADE5CB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2931-AE5F-455F-9C9A-5E33B62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E673-C455-40DC-B8B9-12F6DB7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804-0ECF-4625-9325-7C2872A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8DB31-CA37-4C22-8B90-69D981B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1F091-592B-4067-851B-C8DD76AC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FFC5-C787-40E8-8036-74740CA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4B99-ED55-4833-AC7C-46A6EC82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04FB-6A2A-4FDB-9D2A-19CF4B0F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26F8-4D49-4A65-92C1-DA5F19D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5BE4-4850-43AA-901B-111F57D8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A7AB-E2B5-4ACD-9800-DD43337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0A6D-BBAF-4F66-8E91-C2368CCB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FF79-E175-4C46-9C1C-F8F991E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6EC-7AEA-447B-A6D4-EC2E968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212D1-3049-490A-BF4D-9FB1C5E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A663-F8E3-4AC3-9DF4-56EDE0A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84B39-B1FC-4DEA-813C-26DF5C1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3845-6648-4527-AE29-8E2CA2D9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3C91-F478-4351-8F5F-1AC20D9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0A0E-E9B6-4D00-8323-5C523FFC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8CDA9-04B5-4791-B837-E43E799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91047-35FA-4A3A-8E2E-549F651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A641-EC5B-46D5-9C17-9761519F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AC7D-6FB8-45F0-92CD-F85EADC2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84A-60D4-49F4-9A43-D5D10BE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7FDA-3A20-4183-8EFB-69F18167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1DDB-5421-4240-B318-CD582F7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D4679-25D4-4278-B09E-046915D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6603-1FCE-4D86-8669-46A0DFB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8A360-C2B0-42DD-8939-1EF1F91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06C7B-1368-4D50-BE6E-0B439F6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F67B-24E1-4CDF-815C-5657C44E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D2D-724B-4950-8E93-64915861A2B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26D-5654-4B6C-9BD9-C7459212484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88D-7DDE-437D-8EDA-C2E85099F66D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EAB-54B4-492F-A850-028EC6EFD85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3FC-E4DA-4D65-A2C3-FF1A6CF74BB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13B0-266D-45D1-A704-F0CCF71C109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9E9-9EFC-43DA-8440-AA445B57F43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58F-B085-4B51-90B1-D533DA7DAA2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0" y="191844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ны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«Я и мои пра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40064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73" name="Схема 5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778960" cy="410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едискриминация (статья 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Picture 2" descr="C:\Documents and Settings\Наталья\Мои документы\Мои рисунки\99_1.jpg"/>
          <p:cNvPicPr/>
          <p:nvPr/>
        </p:nvPicPr>
        <p:blipFill>
          <a:blip r:embed="rId1"/>
          <a:stretch/>
        </p:blipFill>
        <p:spPr>
          <a:xfrm>
            <a:off x="1928880" y="2928960"/>
            <a:ext cx="5143320" cy="36828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500040" y="92664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не должны подвергаться какой-либо дискриминации по признаку 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Calibri"/>
              </a:rPr>
              <a:t>"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обстоятельств рождения ребенка, его родителей или законных опекунов или каких-либо иных обстоятельств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:\МАМА\АНИМАШКИ\7de2f52d7e092eb3600c2b41a224e24b.gif"/>
          <p:cNvPicPr/>
          <p:nvPr/>
        </p:nvPicPr>
        <p:blipFill>
          <a:blip r:embed="rId2"/>
          <a:stretch/>
        </p:blipFill>
        <p:spPr>
          <a:xfrm>
            <a:off x="357120" y="3429000"/>
            <a:ext cx="1071720" cy="2679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:\МАМА\АНИМАШКИ\6236051.gif"/>
          <p:cNvPicPr/>
          <p:nvPr/>
        </p:nvPicPr>
        <p:blipFill>
          <a:blip r:embed="rId3"/>
          <a:stretch/>
        </p:blipFill>
        <p:spPr>
          <a:xfrm>
            <a:off x="7429680" y="3143160"/>
            <a:ext cx="105084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аилучшее обеспечение интересов ребенка (статья 3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57120" y="122112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C:\Documents and Settings\Наталья\Мои документы\Мои рисунки\3578.jpg"/>
          <p:cNvPicPr/>
          <p:nvPr/>
        </p:nvPicPr>
        <p:blipFill>
          <a:blip r:embed="rId1"/>
          <a:stretch/>
        </p:blipFill>
        <p:spPr>
          <a:xfrm>
            <a:off x="1928880" y="2857680"/>
            <a:ext cx="5238720" cy="3485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:\МАМА\Для сайта\gif_animated\002131.gif"/>
          <p:cNvPicPr/>
          <p:nvPr/>
        </p:nvPicPr>
        <p:blipFill>
          <a:blip r:embed="rId2"/>
          <a:stretch/>
        </p:blipFill>
        <p:spPr>
          <a:xfrm>
            <a:off x="0" y="407196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:\МАМА\Для сайта\gif_animated\002131.gif"/>
          <p:cNvPicPr/>
          <p:nvPr/>
        </p:nvPicPr>
        <p:blipFill>
          <a:blip r:embed="rId3"/>
          <a:stretch/>
        </p:blipFill>
        <p:spPr>
          <a:xfrm>
            <a:off x="857160" y="500076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:\МАМА\Для сайта\gif_animated\002131.gif"/>
          <p:cNvPicPr/>
          <p:nvPr/>
        </p:nvPicPr>
        <p:blipFill>
          <a:blip r:embed="rId4"/>
          <a:stretch/>
        </p:blipFill>
        <p:spPr>
          <a:xfrm>
            <a:off x="428760" y="3286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H:\МАМА\Для сайта\gif_animated\002131.gif"/>
          <p:cNvPicPr/>
          <p:nvPr/>
        </p:nvPicPr>
        <p:blipFill>
          <a:blip r:embed="rId5"/>
          <a:stretch/>
        </p:blipFill>
        <p:spPr>
          <a:xfrm>
            <a:off x="7572240" y="3286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:\МАМА\Для сайта\gif_animated\002131.gif"/>
          <p:cNvPicPr/>
          <p:nvPr/>
        </p:nvPicPr>
        <p:blipFill>
          <a:blip r:embed="rId6"/>
          <a:stretch/>
        </p:blipFill>
        <p:spPr>
          <a:xfrm>
            <a:off x="7929720" y="414324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H:\МАМА\Для сайта\gif_animated\002131.gif"/>
          <p:cNvPicPr/>
          <p:nvPr/>
        </p:nvPicPr>
        <p:blipFill>
          <a:blip r:embed="rId7"/>
          <a:stretch/>
        </p:blipFill>
        <p:spPr>
          <a:xfrm>
            <a:off x="7286760" y="521496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Право на жизнь, выживание и развитие (статья 6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85840" y="143244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имеют право на выживание и всестороннее развитие, включая физическое, эмоциональное, психосоциальное, познавательное социальное и культур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C:\Documents and Settings\Наталья\Мои документы\Мои рисунки\pic01.jpg"/>
          <p:cNvPicPr/>
          <p:nvPr/>
        </p:nvPicPr>
        <p:blipFill>
          <a:blip r:embed="rId1"/>
          <a:stretch/>
        </p:blipFill>
        <p:spPr>
          <a:xfrm>
            <a:off x="2500200" y="2286000"/>
            <a:ext cx="3000600" cy="3997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H:\МАМА\АНИМАШКИ\6f95c142022010aff6af7f0ca5166009.gif"/>
          <p:cNvPicPr/>
          <p:nvPr/>
        </p:nvPicPr>
        <p:blipFill>
          <a:blip r:embed="rId2"/>
          <a:stretch/>
        </p:blipFill>
        <p:spPr>
          <a:xfrm>
            <a:off x="571680" y="4357800"/>
            <a:ext cx="1928520" cy="2011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:\МАМА\Презентации\Сашина презентация\359504974.gif"/>
          <p:cNvPicPr/>
          <p:nvPr/>
        </p:nvPicPr>
        <p:blipFill>
          <a:blip r:embed="rId3"/>
          <a:stretch/>
        </p:blipFill>
        <p:spPr>
          <a:xfrm>
            <a:off x="5286240" y="1857240"/>
            <a:ext cx="3357720" cy="2748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Взгляды ребёнка (статья 1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85840" y="136404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C:\Documents and Settings\Наталья\Мои документы\Мои рисунки\centerimg_index.jpg"/>
          <p:cNvPicPr/>
          <p:nvPr/>
        </p:nvPicPr>
        <p:blipFill>
          <a:blip r:embed="rId1"/>
          <a:stretch/>
        </p:blipFill>
        <p:spPr>
          <a:xfrm>
            <a:off x="1143000" y="2928960"/>
            <a:ext cx="69627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4" descr=""/>
          <p:cNvPicPr/>
          <p:nvPr/>
        </p:nvPicPr>
        <p:blipFill>
          <a:blip r:embed="rId1"/>
          <a:stretch/>
        </p:blipFill>
        <p:spPr>
          <a:xfrm>
            <a:off x="274680" y="2700360"/>
            <a:ext cx="8594640" cy="1384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Права ребенка\44baf1b9d1bc76008382292dfaf65e18.jpg"/>
          <p:cNvPicPr/>
          <p:nvPr/>
        </p:nvPicPr>
        <p:blipFill>
          <a:blip r:embed="rId2"/>
          <a:stretch/>
        </p:blipFill>
        <p:spPr>
          <a:xfrm>
            <a:off x="285840" y="214200"/>
            <a:ext cx="2000160" cy="241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4143240" y="1199160"/>
            <a:ext cx="478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имя и гражданство при рождении, а также право знать своих родителей и рассчитывать на их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pic>
        <p:nvPicPr>
          <p:cNvPr id="400" name="Picture 3" descr="C:\Documents and Settings\школа\Мои документы\Загрузки\семья.jpg"/>
          <p:cNvPicPr/>
          <p:nvPr/>
        </p:nvPicPr>
        <p:blipFill>
          <a:blip r:embed="rId1"/>
          <a:stretch/>
        </p:blipFill>
        <p:spPr>
          <a:xfrm>
            <a:off x="428760" y="1428840"/>
            <a:ext cx="350820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4143240" y="172836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уважать право ребенка на свободу мысли, совести и религии. Родители или опекуны ребенка должны разъяснить ему это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5, 16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4500720" y="144252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аво встречаться и объединяться в группы, если только это не нарушает общественную безопасность и поря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C:\Documents and Settings\школа\Рабочий стол\Новая папка\e8dfd0978469.jpg"/>
          <p:cNvPicPr/>
          <p:nvPr/>
        </p:nvPicPr>
        <p:blipFill>
          <a:blip r:embed="rId1"/>
          <a:stretch/>
        </p:blipFill>
        <p:spPr>
          <a:xfrm>
            <a:off x="357120" y="1357200"/>
            <a:ext cx="4071960" cy="34545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285840" y="4864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 ребенок имеет право на личную жизнь,  на защиту от незаконного посягательства на его честь и репут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3929040" y="1357200"/>
            <a:ext cx="50007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доступ к информации и материалам, способствующим духовному и моральному благополучию, здоровому физическому и психическому развитию реб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" descr="C:\Documents and Settings\школа\Рабочий стол\Новая папка\5486bdef0a0b559d73daf16f3c3d3c98.jpg"/>
          <p:cNvPicPr/>
          <p:nvPr/>
        </p:nvPicPr>
        <p:blipFill>
          <a:blip r:embed="rId1"/>
          <a:srcRect l="5580" t="0" r="5083" b="0"/>
          <a:stretch/>
        </p:blipFill>
        <p:spPr>
          <a:xfrm>
            <a:off x="500040" y="171468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0" y="1924560"/>
            <a:ext cx="8785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евиз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люди рождаются свободными и равными в своем достоинстве и пра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 Всеобщая Декларация прав человека. Статья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4071960" y="1349280"/>
            <a:ext cx="4786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всех видов насилия, отсутствия заботы и плохого обращения со стороны родителей или других лиц, а также помогать ребенку, подвергшемуся жестокому обращению со стороны взросл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basik.ru/images/2691/short.jpg"/>
          <p:cNvPicPr/>
          <p:nvPr/>
        </p:nvPicPr>
        <p:blipFill>
          <a:blip r:embed="rId1"/>
          <a:stretch/>
        </p:blipFill>
        <p:spPr>
          <a:xfrm>
            <a:off x="500040" y="1500120"/>
            <a:ext cx="3500640" cy="34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5" name="Прямоугольник 5"/>
          <p:cNvSpPr/>
          <p:nvPr/>
        </p:nvSpPr>
        <p:spPr>
          <a:xfrm>
            <a:off x="4714920" y="1357200"/>
            <a:ext cx="4214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лишается своей семьи, то он вправе рассчитывать на особую защиту и помощь со стороны государства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ugorsk.ru/razdel/social_sf/opeka/priemnaj%20semaj%20%20Cippo.jpg"/>
          <p:cNvPicPr/>
          <p:nvPr/>
        </p:nvPicPr>
        <p:blipFill>
          <a:blip r:embed="rId1"/>
          <a:srcRect l="3126" t="0" r="3126" b="0"/>
          <a:stretch/>
        </p:blipFill>
        <p:spPr>
          <a:xfrm>
            <a:off x="357120" y="1357200"/>
            <a:ext cx="4286160" cy="31482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7"/>
          <p:cNvSpPr/>
          <p:nvPr/>
        </p:nvSpPr>
        <p:spPr>
          <a:xfrm>
            <a:off x="285840" y="4857840"/>
            <a:ext cx="8572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может передать ребенка на воспитание тем людям, которые уважают его родные язык, религию и культур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4572000" y="1643040"/>
            <a:ext cx="435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храну своего здоровья: на получение медицинской помощи, чистой питьевой воды и полноцен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aif.ru/application/public/article/272/934a053b2f4005184b3e3dfdd967b585_big.jpg"/>
          <p:cNvPicPr/>
          <p:nvPr/>
        </p:nvPicPr>
        <p:blipFill>
          <a:blip r:embed="rId1"/>
          <a:srcRect l="16504" t="18449" r="24961" b="24182"/>
          <a:stretch/>
        </p:blipFill>
        <p:spPr>
          <a:xfrm>
            <a:off x="500040" y="1643040"/>
            <a:ext cx="3882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8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4143240" y="1285920"/>
            <a:ext cx="48578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бразование. Начальное образование должно быть обязательным и бесплатным, среднее и высшее - доступным для всех детей. В школах должны соблюдаться права ребенка и проявляться уважение к его человеческому достоинств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http://image.websib.ru/06/img/kid_with_book.jpg"/>
          <p:cNvPicPr/>
          <p:nvPr/>
        </p:nvPicPr>
        <p:blipFill>
          <a:blip r:embed="rId1"/>
          <a:stretch/>
        </p:blipFill>
        <p:spPr>
          <a:xfrm>
            <a:off x="357120" y="1428840"/>
            <a:ext cx="3743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0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286160" y="1006560"/>
            <a:ext cx="4714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ринадлежит к этническому, религиозному или языковому меньшинству, он имеет право говорить на родном языке и соблюдать родные обычаи, исповедовать свою религ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http://dob.1september.ru/2002/20/3.jpg"/>
          <p:cNvPicPr/>
          <p:nvPr/>
        </p:nvPicPr>
        <p:blipFill>
          <a:blip r:embed="rId1"/>
          <a:stretch/>
        </p:blipFill>
        <p:spPr>
          <a:xfrm>
            <a:off x="428760" y="19288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1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929120" y="119916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тдых и игры, а также на участие в культурной и творческ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http://www.mddm.org/decor/arch/black06/009.jpg"/>
          <p:cNvPicPr/>
          <p:nvPr/>
        </p:nvPicPr>
        <p:blipFill>
          <a:blip r:embed="rId1"/>
          <a:srcRect l="7238" t="0" r="1620" b="0"/>
          <a:stretch/>
        </p:blipFill>
        <p:spPr>
          <a:xfrm>
            <a:off x="357120" y="150012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2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4572000" y="159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опасной, вредной и непосиль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должна мешать образованию и духовно-физическому развитию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http://www.childjustice.org/assets/images/Child-Labour05b.jpg"/>
          <p:cNvPicPr/>
          <p:nvPr/>
        </p:nvPicPr>
        <p:blipFill>
          <a:blip r:embed="rId1"/>
          <a:stretch/>
        </p:blipFill>
        <p:spPr>
          <a:xfrm>
            <a:off x="857160" y="1571760"/>
            <a:ext cx="2762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4572000" y="1299960"/>
            <a:ext cx="43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обеспечивает, чтобы ни один ребенок не подвергался пыткам, жестокому обращению, незаконному аресту и лишению свобод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http://schelkovo-blagochin.orthodoxy.ru/press/svetilnik/2008_102/images/ystic_1.jpg"/>
          <p:cNvPicPr/>
          <p:nvPr/>
        </p:nvPicPr>
        <p:blipFill>
          <a:blip r:embed="rId1"/>
          <a:stretch/>
        </p:blipFill>
        <p:spPr>
          <a:xfrm>
            <a:off x="571680" y="1643040"/>
            <a:ext cx="3786120" cy="268776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7"/>
          <p:cNvSpPr/>
          <p:nvPr/>
        </p:nvSpPr>
        <p:spPr>
          <a:xfrm>
            <a:off x="571680" y="48578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лишенный свободы ребенок имеет право поддерживать контакты со своей семьей, получать правовую помощь и искать защиту в с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minjust.tatar.ru/rus/file/news/news_33971.jpg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8" descr=""/>
          <p:cNvPicPr/>
          <p:nvPr/>
        </p:nvPicPr>
        <p:blipFill>
          <a:blip r:embed="rId2"/>
          <a:stretch/>
        </p:blipFill>
        <p:spPr>
          <a:xfrm>
            <a:off x="1011240" y="609480"/>
            <a:ext cx="8327880" cy="217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http://blago.katren.ru/assets/images/99_1.jpg"/>
          <p:cNvPicPr/>
          <p:nvPr/>
        </p:nvPicPr>
        <p:blipFill>
          <a:blip r:embed="rId3"/>
          <a:stretch/>
        </p:blipFill>
        <p:spPr>
          <a:xfrm>
            <a:off x="2143080" y="2786040"/>
            <a:ext cx="47624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179280" y="981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а «Умеем ли мы общаться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В классе начался спор на повышенных то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ак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 принимаю учас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ишь кратко высказываюсь в защиту той точки зрения, которую считаю прави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Активно вмешиваюсь и «вызываю огонь на с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-2124000" y="424080"/>
            <a:ext cx="878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у много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тобы счастливо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ен дождь и даже лу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 кем-нибудь др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ен ветер, нужно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олнце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частье, нужн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И родные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4"/>
          <p:cNvSpPr/>
          <p:nvPr/>
        </p:nvSpPr>
        <p:spPr>
          <a:xfrm>
            <a:off x="324000" y="170028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Часто ли вы спорите с друзь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олько в шутку и то, если это люди необидчи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ишь по принципиальным вопро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поры – моя стих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324000" y="170028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Дома на обед подали несоленый суп. Ваша Реак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 буду поднимать бучу из –за  пустя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олча возьму соло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е удержусь от едких замечаний, и, быть может, демонстративно откажусь от 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324000" y="170028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а улице или в транспорте наступили вам на н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 возмущением посмотрю на обид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ухо, без эмоций сделаю замеч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скажусь, не стесняясь в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4"/>
          <p:cNvSpPr/>
          <p:nvPr/>
        </p:nvSpPr>
        <p:spPr>
          <a:xfrm>
            <a:off x="324000" y="170028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  Кто- то в семье купил вещь, которая вам не нр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мол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граничусь коротким, но тактичным коммента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ыскажу все, что я ду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tvoyrebenok.ru/images/presentation/nice/m/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" descr=""/>
          <p:cNvPicPr/>
          <p:nvPr/>
        </p:nvPicPr>
        <p:blipFill>
          <a:blip r:embed="rId2"/>
          <a:stretch/>
        </p:blipFill>
        <p:spPr>
          <a:xfrm>
            <a:off x="-115920" y="476280"/>
            <a:ext cx="734544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-2052720" y="180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 без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синеющих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о иметь своб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агадок и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жить на бело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 остался рядом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главное заме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почувствовать вокруг.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lastohka1962.rusedu.net/gallery/3558/Bezymyannyi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468360" y="1341360"/>
            <a:ext cx="8136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права есть у реб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статочно ли прав у детей? (да, нет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ую роль играют права в жизни человека?   (очень большую, не очень большую, маленькую, никакой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ожешь и ты добиться, чтобы твои права уважали? (да, нет, не всегда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lastohka1962.rusedu.net/gallery/3558/Bezymyannyi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79280" y="134136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ие черты характера помогают человеку добиться уважения сво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защищают права ребенка в нашей стране? (хорошо, плохо, никак, не зна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Какие права ты считаешь самыми важными для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Кто больше всего нуждается в защите сво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Как ты считаешь, в каком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говорить детям о правах ребе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Текст 8" descr=""/>
          <p:cNvPicPr/>
          <p:nvPr/>
        </p:nvPicPr>
        <p:blipFill>
          <a:blip r:embed="rId1"/>
          <a:stretch/>
        </p:blipFill>
        <p:spPr>
          <a:xfrm>
            <a:off x="1292400" y="4187880"/>
            <a:ext cx="6791040" cy="126216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9" descr=""/>
          <p:cNvPicPr/>
          <p:nvPr/>
        </p:nvPicPr>
        <p:blipFill>
          <a:blip r:embed="rId2"/>
          <a:stretch/>
        </p:blipFill>
        <p:spPr>
          <a:xfrm>
            <a:off x="1066680" y="2577960"/>
            <a:ext cx="7467840" cy="1603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C:\Documents and Settings\Наталья\Мои документы\Мои рисунки\sd10.gif"/>
          <p:cNvPicPr/>
          <p:nvPr/>
        </p:nvPicPr>
        <p:blipFill>
          <a:blip r:embed="rId3"/>
          <a:stretch/>
        </p:blipFill>
        <p:spPr>
          <a:xfrm>
            <a:off x="0" y="35712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3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Documents and Settings\Наталья\Мои документы\Мои рисунки\2009_04_10_16_41_163466668.jpg"/>
          <p:cNvPicPr/>
          <p:nvPr/>
        </p:nvPicPr>
        <p:blipFill>
          <a:blip r:embed="rId2"/>
          <a:stretch/>
        </p:blipFill>
        <p:spPr>
          <a:xfrm>
            <a:off x="4889520" y="1214280"/>
            <a:ext cx="4254480" cy="5121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Documents and Settings\Наталья\Мои документы\Мои рисунки\babies.jpg"/>
          <p:cNvPicPr/>
          <p:nvPr/>
        </p:nvPicPr>
        <p:blipFill>
          <a:blip r:embed="rId3"/>
          <a:stretch/>
        </p:blipFill>
        <p:spPr>
          <a:xfrm>
            <a:off x="0" y="1214280"/>
            <a:ext cx="5072040" cy="50724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7"/>
          <p:cNvSpPr/>
          <p:nvPr/>
        </p:nvSpPr>
        <p:spPr>
          <a:xfrm>
            <a:off x="0" y="11430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3 году неправительственной организацией "Международный союз спасения детей" была разработана первая Декларация о правах ребенка, содержащая основные условия, которым должно следовать общество, чтобы обеспечить соответствующую защиту детей и заботу о них. Декларация была одобрена в 1924 году Ассамблеей Лиги Наций и получила название Женевской. "Быть объектом особой заботы и помощи со стороны общества и государства», - такое отношение к детям провозгласила «Всеобщая декларация прав человека", принятая ООН 10 декабря 1948 года. В 1959 году Генеральная Ассамблея ООН принимает новую Декларацию прав ребенка, содержащую 10 принципов обеспечения защиты и благосостоя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ноября 1989 года Конвенция о правах ребенка единогласно принимается Генеральной Ассамблеей ООН. Государства, подписавшие Конвенцию, приняли на себя правовую ответственность за действия в отношении детей, обязались пересмотреть свое национальное законодательство в соответствии с положениями этого международного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шей страны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Наталья\Мои документы\Мои рисунки\ef45a1b3ee50.jpg"/>
          <p:cNvPicPr/>
          <p:nvPr/>
        </p:nvPicPr>
        <p:blipFill>
          <a:blip r:embed="rId2"/>
          <a:stretch/>
        </p:blipFill>
        <p:spPr>
          <a:xfrm>
            <a:off x="428760" y="1285920"/>
            <a:ext cx="3714480" cy="32637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"/>
          <p:cNvSpPr/>
          <p:nvPr/>
        </p:nvSpPr>
        <p:spPr>
          <a:xfrm>
            <a:off x="4286160" y="12859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уязвимы, чем взрослые, к условия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подвержены влиянию действий или бездействия прави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обенно уязвимы к эксплуатации и дурному обра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голосуют, не имеют политического и экономического влияния. Слишком часто их голоса не слыш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28760" y="5000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это служило основанием для разработки документа, направленного на обеспечение прав детей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Лена</cp:lastModifiedBy>
  <dcterms:modified xsi:type="dcterms:W3CDTF">2013-03-20T19:21:20Z</dcterms:modified>
  <cp:revision>82</cp:revision>
  <dc:subject/>
  <dc:title>Слайд 1</dc:title>
</cp:coreProperties>
</file>