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00FC-47A7-416D-97D2-B80C8FEA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F69-596F-4718-A5C8-529EBAB8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1220-4177-4E42-B4C1-0885CFFD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5199-10A2-4ABD-BEF1-15A9AE17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2969-1DCB-4913-9608-7A310961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F5D1-97D3-48D1-8F7E-55658D91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3FE8-BBB2-445E-BC75-CD65FE8C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A23A-EF00-422B-86ED-1A146AF8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ABDC-3A80-465E-80BB-B8F6ACAE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67C4-876F-406B-BDE6-CBC535F7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94E1-1203-4BCA-865C-6DAA008F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0950-8546-4960-BACE-A2CD3E53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0E49-04EA-44F8-9DD3-C5295C5A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022A-33B9-4AC5-9175-635ACD0B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9C02-C99F-45FE-B951-435B33A5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F756-0912-40DB-BA00-01DA6B63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4CFF-8652-4021-AA00-70E42613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57C8B-9CEC-4A5A-A86B-28227B12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CADB1-F3A6-4EC4-BF1F-76E52FC6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EBAA3-FD95-40FC-B694-932489A7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DD871-0F8B-4E1D-A5BF-57FCEBCF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44562-6BB6-443D-B287-0327FE01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E298-3D5D-4F6D-898D-3C8C9925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E69D0-A2EE-47F2-A357-04D553FA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30BCF-D7C9-4A0D-86E2-644BE57A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E50A8-D21B-4D0D-AF66-A7348972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C0BC2-EDA8-4A9A-A74F-2C64C516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383D3-086A-4748-95FC-494174AB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8CEBF-82BB-4CCA-8659-2B91F99B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462FF-D17D-49EB-865E-5D3CB158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68F15-4A8F-4640-AA39-51D55117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60AEF-E026-4D84-9A43-E506EB39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1CB10-6B2A-4012-A406-1E672645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A6B3-2229-45CA-B514-6E90FDC6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315CB-0DFF-4176-A7AE-8D84142D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D41D0-EE7B-4E0F-B976-CA33020D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86AC9-E39F-400F-89CA-8C595190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1AA9A-2DCC-44CF-9E76-A2E28741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5B2AD-A78E-459C-AF0D-E7F21041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F57D3-212A-4D7F-92A1-6751FF1A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2502E-8550-4A77-BA7E-4038E1DB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100E8-7214-4A45-90BE-3C12E06C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AE11D-B875-4B1C-8145-974B5C63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55E71-E052-462C-B12D-BAE7603F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CA55-8C2C-48DB-8980-2AED98FB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3F0B8-C2D9-4AAF-A894-E02B8276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438E6-F79D-499D-8C72-2F1D9A2B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F7C1F-4A01-4A00-B8B3-EB481A56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F8A78-A221-460F-9809-5D7A4C40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95384-38E3-4FD4-AEAE-4B4F2EA1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2AD70-F024-43A5-A090-7D4EBB6C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D5944-DCE2-44CE-BC41-9639E325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6B01A-CBD1-44B6-9CBC-35F4EA20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80671-25EB-4076-9681-72489719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4934E-DB22-411A-9015-F303893C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51F-3224-4637-9117-2A481A8E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F0127-D070-43CF-A005-A5EF7BC6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6C847-97EC-4DFF-9D3A-7AD5BA6A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49944-0BD3-4494-9D49-BEC11057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DFC5C-4A2E-4F1A-9F59-D9CAA052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E40CE-8D1C-4323-8EA3-DAF231EB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9CCF9-C7CA-49DA-BF9E-25E38B27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9A737-42B9-43F1-9023-0E00BD8A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6082F-5AAA-48E6-B19C-3C448BB1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A966D-C071-4364-BC1A-25961114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B869A-3327-43A7-8AAD-B998DCF9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70A-4893-447C-8E62-4A7478F3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796FD-35B5-4FF6-8FAF-975D0D01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64C0B-B3DE-4BEB-95C9-4911C72C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F63C4-F7D7-4B59-9712-DA2AF486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A85D4-0BDD-4C96-8FA5-58605C21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CA9CB-D3D9-4C98-BDA9-C17B6D1B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52C54-45FB-4765-80D5-15C19099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264A7-D233-49A1-8217-6BCDE960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06F3E-98E3-46F6-A211-F2159EF0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BD8BC-CB2F-46D4-9F18-AC05DF53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C2578-0972-4E5D-BB87-1480129B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A0AF-47BE-4D34-A889-B9F2FA14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90851-F45F-4EAB-A043-B50213B7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F1FEB-4A29-499E-94E0-05AB8734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7AFA3-BCF5-479F-8AA4-6F2B38C4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87235-4F6C-479F-879F-E141DE07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E12EE-F2A1-425D-8150-9A7CDB13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6623F-78B2-417A-9DC1-237271AE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80DB6-9EB2-4295-A54B-BCB91B7B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40330-552F-4FC9-9FE3-16C72788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8FCDE-D6FB-4003-A471-097C3D17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8CCF1-5102-4B00-9645-C64EEFF3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AA47-B4B3-4FDA-9362-6EB85D70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25C53-2F9A-48C2-B499-30E669E0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B7A25-4A65-4FAD-88B5-AF8A64E8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3E1BC-8119-42AA-A67D-2F625435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36BDD-CDFE-4B10-80A6-B5DA9CC3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CA2DE-3C8F-4AF9-AAA6-082614FD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BF3C8-3C8D-49DB-9E99-18F6C343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8615C-6E04-4D99-B508-68CD7578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F2E2-82E7-4552-873F-21FABF5EC65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8DC6-86BF-4B24-A4AD-DB4991F5D17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640B-8919-43A7-B944-C4E01969E7A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C824-DC07-4E0E-87A1-B86919EDD95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1693-3070-40CA-8497-99EAB344F79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B06B-AD8E-49E0-B7A7-7F44323B344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EA43-2B65-47C7-9E18-7749964DF1E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4485-AFB7-49B0-AF5D-FA78FBB0134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3" descr=""/>
          <p:cNvPicPr/>
          <p:nvPr/>
        </p:nvPicPr>
        <p:blipFill>
          <a:blip r:embed="rId1"/>
          <a:stretch/>
        </p:blipFill>
        <p:spPr>
          <a:xfrm>
            <a:off x="3706920" y="1206360"/>
            <a:ext cx="4760640" cy="10861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13880" y="3143160"/>
            <a:ext cx="7572600" cy="164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Lucida Sans Unicode"/>
              </a:rPr>
              <a:t>Деловая игра как способ развития социальной компетентности у учащихся на уроках географи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Рисунок 5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2571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упповая работа над задание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абота с источникам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тренинг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мозговой штур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Межгрупповая дискусс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выступление групп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защита результат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правила дискусси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абота эксперт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4" descr="E:\для визитки\Мои фотографии\фотки для презентаций\Изображение 206.jpg"/>
          <p:cNvPicPr/>
          <p:nvPr/>
        </p:nvPicPr>
        <p:blipFill>
          <a:blip r:embed="rId2"/>
          <a:stretch/>
        </p:blipFill>
        <p:spPr>
          <a:xfrm>
            <a:off x="5286240" y="4000680"/>
            <a:ext cx="2928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вывод из игр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анализ, рефлекс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оценка и самооценка работ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выводы и обобщ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екомендаци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4" descr="E:\для визитки\Мои фотографии\фотки для презентаций\Изображение 215.jpg"/>
          <p:cNvPicPr/>
          <p:nvPr/>
        </p:nvPicPr>
        <p:blipFill>
          <a:blip r:embed="rId2"/>
          <a:stretch/>
        </p:blipFill>
        <p:spPr>
          <a:xfrm>
            <a:off x="4214880" y="4000680"/>
            <a:ext cx="40003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принятие ребенка таким, какой он уже есть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как данность)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справедливость, тактичность, уважение к личности ученик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естественное и свободное поведение учеников и учителя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выдержанность учителя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снятие по возможности всех стрессообразующих факторов учебного процесса, снижение уровня тревожности учащихся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спокойное отношение к ошибкам детей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стремление поддержать, одобрить, проявить внимание ко всем детям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создание ситуации успеха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317520" y="139680"/>
            <a:ext cx="862488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27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285840" y="1213920"/>
            <a:ext cx="4929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должна сформировать у ученика целый ряд компетентностей, способных выступить в качестве движущей силы всего процесса личностного развития не только в период обучения, но и после окончания школ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Концепция модернизации Российского образования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2" descr="E:\для визитки\Мои фотографии\фотки для презентаций\Изображение 226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576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интеграция профессиональных и социально значимых знаний и придание им практикооринтированного характера; сформированность навыков общения с другими людьми 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умение самостоятельно добывать знания, их творчески перерабатывать, использовать как орудийные средства при решении различных задач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195120" y="133200"/>
            <a:ext cx="880920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сформированность умений работать с информацией, размещенной в различных источниках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умение организовать самостоятельную деятельность при подготовке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четко выражать свои мысли и анализировать способы собственной деятельности при работе с географическими данны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-коммуникативную: освоение диалектики общения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-саморегуляции в игре как полигоне человеческой практики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-диагностическую: выявление от нормативного поведения, самопознания в процессе игры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-функцию коррекции: внесение позитивных изменений в структуру личностных показателей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-межнациональной коммуникацией: усвоение единых для всех людей социально –культурных ценностей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-социализации: включение в систему общественных отношений, усвоение норм человеческого общежития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231840" y="133200"/>
            <a:ext cx="85104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99680" y="4928760"/>
            <a:ext cx="7900920" cy="1314360"/>
          </a:xfrm>
          <a:prstGeom prst="rect">
            <a:avLst/>
          </a:prstGeom>
          <a:solidFill>
            <a:srgbClr val="7fd13b"/>
          </a:solidFill>
          <a:ln w="9720">
            <a:solidFill>
              <a:srgbClr val="7fd13b"/>
            </a:solidFill>
            <a:miter/>
          </a:ln>
        </p:spPr>
        <p:txBody>
          <a:bodyPr lIns="182880" anchor="ctr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Lucida Sans Unicode"/>
              </a:rPr>
              <a:t>«Учение, лишенное всякого интереса и взятое только силой принуждения, убивает в ученике желание учиться, без которого он далеко не уйдет»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Lucida Sans Unicode"/>
              </a:rPr>
              <a:t>Ушинский К.Д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444320"/>
            <a:ext cx="40402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Содержимое 6" descr=""/>
          <p:cNvPicPr/>
          <p:nvPr/>
        </p:nvPicPr>
        <p:blipFill>
          <a:blip r:embed="rId2"/>
          <a:stretch/>
        </p:blipFill>
        <p:spPr>
          <a:xfrm>
            <a:off x="928800" y="1643040"/>
            <a:ext cx="3214440" cy="307188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11"/>
          <p:cNvSpPr/>
          <p:nvPr/>
        </p:nvSpPr>
        <p:spPr>
          <a:xfrm>
            <a:off x="4500720" y="1571760"/>
            <a:ext cx="3714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Ушинский К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Ананьев Б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Беляев М.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Божович Л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Гордон Л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Рубинштейн С.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Lucida Sans Unicode"/>
              </a:rPr>
              <a:t>Имитационные игры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а занятиях имитируется деятельность какой-либо организации, предприятия или его подразделения. Имитироваться могут события, конкретная деятельность люде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Операционные игры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ни помогают отрабатывать выполнение конкретных специфических операций решение поставленных задач, ведение пропаганды и агитац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операционных играх моделируется соответствующий рабочий процесс. Игры этого типа проводятся в условиях, имитирующих реальные.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Исполнение ролей «Деловой театр»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нем разыгрывается какая - либо ситуация, поведение человека в этой обстановке. Основная задача метода инсценировки - научить подростка ориентироваться в различных обстоятельствах, давать объективную оценку своему поведению, учитывать возможности других людей, устанавливать с ними контакты. Для метода инсценировки  составляется сценарий где описывается  конкретная ситуация , функции и обязанности действующих лиц, их задач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Этап подготов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Разработка игр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разработка сценар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план деловой игр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общее описание игр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одержание инструктаж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одготовка материального обеспеч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268200" y="139680"/>
            <a:ext cx="8425080" cy="128736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4" descr="E:\для визитки\Мои фотографии\фотки для презентаций\Изображение 200.jpg"/>
          <p:cNvPicPr/>
          <p:nvPr/>
        </p:nvPicPr>
        <p:blipFill>
          <a:blip r:embed="rId2"/>
          <a:stretch/>
        </p:blipFill>
        <p:spPr>
          <a:xfrm>
            <a:off x="5929200" y="4857840"/>
            <a:ext cx="2627280" cy="178596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5" descr="E:\для визитки\Мои фотографии\фотки для презентаций\Изображение 231.jpg"/>
          <p:cNvPicPr/>
          <p:nvPr/>
        </p:nvPicPr>
        <p:blipFill>
          <a:blip r:embed="rId3"/>
          <a:stretch/>
        </p:blipFill>
        <p:spPr>
          <a:xfrm>
            <a:off x="3000240" y="4857840"/>
            <a:ext cx="19288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постановка проблемы, целе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условия, инструкта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егламент, правил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аспределение роле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формирование групп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консультаци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4" descr="E:\для визитки\Мои фотографии\фотки для презентаций\Изображение 213.jpg"/>
          <p:cNvPicPr/>
          <p:nvPr/>
        </p:nvPicPr>
        <p:blipFill>
          <a:blip r:embed="rId2"/>
          <a:stretch/>
        </p:blipFill>
        <p:spPr>
          <a:xfrm>
            <a:off x="4857840" y="3857760"/>
            <a:ext cx="3214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1:15:48Z</dcterms:created>
  <dc:creator>Учитель</dc:creator>
  <dc:description/>
  <dc:language>en-US</dc:language>
  <cp:lastModifiedBy>наталья</cp:lastModifiedBy>
  <dcterms:modified xsi:type="dcterms:W3CDTF">2007-02-10T18:54:44Z</dcterms:modified>
  <cp:revision>27</cp:revision>
  <dc:subject/>
  <dc:title>Мастер - класс </dc:title>
</cp:coreProperties>
</file>