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DBD-946E-41A9-AFC2-68457597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793-930D-4F9E-81B9-C1124A9F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268-F114-4900-8274-E962A2FD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5C8-8DA5-461F-9E29-ECE9FE76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A9D1-5DE6-4D59-8A58-2D107194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1BD2-3262-4251-A0D9-C69D80EB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6A3A-B140-4A0E-9926-4DF3014B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80BC-43C8-41C9-89CE-0D00936E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0274-E0CD-483B-9C59-D2092128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320E-3B25-4166-990C-FDBA40FE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7F2E-4EA9-4F4E-91C0-56757716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55F-90B3-42E8-B480-58AC649D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285A-5658-47C8-BF7E-5311E174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4771-8810-49C2-83DD-CBC1FEA3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581A-4C83-4334-8ABA-1B9DA2AA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EAAE-3AD5-4A9B-A3FE-2157C2A9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7875-EACB-4154-8CAF-81FDC473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DD351-251A-4910-9510-20A3F8AF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EC331-9C84-4E23-B657-CE03969D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77276-83EE-4D31-A5E6-2A2294E3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3BAB9-E2C8-4D19-8BB4-F657A5A7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5F8F8-18E6-4FE3-80ED-23C2E1FE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62F-D1D4-4A11-A841-B2A794AD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EDAA-2E18-48E0-B9F8-33F83E5D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A8718-AE42-43EC-BE8B-F0D7526B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B2E5-5952-496E-B6DE-38657307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E7CD3-B1C4-4116-91F5-E604B30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72F2-06F7-4ED0-9931-833D7A1E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F6AD-5036-4D1F-9E3A-9938D049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BA2A-ED5A-4EDD-9C68-B3E612B4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E21D-406C-42B0-BAEB-8E8EA867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FE16A-BE24-460D-A5E4-7742FF01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1BE5F-697F-4D51-9791-539DF364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3CD-39E0-4C9E-9800-12441F3F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705A-F091-4D14-B55C-ADA11879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85AD-8047-4811-A91C-2916D722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50DF7-87DA-4DB1-BF3E-9F283464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45800-4305-429E-98CF-BF205C82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143E0-DC00-43B1-87AD-6632B5FB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F713C-46F9-4F91-AD06-3AEA866D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248F5-B165-4382-9D44-A49B96D6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44C7F-8BEC-4D57-8295-349F529D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D2A4A-FFA3-420C-97FB-A542023C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9249C-4D53-44E4-8414-9856F2FC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E82-91E7-4F97-8941-AC8896E3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011F4-F98E-47EC-908D-AB97AAF4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C507F-457C-4F77-8F26-AEE4A172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912D1-03CB-449A-A15C-9DFC57BC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80A39-B3B4-4E49-A1E5-0DC0B3CB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8CC00-F451-4478-8529-1B61E7F9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F8A0F-6848-4A9D-84BA-BEC486B4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5E04B-BAB1-4898-B9AE-51D4C8C1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8C8A8-9AE9-4851-8B9D-FCECE9D6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A8931-1025-4F13-9418-A455C00C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CD339-EAC2-49B7-83C1-8138AF28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7B4-C978-46CB-9055-690A4DFD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E35CA-F9C7-4CDA-A86F-100DEDCD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FAA52-ED4E-4798-8245-335AB28C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6A319-D713-413A-B8F9-2343D764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4FDF6-3D72-4B8A-885D-B3E6E5AD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C224D-3F08-4C78-85CA-5335ABBE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4B9DD-DFC7-4C6D-A6E7-75817622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5A77E-EAE6-4FE9-9ABD-51604E33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509C0-800A-44BC-9CAF-1B3E2F59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7A068-58E4-4D19-BEC3-5BE6F25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9E44B-A1A1-4C66-95EC-F495B98D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74E-1293-4532-BE4A-EF9F4440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DDDC5-8EAF-4D03-8C0D-A94B715B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934D8-A3FA-424D-AE4C-AE1EA72A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AF1B9-7BD4-4613-B804-241DBC1F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FC6A2-5260-4610-900B-495E5C93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ECE4F-7719-41C5-9C01-29FDA421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35510-A479-4BAA-BA46-9BC904F5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67CC0-39FD-412D-B56D-6B8A4792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E6423-2CD2-49D6-AA5A-38FAE60D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043A6-E991-45BB-91A0-41C8687D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E65A7-7D00-4531-A574-55D5CF2E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C69-54C2-424E-B6C7-B74F5F10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08BE7-D236-488F-8BE4-53C97FB5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53C63-CF57-47BF-9550-7ABC7D84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7798D-4C48-4DB5-A0FD-FA97C21E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9F554-C812-454B-AD33-3491EC03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B0B71-9F05-40EC-8763-AB011AEC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94367-CE8D-4B8D-8938-BCFF9130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9E002-F7A7-4885-BA3D-36E0F88F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B75B5-1C2C-4278-9935-638A9CD9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574F9-85FB-4FF1-8336-C713BEE5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45BA3-9D22-4100-9DD1-3887ADF3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4BC-2233-4D94-810A-63D6C574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CC23B-DDB9-4BB9-B1C1-8DB9E720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3D447-67DC-4570-A0C2-46A238E0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C1B49-B5BF-43F4-B8D7-06FB997A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1AC25-D703-494F-9FE5-02529293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AB4A0-10A8-4509-A3D3-B35881EA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9129D-E5E1-4154-82F4-FDA2C594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DC806-AD9B-4716-B2EB-5FB11ADC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4D22-BBB2-4C1F-92F8-9C91A0D5616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8F21-B666-49C2-A4E7-623FAA15CFF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D49F-820C-4E90-A29F-77E2B7F26BD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4BDC-5786-455E-8BF9-0FC13BC9023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F764-F85D-421B-8155-F27EC43FAAD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F7EB-AC56-49DF-A81F-A4CC0232FA7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8146-7885-4D5B-A3E8-0BA585C546F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6E8D-B226-40D5-A696-396742B605E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3" descr=""/>
          <p:cNvPicPr/>
          <p:nvPr/>
        </p:nvPicPr>
        <p:blipFill>
          <a:blip r:embed="rId1"/>
          <a:stretch/>
        </p:blipFill>
        <p:spPr>
          <a:xfrm>
            <a:off x="3706920" y="1206360"/>
            <a:ext cx="4760640" cy="1086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13880" y="3143160"/>
            <a:ext cx="7572600" cy="164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Lucida Sans Unicode"/>
              </a:rPr>
              <a:t>Деловая игра как способ развития социальной компетентности у учащихся на уроках географи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Рисунок 5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2571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упповая работа над задание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бота с источникам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тренинг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озговой штур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Межгрупповая дискусс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выступление груп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защита результат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правила дискусс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бота эксперт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4" descr="E:\для визитки\Мои фотографии\фотки для презентаций\Изображение 206.jpg"/>
          <p:cNvPicPr/>
          <p:nvPr/>
        </p:nvPicPr>
        <p:blipFill>
          <a:blip r:embed="rId2"/>
          <a:stretch/>
        </p:blipFill>
        <p:spPr>
          <a:xfrm>
            <a:off x="5286240" y="4000680"/>
            <a:ext cx="292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вывод из игр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анализ, рефлекс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оценка и самооценка работ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выводы и обобщ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екомендац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4" descr="E:\для визитки\Мои фотографии\фотки для презентаций\Изображение 215.jpg"/>
          <p:cNvPicPr/>
          <p:nvPr/>
        </p:nvPicPr>
        <p:blipFill>
          <a:blip r:embed="rId2"/>
          <a:stretch/>
        </p:blipFill>
        <p:spPr>
          <a:xfrm>
            <a:off x="4214880" y="4000680"/>
            <a:ext cx="40003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принятие ребенка таким, какой он уже есть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как данность)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праведливость, тактичность, уважение к личности ученик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естественное и свободное поведение учеников и учител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выдержанность учител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нятие по возможности всех стрессообразующих факторов учебного процесса, снижение уровня тревожности учащихс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покойное отношение к ошибкам детей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тремление поддержать, одобрить, проявить внимание ко всем детям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оздание ситуации успеха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317520" y="139680"/>
            <a:ext cx="86248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27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285840" y="1213920"/>
            <a:ext cx="4929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должна сформировать у ученика целый ряд компетентностей, способных выступить в качестве движущей силы всего процесса личностного развития не только в период обучения, но и после окончания школ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Концепция модернизации Российского образования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2" descr="E:\для визитки\Мои фотографии\фотки для презентаций\Изображение 226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576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нтеграция профессиональных и социально значимых знаний и придание им практикооринтированного характера; сформированность навыков общения с другими людьми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умение самостоятельно добывать знания, их творчески перерабатывать, использовать как орудийные средства при решении различных задач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195120" y="133200"/>
            <a:ext cx="880920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сформированность умений работать с информацией, размещенной в различных источниках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умение организовать самостоятельную деятельность при подготовке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четко выражать свои мысли и анализировать способы собственной деятельности при работе с географическими данны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-коммуникативную: освоение диалектики общени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-саморегуляции в игре как полигоне человеческой практики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-диагностическую: выявление от нормативного поведения, самопознания в процессе игры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-функцию коррекции: внесение позитивных изменений в структуру личностных показателей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-межнациональной коммуникацией: усвоение единых для всех людей социально –культурных ценностей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-социализации: включение в систему общественных отношений, усвоение норм человеческого общежит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5104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99680" y="4928760"/>
            <a:ext cx="7900920" cy="1314360"/>
          </a:xfrm>
          <a:prstGeom prst="rect">
            <a:avLst/>
          </a:prstGeom>
          <a:solidFill>
            <a:srgbClr val="7fd13b"/>
          </a:solidFill>
          <a:ln w="9720">
            <a:solidFill>
              <a:srgbClr val="7fd13b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Lucida Sans Unicode"/>
              </a:rPr>
              <a:t>«Учение, лишенное всякого интереса и взятое только силой принуждения, убивает в ученике желание учиться, без которого он далеко не уйдет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Lucida Sans Unicode"/>
              </a:rPr>
              <a:t>Ушинский К.Д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444320"/>
            <a:ext cx="40402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Содержимое 6" descr=""/>
          <p:cNvPicPr/>
          <p:nvPr/>
        </p:nvPicPr>
        <p:blipFill>
          <a:blip r:embed="rId2"/>
          <a:stretch/>
        </p:blipFill>
        <p:spPr>
          <a:xfrm>
            <a:off x="928800" y="1643040"/>
            <a:ext cx="3214440" cy="307188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1"/>
          <p:cNvSpPr/>
          <p:nvPr/>
        </p:nvSpPr>
        <p:spPr>
          <a:xfrm>
            <a:off x="4500720" y="1571760"/>
            <a:ext cx="371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Ушинский К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Ананьев Б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Беляев М.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Божович Л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Гордон Л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Рубинштейн С.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Lucida Sans Unicode"/>
              </a:rPr>
              <a:t>Имитационные игры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а занятиях имитируется деятельность какой-либо организации, предприятия или его подразделения. Имитироваться могут события, конкретная деятельность люде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Операционные игры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ни помогают отрабатывать выполнение конкретных специфических операций решение поставленных задач, ведение пропаганды и агитац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операционных играх моделируется соответствующий рабочий процесс. Игры этого типа проводятся в условиях, имитирующих реальные.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Исполнение ролей «Деловой театр»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нем разыгрывается какая - либо ситуация, поведение человека в этой обстановке. Основная задача метода инсценировки - научить подростка ориентироваться в различных обстоятельствах, давать объективную оценку своему поведению, учитывать возможности других людей, устанавливать с ними контакты. Для метода инсценировки  составляется сценарий где описывается  конкретная ситуация , функции и обязанности действующих лиц, их задач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Этап подготов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Разработка игр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разработка сценар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план деловой игр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общее описание игр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одержание инструктаж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одготовка материального обеспе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268200" y="139680"/>
            <a:ext cx="8425080" cy="1287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4" descr="E:\для визитки\Мои фотографии\фотки для презентаций\Изображение 200.jpg"/>
          <p:cNvPicPr/>
          <p:nvPr/>
        </p:nvPicPr>
        <p:blipFill>
          <a:blip r:embed="rId2"/>
          <a:stretch/>
        </p:blipFill>
        <p:spPr>
          <a:xfrm>
            <a:off x="5929200" y="4857840"/>
            <a:ext cx="2627280" cy="178596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5" descr="E:\для визитки\Мои фотографии\фотки для презентаций\Изображение 231.jpg"/>
          <p:cNvPicPr/>
          <p:nvPr/>
        </p:nvPicPr>
        <p:blipFill>
          <a:blip r:embed="rId3"/>
          <a:stretch/>
        </p:blipFill>
        <p:spPr>
          <a:xfrm>
            <a:off x="3000240" y="4857840"/>
            <a:ext cx="19288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постановка проблемы, цел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условия, инструкта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егламент, правил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пределение рол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формирование груп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онсультац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4" descr="E:\для визитки\Мои фотографии\фотки для презентаций\Изображение 213.jpg"/>
          <p:cNvPicPr/>
          <p:nvPr/>
        </p:nvPicPr>
        <p:blipFill>
          <a:blip r:embed="rId2"/>
          <a:stretch/>
        </p:blipFill>
        <p:spPr>
          <a:xfrm>
            <a:off x="4857840" y="3857760"/>
            <a:ext cx="3214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1:15:48Z</dcterms:created>
  <dc:creator>Учитель</dc:creator>
  <dc:description/>
  <dc:language>en-US</dc:language>
  <cp:lastModifiedBy>наталья</cp:lastModifiedBy>
  <dcterms:modified xsi:type="dcterms:W3CDTF">2007-02-10T18:54:44Z</dcterms:modified>
  <cp:revision>27</cp:revision>
  <dc:subject/>
  <dc:title>Мастер - класс </dc:title>
</cp:coreProperties>
</file>