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BB62-4A32-494D-8523-B068B215B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F2F2-23ED-4358-9E48-BAF34FDC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EF26-5A63-4810-A48E-9B2AD86B0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7F43-1E0E-49DF-A21F-BF68F2D76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B90A-09FE-4C14-B6C6-E3183A09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CE5C-A231-4552-90A7-B5860353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1BFE-377F-47EB-A7E8-6A68AA3D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DF19-0A15-4F00-A63E-E231E37E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445C-0F2D-4B85-8E20-89C8E198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AD30-BDE3-4A7D-B180-516951C6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7ECF-0495-49B1-9E18-66484D87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FCC2-56E0-4338-AA05-2D6DBF36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9899-FD97-4CDF-9386-DA65374E4E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ТЕМАТИК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МА: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ШЕНИЕ  ЗАДАЧ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09.01.2013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БЕРИ СХЕМУ К ЗАДАЧ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3" descr=""/>
          <p:cNvPicPr/>
          <p:nvPr/>
        </p:nvPicPr>
        <p:blipFill>
          <a:blip r:embed="rId1"/>
          <a:stretch/>
        </p:blipFill>
        <p:spPr>
          <a:xfrm>
            <a:off x="438120" y="1163520"/>
            <a:ext cx="813276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8T17:47:55Z</dcterms:created>
  <dc:creator>1</dc:creator>
  <dc:description/>
  <dc:language>en-US</dc:language>
  <cp:lastModifiedBy>1</cp:lastModifiedBy>
  <dcterms:modified xsi:type="dcterms:W3CDTF">2013-01-08T17:51:04Z</dcterms:modified>
  <cp:revision>1</cp:revision>
  <dc:subject/>
  <dc:title>МАТЕМАТИКА ТЕМА:”РЕШЕНИЕ  ЗАДАЧ”</dc:title>
</cp:coreProperties>
</file>