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699-8886-48D6-8F47-5C758140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361-104A-4611-A84B-4C10A248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BBD-4253-48D4-BC63-2178E912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403-1A57-4ACE-B350-B8EDEF46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4C8-F360-40DB-8D98-14236AA2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311-9373-4BDC-B44E-B8257C1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E52-05C0-4597-8306-19DEB1D5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B25-986D-4158-8EA0-BAF11520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A01-904F-4588-A59C-78D4C8A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AAF-C353-4BFF-88EC-E8C7063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435-3BD5-4940-8D37-F68BFDC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3ED-9DA1-42D9-BADA-317DBB56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9F75-01A8-4990-9E4D-18C9D8663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 ЗАДА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09.01.2013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 СХЕМУ К ЗАДАЧ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38120" y="1163520"/>
            <a:ext cx="8132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7:47:55Z</dcterms:created>
  <dc:creator>1</dc:creator>
  <dc:description/>
  <dc:language>en-US</dc:language>
  <cp:lastModifiedBy>1</cp:lastModifiedBy>
  <dcterms:modified xsi:type="dcterms:W3CDTF">2013-01-08T17:51:04Z</dcterms:modified>
  <cp:revision>1</cp:revision>
  <dc:subject/>
  <dc:title>МАТЕМАТИКА ТЕМА:”РЕШЕНИЕ  ЗАДАЧ”</dc:title>
</cp:coreProperties>
</file>