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C6C-79EA-453F-A85B-4EC59C11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6C9-2D2A-42ED-9D04-778843DC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890-BFF0-4C15-9658-D81C7983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002-C51A-4E8B-877F-D543A18E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37B3-752B-4762-AA2D-4E60BA01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D639-6DA4-4DC3-9514-159F2D5E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2B21-0689-4796-B598-1BA18D38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85C5-E955-4ED8-80D8-037C8C2E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1A02-357B-44E7-830E-3E2399C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10B0-912E-4CAC-A8AC-C90FE252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A1CF-A8D9-4E56-871D-1F42E46D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321-D749-415A-9836-C64D3A2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980D-2E57-468C-8971-75BF9CC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FD73-C663-4767-AF23-BE5DFDBC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4FF7-E0EA-4453-A166-B0C73CD0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32CE-1C12-4C1E-AD4C-FFF83EB9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7FB3-4C53-44F0-97F4-9FD6715F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30C-EFF1-4A26-B9A6-90B49B8A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B42-DD1C-449B-96B5-C2B34082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A0D-4F0A-4F3D-B8EF-8E5EE5AB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672-1584-4AD1-BF93-0B5AC202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A32-F6C4-4BAC-9EDE-951AAB7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81A-46DB-40CF-AFC8-E1A5BBF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88A-802B-4421-B96C-FE250444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7C9E-E700-4792-B16E-CAC9CEDB2B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1F70-6DF6-42CE-8199-2190AF1283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685800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0CBE-7B9A-4AA1-B0C8-EF62674E6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Georgia"/>
              </a:rPr>
              <a:t>Тема урока: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357360"/>
            <a:ext cx="66355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равописание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 наречия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а –О, -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EA34-1486-4F95-9197-472D926D6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43588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подалеку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даль, дальний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вероятн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вероятность, вероятный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притворн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притвориться,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итворятьс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поддельн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подделать, дело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леп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нелепый, нелепость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взрачн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невзрачный,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            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невзрачность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39640" y="83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187280" y="836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53964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1187280" y="148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611280" y="220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125892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539640" y="33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125892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464F-6342-4D6C-8530-64CF64DA3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Игра </a:t>
            </a:r>
            <a:r>
              <a:rPr b="1" lang="ru-RU" sz="3300" spc="-1" strike="noStrike">
                <a:solidFill>
                  <a:srgbClr val="ff0000"/>
                </a:solidFill>
                <a:latin typeface="Arial Black"/>
              </a:rPr>
              <a:t>«Третий лишний</a:t>
            </a: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»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904760"/>
            <a:ext cx="84963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 Поступил (не)лепо                                 1. Ответил (не)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 Написал (не)брежно                             2.  Прибил (не)креп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 Спросил (не)вежливо                           3. Остановился (не)ожида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II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 Говорил (не)быстро, а медленно     1. (Не) по-летнему хол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 Выглядел отнюдь (не)красиво         2. Горели (не)ярче преж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 Где-то (не)далеко прошумел             3. Греет (не)жар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2DD3-C866-4A65-9DA3-EC3FDF404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Georgia"/>
              </a:rPr>
              <a:t>Игра «Третий лишний»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1.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в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ежливо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груб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2.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жиданно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не употр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3.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д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алеко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близк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4.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ж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арко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холодн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3708360" y="1484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421164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3492360" y="26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j0301252"/>
          <p:cNvPicPr/>
          <p:nvPr/>
        </p:nvPicPr>
        <p:blipFill>
          <a:blip r:embed="rId1"/>
          <a:stretch/>
        </p:blipFill>
        <p:spPr>
          <a:xfrm>
            <a:off x="5435640" y="3429000"/>
            <a:ext cx="3054240" cy="2612880"/>
          </a:xfrm>
          <a:prstGeom prst="rect">
            <a:avLst/>
          </a:prstGeom>
          <a:ln w="0">
            <a:noFill/>
          </a:ln>
        </p:spPr>
      </p:pic>
      <p:sp>
        <p:nvSpPr>
          <p:cNvPr id="207" name="Line 8"/>
          <p:cNvSpPr/>
          <p:nvPr/>
        </p:nvSpPr>
        <p:spPr>
          <a:xfrm>
            <a:off x="327672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104292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161928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1116000" y="220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169236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042920" y="1700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1692360" y="17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042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1619280" y="105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CD0B-3D8A-4AD9-8593-E98E5162B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500" spc="-1" strike="noStrike">
                <a:solidFill>
                  <a:srgbClr val="000000"/>
                </a:solidFill>
                <a:latin typeface="Georgia"/>
              </a:rPr>
              <a:t>Солнце (не)смело взошло на небо. Но к полудню оно стало припекать (не) по-летнему жарко. Неожиданно мы решили искупаться в пруду. Идти по мосту к берегу было отнюдь (не) легко. Но мы (не) унывали, ведь впереди предстояла встреча с новыми друзьями. Новый день мы провели (не) грустно, а весело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3EC-0BD6-42D8-A78B-63A42ADBE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Солнце 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ес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мел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робко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затруднительно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взошло на небо. Но к полудню оно стало припекать 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е 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п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о-л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етнему жарко. 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ео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жидан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не употр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.)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мы решили искупаться в пруду. Идти по мосту к берегу было 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отнюдь не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легк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. Но мы не унывали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глаг.),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ведь впереди предстояла встреча с новыми друзьями. Новый день мы провели 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е 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груст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, 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а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весел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356000" y="1125360"/>
            <a:ext cx="216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4932360" y="112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900000" y="2997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900000" y="400536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516720" y="3933720"/>
            <a:ext cx="288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6588000" y="5373720"/>
            <a:ext cx="2876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2843280" y="765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3348000" y="76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>
            <a:off x="1187280" y="2565360"/>
            <a:ext cx="648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5076720" y="213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5580000" y="2133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7524720" y="2565360"/>
            <a:ext cx="216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4140360" y="4005360"/>
            <a:ext cx="288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709308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900000" y="1557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0"/>
          <p:cNvSpPr/>
          <p:nvPr/>
        </p:nvSpPr>
        <p:spPr>
          <a:xfrm>
            <a:off x="900000" y="1628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5E72-4386-4518-A1E1-8B81625D9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981000"/>
            <a:ext cx="76960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Georgia"/>
              </a:rPr>
              <a:t>Тест</a:t>
            </a:r>
            <a:r>
              <a:rPr b="0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24000" y="1844640"/>
          <a:ext cx="8507160" cy="3916440"/>
        </p:xfrm>
        <a:graphic>
          <a:graphicData uri="http://schemas.openxmlformats.org/drawingml/2006/table">
            <a:tbl>
              <a:tblPr/>
              <a:tblGrid>
                <a:gridCol w="1223640"/>
                <a:gridCol w="720720"/>
                <a:gridCol w="719280"/>
                <a:gridCol w="720720"/>
                <a:gridCol w="720720"/>
                <a:gridCol w="792360"/>
                <a:gridCol w="792000"/>
                <a:gridCol w="719280"/>
                <a:gridCol w="720720"/>
                <a:gridCol w="696960"/>
                <a:gridCol w="68076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ли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51E2-19B9-4E75-8282-DC64B809A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Тест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829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Он долгие часы лежал (не)подвижно, как раненый звер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Мы сваливать (не)вправе вину свою на жизн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Солнце грело (не)жарко, а ласков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Знакомство его далеко (не)приятно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Пришлось (не)ожиданно познакомиться с н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Не)обыкновенно суровы зимы в Якут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Он понял задание (не)сраз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Ученик выглядел (не)хуже все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Вглядываясь в окружающий нас мир, мы делаем (не)необыкновенно интересные открыт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адо только помнить, что если мы будем (не)бережно относиться к этому миру, то  погибнем сами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27280" y="1773360"/>
            <a:ext cx="453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Жадно и (не)торопливо, желая охватить и сжать в своих объятиях все видимое, девушка посмотрела на ясное неб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Справа от нас, (не)далеко, а где-то близко, журчал ручее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День выдался (не)по-зимнему теплы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а свете чудеса рассеяны повсюду, да (не)везде их всякий примеча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Калитку отворив чуть-чуть, выходит девушка (не)смел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овые знакомства в лесу происходят (не)редк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Идти по незнакомой дороге было отнюдь (не)страшн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Старые письма по почте идут (не) тише, чем нов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Природа (не)слышно живет вокруг н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Высокие стебельки травы стояли (не)подвижно, как очарованны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41A2-1E06-4488-8DD6-9A9C499CF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Проверим себя!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Тест</a:t>
            </a:r>
            <a:r>
              <a:rPr b="1" lang="ru-RU" sz="33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24000" y="1989000"/>
          <a:ext cx="8507160" cy="3916440"/>
        </p:xfrm>
        <a:graphic>
          <a:graphicData uri="http://schemas.openxmlformats.org/drawingml/2006/table">
            <a:tbl>
              <a:tblPr/>
              <a:tblGrid>
                <a:gridCol w="1223640"/>
                <a:gridCol w="720720"/>
                <a:gridCol w="719280"/>
                <a:gridCol w="720720"/>
                <a:gridCol w="720720"/>
                <a:gridCol w="792360"/>
                <a:gridCol w="792000"/>
                <a:gridCol w="719280"/>
                <a:gridCol w="720720"/>
                <a:gridCol w="696960"/>
                <a:gridCol w="68076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ли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B242-BF45-4FE7-94D2-1D6E27061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9880" y="546120"/>
            <a:ext cx="7565760" cy="52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Georgia"/>
              </a:rPr>
              <a:t>Аукцион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435640" y="1916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жида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435640" y="1197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жида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435640" y="2708280"/>
            <a:ext cx="252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дру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364000" y="3429000"/>
            <a:ext cx="2449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а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завис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292720" y="5300640"/>
            <a:ext cx="3708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а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смотр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364000" y="4365720"/>
            <a:ext cx="3672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йствова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амостоя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611280" y="119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с луны свалил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610560" y="18446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с луны свалился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608040" y="2637000"/>
            <a:ext cx="43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кошка с собакой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609480" y="350028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дти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воей дорогой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10200" y="4365720"/>
            <a:ext cx="32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дти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 поводу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11280" y="5373720"/>
            <a:ext cx="3600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грать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 огнем -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D4FF-B516-49D0-BA00-D5EAC0764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ff0000"/>
                </a:solidFill>
                <a:latin typeface="Georgia"/>
              </a:rPr>
              <a:t>Желаем успехов!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6DBC-071E-41EB-896B-745D13326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Georgia"/>
              </a:rPr>
              <a:t>Цели урок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знакомиться с правилами написания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с наречиями на –О, -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учиться обозначать новую орфограм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учиться выбирать правильное написание нареч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2388-2797-4ACC-8AC0-092161FFA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Georgia"/>
              </a:rPr>
              <a:t>Наречия на –О, -Е образуются от качественных прилагательных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88200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еуклюже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неуклюж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елепо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нелеп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Громко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громк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 flipH="1">
            <a:off x="4140360" y="306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3131640" y="3860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 flipH="1">
            <a:off x="3131640" y="465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4932360" y="32130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7740720" y="31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3635280" y="2708280"/>
            <a:ext cx="1447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3780000" y="270828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995640" y="393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5796000" y="400536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2700360" y="3573000"/>
            <a:ext cx="1429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2843280" y="357336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385128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5651640" y="4724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2700360" y="4365360"/>
            <a:ext cx="1429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843280" y="43657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2D4A-4BB3-4A28-AE58-4BC6E06B9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66"/>
                </a:solidFill>
                <a:latin typeface="Georgia"/>
              </a:rPr>
              <a:t>Правописание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НЕ </a:t>
            </a:r>
            <a:r>
              <a:rPr b="1" lang="ru-RU" sz="2500" spc="-1" strike="noStrike">
                <a:solidFill>
                  <a:srgbClr val="336666"/>
                </a:solidFill>
                <a:latin typeface="Georgia"/>
              </a:rPr>
              <a:t>с существительными, прилагательными, наречиями на –О, -Е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1700280"/>
          <a:ext cx="8496000" cy="4105080"/>
        </p:xfrm>
        <a:graphic>
          <a:graphicData uri="http://schemas.openxmlformats.org/drawingml/2006/table">
            <a:tbl>
              <a:tblPr/>
              <a:tblGrid>
                <a:gridCol w="4146480"/>
                <a:gridCol w="43495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50"/>
          <p:cNvSpPr/>
          <p:nvPr/>
        </p:nvSpPr>
        <p:spPr>
          <a:xfrm>
            <a:off x="395280" y="1628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иш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ли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4500720" y="1628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ишетс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з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4859280" y="5013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3"/>
          <p:cNvSpPr/>
          <p:nvPr/>
        </p:nvSpPr>
        <p:spPr>
          <a:xfrm>
            <a:off x="468360" y="2349360"/>
            <a:ext cx="3887640" cy="3080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. Слово без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не употреб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: н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п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 упот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ово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ожет быть заменено синонимом без 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: н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мк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их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4"/>
          <p:cNvSpPr/>
          <p:nvPr/>
        </p:nvSpPr>
        <p:spPr>
          <a:xfrm>
            <a:off x="4500720" y="242100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1. В предложении есть противопоставление с союзо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: н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 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ек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лиз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5"/>
          <p:cNvSpPr/>
          <p:nvPr/>
        </p:nvSpPr>
        <p:spPr>
          <a:xfrm>
            <a:off x="1979640" y="3716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6"/>
          <p:cNvSpPr/>
          <p:nvPr/>
        </p:nvSpPr>
        <p:spPr>
          <a:xfrm>
            <a:off x="2340000" y="371628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8"/>
          <p:cNvSpPr/>
          <p:nvPr/>
        </p:nvSpPr>
        <p:spPr>
          <a:xfrm>
            <a:off x="2771640" y="54450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9"/>
          <p:cNvSpPr/>
          <p:nvPr/>
        </p:nvSpPr>
        <p:spPr>
          <a:xfrm>
            <a:off x="2411280" y="544500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0"/>
          <p:cNvSpPr/>
          <p:nvPr/>
        </p:nvSpPr>
        <p:spPr>
          <a:xfrm>
            <a:off x="6732720" y="4941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1"/>
          <p:cNvSpPr/>
          <p:nvPr/>
        </p:nvSpPr>
        <p:spPr>
          <a:xfrm>
            <a:off x="7093080" y="4941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26AA-9D41-4616-AD46-EA528E7EC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римечание.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Georgia"/>
              </a:rPr>
              <a:t>Всегда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раздельно</a:t>
            </a:r>
            <a:r>
              <a:rPr b="1" lang="ru-RU" sz="2400" spc="-1" strike="noStrike">
                <a:solidFill>
                  <a:srgbClr val="336666"/>
                </a:solidFill>
                <a:latin typeface="Georgia"/>
              </a:rPr>
              <a:t> пишем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ru-RU" sz="2400" spc="-1" strike="noStrike">
                <a:solidFill>
                  <a:srgbClr val="336666"/>
                </a:solidFill>
                <a:latin typeface="Georgia"/>
              </a:rPr>
              <a:t> с наречиями,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если есть слова, усиливающие отрицание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(отнюдь не…, вовсе не…, далеко не…, ничуть не…, нисколько не…):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нисколько не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 жалк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если наречие в сравнительной или превосходной степени: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говорил н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е м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едленнее (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ср.ст.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если наречие пишется через дефис: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поступил не п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о-т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оварищеск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если наречие не оканчивается на –О, -Е: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вникал н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е с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разу (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не на -О, -Е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);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156360" y="29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75564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258920" y="5445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3348000" y="6308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140328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6BD9-8FF0-4B6C-90B4-344FCF2C2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696080" cy="3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лгоритм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8560" y="836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1.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потребляется ли наречие без 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а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литн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(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ел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п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2. Оканчивается ли наречие на -О, -Е?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м. «Примеч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3. Есть ли противопоставление с союзом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а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зд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е 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убоко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мелк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4. Есть ли слова, усиливающие отрица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все не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легк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5. Можно ли заменить синонимом без НЕ?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а                                                                                        нет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литн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ед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лек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близк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)                                                  (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е 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жествен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 flipH="1">
            <a:off x="1692000" y="1125360"/>
            <a:ext cx="187164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3851280" y="1125360"/>
            <a:ext cx="266544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1476360" y="1628640"/>
            <a:ext cx="0" cy="2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3995640" y="2060640"/>
            <a:ext cx="2521080" cy="73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877080" y="2276640"/>
            <a:ext cx="0" cy="21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1476360" y="1989000"/>
            <a:ext cx="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476360" y="2421000"/>
            <a:ext cx="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4067280" y="2924280"/>
            <a:ext cx="2520720" cy="73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644364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6877080" y="3141720"/>
            <a:ext cx="0" cy="2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1476360" y="2852640"/>
            <a:ext cx="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6156360" y="4869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1476360" y="3357720"/>
            <a:ext cx="0" cy="358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067280" y="4005360"/>
            <a:ext cx="266544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6948360" y="4221000"/>
            <a:ext cx="0" cy="2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1476360" y="4005360"/>
            <a:ext cx="0" cy="21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1979640" y="58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1476360" y="4437000"/>
            <a:ext cx="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572000" y="5157720"/>
            <a:ext cx="295272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77407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73087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7812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>
            <a:off x="1692360" y="58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781200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1908000" y="5157720"/>
            <a:ext cx="2592720" cy="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8C30-D437-4E94-8AB2-EBD96CD56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 навестим поля пустые, леса, (не)давно столь густые, и берег, милый для мен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А.С.Пушкин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 навестим поля пустые, леса, недавн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столь густые, и берег, милый для мен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А.С.Пушкин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2484360" y="47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1187280" y="47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140328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AF5E-85B9-4216-A6A3-25F7000B2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2920" y="546120"/>
            <a:ext cx="7569000" cy="5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66"/>
                </a:solidFill>
                <a:latin typeface="Georgia"/>
              </a:rPr>
              <a:t>Объясните написание наречий: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г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ромк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тих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 произнес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в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зрач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не употр.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 оделс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Вовсе не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глубок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нырну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Поступил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 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по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товарищес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Вытер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 д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осуха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не на -о, -е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Прочитал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 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меньше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ср.ст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 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медлен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а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быстр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92360" y="2060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276720" y="148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90000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1476360" y="1052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900000" y="2637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277164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2987640" y="20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421164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421164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4643280" y="37893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5651640" y="4365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385128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9"/>
          <p:cNvSpPr/>
          <p:nvPr/>
        </p:nvSpPr>
        <p:spPr>
          <a:xfrm>
            <a:off x="341964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7BBE-87D4-49A8-951D-4CE37CB8D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вероятн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1. Неправдоподобно.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вероятно ум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2. Очень большой, значительный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чрезвычай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вероятно с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притворн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притворный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лишенный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ритворства,  искренний.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притворно удивле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подалеку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далеко , поблизости.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Поселиться неподалеку от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поддельн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одлинно, естественно, иск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поддельно радос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леп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лепый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 оправдываемый здравы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смыслом, странный, несуразный.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лепо отве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взрачн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привлекательно по внешности, некрас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взрачно оде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 flipH="1">
            <a:off x="2555640" y="2276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 flipH="1">
            <a:off x="1618920" y="458136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0:55:35Z</dcterms:created>
  <dc:creator>school#76</dc:creator>
  <dc:description/>
  <dc:language>en-US</dc:language>
  <cp:lastModifiedBy>Алёна</cp:lastModifiedBy>
  <dcterms:modified xsi:type="dcterms:W3CDTF">2013-03-20T14:08:48Z</dcterms:modified>
  <cp:revision>71</cp:revision>
  <dc:subject/>
  <dc:title>Слайд 1</dc:title>
</cp:coreProperties>
</file>