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FAB-8FBA-4CF3-8A8F-926A0562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E82-8A9D-4309-8985-C63BBA7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320-978E-421A-957C-7DECCD76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3A3-0FE0-423E-9C9F-1C36A3FE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E51-6D33-4C70-A018-33C11524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B16-0432-4AAE-B726-C110410D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6F0C-1777-4F07-A141-BED8D641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F87-7475-4354-9AB6-869978E3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E583-E413-4C3F-AC27-17761A9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2964-0E19-48A3-9439-7897B76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DFD2-D818-4AA4-9E1D-C79319E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877-845E-4914-BFD3-F0397C84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AE40-CB5F-480F-8750-27D70A4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DED2-9F27-48C7-A08C-6ACC1F0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9981-8503-4102-852A-849E9AC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6255-CCFE-41ED-87FA-B6FCBE5A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5B67-A4E5-449C-A7AC-7B5C184F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A55-3989-4184-834F-7E0BC08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072-5AA9-46BE-B3EC-FD3C01C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FA5-FA61-48B2-A818-819868C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6E8-CB80-47B3-9C39-8E8A520F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29F-E911-48E8-908B-BEC4C79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9CE-437A-45D1-AA7C-C4E24D8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49B-6F7F-4B56-87B0-6647F87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370-4F0E-4DBB-AF75-55512597EF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F381-5212-400D-8D9F-D967D7C70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685800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EBE-AAAE-4283-B6C9-94D421228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Georgia"/>
              </a:rPr>
              <a:t>Тема урока: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6355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авописание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 наречи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 –О, -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6A9B-A2D8-4F1D-8D9B-2316F969C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3588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одалеку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даль, дальний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ероят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вероятность, вероятный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ритвор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притвориться,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творятьс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поддель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подделать, дело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леп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нелепый, нелепость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зрачн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невзрачный,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евзрачность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39640" y="83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187280" y="836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53964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187280" y="148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1128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12589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539640" y="33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125892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DD4-34D6-4AA6-94B7-93B396030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Игра </a:t>
            </a: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«Третий лишний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»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Поступил (не)лепо                                 1. Ответил (не)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Написал (не)брежно                             2.  Прибил (не)кре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Спросил (не)вежливо                           3. Остановился (не)ожида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I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Говорил (не)быстро, а медленно     1. (Не) по-летнему хол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Выглядел отнюдь (не)красиво         2. Горели (не)ярче преж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Где-то (не)далеко прошумел             3. Греет (не)жар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AED-DF4F-4270-84E4-18A2078C7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Игра «Третий лишний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1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в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ежлив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груб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2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жиданн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употр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3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д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алек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близк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4.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ж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арко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холодн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708360" y="148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21164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349236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301252"/>
          <p:cNvPicPr/>
          <p:nvPr/>
        </p:nvPicPr>
        <p:blipFill>
          <a:blip r:embed="rId1"/>
          <a:stretch/>
        </p:blipFill>
        <p:spPr>
          <a:xfrm>
            <a:off x="5435640" y="3429000"/>
            <a:ext cx="3054240" cy="2612880"/>
          </a:xfrm>
          <a:prstGeom prst="rect">
            <a:avLst/>
          </a:prstGeom>
          <a:ln w="0">
            <a:noFill/>
          </a:ln>
        </p:spPr>
      </p:pic>
      <p:sp>
        <p:nvSpPr>
          <p:cNvPr id="207" name="Line 8"/>
          <p:cNvSpPr/>
          <p:nvPr/>
        </p:nvSpPr>
        <p:spPr>
          <a:xfrm>
            <a:off x="327672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1042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1619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111600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169236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042920" y="1700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1692360" y="17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042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1619280" y="105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FD3E-B552-4588-B0F8-2D02B566E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500" spc="-1" strike="noStrike">
                <a:solidFill>
                  <a:srgbClr val="000000"/>
                </a:solidFill>
                <a:latin typeface="Georgia"/>
              </a:rPr>
              <a:t>Солнце (не)смело взошло на небо. Но к полудню оно стало припекать (не) по-летнему жарко. Неожиданно мы решили искупаться в пруду. Идти по мосту к берегу было отнюдь (не) легко. Но мы (не) унывали, ведь впереди предстояла встреча с новыми друзьями. Новый день мы провели (не) грустно, а весело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307-6BDE-4139-8EB7-EDAA60DEE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Солнце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с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мел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робк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затруднительн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зошло на небо. Но к полудню оно стало припекать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п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-л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етнему жарко.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жидан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е употр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.)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мы решили искупаться в пруду. Идти по мосту к берегу было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тнюдь не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легк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. Но мы не унывали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глаг.),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едь впереди предстояла встреча с новыми друзьями. Новый день мы провели 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грустн</a:t>
            </a:r>
            <a:r>
              <a:rPr b="1" lang="ru-RU" sz="3100" spc="-1" strike="noStrike" u="sng">
                <a:solidFill>
                  <a:srgbClr val="0000ff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,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3100" spc="-1" strike="noStrike">
                <a:solidFill>
                  <a:srgbClr val="0000ff"/>
                </a:solidFill>
                <a:latin typeface="Georgia"/>
              </a:rPr>
              <a:t> весе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356000" y="1125360"/>
            <a:ext cx="216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4932360" y="112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900000" y="299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900000" y="4005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516720" y="3933720"/>
            <a:ext cx="288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6588000" y="5373720"/>
            <a:ext cx="287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843280" y="76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3348000" y="76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1187280" y="2565360"/>
            <a:ext cx="648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5076720" y="21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5580000" y="2133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7524720" y="2565360"/>
            <a:ext cx="216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140360" y="4005360"/>
            <a:ext cx="288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709308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900000" y="155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900000" y="162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295-FC94-4119-A93B-0913C1B1B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98100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eorgia"/>
              </a:rPr>
              <a:t>Тест</a:t>
            </a:r>
            <a:r>
              <a:rPr b="0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24000" y="1844640"/>
          <a:ext cx="8507160" cy="3916440"/>
        </p:xfrm>
        <a:graphic>
          <a:graphicData uri="http://schemas.openxmlformats.org/drawingml/2006/table">
            <a:tbl>
              <a:tblPr/>
              <a:tblGrid>
                <a:gridCol w="1223640"/>
                <a:gridCol w="720720"/>
                <a:gridCol w="719280"/>
                <a:gridCol w="720720"/>
                <a:gridCol w="720720"/>
                <a:gridCol w="792360"/>
                <a:gridCol w="792000"/>
                <a:gridCol w="719280"/>
                <a:gridCol w="720720"/>
                <a:gridCol w="696960"/>
                <a:gridCol w="68076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4042-3EF7-4D88-B2E5-F73C46134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Тест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82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Он долгие часы лежал (не)подвижно, как раненый звер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Мы сваливать (не)вправе вину свою на жизн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олнце грело (не)жарко, а ласков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Знакомство его далеко (не)приятно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Пришлось (не)ожиданно познакомиться с 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(Не)обыкновенно суровы зимы в Якут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Он понял задание (не)сраз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Ученик выглядел (не)хуже все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Вглядываясь в окружающий нас мир, мы делаем (не)необыкновенно интересные откры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адо только помнить, что если мы будем (не)бережно относиться к этому миру, то  погибнем сами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27280" y="1773360"/>
            <a:ext cx="453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Жадно и (не)торопливо, желая охватить и сжать в своих объятиях все видимое, девушка посмотрела на ясное неб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права от нас, (не)далеко, а где-то близко, журчал руче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День выдался (не)по-зимнему теплы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а свете чудеса рассеяны повсюду, да (не)везде их всякий примеча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Калитку отворив чуть-чуть, выходит девушка (не)смел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овые знакомства в лесу происходят (не)редк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Идти по незнакомой дороге было отнюдь (не)страшн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Старые письма по почте идут (не) тише, чем нов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Природа (не)слышно живет вокруг н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Высокие стебельки травы стояли (не)подвижно, как очарованны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AA67-9B21-4954-8657-E8CD42492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Проверим себя!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Тест</a:t>
            </a: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989000"/>
          <a:ext cx="8507160" cy="3916440"/>
        </p:xfrm>
        <a:graphic>
          <a:graphicData uri="http://schemas.openxmlformats.org/drawingml/2006/table">
            <a:tbl>
              <a:tblPr/>
              <a:tblGrid>
                <a:gridCol w="1223640"/>
                <a:gridCol w="720720"/>
                <a:gridCol w="719280"/>
                <a:gridCol w="720720"/>
                <a:gridCol w="720720"/>
                <a:gridCol w="792360"/>
                <a:gridCol w="792000"/>
                <a:gridCol w="719280"/>
                <a:gridCol w="720720"/>
                <a:gridCol w="696960"/>
                <a:gridCol w="68076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A260-CB7C-4401-9547-BE1981CC6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9880" y="546120"/>
            <a:ext cx="7565760" cy="52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eorgia"/>
              </a:rPr>
              <a:t>Аукцион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435640" y="1916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435640" y="119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435640" y="2708280"/>
            <a:ext cx="252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ру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364000" y="3429000"/>
            <a:ext cx="244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завис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292720" y="5300640"/>
            <a:ext cx="370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смотр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364000" y="4365720"/>
            <a:ext cx="36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ов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611280" y="119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с луны свалил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610560" y="18446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с луны свалилс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608040" y="2637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кошка с собако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09480" y="350028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воей дорого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10200" y="4365720"/>
            <a:ext cx="32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 поводу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11280" y="5373720"/>
            <a:ext cx="36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грать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огнем -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9A46-4D30-4A0D-A875-EDB5BD822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0000"/>
                </a:solidFill>
                <a:latin typeface="Georgia"/>
              </a:rPr>
              <a:t>Желаем успехов!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8937-3C70-445E-8505-E218A152C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Georgia"/>
              </a:rPr>
              <a:t>Цели уро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знакомиться с правилами написания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с наречиями на –О, -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учиться обозначать новую орфогра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учиться выбирать правильное написание нареч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845-6DC6-48EB-8445-90B17B2EA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Georgia"/>
              </a:rPr>
              <a:t>Наречия на –О, -Е образуются от качественных прилагательных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8200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еуклюже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уклюж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елепо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леп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ромко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громк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 flipH="1">
            <a:off x="4140360" y="306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3131640" y="386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H="1">
            <a:off x="313164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4932360" y="32130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74072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3635280" y="270828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3780000" y="270828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995640" y="393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796000" y="40053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2700360" y="357300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2843280" y="35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385128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651640" y="4724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2700360" y="436536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843280" y="4365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84E-BAE3-4679-83A0-132264E91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Правописание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НЕ </a:t>
            </a: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с существительными, прилагательными, наречиями на –О, -Е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700280"/>
          <a:ext cx="8496000" cy="4105080"/>
        </p:xfrm>
        <a:graphic>
          <a:graphicData uri="http://schemas.openxmlformats.org/drawingml/2006/table">
            <a:tbl>
              <a:tblPr/>
              <a:tblGrid>
                <a:gridCol w="4146480"/>
                <a:gridCol w="43495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50"/>
          <p:cNvSpPr/>
          <p:nvPr/>
        </p:nvSpPr>
        <p:spPr>
          <a:xfrm>
            <a:off x="395280" y="1628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450072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ишет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4859280" y="501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468360" y="2349360"/>
            <a:ext cx="3887640" cy="3080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Слово без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не употреб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п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 упот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ово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ожет быть заменено синонимом без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мк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их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4500720" y="242100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. В предложении есть противопоставление с союзо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: 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 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>
            <a:off x="1979640" y="3716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>
            <a:off x="2340000" y="371628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2771640" y="54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9"/>
          <p:cNvSpPr/>
          <p:nvPr/>
        </p:nvSpPr>
        <p:spPr>
          <a:xfrm>
            <a:off x="2411280" y="544500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0"/>
          <p:cNvSpPr/>
          <p:nvPr/>
        </p:nvSpPr>
        <p:spPr>
          <a:xfrm>
            <a:off x="6732720" y="4941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>
            <a:off x="7093080" y="4941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29F-AD05-46B3-9163-B11E57B63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мечание.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Всегда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 пише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ru-RU" sz="2400" spc="-1" strike="noStrike">
                <a:solidFill>
                  <a:srgbClr val="336666"/>
                </a:solidFill>
                <a:latin typeface="Georgia"/>
              </a:rPr>
              <a:t> с наречиями,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есть слова, усиливающие отрицание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(отнюдь не…, вовсе не…, далеко не…, ничуть не…, нисколько не…)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нисколько не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жалк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в сравнительной или превосходной степени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говорил н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е м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едленнее (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ср.ст.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пишется через дефис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поступил не п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-т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оварищеск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если наречие не оканчивается на –О, -Е: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никал н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е с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разу (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не на -О, -Е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);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156360" y="29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5564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258920" y="5445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348000" y="6308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3373-C232-4738-982C-10A04492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696080" cy="3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лгоритм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Georgia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потребляется ли наречие без 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литн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л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п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2. Оканчивается ли наречие на -О, -Е?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м. «Примеч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3. Есть ли противопоставление с союзом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 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убоко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мел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4. Есть ли слова, усиливающие отриц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все не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лег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5. Можно ли заменить синонимом без НЕ?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а                                                                                        нет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литн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лек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близк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                                                  (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е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жествен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1692000" y="1125360"/>
            <a:ext cx="187164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3851280" y="1125360"/>
            <a:ext cx="266544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476360" y="162864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995640" y="2060640"/>
            <a:ext cx="2521080" cy="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877080" y="2276640"/>
            <a:ext cx="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476360" y="1989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476360" y="2421000"/>
            <a:ext cx="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067280" y="2924280"/>
            <a:ext cx="2520720" cy="7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644364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6877080" y="314172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1476360" y="2852640"/>
            <a:ext cx="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6156360" y="486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476360" y="3357720"/>
            <a:ext cx="0" cy="358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067280" y="4005360"/>
            <a:ext cx="266544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948360" y="422100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1476360" y="4005360"/>
            <a:ext cx="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197964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1476360" y="4437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0" y="5157720"/>
            <a:ext cx="295272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77407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73087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7812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1692360" y="58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781200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1908000" y="5157720"/>
            <a:ext cx="259272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93A9-58D7-4CFE-8607-366DAB1D5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навестим поля пустые, леса, (не)давно столь густые, и берег, милый для мен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А.С.Пушки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навестим поля пустые, леса, недавн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столь густые, и берег, милый для мен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(А.С.Пушки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248436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118728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40328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1E0-0B22-427E-BCBC-1E42289B4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2920" y="546120"/>
            <a:ext cx="7569000" cy="5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Georgia"/>
              </a:rPr>
              <a:t>Объясните написание наречий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г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ромк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тих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 произне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в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зрач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употр.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 одел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Вовсе не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глубок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нырну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оступил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товарищес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Вытер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д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осуха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не на -о, -е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Прочитал 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меньше (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ср.ст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е 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медленн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31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3100" spc="-1" strike="noStrike">
                <a:solidFill>
                  <a:srgbClr val="000000"/>
                </a:solidFill>
                <a:latin typeface="Georgia"/>
              </a:rPr>
              <a:t> быстр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92360" y="20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27672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90000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476360" y="1052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900000" y="26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77164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2987640" y="20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211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4211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4643280" y="3789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5651640" y="4365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385128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3419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EEC6-5204-44FC-B838-BCADE2407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вероятн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1. Неправдоподобно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ероятно ум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2. Очень большой, значительны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чрезвычай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ероятно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ритворн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ритворны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лишенны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ритворства,  искренний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притворно удивл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одалек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далеко , поблизости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Поселиться неподалеку от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оддельн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одлинно, естественно, иск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поддельно радос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леп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лепый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 оправдываемый здравы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смыслом, странный, несуразный.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лепо отве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взрачн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привлекательно по внешности, некрас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: Невзрачно оде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2555640" y="2276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1618920" y="458136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0:55:35Z</dcterms:created>
  <dc:creator>school#76</dc:creator>
  <dc:description/>
  <dc:language>en-US</dc:language>
  <cp:lastModifiedBy>Алёна</cp:lastModifiedBy>
  <dcterms:modified xsi:type="dcterms:W3CDTF">2013-03-20T14:08:48Z</dcterms:modified>
  <cp:revision>71</cp:revision>
  <dc:subject/>
  <dc:title>Слайд 1</dc:title>
</cp:coreProperties>
</file>