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Пользаватель" initials="П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<Relationship Id="rId24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13-03-20T14:58:10.450000000" idx="1">
    <p:pos x="541" y="1108"/>
    <p:text/>
  </p:cm>
  <p:cm authorId="0" dt="2013-03-20T14:58:11.565000000" idx="2">
    <p:pos x="677" y="1244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DF90-F059-4489-B08B-B10320A82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BD26-FE46-4ADC-B9CE-C86A4F98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4740-52C5-4C6B-9848-BC0D6D16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A5C8-8A31-48F9-9843-0699FC19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FE0B-C4DE-497C-8455-3355149D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EE15-05DC-4E1A-8203-B03CCEEA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6C7A-F7F1-43E1-BC37-4F9F4CCE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B45F-CB6F-422C-AB54-E2D12D55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6245-6766-46A0-A636-CE3B8B75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39B8-DB3F-4197-9532-38A1C875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8CC7-8CE8-4188-9A1F-6E125D9C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CF0C-996C-40D8-BD90-6F526D60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1005-F0D7-4542-B8FE-9C87C5AD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0CB4-F7A9-4108-B5E9-50FEF900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2569-4755-407C-8ABB-9E08238A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C779-3F31-4DEA-AC1B-5F12C057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0AD3-204C-4C62-8AEA-AA570189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43EB-3B20-4BE7-8C71-5F954657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60B0-F5C4-4DFF-B528-D710EDDE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7698-4E61-4EE4-9853-F6E0FA10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B53E-5A2A-4347-A144-6E0691DE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5F90-D8D8-45A5-B7A1-872BD82B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4025-9CA0-4D95-83BC-0F574E6A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82BC-B307-46E9-9C3C-552630A5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2DF0-36DB-480D-8774-400D37D103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6E07-6AAA-4F43-A0FD-DC8FFE2D8A0A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413840" cy="26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У Королёвская муниципальная средняя общеобразовательная школа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Формирование познавательного интереса младших школьников на уроках математики</a:t>
            </a:r>
            <a:r>
              <a:rPr b="0" lang="ru-RU" sz="3200" spc="-1" strike="noStrike">
                <a:solidFill>
                  <a:srgbClr val="ff66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68360" y="3889080"/>
            <a:ext cx="6408720" cy="17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втор: Кирюшина Наталья         Анатольевна, учитель начальных классов высшей квалификационной категор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738180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Задачи повышенной трудност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560" y="2349360"/>
            <a:ext cx="741708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мбинатор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огическ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воцирующ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ктического характе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7263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ahoma"/>
              </a:rPr>
              <a:t>Из истории математики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правк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торические экскурс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ссказы из истории математи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темы «Таблица мер», «История линейки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т. д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7309080" cy="15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Математический квадрат как средство развития умения вычислять и рассуждать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42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гия чисе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владения новы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мения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ные способы выполн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ммуникативность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d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98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98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0"/>
                            </p:stCondLst>
                            <p:childTnLst>
                              <p:par>
                                <p:cTn id="3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98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2007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Требования к игр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7848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Цель.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Посильна ли она для детей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Вызовет ли она познавательный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рес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Итог игры.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150"/>
                            </p:stCondLst>
                            <p:childTnLst>
                              <p:par>
                                <p:cTn id="39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4000"/>
                            </p:stCondLst>
                            <p:childTnLst>
                              <p:par>
                                <p:cTn id="41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920" y="404280"/>
            <a:ext cx="716616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Занимательный материал как средство развития младших школьнико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280" y="2636640"/>
            <a:ext cx="3754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ловиц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говор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бус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фокар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гадки-задач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0"/>
                            </p:stCondLst>
                            <p:childTnLst>
                              <p:par>
                                <p:cTn id="4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920" y="836280"/>
            <a:ext cx="702144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иёмы вычислени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421000"/>
            <a:ext cx="6918480" cy="37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4 х 25 = 24 : 4 х 100 = 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6 х 25 = 36 : 4 х 100 = 9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73 х 101 = 73 х 100 + 73 = 737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5 х 15 = 1 х 2 = 2 и приписываем 25 = 2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98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98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98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6920" y="620640"/>
            <a:ext cx="74948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Задания визуальной методик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69120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формационная схе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ренажё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р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000" y="764640"/>
            <a:ext cx="676908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ce4e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Нетрадиционные формы   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     учебных заняти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2205000"/>
            <a:ext cx="681048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к – математический рин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к – эстафе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к – КВ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к «Азбука бизнеса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к – соревнов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к – зач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к – сказ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к – игра «Счастливый случай» и т. 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16616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оложительные характеристики тесто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строта провер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енка большого количества учащих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верка теоретического материа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верка большого объема малыми порция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ъективность оцен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ff66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Спасибо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за внимание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До новых встреч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уважаемые коллеги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Актуаль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ей работы состоит в применении различных приёмов и методов, активизирующих познавательную деятельность школьников; в создании благожелательной творческой атмосферы уро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7775640" cy="431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Цель:</a:t>
            </a:r>
            <a:r>
              <a:rPr b="0" lang="ru-RU" sz="4000" spc="-1" strike="noStrike">
                <a:solidFill>
                  <a:srgbClr val="ffff99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Формирование познавательного интереса как основного параметра, определяющего интеллектуальное и физиологическое развитие ребёнка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277920"/>
            <a:ext cx="8075520" cy="552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Задачи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здать оптимальные условия для развития положительной мотивации учения учащихся, потребности в самостоятельной познавательной деятельност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Развивать коммуникативные способности учащихс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Способствовать воспитанию у детей активного отношения к учебной деятельности, культуры труд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45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Приохотить» ученика к учению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ораздо более достойная задача учителя, чем «приневолить» его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. Д. Ушинский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554960" cy="11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оль познавательного интереса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 обучен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1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редство обуч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тив уч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тойчивая черта характе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кольника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32000" y="1268280"/>
            <a:ext cx="7143840" cy="626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тимуля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держание учебного материал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ahoma"/>
              </a:rPr>
              <a:t>Новиз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ahoma"/>
              </a:rPr>
              <a:t>Обновление уже усвоенных зна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ahoma"/>
              </a:rPr>
              <a:t>Историз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ahoma"/>
              </a:rPr>
              <a:t>Практическая необходимо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ahoma"/>
              </a:rPr>
              <a:t>Научные достиж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учебно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ahoma"/>
              </a:rPr>
              <a:t>Многообразие форм рабо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ahoma"/>
              </a:rPr>
              <a:t>Проблемное обуч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ahoma"/>
              </a:rPr>
              <a:t>Исслед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ahoma"/>
              </a:rPr>
              <a:t>Творческие работ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ще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ahoma"/>
              </a:rPr>
              <a:t>Эмоциональный тонус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ahoma"/>
              </a:rPr>
              <a:t>Взаимная поддерж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ahoma"/>
              </a:rPr>
              <a:t>Соревн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ahoma"/>
              </a:rPr>
              <a:t>Поощрения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5640" y="765000"/>
            <a:ext cx="7343640" cy="7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Диагности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2323800"/>
            <a:ext cx="792000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ос учащих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слеживание активности школьников во время уро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нкетиров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чин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невник наблюде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рвь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55640" y="836640"/>
            <a:ext cx="3960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Этапы работы над задач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тивацион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иентировоч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полнитель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трольно-оценоч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06:51:04Z</dcterms:created>
  <dc:creator>Илья</dc:creator>
  <dc:description/>
  <dc:language>en-US</dc:language>
  <cp:lastModifiedBy>Пользаватель</cp:lastModifiedBy>
  <dcterms:modified xsi:type="dcterms:W3CDTF">2013-03-20T12:00:05Z</dcterms:modified>
  <cp:revision>15</cp:revision>
  <dc:subject/>
  <dc:title>«Формирование познавательного интереса младших школьников на уроках математики»</dc:title>
</cp:coreProperties>
</file>