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Пользаватель" initials="П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<Relationship Id="rId24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13-03-20T14:58:10.450000000" idx="1">
    <p:pos x="541" y="1108"/>
    <p:text/>
  </p:cm>
  <p:cm authorId="0" dt="2013-03-20T14:58:11.565000000" idx="2">
    <p:pos x="677" y="124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555-FC4A-4DCB-9574-84D1C991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38BC-888B-4F28-B6C0-50719F3C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A9D-18FB-49AD-892E-862EDD7A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6B8-44CC-483B-AAFB-4FD727D9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4511-868E-4906-8165-B97450D4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89D6-8C5C-4D8F-A781-6EBD84B5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D2AD-0CD4-426D-8F3F-822144D1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13D0-05F3-4AFC-87F9-825A438D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D5C4-B1E5-4C03-86F9-15DA4EB8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FD60-D726-4CE2-8834-4A8D40AA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5B59-6764-4DFB-937A-071F30DD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3DC1-4D3B-4B01-8452-B976DD6A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22BE-862D-477D-8291-E8EF0C9D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C450-B5A2-4AA9-B635-166ED3D1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BA45-E13D-406A-B4B9-831C913C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D6F4-E4EE-404E-9596-6F0A1D2F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B61C-0325-416C-A47E-76B9D877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A0F-34ED-4513-A04E-3DBFD61F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902C-55EB-4105-9B5F-76E1AA35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2E9-71B4-4399-9FFD-CF59C2E0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1F2-75E8-4EA0-92C4-DDD6E54C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C69-0AC9-4B7C-950D-68C79872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FF4-A000-47B4-9D9F-177EC693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B484-58E2-4954-89C1-96E0BAC4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ECA0-135A-47E4-8639-918A6712E7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B94C-6488-49F7-998C-AEC5AB60AF5E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413840" cy="26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У Королёвская муниципальная средняя общеобразовательная школа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Формирование познавательного интереса младших школьников на уроках математики</a:t>
            </a: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8360" y="3889080"/>
            <a:ext cx="640872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втор: Кирюшина Наталья         Анатольевна, учитель начальных классов высшей квалификационной категор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38180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Задачи повышенной труднос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2349360"/>
            <a:ext cx="741708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бинатор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огическ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воцирующ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ктического характе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7263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ahoma"/>
              </a:rPr>
              <a:t>Из истории математики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равк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торические экскурс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сказы из истории математи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темы «Таблица мер», «История линейки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т. 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30908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атематический квадрат как средство развития умения вычислять и рассужда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42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гия чисе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владения новы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ени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ные способы выполн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ммуникативност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98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0"/>
                            </p:stCondLst>
                            <p:childTnLst>
                              <p:par>
                                <p:cTn id="3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98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200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Требования к игр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784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Цель.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Посильна ли она для детей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Вызовет ли она познавательны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ес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Итог игры.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150"/>
                            </p:stCondLst>
                            <p:childTnLst>
                              <p:par>
                                <p:cTn id="39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920" y="404280"/>
            <a:ext cx="716616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Занимательный материал как средство развития младших школьнико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3754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ловиц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говор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бус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фокар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гадки-задач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920" y="836280"/>
            <a:ext cx="702144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ёмы вычислени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421000"/>
            <a:ext cx="691848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4 х 25 = 24 : 4 х 100 = 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6 х 25 = 36 : 4 х 100 = 9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73 х 101 = 73 х 100 + 73 = 737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5 х 15 = 1 х 2 = 2 и приписываем 25 = 2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98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98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98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6920" y="620640"/>
            <a:ext cx="74948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Задания визуальной методик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69120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формационная схе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енажё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р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764640"/>
            <a:ext cx="676908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ce4e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Нетрадиционные формы   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     учебных заняти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681048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к – математический рин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к – эстафе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к – КВ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к «Азбука бизнес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к – соревнов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к – зач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к – сказ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к – игра «Счастливый случай» и т. 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16616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ложительные характеристики тест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строта провер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ка большого количества учащих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рка теоретического материа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рка большого объема малыми порция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ъективность оцен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66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Спасибо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за внимани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До новых встреч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уважаемые коллеги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Актуаль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ей работы состоит в применении различных приёмов и методов, активизирующих познавательную деятельность школьников; в создании благожелательной творческой атмосферы уро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7775640" cy="43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Цель:</a:t>
            </a:r>
            <a:r>
              <a:rPr b="0" lang="ru-RU" sz="4000" spc="-1" strike="noStrike">
                <a:solidFill>
                  <a:srgbClr val="ffff99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Формирование познавательного интереса как основного параметра, определяющего интеллектуальное и физиологическое развитие ребёнка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075520" cy="552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Задачи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здать оптимальные условия для развития положительной мотивации учения учащихся, потребности в самостоятельной познавательной деятель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Развивать коммуникативные способности учащихс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Способствовать воспитанию у детей активного отношения к учебной деятельности, культуры труд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45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Приохотить» ученика к учению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раздо более достойная задача учителя, чем «приневолить» его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. Д. Ушинский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55496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оль познавательного интереса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 обучен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1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редство обу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тив у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тойчивая черта характе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кольника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32000" y="1268280"/>
            <a:ext cx="7143840" cy="626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тимуля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держание учебного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Новиз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Обновление уже усвоенных зн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Историз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Практическая необходим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Научные достиж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Многообразие форм рабо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Проблемное обуч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Исслед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Творческие работ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щ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Эмоциональный тонус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Взаимная поддерж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Соревн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Поощрения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765000"/>
            <a:ext cx="734364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иагности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2323800"/>
            <a:ext cx="79200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ос учащих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слеживание активности школьников во время уро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нкет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чин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невник наблюде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вь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55640" y="836640"/>
            <a:ext cx="3960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Этапы работы над задач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тивацион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иентировоч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нитель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трольно-оценоч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06:51:04Z</dcterms:created>
  <dc:creator>Илья</dc:creator>
  <dc:description/>
  <dc:language>en-US</dc:language>
  <cp:lastModifiedBy>Пользаватель</cp:lastModifiedBy>
  <dcterms:modified xsi:type="dcterms:W3CDTF">2013-03-20T12:00:05Z</dcterms:modified>
  <cp:revision>15</cp:revision>
  <dc:subject/>
  <dc:title>«Формирование познавательного интереса младших школьников на уроках математики»</dc:title>
</cp:coreProperties>
</file>