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3B90-4CCA-470A-8422-6B28E5F988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6B6F-186C-469B-8E8B-9483AC92F3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5E67-E174-48AB-B904-B6F9259D8E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3CE7-0696-4459-9EAF-0E58B67C86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08CE-821C-41F4-830D-EC0D045AF8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85FB-3A47-42D0-BCF3-C2DACBEE79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DC40-B4F8-438A-B792-3398EB71D0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4474-D761-401A-9FF5-2631FDE1CD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CD89-5CB3-4845-8D30-9430695D79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61D-78FE-4F18-AEA8-FA8C5FA5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ED8-8A51-4D23-87B2-1FB54653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4ED-59A7-472F-B8E7-DB4BEBDC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514-87EB-4EC0-B27A-C8C494B7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43E-8859-466A-A906-BA6353FE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E615-F46B-4D1F-9328-883504D3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041-E4DB-4596-B046-58FB37FF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11F-43D5-496C-A464-E30A3E9B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7A67-6D0D-4692-BEB8-7000B74F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B3D-D1E0-406A-B646-08BA4834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B02-A92A-4EDB-A704-8C7B99D0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EEB-2C18-476A-B7EA-CA3691B2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2006-46DB-4D33-A7A5-0221B1762A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айкина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лександра Василь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0" y="3286080"/>
            <a:ext cx="4214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f7f7f"/>
                </a:solidFill>
                <a:latin typeface="Calibri"/>
              </a:rPr>
              <a:t>Заслуженный художник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автопортрет.jpg"/>
          <p:cNvPicPr/>
          <p:nvPr/>
        </p:nvPicPr>
        <p:blipFill>
          <a:blip r:embed="rId1"/>
          <a:srcRect l="11991" t="1868" r="8538" b="2534"/>
          <a:stretch/>
        </p:blipFill>
        <p:spPr>
          <a:xfrm>
            <a:off x="214200" y="2571840"/>
            <a:ext cx="3786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айкина Александра Василь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6" descr="38.jpg"/>
          <p:cNvPicPr/>
          <p:nvPr/>
        </p:nvPicPr>
        <p:blipFill>
          <a:blip r:embed="rId1"/>
          <a:stretch/>
        </p:blipFill>
        <p:spPr>
          <a:xfrm>
            <a:off x="285840" y="1785960"/>
            <a:ext cx="4038480" cy="407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1640" y="1371240"/>
            <a:ext cx="442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лась в деревне Меленково Ивановской обла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ончила Пензенское художественное училище (1945 — 1949) и Харьковский государственный художественный институт (1949 —1955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ет преимущественно в области жанровой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лен Союза художников России с 1960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Расцвет творчества пришелся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на 1970-1980-е г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2920" y="1371240"/>
            <a:ext cx="485784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ой успех выпал на долю таких ее произведений, как "Грибная пора" (1967), "Юные мушкетеры" (1974), "Гаврила Поляков - мастер городецкой росписи" (1976), "Детская спортивная школа" (1979), "Девчата сороковых" (1984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78 году состоялась первая персональная выставка в Горьковском государственном художественном музе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80 г. А.В.Сайкиной  было присвоено почетное звание "Заслуженный художник РСФСР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4" descr="Saikina_A_f.jpg"/>
          <p:cNvPicPr/>
          <p:nvPr/>
        </p:nvPicPr>
        <p:blipFill>
          <a:blip r:embed="rId1"/>
          <a:stretch/>
        </p:blipFill>
        <p:spPr>
          <a:xfrm>
            <a:off x="5072040" y="1674720"/>
            <a:ext cx="348300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"Грибная пора" (196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грибник.jpg"/>
          <p:cNvPicPr/>
          <p:nvPr/>
        </p:nvPicPr>
        <p:blipFill>
          <a:blip r:embed="rId1"/>
          <a:stretch/>
        </p:blipFill>
        <p:spPr>
          <a:xfrm>
            <a:off x="1928880" y="905040"/>
            <a:ext cx="542916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"Гаврила Поляков - мастер городецкой росписи" (197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4" descr="06.jpg"/>
          <p:cNvPicPr/>
          <p:nvPr/>
        </p:nvPicPr>
        <p:blipFill>
          <a:blip r:embed="rId1"/>
          <a:stretch/>
        </p:blipFill>
        <p:spPr>
          <a:xfrm>
            <a:off x="2143080" y="1571760"/>
            <a:ext cx="470232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Лето.  1985 г. 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вашский государственный художественный муз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3946.jpg"/>
          <p:cNvPicPr/>
          <p:nvPr/>
        </p:nvPicPr>
        <p:blipFill>
          <a:blip r:embed="rId1"/>
          <a:stretch/>
        </p:blipFill>
        <p:spPr>
          <a:xfrm>
            <a:off x="1428840" y="928800"/>
            <a:ext cx="6529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"Юные мушкетеры" (197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юные мушкетеры.jpg"/>
          <p:cNvPicPr/>
          <p:nvPr/>
        </p:nvPicPr>
        <p:blipFill>
          <a:blip r:embed="rId1"/>
          <a:stretch/>
        </p:blipFill>
        <p:spPr>
          <a:xfrm>
            <a:off x="428760" y="1000080"/>
            <a:ext cx="83106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8581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"Детская спортивная школа" (1979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детская спортивная школа.jpg"/>
          <p:cNvPicPr/>
          <p:nvPr/>
        </p:nvPicPr>
        <p:blipFill>
          <a:blip r:embed="rId1"/>
          <a:srcRect l="1030" t="0" r="0" b="0"/>
          <a:stretch/>
        </p:blipFill>
        <p:spPr>
          <a:xfrm>
            <a:off x="1143000" y="642960"/>
            <a:ext cx="685800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8:44:39Z</dcterms:created>
  <dc:creator>Елена Евгеньевна</dc:creator>
  <dc:description/>
  <dc:language>en-US</dc:language>
  <cp:lastModifiedBy>1</cp:lastModifiedBy>
  <dcterms:modified xsi:type="dcterms:W3CDTF">2013-02-15T18:24:13Z</dcterms:modified>
  <cp:revision>8</cp:revision>
  <dc:subject/>
  <dc:title>Сайкина Александра Васильевна</dc:title>
</cp:coreProperties>
</file>