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BA7E-0EF2-46A2-9EFD-4EE6B8168B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6C3A-58F4-4DE6-AE17-A535A2DF5E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A2C9-E3D4-40A6-9AA6-D41E1C6138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C5E7-6FEE-47A6-9063-BA3BFE1716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E4CC-8B31-44CA-8277-4013F4033A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261C-C6E7-4D2B-AC9D-8125FDEDA2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1EE1-3A73-4EC2-9603-CF73D161E2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4476-AFD9-43DB-997A-FAB26F583B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84A4-9AE6-44CA-9E6D-36ED3D97B1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A3E-A8FC-4DAA-92CE-E0793F53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4BC-AF6E-453C-806F-3B99FC3E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A9D-3894-4F5D-861B-EC2B3789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BDE4-2107-419F-A3B5-FFF848AB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592-E216-4664-8101-22D039C9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6C5-87DF-4A31-8EA4-3FFDA3BF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4EA-E64E-450E-8958-D8A8786D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10E-B5BD-48F7-94DF-33FDEB49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D8E-D4FE-4D12-B4F0-A40FED21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B5E-85F5-4077-8F34-FDB3AFC3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8B0-9C1F-474A-ADBA-60925FC9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012-E45D-4D3F-A64F-1DA95E5F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E924-516B-4BDF-B1B9-17579B9BEE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айкин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лександра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3286080"/>
            <a:ext cx="4214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f7f7f"/>
                </a:solidFill>
                <a:latin typeface="Calibri"/>
              </a:rPr>
              <a:t>Заслуженный художник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автопортрет.jpg"/>
          <p:cNvPicPr/>
          <p:nvPr/>
        </p:nvPicPr>
        <p:blipFill>
          <a:blip r:embed="rId1"/>
          <a:srcRect l="11991" t="1868" r="8538" b="2534"/>
          <a:stretch/>
        </p:blipFill>
        <p:spPr>
          <a:xfrm>
            <a:off x="214200" y="2571840"/>
            <a:ext cx="3786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айкина Александра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6" descr="38.jpg"/>
          <p:cNvPicPr/>
          <p:nvPr/>
        </p:nvPicPr>
        <p:blipFill>
          <a:blip r:embed="rId1"/>
          <a:stretch/>
        </p:blipFill>
        <p:spPr>
          <a:xfrm>
            <a:off x="285840" y="1785960"/>
            <a:ext cx="4038480" cy="407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1640" y="1371240"/>
            <a:ext cx="442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ась в деревне Меленково Ивановской обла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ончила Пензенское художественное училище (1945 — 1949) и Харьковский государственный художественный институт (1949 —1955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ет преимущественно в области жанровой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лен Союза художников России с 1960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Расцвет творчества пришелся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а 1970-1980-е г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1371240"/>
            <a:ext cx="485784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й успех выпал на долю таких ее произведений, как "Грибная пора" (1967), "Юные мушкетеры" (1974), "Гаврила Поляков - мастер городецкой росписи" (1976), "Детская спортивная школа" (1979), "Девчата сороковых" (198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78 году состоялась первая персональная выставка в Горьковском государственном художественном муз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80 г. А.В.Сайкиной  было присвоено почетное звание "Заслуженный художник РСФСР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4" descr="Saikina_A_f.jpg"/>
          <p:cNvPicPr/>
          <p:nvPr/>
        </p:nvPicPr>
        <p:blipFill>
          <a:blip r:embed="rId1"/>
          <a:stretch/>
        </p:blipFill>
        <p:spPr>
          <a:xfrm>
            <a:off x="5072040" y="1674720"/>
            <a:ext cx="348300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"Грибная пора" (196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грибник.jpg"/>
          <p:cNvPicPr/>
          <p:nvPr/>
        </p:nvPicPr>
        <p:blipFill>
          <a:blip r:embed="rId1"/>
          <a:stretch/>
        </p:blipFill>
        <p:spPr>
          <a:xfrm>
            <a:off x="1928880" y="905040"/>
            <a:ext cx="54291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"Гаврила Поляков - мастер городецкой росписи" (197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06.jpg"/>
          <p:cNvPicPr/>
          <p:nvPr/>
        </p:nvPicPr>
        <p:blipFill>
          <a:blip r:embed="rId1"/>
          <a:stretch/>
        </p:blipFill>
        <p:spPr>
          <a:xfrm>
            <a:off x="2143080" y="1571760"/>
            <a:ext cx="470232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Лето.  1985 г.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ашский государственный художественный м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3946.jpg"/>
          <p:cNvPicPr/>
          <p:nvPr/>
        </p:nvPicPr>
        <p:blipFill>
          <a:blip r:embed="rId1"/>
          <a:stretch/>
        </p:blipFill>
        <p:spPr>
          <a:xfrm>
            <a:off x="1428840" y="928800"/>
            <a:ext cx="6529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"Юные мушкетеры" (197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юные мушкетеры.jpg"/>
          <p:cNvPicPr/>
          <p:nvPr/>
        </p:nvPicPr>
        <p:blipFill>
          <a:blip r:embed="rId1"/>
          <a:stretch/>
        </p:blipFill>
        <p:spPr>
          <a:xfrm>
            <a:off x="428760" y="1000080"/>
            <a:ext cx="8310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"Детская спортивная школа" (1979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детская спортивная школа.jpg"/>
          <p:cNvPicPr/>
          <p:nvPr/>
        </p:nvPicPr>
        <p:blipFill>
          <a:blip r:embed="rId1"/>
          <a:srcRect l="1030" t="0" r="0" b="0"/>
          <a:stretch/>
        </p:blipFill>
        <p:spPr>
          <a:xfrm>
            <a:off x="1143000" y="642960"/>
            <a:ext cx="68580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8:44:39Z</dcterms:created>
  <dc:creator>Елена Евгеньевна</dc:creator>
  <dc:description/>
  <dc:language>en-US</dc:language>
  <cp:lastModifiedBy>1</cp:lastModifiedBy>
  <dcterms:modified xsi:type="dcterms:W3CDTF">2013-02-15T18:24:13Z</dcterms:modified>
  <cp:revision>8</cp:revision>
  <dc:subject/>
  <dc:title>Сайкина Александра Васильевна</dc:title>
</cp:coreProperties>
</file>