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560C-05BB-45A0-B443-D579229F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1E22-4BC6-462D-B652-0F75EEA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2400-BDA0-45DE-B76D-1DBB1217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F586-543D-4AFB-B9E8-34ED6683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B25A-292D-424D-AD24-FC3C9325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F81F-AD8E-44A9-BB1E-82E4632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59DD-C735-4E2D-BE7D-21BD1D65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B96B-A217-47D8-A77B-8B2EB98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C487-7E40-45A4-BA70-1A6DBFD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360-A284-4A8D-AF44-93C936F9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DC1-5A5C-4C37-95E0-2D762CF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CE74-A793-45FF-B342-A5A897E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E6D-73D9-4CBD-A476-288F2E0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61D5-43C1-44B9-8A17-840DAF0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026-14D6-4747-B47F-4850B208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FA6-2D6A-4FC0-812B-46EA2A9F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E75-09CE-49F0-A3D2-4A375F3E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CE56-833C-4E50-9FB8-664B437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8D21-4614-417A-A030-0FCD90F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FA7B-F8E1-419C-B45A-4249BBE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6F33-1486-41B3-9ECE-AF201495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DDB0-2815-4BED-ABF8-B05854F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B422-6CB6-42ED-B008-2A99356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2E9E-BEE7-4A08-86A6-232143E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612-73F7-4B17-8DE8-C9F690C8F1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D68-E92C-450A-A33C-F703AB4EA9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еребряно Прудская сош имени маршала В.И. Чуйко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ектная работ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Живая азбук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:Костина Елизавета 1 «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 проекта: Колганова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ультант: Костина С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490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Цель работы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Изучение азбуки с помощью стихов.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4200"/>
            </a:b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Задача: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  Показать,  как с помощью стихов можно выучить букв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2010"/>
          <p:cNvPicPr/>
          <p:nvPr/>
        </p:nvPicPr>
        <p:blipFill>
          <a:blip r:embed="rId1"/>
          <a:srcRect l="9279" t="12000" r="5154" b="4000"/>
          <a:stretch/>
        </p:blipFill>
        <p:spPr>
          <a:xfrm>
            <a:off x="1143000" y="1600200"/>
            <a:ext cx="6324480" cy="4952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КЕТ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0" y="-214200"/>
            <a:ext cx="419112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Т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ru-RU" sz="2000" spc="-1" strike="noStrike">
                <a:solidFill>
                  <a:srgbClr val="ffffcc"/>
                </a:solidFill>
                <a:latin typeface="Comic Sans MS"/>
              </a:rPr>
              <a:t>Тэ" и в дождик и в жару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Comic Sans MS"/>
              </a:rPr>
              <a:t>Укрывает детвору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И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ссировщик с буквой "И"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цирке на арен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та буква, посмотр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стала на колен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олго-долго хлопал за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 под шум овац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ссировщик приказал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- Надо подниматьс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"И" сказал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- Иго-го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лопать мне не над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 хочу я ниче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ме рафина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9" descr="т116"/>
          <p:cNvPicPr/>
          <p:nvPr/>
        </p:nvPicPr>
        <p:blipFill>
          <a:blip r:embed="rId1"/>
          <a:srcRect l="0" t="27157" r="0" b="0"/>
          <a:stretch/>
        </p:blipFill>
        <p:spPr>
          <a:xfrm>
            <a:off x="5791320" y="525600"/>
            <a:ext cx="274320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а112"/>
          <p:cNvPicPr/>
          <p:nvPr/>
        </p:nvPicPr>
        <p:blipFill>
          <a:blip r:embed="rId2"/>
          <a:srcRect l="0" t="19806" r="0" b="23761"/>
          <a:stretch/>
        </p:blipFill>
        <p:spPr>
          <a:xfrm>
            <a:off x="5572080" y="3276720"/>
            <a:ext cx="2733840" cy="251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Вывод: Можно быстро и весело выучить буквы с помощью стихов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http://detsadik.my1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http://www.solnet. 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Z</dc:creator>
  <dc:description/>
  <dc:language>en-US</dc:language>
  <cp:lastModifiedBy>1Z</cp:lastModifiedBy>
  <dcterms:modified xsi:type="dcterms:W3CDTF">2013-03-20T17:00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