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260C-9397-4947-B5F9-ADB37063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CC57-25B9-4E96-902E-681EB39D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47DE-F561-414F-B96B-53ECCC6D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68B4-704F-45F6-92FA-E6366068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A4FD-02F7-4AB1-AA3B-92FB39DA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D3E4-46BA-453E-BBCC-184F2F6A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B695-15C6-48EB-A561-2997834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FC3A-AA03-45F2-83DF-2E881C37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69A3-2354-4950-AE40-3F272326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FA03-BEE0-48E8-ADD6-1FB1C1E9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7541-993E-4950-8CA1-88AC7FA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9C6B-8058-4DB1-BB4C-38E77C00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A9D-205A-44A4-8683-FA8DC25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793-8739-4D98-9849-91B928A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32F4-8798-42CE-9B91-A3A63AD2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F728-598E-4287-B3E5-E14A21F0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D158-EA9A-4F74-8B03-2E88019F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986E-C8A2-4869-B01B-A07DB580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2706-5420-49DC-8B3E-039B55D1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51D9-2271-49F1-8AF2-61721508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E430-E5ED-4B3D-A7C7-2B72619E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C7C9-3AF8-4101-A2D7-1D8F7489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D3B5-B00B-4B67-AC48-F8E4587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01DF-24B1-4AC5-9DCC-EF9ED4D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9168-2E68-499A-9E28-C71308904C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D98-AB17-4DD2-9D93-CDD8DB66CD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еребряно Прудская сош имени маршала В.И. Чуйков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роектная работ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Живая азбук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:Костина Елизавета 1 «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водитель проекта: Колганова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ультант: Костина С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4903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Comic Sans MS"/>
              </a:rPr>
              <a:t>Цель работы</a:t>
            </a: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Изучение азбуки с помощью стихов.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4200"/>
            </a:br>
            <a:r>
              <a:rPr b="1" lang="ru-RU" sz="4200" spc="-1" strike="noStrike">
                <a:solidFill>
                  <a:srgbClr val="ffffcc"/>
                </a:solidFill>
                <a:latin typeface="Comic Sans MS"/>
              </a:rPr>
              <a:t>Задача:</a:t>
            </a: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  Показать,  как с помощью стихов можно выучить буквы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2010"/>
          <p:cNvPicPr/>
          <p:nvPr/>
        </p:nvPicPr>
        <p:blipFill>
          <a:blip r:embed="rId1"/>
          <a:srcRect l="9279" t="12000" r="5154" b="4000"/>
          <a:stretch/>
        </p:blipFill>
        <p:spPr>
          <a:xfrm>
            <a:off x="1143000" y="1600200"/>
            <a:ext cx="6324480" cy="4952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КЕТ ПРОЕК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0" y="-214200"/>
            <a:ext cx="419112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Т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0" lang="ru-RU" sz="2000" spc="-1" strike="noStrike">
                <a:solidFill>
                  <a:srgbClr val="ffffcc"/>
                </a:solidFill>
                <a:latin typeface="Comic Sans MS"/>
              </a:rPr>
              <a:t>Тэ" и в дождик и в жару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Comic Sans MS"/>
              </a:rPr>
              <a:t>Укрывает детвору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И</a:t>
            </a: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ссировщик с буквой "И"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цирке на арен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та буква, посмотр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стала на колен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олго-долго хлопал за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 под шум овац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ссировщик приказал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- Надо подниматься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"И" сказал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- Иго-го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лопать мне не над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 хочу я ниче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оме рафина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9" descr="т116"/>
          <p:cNvPicPr/>
          <p:nvPr/>
        </p:nvPicPr>
        <p:blipFill>
          <a:blip r:embed="rId1"/>
          <a:srcRect l="0" t="27157" r="0" b="0"/>
          <a:stretch/>
        </p:blipFill>
        <p:spPr>
          <a:xfrm>
            <a:off x="5791320" y="525600"/>
            <a:ext cx="274320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а112"/>
          <p:cNvPicPr/>
          <p:nvPr/>
        </p:nvPicPr>
        <p:blipFill>
          <a:blip r:embed="rId2"/>
          <a:srcRect l="0" t="19806" r="0" b="23761"/>
          <a:stretch/>
        </p:blipFill>
        <p:spPr>
          <a:xfrm>
            <a:off x="5572080" y="3276720"/>
            <a:ext cx="2733840" cy="2514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Comic Sans MS"/>
              </a:rPr>
              <a:t>Вывод: Можно быстро и весело выучить буквы с помощью стихов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http://detsadik.my1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http://www.solnet. 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Z</dc:creator>
  <dc:description/>
  <dc:language>en-US</dc:language>
  <cp:lastModifiedBy>1Z</cp:lastModifiedBy>
  <dcterms:modified xsi:type="dcterms:W3CDTF">2013-03-20T17:00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