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D68-2179-4850-B723-716963FC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857-5E05-4C82-B7E9-94762959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3C5-1683-487B-B68A-1A1F396C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346-8280-41C3-8753-90C4612B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79A-11D8-4E57-99A3-6DD377C0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9A5-C639-45EB-A115-A4449410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1DC-0B77-4ABA-A154-EB107836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E8C-83FC-486D-ABA8-B5B531C0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AB5-2326-4FEB-BED0-C235185A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E96-A601-4C49-AF47-778190E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093-653D-46F5-9215-420EA52D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FA1-CF24-4F7B-9B3E-12D26FBF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5431-930F-4331-882A-13E9F76F0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Брянск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3657600"/>
            <a:ext cx="78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вропейская и американская норки в Брянской облас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F9B5958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676520" y="4648320"/>
            <a:ext cx="457200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Европейская но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щая информация о европейской но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а тела европейской норки – 28-43 см, хвоста 12-19 см(около трети длины тела). Мех короткий, густой. Окраска одноцветная, от рыже-б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 тёмно-коричневой, снизу чуть светлее, а на ногах и хвосте – темнее. На губах и подбородке белое пятно, иногда заходящее на горло. Этим  пятном, а так же свои светло-коричневым окрасом отличается от американской норки(которая так же рассматривается в моей работ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гда на горле у «европейки» могут быть белые пятна круглой формы. При беспокойстве эта норка «стрекочет» или «цыкает» и испускает довольно слабый и нерезкий своеобразный зап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еляет малые и средние проточные водоёмы, на крупных реках встречается реже, в основном в пойменных водоёмах их долин и в устьях их притоков. Европейская норка, в отличие от американской живёт более оседло. Площадь обитания отдельной особи, как правило, невелика. Участок обитания норки колеблется от 250 до 2000 м вдоль береговой линии водоёма при ширине от 50-60 до 10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еал обитания европейской норки в мире и Брянской области, чис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 рубежом европейская норка распространена в Румынии, Франции, Испании, Эстонии и Белоруссии. В России неразрывная зона распространения вида охватывает часть Костромской, север Ярославской, Ивановскую, Владимирскую, Тверскую, север Смоленской, юго-восток Псковской и Новгородской, юго-восток Ленинградской, Вологодскую, юг и восток Архангельской, север  Кировской областей, запад республики Коми. По всей остальной территории распространена отдельными удалёнными друг от друга популяц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пространение в Брянской области и краткий обзор состояния вида в пределах обл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иболее крупные очаги обитания европейской норки выявлены (по данным опроса 2003-2005 гг. среди охотоведов и охотников) в Дятьковском, Климовском, Рогнединском и Трубчевском р-нах. В Дятьковском р-не европейская норка встречается изредка, в основном в северо-восточной части района. В Климовском районе – в устье р. Цата на границе с Черниговской областью (Украина). В Клетнянском р-не – на рр. Надва, Опороть, Быстрая, Воронуса, Ворминка и их мелких притоках не терр. Федерального заказника «Клетнянский». В Рогнединском районе  в верхнем течении р. Десны от границы со Смоленской областью до ж/д моста в окр. д. Жалынец; в бассейне р. Снопот близ д. Шаровичи; по р. Габья близ д. Поцынь. В Трубчевском районе европейская норка, возможно, обитает по левобережью р.Десны,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р. Солька, Бетча, Речица и др. на территории заповедника «Брянский лес» известен лишь один случай встречи европейской норки в долине р.Земля в 1988г. По данным учётов околоводных животных в 1992 г. и 2004 г. норка редка в заповеднике. По мнению автора, обитание европейской норки в заповеднике маловероятно. Современных оценочных данных о популяции вида в Брянской области 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еал обитания европейской н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2B9D0153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239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1F294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676520" y="4800600"/>
            <a:ext cx="5181480" cy="16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мериканская но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щая информация о американской но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представители рода хорьков – зверьки с гибким удлинённым телом, очень изящные и подвижные, от куниц отличаются наличием белого цвета на кончике морды. Уши маленькие округлые, длина тела до 50 см, хвоста 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см; вес до 2 кг; окрас тёмно-коричневый; белое пятно на подбородке заходит только на нижнюю губу; изредка бывают белые пятна на груди, горле и брюхе. В некоторых местах встречаются сбежавшие со звероферм норки различных окрасов от белой и голубой , до розовой и чёрной. Глаза ночью слабо светятся медно-красным цв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мериканская норка – вид экологически более пластичный, чем европейская норка, заселяет мелкие, средние речки чаще встречается и на крупных ре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отличие от аборигенного вида (европейской норки) не избегает возможности селиться на озёрах и мелиоративных каналах, может обитать вблизи населённых пунктов, вплоть до го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еал обитания американской норки в мире и Брянской области области, чис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ая норка – вид экологически более пластичный, чем европейская норка, заселяет мелкие, средние речки чаще встречается и на крупных ре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личие от аборигенного вида (европейской норки) не избегает возможности селиться на озёрах и мелиоративных каналах, может обитать вблизи населённых пунктов, вплоть до 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: В основном американская норка распространена в Северной  Америке, позднее проводились выпуски этого вида по всей лесной зоне России до Анадыря, а так же Закавказья; в Белоруссии, откуда американская норка и попала в нашу область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ётная численность на общую протяжённость береговой линии в нашей области составляет ок. 2500 особей ( по данным на 2004 г.), средняя плотность распространения 1,89 особей на 10 км береговой линии; по др. данным плотность норки (на конец 2004 г.) 2,15 особей на 10 км береговой линии, расчётная численность на общую протяжённость береговой линии 2403 особи. Подробная информация о учёте норок в разделе «Приложе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ая норка обитает в всех р-нах в реках Брянской области: Десна, Болва, Ипуть, Беседь, Судость, Габья, Ветьма, Снежеть, Навля, Нерусса, Надва, Унеча, Снов, Цата, Ревна, Сев, Усожа, Снопот, Рожок и др., а также в их притоках и пойменных старицах, крупных озёрах и в каналах мелиоративных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и области норка распределена неравномерно: наибольшая плотность зафиксирована в Дятьковском, Жирятинском, Клинцовск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гнединском, Стародубском и Почепском районах; Довольно высокая плотность в Брянском, Клетнянском, Навлинском, Новозыбковском, Мглинском, Суражском и Трубчевском районах; Наименьшая плотность отмечена в Брасовском, Дубровском, Карачевском и Суземском райо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же как и для выдры густота распределения рек и протяженность береговой линии водоёмов прежде всего определяют плотность обитания зверь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8T09:25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