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484D-570E-484C-A717-4BDDF56D6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77EA-8FA2-4140-9987-C395A81EE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9097-6B67-4014-8BFE-FF26FFB80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AA5E-315B-4BA5-A656-542A1A3A2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B127-BA66-4E8E-B738-C71BA95FD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DA25-25F2-46D5-9F71-4E6663125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78AE-BA4F-4F67-B257-E0FBF60FE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635F-C988-431A-A22E-627930DFF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6B92-F699-46F1-8D4F-284CF85EB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F68A-C5B6-4CDA-B233-EF3F29FF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6BDA-25E9-4561-8D17-7CE06339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4F14-593A-4EA0-9F35-30B3AAA9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2EC43-5B6A-45A2-8046-D4BB0B808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Брянски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533520" y="3657600"/>
            <a:ext cx="7848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Европейская и американская норки в Брянской област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F9B5958C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1676520" y="4648320"/>
            <a:ext cx="4572000" cy="17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Европейская нор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бщая информация о европейской нор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ина тела европейской норки – 28-43 см, хвоста 12-19 см(около трети длины тела). Мех короткий, густой. Окраска одноцветная, от рыже-бур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 тёмно-коричневой, снизу чуть светлее, а на ногах и хвосте – темнее. На губах и подбородке белое пятно, иногда заходящее на горло. Этим  пятном, а так же свои светло-коричневым окрасом отличается от американской норки(которая так же рассматривается в моей работ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огда на горле у «европейки» могут быть белые пятна круглой формы. При беспокойстве эта норка «стрекочет» или «цыкает» и испускает довольно слабый и нерезкий своеобразный зап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селяет малые и средние проточные водоёмы, на крупных реках встречается реже, в основном в пойменных водоёмах их долин и в устьях их притоков. Европейская норка, в отличие от американской живёт более оседло. Площадь обитания отдельной особи, как правило, невелика. Участок обитания норки колеблется от 250 до 2000 м вдоль береговой линии водоёма при ширине от 50-60 до 100 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реал обитания европейской норки в мире и Брянской области, числен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а рубежом европейская норка распространена в Румынии, Франции, Испании, Эстонии и Белоруссии. В России неразрывная зона распространения вида охватывает часть Костромской, север Ярославской, Ивановскую, Владимирскую, Тверскую, север Смоленской, юго-восток Псковской и Новгородской, юго-восток Ленинградской, Вологодскую, юг и восток Архангельской, север  Кировской областей, запад республики Коми. По всей остальной территории распространена отдельными удалёнными друг от друга популяция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аспространение в Брянской области и краткий обзор состояния вида в пределах област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иболее крупные очаги обитания европейской норки выявлены (по данным опроса 2003-2005 гг. среди охотоведов и охотников) в Дятьковском, Климовском, Рогнединском и Трубчевском р-нах. В Дятьковском р-не европейская норка встречается изредка, в основном в северо-восточной части района. В Климовском районе – в устье р. Цата на границе с Черниговской областью (Украина). В Клетнянском р-не – на рр. Надва, Опороть, Быстрая, Воронуса, Ворминка и их мелких притоках не терр. Федерального заказника «Клетнянский». В Рогнединском районе  в верхнем течении р. Десны от границы со Смоленской областью до ж/д моста в окр. д. Жалынец; в бассейне р. Снопот близ д. Шаровичи; по р. Габья близ д. Поцынь. В Трубчевском районе европейская норка, возможно, обитает по левобережью р.Десны, 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р. Солька, Бетча, Речица и др. на территории заповедника «Брянский лес» известен лишь один случай встречи европейской норки в долине р.Земля в 1988г. По данным учётов околоводных животных в 1992 г. и 2004 г. норка редка в заповеднике. По мнению автора, обитание европейской норки в заповеднике маловероятно. Современных оценочных данных о популяции вида в Брянской области н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реал обитания европейской нор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2B9D0153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72392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A1F2943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1676520" y="4800600"/>
            <a:ext cx="5181480" cy="164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Американская нор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бщая информация о американской нор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се представители рода хорьков – зверьки с гибким удлинённым телом, очень изящные и подвижные, от куниц отличаются наличием белого цвета на кончике морды. Уши маленькие округлые, длина тела до 50 см, хвоста д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 см; вес до 2 кг; окрас тёмно-коричневый; белое пятно на подбородке заходит только на нижнюю губу; изредка бывают белые пятна на груди, горле и брюхе. В некоторых местах встречаются сбежавшие со звероферм норки различных окрасов от белой и голубой , до розовой и чёрной. Глаза ночью слабо светятся медно-красным цве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мериканская норка – вид экологически более пластичный, чем европейская норка, заселяет мелкие, средние речки чаще встречается и на крупных ре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отличие от аборигенного вида (европейской норки) не избегает возможности селиться на озёрах и мелиоративных каналах, может обитать вблизи населённых пунктов, вплоть до горо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реал обитания американской норки в мире и Брянской области области, числен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мериканская норка – вид экологически более пластичный, чем европейская норка, заселяет мелкие, средние речки чаще встречается и на крупных рек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тличие от аборигенного вида (европейской норки) не избегает возможности селиться на озёрах и мелиоративных каналах, может обитать вблизи населённых пунктов, вплоть до гор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ространение : В основном американская норка распространена в Северной  Америке, позднее проводились выпуски этого вида по всей лесной зоне России до Анадыря, а так же Закавказья; в Белоруссии, откуда американская норка и попала в нашу область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чётная численность на общую протяжённость береговой линии в нашей области составляет ок. 2500 особей ( по данным на 2004 г.), средняя плотность распространения 1,89 особей на 10 км береговой линии; по др. данным плотность норки (на конец 2004 г.) 2,15 особей на 10 км береговой линии, расчётная численность на общую протяжённость береговой линии 2403 особи. Подробная информация о учёте норок в разделе «Приложени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мериканская норка обитает в всех р-нах в реках Брянской области: Десна, Болва, Ипуть, Беседь, Судость, Габья, Ветьма, Снежеть, Навля, Нерусса, Надва, Унеча, Снов, Цата, Ревна, Сев, Усожа, Снопот, Рожок и др., а также в их притоках и пойменных старицах, крупных озёрах и в каналах мелиоративных сист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территории области норка распределена неравномерно: наибольшая плотность зафиксирована в Дятьковском, Жирятинском, Клинцовско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гнединском, Стародубском и Почепском районах; Довольно высокая плотность в Брянском, Клетнянском, Навлинском, Новозыбковском, Мглинском, Суражском и Трубчевском районах; Наименьшая плотность отмечена в Брасовском, Дубровском, Карачевском и Суземском райо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 же как и для выдры густота распределения рек и протяженность береговой линии водоёмов прежде всего определяют плотность обитания зверь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2-18T09:25:59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