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688-F92A-410F-8695-58AECCD6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DA0-FD6D-4401-AA52-15400A8C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4A7-8681-4FD7-B1EC-3FB2BE90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A2F-C338-4D4A-B4D2-9D3D1BF9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3539-1ADE-43BA-9344-F077EA37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F17E-99B0-44E2-A189-CBC95399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C4A9-2ABD-43E2-9B4F-D26A8417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2A6A-C0D8-4D89-B4BA-AD8EA7F0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F020-2DF9-48C5-8173-287180CB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21E7-CCFE-43FE-8DCB-FEC58B09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C92E-5583-4569-9ABF-08B71F59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533-89CD-4EE1-ABFC-CF5CE3B7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4FCB-5D32-4BEA-8A76-82819BD6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7E2E-B802-491A-8368-933CF97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3477-8D3F-4F4E-A59C-D4D44190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FE81-A37C-4A8D-9437-294EE0B0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0FE0-1C21-4D5E-86F4-CB0F0F14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90F-A8B9-4D85-9C51-E7FB3214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4EB-8115-4E5A-8A6D-1148279C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FE3-7BB5-4D25-8D30-5DBFC7A9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565-5290-4B56-A7F7-E7625526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1E0-FBF0-47C6-9940-E1BDA12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9D9-E792-4EFA-A7DC-A4490653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449-26AF-4B64-A7C6-E3015052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90A7-A966-4B1A-BEF9-94F2C33A3D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8708-3929-438B-AEDB-D2F6D99412C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 rot="21029400">
            <a:off x="301320" y="140868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А.С.Пушкин «Медный всад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500120" y="2428920"/>
            <a:ext cx="583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onstantia"/>
              </a:rPr>
              <a:t>Урок литературы в </a:t>
            </a:r>
            <a:r>
              <a:rPr b="0" i="1" lang="en-US" sz="3200" spc="-1" strike="noStrike">
                <a:solidFill>
                  <a:srgbClr val="04617b"/>
                </a:solidFill>
                <a:latin typeface="Constantia"/>
              </a:rPr>
              <a:t>VII </a:t>
            </a:r>
            <a:r>
              <a:rPr b="0" i="1" lang="ru-RU" sz="3200" spc="-1" strike="noStrike">
                <a:solidFill>
                  <a:srgbClr val="04617b"/>
                </a:solidFill>
                <a:latin typeface="Constantia"/>
              </a:rPr>
              <a:t>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929040" y="485784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Грицаенко Галина Ильинич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Наро-Фоминской сош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45007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 flipV="1" rot="10800000">
            <a:off x="5571720" y="264204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Петр Пер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в изображении художника        Константинова Ф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935640" y="1000080"/>
            <a:ext cx="7169760" cy="253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кие стороны пре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етра через «сто лет» отмечает Пушкин в стро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«…и юный гр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ознесся пышно, гордел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де прежде финский рыбол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росал в неведомы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вой ветхий невод…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929120" y="4000680"/>
            <a:ext cx="3714840" cy="2500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3571920" cy="244152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extBox 1" descr=""/>
          <p:cNvPicPr/>
          <p:nvPr/>
        </p:nvPicPr>
        <p:blipFill>
          <a:blip r:embed="rId1"/>
          <a:stretch/>
        </p:blipFill>
        <p:spPr>
          <a:xfrm>
            <a:off x="1646280" y="324000"/>
            <a:ext cx="4962600" cy="7236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571680" y="1143000"/>
            <a:ext cx="54291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Конфликт </a:t>
            </a:r>
            <a:r>
              <a:rPr b="0" lang="ru-RU" sz="2000" spc="-1" strike="noStrike">
                <a:solidFill>
                  <a:srgbClr val="0076a3"/>
                </a:solidFill>
                <a:latin typeface="Constantia"/>
              </a:rPr>
              <a:t>в литературном произвед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столкновение, борьб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onstantia"/>
              </a:rPr>
              <a:t>на которых построено развитие сю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500040" y="2357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nstantia"/>
              </a:rPr>
              <a:t>Конфликт в поэме имеет несколько стор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00080" y="2928960"/>
            <a:ext cx="74962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«маленьким человеком» и власть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природой и челове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городом и стих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личностью и истор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     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onstantia"/>
              </a:rPr>
              <a:t>- Между реальным и мифологичес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143000" y="1000080"/>
            <a:ext cx="75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Constantia"/>
              </a:rPr>
              <a:t>Жанр </a:t>
            </a:r>
            <a:r>
              <a:rPr b="1" i="1" lang="ru-RU" sz="3600" spc="-1" strike="noStrike" u="sng">
                <a:solidFill>
                  <a:srgbClr val="003399"/>
                </a:solidFill>
                <a:uFillTx/>
                <a:latin typeface="Constantia"/>
              </a:rPr>
              <a:t>поэмы</a:t>
            </a:r>
            <a:r>
              <a:rPr b="1" i="1" lang="ru-RU" sz="3600" spc="-1" strike="noStrike">
                <a:solidFill>
                  <a:srgbClr val="003399"/>
                </a:solidFill>
                <a:latin typeface="Constantia"/>
              </a:rPr>
              <a:t> «Медный всадн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286160" y="2428920"/>
            <a:ext cx="4143600" cy="3448080"/>
          </a:xfrm>
          <a:prstGeom prst="rect">
            <a:avLst/>
          </a:pr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«Происшествие, описанное в с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99"/>
                </a:solidFill>
                <a:uFillTx/>
                <a:latin typeface="Constantia"/>
              </a:rPr>
              <a:t>повести,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основано на ист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Подробности наво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заимствованы из тогдаш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журналов. Любопытные могут справиться с извести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составленным В.Н.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Берх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                                       </a:t>
            </a:r>
            <a:r>
              <a:rPr b="0" lang="ru-RU" sz="2000" spc="-1" strike="noStrike">
                <a:solidFill>
                  <a:srgbClr val="336699"/>
                </a:solidFill>
                <a:latin typeface="Constantia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2754360" cy="4000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692280"/>
          <a:ext cx="4716360" cy="5973480"/>
        </p:xfrm>
        <a:graphic>
          <a:graphicData uri="http://schemas.openxmlformats.org/drawingml/2006/table">
            <a:tbl>
              <a:tblPr/>
              <a:tblGrid>
                <a:gridCol w="249120"/>
                <a:gridCol w="246240"/>
                <a:gridCol w="250920"/>
                <a:gridCol w="253800"/>
                <a:gridCol w="241200"/>
                <a:gridCol w="246240"/>
                <a:gridCol w="249120"/>
                <a:gridCol w="250920"/>
                <a:gridCol w="245880"/>
                <a:gridCol w="249480"/>
                <a:gridCol w="245880"/>
                <a:gridCol w="250920"/>
                <a:gridCol w="249120"/>
                <a:gridCol w="246240"/>
                <a:gridCol w="249120"/>
                <a:gridCol w="246240"/>
                <a:gridCol w="250560"/>
                <a:gridCol w="246240"/>
                <a:gridCol w="24912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1426"/>
          <p:cNvSpPr/>
          <p:nvPr/>
        </p:nvSpPr>
        <p:spPr>
          <a:xfrm>
            <a:off x="4572000" y="105264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1.Место рождения А.С.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2.Кто главный герой поэмы «М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3.На какой реке воздвигнут Петербур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4.О каком событии рассказывает А.С.Пушкин в поэм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5.Как называется поэма, посвящ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итве со швед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6.Как называет А.С. Пушкин ф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рыбака в поэм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7.К какому жанру относил А.С. Пушк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вое произведение «Медный всад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8.Какое учебное заведение законч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.С.Пушки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9.Как называется троп, когда в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дного понятия используется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друг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27"/>
          <p:cNvSpPr/>
          <p:nvPr/>
        </p:nvSpPr>
        <p:spPr>
          <a:xfrm>
            <a:off x="3000240" y="2858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Arial"/>
              </a:rPr>
              <a:t>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357280" y="85716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57120" y="164304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Золотарева И.В., Егорова Н.В. «Поурочные разработки по литературе». Москва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2.Коровина В.Я. «Пушкин в школе». Москва, 1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3.Пушкин А.С. «Полное собрание сочинений». Том 5, Москв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4. «Словарь литературоведческих терминов». Москв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357120" y="20001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048680" y="571680"/>
            <a:ext cx="7710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nstantia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nstantia"/>
              </a:rPr>
              <a:t>Начать знакомство с поэмой «Медный всад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85880" y="1428840"/>
            <a:ext cx="758484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nstantia"/>
              </a:rPr>
              <a:t>           </a:t>
            </a:r>
            <a:r>
              <a:rPr b="0" lang="ru-RU" sz="2800" spc="-1" strike="noStrike">
                <a:solidFill>
                  <a:srgbClr val="003366"/>
                </a:solidFill>
                <a:latin typeface="Constanti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Выявить историко-литературное и жанровое своеобразие поэ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Определить фольклорные традиции в изображении величия и 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исторической личности Петра </a:t>
            </a:r>
            <a:r>
              <a:rPr b="0" i="1" lang="en-US" sz="1800" spc="-1" strike="noStrike">
                <a:solidFill>
                  <a:srgbClr val="333399"/>
                </a:solidFill>
                <a:latin typeface="Constantia"/>
              </a:rPr>
              <a:t>I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- Выяснить, какие стороны преобразовательной деятельности Пе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через «сто лет» отмечает Пушк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Дать понятие о перифр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Развивать навык выразительного чт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Совершенствовать навыки анализ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nstantia"/>
              </a:rPr>
              <a:t>Воспиты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Формировать интерес к изучению русской исто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Constantia"/>
              </a:rPr>
              <a:t>Воспитывать патриотические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43240" y="1428840"/>
            <a:ext cx="4631040" cy="3941640"/>
          </a:xfrm>
          <a:prstGeom prst="rect">
            <a:avLst/>
          </a:prstGeom>
          <a:ln w="9360">
            <a:solidFill>
              <a:srgbClr val="083763"/>
            </a:solidFill>
            <a:miter/>
          </a:ln>
        </p:spPr>
      </p:pic>
      <p:pic>
        <p:nvPicPr>
          <p:cNvPr id="102" name="TextBox 2" descr=""/>
          <p:cNvPicPr/>
          <p:nvPr/>
        </p:nvPicPr>
        <p:blipFill>
          <a:blip r:embed="rId2"/>
          <a:stretch/>
        </p:blipFill>
        <p:spPr>
          <a:xfrm>
            <a:off x="244440" y="493560"/>
            <a:ext cx="356544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380052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357880" y="785880"/>
            <a:ext cx="3449520" cy="478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5" name="TextBox 3" descr=""/>
          <p:cNvPicPr/>
          <p:nvPr/>
        </p:nvPicPr>
        <p:blipFill>
          <a:blip r:embed="rId3"/>
          <a:stretch/>
        </p:blipFill>
        <p:spPr>
          <a:xfrm>
            <a:off x="804960" y="5821200"/>
            <a:ext cx="3170160" cy="68904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4" descr=""/>
          <p:cNvPicPr/>
          <p:nvPr/>
        </p:nvPicPr>
        <p:blipFill>
          <a:blip r:embed="rId4"/>
          <a:stretch/>
        </p:blipFill>
        <p:spPr>
          <a:xfrm>
            <a:off x="4657680" y="5821200"/>
            <a:ext cx="42973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Box 1" descr=""/>
          <p:cNvPicPr/>
          <p:nvPr/>
        </p:nvPicPr>
        <p:blipFill>
          <a:blip r:embed="rId1"/>
          <a:stretch/>
        </p:blipFill>
        <p:spPr>
          <a:xfrm>
            <a:off x="1268280" y="847800"/>
            <a:ext cx="3803760" cy="682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857160" y="164304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приют 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убогого  чух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785880" y="235728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отсель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грозить мы будем шв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85880" y="307188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назло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надменному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сос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785880" y="3786120"/>
            <a:ext cx="53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 Европу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рорубить 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85880" y="442908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се </a:t>
            </a: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флаги в гости 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будут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85880" y="5072040"/>
            <a:ext cx="61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олнощных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 стран краса и д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85880" y="5715000"/>
            <a:ext cx="450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83763"/>
                </a:solidFill>
                <a:uFillTx/>
                <a:latin typeface="Constantia"/>
              </a:rPr>
              <a:t>порфироносная </a:t>
            </a:r>
            <a:r>
              <a:rPr b="0" lang="ru-RU" sz="3200" spc="-1" strike="noStrike">
                <a:solidFill>
                  <a:srgbClr val="083763"/>
                </a:solidFill>
                <a:latin typeface="Constantia"/>
              </a:rPr>
              <a:t>в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2928960" cy="4286520"/>
          </a:xfrm>
          <a:prstGeom prst="rect">
            <a:avLst/>
          </a:prstGeom>
          <a:ln w="28440">
            <a:solidFill>
              <a:srgbClr val="004e6d"/>
            </a:solidFill>
            <a:prstDash val="sysDash"/>
            <a:miter/>
          </a:ln>
        </p:spPr>
      </p:pic>
      <p:pic>
        <p:nvPicPr>
          <p:cNvPr id="116" name="TextBox 2" descr=""/>
          <p:cNvPicPr/>
          <p:nvPr/>
        </p:nvPicPr>
        <p:blipFill>
          <a:blip r:embed="rId2"/>
          <a:stretch/>
        </p:blipFill>
        <p:spPr>
          <a:xfrm>
            <a:off x="4853160" y="1122480"/>
            <a:ext cx="3797280" cy="974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143000" y="5715000"/>
            <a:ext cx="27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…</a:t>
            </a: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и све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onstantia"/>
              </a:rPr>
              <a:t>Адмиралтейская иг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00720" y="2428920"/>
            <a:ext cx="4071960" cy="36601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Адмиралтейство первонач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задумывалось  Петром  только как верфь для постройки кора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(была заложена в 1704 год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Позднее здесь располагались Морское министерство, Главный военно-морской штаб, Гидрографическое уп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onstantia"/>
              </a:rPr>
              <a:t>Высота башни 72 метра, наверху кораблик-флюгер, символ Санкт-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891360" y="1143000"/>
            <a:ext cx="5618520" cy="1313640"/>
          </a:xfrm>
          <a:prstGeom prst="rect">
            <a:avLst/>
          </a:prstGeom>
          <a:noFill/>
          <a:ln w="9360">
            <a:solidFill>
              <a:srgbClr val="546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Тропы (выразительные средства язы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Перифраз – троп, в котором использу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7026"/>
                </a:solidFill>
                <a:latin typeface="Constantia"/>
              </a:rPr>
              <a:t>вместо одного понятия не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786200" y="2714760"/>
            <a:ext cx="378648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3" descr=""/>
          <p:cNvPicPr/>
          <p:nvPr/>
        </p:nvPicPr>
        <p:blipFill>
          <a:blip r:embed="rId2"/>
          <a:stretch/>
        </p:blipFill>
        <p:spPr>
          <a:xfrm>
            <a:off x="476280" y="2876400"/>
            <a:ext cx="1833480" cy="5191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360360" y="3535200"/>
            <a:ext cx="3930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321444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2786040" y="3357720"/>
            <a:ext cx="5896080" cy="325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 flipV="1" rot="10800000">
            <a:off x="3857400" y="169740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6422"/>
                </a:solidFill>
                <a:latin typeface="Constantia"/>
              </a:rPr>
              <a:t>Художник Константинов Ф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00040" y="214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onstantia"/>
              </a:rPr>
              <a:t>Иллюстрации к поэме «Медный всад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14200" y="4214880"/>
            <a:ext cx="2357640" cy="1739880"/>
          </a:xfrm>
          <a:prstGeom prst="rect">
            <a:avLst/>
          </a:prstGeom>
          <a:noFill/>
          <a:ln w="93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В поэме изображ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петербург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наводн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которое бы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nstantia"/>
              </a:rPr>
              <a:t>1 ноября 18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User\Рабочий стол\Новая папка\2493581_artlib_gallery60877b.jpg"/>
          <p:cNvPicPr/>
          <p:nvPr/>
        </p:nvPicPr>
        <p:blipFill>
          <a:blip r:embed="rId1"/>
          <a:stretch/>
        </p:blipFill>
        <p:spPr>
          <a:xfrm>
            <a:off x="2143080" y="1047600"/>
            <a:ext cx="4643640" cy="4300560"/>
          </a:xfrm>
          <a:prstGeom prst="rect">
            <a:avLst/>
          </a:prstGeom>
          <a:ln w="9360">
            <a:solidFill>
              <a:srgbClr val="089ca3"/>
            </a:solidFill>
            <a:miter/>
          </a:ln>
        </p:spPr>
      </p:pic>
      <p:sp>
        <p:nvSpPr>
          <p:cNvPr id="129" name="TextBox 4"/>
          <p:cNvSpPr/>
          <p:nvPr/>
        </p:nvSpPr>
        <p:spPr>
          <a:xfrm>
            <a:off x="285840" y="5715000"/>
            <a:ext cx="8688240" cy="825480"/>
          </a:xfrm>
          <a:prstGeom prst="rect">
            <a:avLst/>
          </a:prstGeom>
          <a:noFill/>
          <a:ln w="9360">
            <a:solidFill>
              <a:srgbClr val="21b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Главный герой поэмы, ожившая статуя, – Всадник Ме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0:13:49Z</dcterms:created>
  <dc:creator>User</dc:creator>
  <dc:description/>
  <dc:language>en-US</dc:language>
  <cp:lastModifiedBy>User</cp:lastModifiedBy>
  <dcterms:modified xsi:type="dcterms:W3CDTF">2009-11-01T10:00:02Z</dcterms:modified>
  <cp:revision>63</cp:revision>
  <dc:subject/>
  <dc:title>Слайд 1</dc:title>
</cp:coreProperties>
</file>