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245-7C51-4F6F-8233-B721712A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CCB-F5DC-4E63-9B15-C13519F2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D6B-98F8-428D-B2D5-98B5C506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023-19BC-46AA-AC77-05DB8CD3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120-5861-4D80-9EB7-BB7F720F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F3B8-5B84-46F8-9065-DE780D0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B0CF-15FA-4365-A2A2-56B072BF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55D-E1B0-460C-8437-8E61991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6B65-E97A-4A7B-BCB6-70B1A8B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375-D48A-41EE-A930-8278D35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0474-D88C-48E4-8342-96443F29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D75-0398-480D-934A-8C04514C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CB9-EBEB-45F6-B377-DF84506E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977-A41D-4564-BBAA-BC3039F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83FF-0FA9-4AA8-A8F1-F59CE161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074-4F80-4CA5-9E23-65E83123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A048-9597-4163-B8BD-4F55E00D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B5B-748F-40FA-95B9-25F70D2F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4FC-6D20-432F-B712-811548F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356-B17C-4BF9-A9CE-5E84D8C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F86-F6A4-45A5-A9B5-F87D3AE8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8FD-B56C-4A53-950F-AFBBCF9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6B-3848-42DD-A4C4-47FE53B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069-3535-4744-9DE1-69C3DA4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F0BF-25DF-4511-824D-00AC48DD13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F00-C006-474E-880D-3659047289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 rot="21029400">
            <a:off x="301320" y="14086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А.С.Пушкин «Медный всад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500120" y="2428920"/>
            <a:ext cx="58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Урок литературы в </a:t>
            </a:r>
            <a:r>
              <a:rPr b="0" i="1" lang="en-US" sz="3200" spc="-1" strike="noStrike">
                <a:solidFill>
                  <a:srgbClr val="04617b"/>
                </a:solidFill>
                <a:latin typeface="Constantia"/>
              </a:rPr>
              <a:t>VII </a:t>
            </a: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929040" y="485784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Грицаенко Галина Ильинич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Наро-Фоминской сош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45007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 flipV="1" rot="10800000">
            <a:off x="5571720" y="264204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етр Пер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 изображении художника        Константинова Ф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935640" y="1000080"/>
            <a:ext cx="7169760" cy="253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ие стороны пре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тра через «сто лет» отмечает Пушкин в стро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«…и юный гр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знесся пышно, гордел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прежде финский рыбол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осал в неведомы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вой ветхий невод…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929120" y="4000680"/>
            <a:ext cx="3714840" cy="2500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571920" cy="24415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1" descr=""/>
          <p:cNvPicPr/>
          <p:nvPr/>
        </p:nvPicPr>
        <p:blipFill>
          <a:blip r:embed="rId1"/>
          <a:stretch/>
        </p:blipFill>
        <p:spPr>
          <a:xfrm>
            <a:off x="1646280" y="324000"/>
            <a:ext cx="4962600" cy="723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571680" y="1143000"/>
            <a:ext cx="54291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Конфликт </a:t>
            </a: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в литературном произвед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столкновение, борь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на которых построено развитие сю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00040" y="2357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nstantia"/>
              </a:rPr>
              <a:t>Конфликт в поэме имеет несколько стор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00080" y="2928960"/>
            <a:ext cx="7496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«маленьким человеком» и власть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природой и челове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городом и стих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личностью и истор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реальным и мифологиче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143000" y="1000080"/>
            <a:ext cx="75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Жанр </a:t>
            </a:r>
            <a:r>
              <a:rPr b="1" i="1" lang="ru-RU" sz="3600" spc="-1" strike="noStrike" u="sng">
                <a:solidFill>
                  <a:srgbClr val="003399"/>
                </a:solidFill>
                <a:uFillTx/>
                <a:latin typeface="Constantia"/>
              </a:rPr>
              <a:t>поэмы</a:t>
            </a: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 «Медный всадн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286160" y="2428920"/>
            <a:ext cx="4143600" cy="3448080"/>
          </a:xfrm>
          <a:prstGeom prst="rect">
            <a:avLst/>
          </a:pr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«Происшествие, описанное в 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99"/>
                </a:solidFill>
                <a:uFillTx/>
                <a:latin typeface="Constantia"/>
              </a:rPr>
              <a:t>повести,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основано на ист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Подробности наво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заимствованы из тогд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журналов. Любопытные могут справиться с извест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составленным В.Н.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Берх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                                     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2754360" cy="4000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92280"/>
          <a:ext cx="4716360" cy="5973480"/>
        </p:xfrm>
        <a:graphic>
          <a:graphicData uri="http://schemas.openxmlformats.org/drawingml/2006/table">
            <a:tbl>
              <a:tblPr/>
              <a:tblGrid>
                <a:gridCol w="249120"/>
                <a:gridCol w="246240"/>
                <a:gridCol w="250920"/>
                <a:gridCol w="253800"/>
                <a:gridCol w="241200"/>
                <a:gridCol w="246240"/>
                <a:gridCol w="249120"/>
                <a:gridCol w="250920"/>
                <a:gridCol w="245880"/>
                <a:gridCol w="249480"/>
                <a:gridCol w="245880"/>
                <a:gridCol w="250920"/>
                <a:gridCol w="249120"/>
                <a:gridCol w="246240"/>
                <a:gridCol w="249120"/>
                <a:gridCol w="246240"/>
                <a:gridCol w="250560"/>
                <a:gridCol w="246240"/>
                <a:gridCol w="24912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1426"/>
          <p:cNvSpPr/>
          <p:nvPr/>
        </p:nvSpPr>
        <p:spPr>
          <a:xfrm>
            <a:off x="4572000" y="1052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1.Место рождения А.С.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2.Кто главный герой поэмы «М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3.На какой реке воздвигнут 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4.О каком событии рассказывает А.С.Пушкин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5.Как называется поэма, посвящ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итве со швед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6.Как называет А.С. Пушкин ф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ыбака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7.К какому жанру относил А.С. Пу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вое произведени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8.Какое учебное заведение законч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.С.Пушк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9.Как называется троп, когда в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дного понятия используется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руг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27"/>
          <p:cNvSpPr/>
          <p:nvPr/>
        </p:nvSpPr>
        <p:spPr>
          <a:xfrm>
            <a:off x="3000240" y="285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357280" y="8571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57120" y="164304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Золотарева И.В., Егорова Н.В. «Поурочные разработки по литературе». Москва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.Коровина В.Я. «Пушкин в школе». Москва,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3.Пушкин А.С. «Полное собрание сочинений». Том 5, Москв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4. «Словарь литературоведческих терминов». Москв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357120" y="20001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048680" y="571680"/>
            <a:ext cx="7710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nstantia"/>
              </a:rPr>
              <a:t>Начать знакомство с поэмой «Медный всад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85880" y="1428840"/>
            <a:ext cx="75848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          </a:t>
            </a: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ыявить историко-литературное и жанровое своеобразие поэ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Определить фольклорные традиции в изображении величия и 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исторической личности Петра </a:t>
            </a:r>
            <a:r>
              <a:rPr b="0" i="1" lang="en-US" sz="1800" spc="-1" strike="noStrike">
                <a:solidFill>
                  <a:srgbClr val="333399"/>
                </a:solidFill>
                <a:latin typeface="Constantia"/>
              </a:rPr>
              <a:t>I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- Выяснить, какие стороны преобразовательной деятельности Пе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через «сто лет» отмечает Пушк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Дать понятие о периф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Развивать навык выразительного чт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Совершенствовать навыки анализ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Воспиты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Формировать интерес к изучению русской ист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оспитывать патриотические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43240" y="1428840"/>
            <a:ext cx="4631040" cy="3941640"/>
          </a:xfrm>
          <a:prstGeom prst="rect">
            <a:avLst/>
          </a:prstGeom>
          <a:ln w="9360">
            <a:solidFill>
              <a:srgbClr val="083763"/>
            </a:solidFill>
            <a:miter/>
          </a:ln>
        </p:spPr>
      </p:pic>
      <p:pic>
        <p:nvPicPr>
          <p:cNvPr id="102" name="TextBox 2" descr=""/>
          <p:cNvPicPr/>
          <p:nvPr/>
        </p:nvPicPr>
        <p:blipFill>
          <a:blip r:embed="rId2"/>
          <a:stretch/>
        </p:blipFill>
        <p:spPr>
          <a:xfrm>
            <a:off x="244440" y="493560"/>
            <a:ext cx="35654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3800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357880" y="785880"/>
            <a:ext cx="3449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5" name="TextBox 3" descr=""/>
          <p:cNvPicPr/>
          <p:nvPr/>
        </p:nvPicPr>
        <p:blipFill>
          <a:blip r:embed="rId3"/>
          <a:stretch/>
        </p:blipFill>
        <p:spPr>
          <a:xfrm>
            <a:off x="804960" y="5821200"/>
            <a:ext cx="3170160" cy="68904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" descr=""/>
          <p:cNvPicPr/>
          <p:nvPr/>
        </p:nvPicPr>
        <p:blipFill>
          <a:blip r:embed="rId4"/>
          <a:stretch/>
        </p:blipFill>
        <p:spPr>
          <a:xfrm>
            <a:off x="4657680" y="5821200"/>
            <a:ext cx="4297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1" descr=""/>
          <p:cNvPicPr/>
          <p:nvPr/>
        </p:nvPicPr>
        <p:blipFill>
          <a:blip r:embed="rId1"/>
          <a:stretch/>
        </p:blipFill>
        <p:spPr>
          <a:xfrm>
            <a:off x="1268280" y="847800"/>
            <a:ext cx="3803760" cy="682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857160" y="16430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приют 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убогого  чух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85880" y="235728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отсель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грозить мы будем шв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85880" y="307188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назло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надменному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о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85880" y="3786120"/>
            <a:ext cx="53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 Европу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рорубить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85880" y="44290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се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флаги в гости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будут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85880" y="5072040"/>
            <a:ext cx="61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лнощных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тран краса и д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5880" y="5715000"/>
            <a:ext cx="450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рфироносная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2928960" cy="4286520"/>
          </a:xfrm>
          <a:prstGeom prst="rect">
            <a:avLst/>
          </a:prstGeom>
          <a:ln w="28440">
            <a:solidFill>
              <a:srgbClr val="004e6d"/>
            </a:solidFill>
            <a:prstDash val="sysDash"/>
            <a:miter/>
          </a:ln>
        </p:spPr>
      </p:pic>
      <p:pic>
        <p:nvPicPr>
          <p:cNvPr id="116" name="TextBox 2" descr=""/>
          <p:cNvPicPr/>
          <p:nvPr/>
        </p:nvPicPr>
        <p:blipFill>
          <a:blip r:embed="rId2"/>
          <a:stretch/>
        </p:blipFill>
        <p:spPr>
          <a:xfrm>
            <a:off x="4853160" y="1122480"/>
            <a:ext cx="3797280" cy="974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143000" y="5715000"/>
            <a:ext cx="27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…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и св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Адмиралтейская иг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00720" y="2428920"/>
            <a:ext cx="4071960" cy="3660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Адмиралтейство первонач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задумывалось  Петром  только как верфь для постройки кора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(была заложена в 1704 год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озднее здесь располагались Морское министерство, Главный военно-морской штаб, Гидрографическое у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ысота башни 72 метра, наверху кораблик-флюгер, символ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891360" y="1143000"/>
            <a:ext cx="5618520" cy="1313640"/>
          </a:xfrm>
          <a:prstGeom prst="rect">
            <a:avLst/>
          </a:prstGeom>
          <a:noFill/>
          <a:ln w="9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Тропы (выразительные средства я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Перифраз – троп, в котором использ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вместо одного понятия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786200" y="2714760"/>
            <a:ext cx="378648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3" descr=""/>
          <p:cNvPicPr/>
          <p:nvPr/>
        </p:nvPicPr>
        <p:blipFill>
          <a:blip r:embed="rId2"/>
          <a:stretch/>
        </p:blipFill>
        <p:spPr>
          <a:xfrm>
            <a:off x="476280" y="2876400"/>
            <a:ext cx="1833480" cy="5191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360360" y="3535200"/>
            <a:ext cx="393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786040" y="3357720"/>
            <a:ext cx="5896080" cy="325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 flipV="1" rot="10800000">
            <a:off x="3857400" y="16974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6422"/>
                </a:solidFill>
                <a:latin typeface="Constantia"/>
              </a:rPr>
              <a:t>Художник Константинов Ф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0040" y="214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nstantia"/>
              </a:rPr>
              <a:t>Иллюстрации к поэме «Медный всад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14200" y="4214880"/>
            <a:ext cx="2357640" cy="1739880"/>
          </a:xfrm>
          <a:prstGeom prst="rect">
            <a:avLst/>
          </a:prstGeom>
          <a:noFill/>
          <a:ln w="93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В поэме изображ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петербург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наводн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которое бы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1 ноября 18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User\Рабочий стол\Новая папка\2493581_artlib_gallery60877b.jpg"/>
          <p:cNvPicPr/>
          <p:nvPr/>
        </p:nvPicPr>
        <p:blipFill>
          <a:blip r:embed="rId1"/>
          <a:stretch/>
        </p:blipFill>
        <p:spPr>
          <a:xfrm>
            <a:off x="2143080" y="1047600"/>
            <a:ext cx="4643640" cy="4300560"/>
          </a:xfrm>
          <a:prstGeom prst="rect">
            <a:avLst/>
          </a:prstGeom>
          <a:ln w="9360">
            <a:solidFill>
              <a:srgbClr val="089ca3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285840" y="5715000"/>
            <a:ext cx="8688240" cy="825480"/>
          </a:xfrm>
          <a:prstGeom prst="rect">
            <a:avLst/>
          </a:prstGeom>
          <a:noFill/>
          <a:ln w="936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Главный герой поэмы, ожившая статуя, – Всадник Ме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0:13:49Z</dcterms:created>
  <dc:creator>User</dc:creator>
  <dc:description/>
  <dc:language>en-US</dc:language>
  <cp:lastModifiedBy>User</cp:lastModifiedBy>
  <dcterms:modified xsi:type="dcterms:W3CDTF">2009-11-01T10:00:02Z</dcterms:modified>
  <cp:revision>63</cp:revision>
  <dc:subject/>
  <dc:title>Слайд 1</dc:title>
</cp:coreProperties>
</file>