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80AD-33B1-4651-8898-66E07A0EC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42DD-09F4-441B-BE8C-4A782420D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85CB-237D-4B9D-9723-12607086B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99ED-7010-42F4-8765-D702173CD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2A44D-A6B4-4180-B8A1-86F3C9179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7DA40-61EF-41E8-8EDA-3185AA192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0031C-2637-4F25-98C9-7E1C9AC29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AB6FF-EED9-4C77-98BD-2AFA9CB05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18C2C-8C3E-4160-BA91-D35323C8B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5CAC1-9B7B-420B-9BB6-FA6A341AF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1A2D4-E5D0-47F8-A435-031EE7D4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8174-7FA0-4630-94DF-49B0B7C7A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B5414-653D-4EF1-99F4-57D45FEB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B717D-5558-4D01-B7F2-D69527B6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57E14-960D-4F25-A0AA-A4504DBB9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89978-D972-49EB-AF14-68C5552B0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5F6C0-145D-4A9F-98D3-A83BA8FE7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1CCB-E562-469B-905C-ADDEA7F03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7522-A7A6-4767-A6CF-6108534C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5F76-6753-461E-A2E5-AB2FB7E8D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968F-4A71-4821-944C-14A94E0DE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2D57-7C9F-453A-A089-BD87DD66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8668-309B-4C45-AA1B-FFF22457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3AD4-9131-44D7-B157-8DA906C6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96E33-6E08-4DBE-AC50-EFA8DBC0B14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1405C-A4E8-4FB5-A2FB-77E35F76F09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277920"/>
            <a:ext cx="829152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Презентация ученицы 6 кл. Кузьмоловской детской школы искусств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Викуловской Арины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14716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«ИСТОРИЯ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ГУСАРСКОГО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КОСТЮМА»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Ноябрь 2012 г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История гусарского костюм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Гусары - лихие вояки и блестящие танцоры, герои войны 1812 года, воспетые в стихах, обаятельнейшие личности и мастера на всевозможные проделки, покручивающие ус в минуту опасности, пользующиеся всеобщей любовью и всепрощением, этот образ словно создан для новогоднего карнавала, шума и кутерьмы. Кто же они? Гусары впервые появились в Венгрии в 1458 году как дворянское ополчение, которое формировалось по принципу: один человек от двадцати дворов. Отсюда и название (husz - двадцать, аr - подать). Первое упоминание о гусарах в России относится к 1634 году, а в 1741 году гусарские полки - регулярная легкая кавалерия - уже вошли в состав русских войск.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292360" y="1628640"/>
            <a:ext cx="2879640" cy="43214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292720" y="1628640"/>
            <a:ext cx="292248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Форму гусара составляли: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Доломан – короткая (до талии) суконная однобортная куртка со стоячим воротником.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Поверх доломана надевался ментик – короткая куртка, которая была обшита мехом.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Гусар надевал узкие рейтузы, которые назывались чикчиры и низкие сапоги с черной шерстяной кисточкой – ботики.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Вокруг пояса гусар завязывал кушак - сетку из шнуров с гомбами (перехватами).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Кивер - головной убор гусаров – был черного цвета и был украшен султаном, особыми шнурами с кистями (этишкетами), а также репейком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В снаряжение гусара включалась ташка – плоская сумка, которая крепилась к портупее.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724360" y="1341360"/>
            <a:ext cx="2303640" cy="18306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724360" y="3500280"/>
            <a:ext cx="229248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7345440" cy="53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Интересный факт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Картины, в том числе и написанные в XIX веке, изображающие гусар, скачущих в атаку в развевающихся с плеча ментиками, не соответствуют действительности. Хотя внешне это выглядит красиво, однако развевающийся ментик может сыграть злую шутку с гусаром в бою. Он мешает действовать оружием, управлять конем, может нарушить равновесие бойца в седле и сбросить его на землю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508720" y="1654200"/>
            <a:ext cx="2879640" cy="1763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477040" y="4003560"/>
            <a:ext cx="291132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8487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Любопытно, что…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…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в начале века обувь не различалась на левый и правый сапог. Оба ботика (впрочем, и другая обувь тоже) были совершенно одинаковы, и какой на какую ногу одевать было безразлично (ну как теперь валенки). Кто не верит, пусть побывает в музее вещевой службы МО РФ. Обувь стали различать на левую и правую ближе к середине XIX века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308720" y="1628640"/>
            <a:ext cx="1344600" cy="1851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076720" y="3645000"/>
            <a:ext cx="195264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5T14:07:28Z</dcterms:created>
  <dc:creator>рик</dc:creator>
  <dc:description/>
  <dc:language>en-US</dc:language>
  <cp:lastModifiedBy>рик</cp:lastModifiedBy>
  <dcterms:modified xsi:type="dcterms:W3CDTF">2013-02-15T14:39:04Z</dcterms:modified>
  <cp:revision>2</cp:revision>
  <dc:subject/>
  <dc:title>История гусарского костюма</dc:title>
</cp:coreProperties>
</file>