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B00-B4B4-42DA-92B5-97D95122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08B-49A9-46A5-BC42-F6D7B005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E32-D7EE-4D0A-90DA-89259227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98F-BAD6-4D47-AAED-1744ED65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FFB-5B52-48D8-A72D-82CCC5F0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995-C1ED-4C1D-91C2-19641131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8954-EA2B-4975-8F68-8C32D06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1784-3EF6-4AE9-8870-B2DBDCD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80F5-42A6-4380-A5CC-4B7D0D84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58C-A1C1-4794-8CC1-24C27EE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67E3-FE1C-4F0D-BA13-8390A5A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83F-7351-43BB-962D-295A50C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F8D-B73A-4DA7-B184-D75DD47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A2B1-8235-4319-98D7-06E95B6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A9B-73DF-478B-A3C4-AE44B7E0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DD14-4C4B-473F-B1B3-B7442C4D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1EDB-F32E-4D55-870C-8E703DB8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109-D0CB-4FDD-9AAB-11CE7E0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118-0F68-4B49-AFD8-0FD6A5A0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1FC-DDFF-49DB-9DF6-B650F55A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E45-B87C-42CD-82B1-40A1C54E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0B4-298E-4683-B53E-C27B0D8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EBA-6508-4C96-B67D-073A50E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23B-F6D6-454A-AFB6-6D68D3CA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5C48-860B-4EF5-8790-0CE642863F1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670-5A44-4EEE-B838-E1B15853E9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зентация ученицы 6 кл. Кузьмоловской детской школы искусств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икуловской Ари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ИСТОР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УСАРСКОГ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ОСТЮМА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ябрь 2012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стория гусарского костю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усары - лихие вояки и блестящие танцоры, герои войны 1812 года, воспетые в стихах, обаятельнейшие личности и мастера на всевозможные проделки, покручивающие ус в минуту опасности, пользующиеся всеобщей любовью и всепрощением, этот образ словно создан для новогоднего карнавала, шума и кутерьмы. Кто же они? Гусары впервые появились в Венгрии в 1458 году как дворянское ополчение, которое формировалось по принципу: один человек от двадцати дворов. Отсюда и название (husz - двадцать, аr - подать). Первое упоминание о гусарах в России относится к 1634 году, а в 1741 году гусарские полки - регулярная легкая кавалерия - уже вошли в состав русских войс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360" y="1628640"/>
            <a:ext cx="2879640" cy="432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29224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рму гусара составляли: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оломан – короткая (до талии) суконная однобортная куртка со стоячим воротником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верх доломана надевался ментик – короткая куртка, которая была обшита мехом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усар надевал узкие рейтузы, которые назывались чикчиры и низкие сапоги с черной шерстяной кисточкой – ботик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округ пояса гусар завязывал кушак - сетку из шнуров с гомбами (перехватами)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ивер - головной убор гусаров – был черного цвета и был украшен султаном, особыми шнурами с кистями (этишкетами), а также репейко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снаряжение гусара включалась ташка – плоская сумка, которая крепилась к портупе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303640" cy="1830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2292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3454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тересный фак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артины, в том числе и написанные в XIX веке, изображающие гусар, скачущих в атаку в развевающихся с плеча ментиками, не соответствуют действительности. Хотя внешне это выглядит красиво, однако развевающийся ментик может сыграть злую шутку с гусаром в бою. Он мешает действовать оружием, управлять конем, может нарушить равновесие бойца в седле и сбросить его на землю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1654200"/>
            <a:ext cx="287964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77040" y="4003560"/>
            <a:ext cx="29113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юбопытно, что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 начале века обувь не различалась на левый и правый сапог. Оба ботика (впрочем, и другая обувь тоже) были совершенно одинаковы, и какой на какую ногу одевать было безразлично (ну как теперь валенки). Кто не верит, пусть побывает в музее вещевой службы МО РФ. Обувь стали различать на левую и правую ближе к середине XIX ве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44600" cy="185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4:07:28Z</dcterms:created>
  <dc:creator>рик</dc:creator>
  <dc:description/>
  <dc:language>en-US</dc:language>
  <cp:lastModifiedBy>рик</cp:lastModifiedBy>
  <dcterms:modified xsi:type="dcterms:W3CDTF">2013-02-15T14:39:04Z</dcterms:modified>
  <cp:revision>2</cp:revision>
  <dc:subject/>
  <dc:title>История гусарского костюма</dc:title>
</cp:coreProperties>
</file>