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9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4B9-EE94-45FF-9E45-4A9C8932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001-B5EA-41DF-AEFB-CC205206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8D1-92DE-4BA7-A7C5-23C61A0F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135-8660-4529-BD27-BD3C1ED1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CCB0-B652-4884-B8C9-C5278B5A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35E1-F701-4868-831E-EA59C15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03BF-64F1-4ACA-8C13-4AF7E42E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9278-4D06-4EFC-9542-DE69C5E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F5C4-41D2-41C8-9240-DA33D540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055-14C5-45A1-9CE1-48FA8FC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7431-AC94-4588-93CA-7752453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6F3-9037-4C40-83BE-958DB881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C5E-0CAF-4D58-A96F-2499F6E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19F2-CE5B-4D11-9D8F-17B536F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203F-051A-4889-ABF6-507FF1A7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C7D-674C-4271-9BE4-ECA115E2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B89F-CB4D-4BF9-93AE-843F7ADE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1485-869E-449E-89E2-EB0E9F97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2F59-0C92-4DAD-BF02-D12EFFB1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3842-52E0-4891-8DF0-AADD1068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A088-B5E0-41AA-9A6C-68785C4A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9E2E-00FC-4499-823B-4DB142C7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240-63B4-489F-80C1-031A0118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C40B-F7B2-47F4-8B2F-C036D2DE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A7AB-6349-428B-8BD2-5481AA58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0B3F-A215-40E5-8266-7BB17027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4DEA-E223-41DB-87B1-51867A08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3EBB-F4D8-4F46-B7F4-01F1211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ABD3-BBBC-4EFC-B19C-B16AEEF9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F3CB-AE48-4A5D-B755-0E588EC8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412-5AA7-4EAB-A3EA-0A32136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45A-1E6D-4C73-9473-602F717A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6C5-9D7C-4233-9492-81D9782D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826-C04D-4BC6-AD7B-50B514A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1D8-46CA-4522-BFC5-F11478C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3D4-6811-4E0C-BDA7-9F2A948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3BFA-7AAC-43D3-9AAD-A08E194BBF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C5B5-249A-4DCD-AFBF-F7E23DAF7B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849-F94D-486A-B2B4-3CF0240D4B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316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ем письменного деления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ногозначных чисел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 однозначное числ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157320" y="3860640"/>
          <a:ext cx="3119400" cy="108036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157320" y="3284640"/>
          <a:ext cx="3838320" cy="26636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1476360" y="5300640"/>
          <a:ext cx="4032360" cy="1081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1979640" y="4941720"/>
          <a:ext cx="1368360" cy="143928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50920" y="558972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4932360" y="3860640"/>
          <a:ext cx="4056120" cy="100800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х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2916360" y="3933720"/>
          <a:ext cx="3743280" cy="107892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: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635280" y="4149720"/>
            <a:ext cx="2521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4932360" y="5734080"/>
          <a:ext cx="4056120" cy="86328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157320" y="404640"/>
          <a:ext cx="2974680" cy="863280"/>
        </p:xfrm>
        <a:graphic>
          <a:graphicData uri="http://schemas.openxmlformats.org/drawingml/2006/table">
            <a:tbl>
              <a:tblPr/>
              <a:tblGrid>
                <a:gridCol w="297468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940360" y="5157720"/>
            <a:ext cx="28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68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– гимнастика у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1782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05520" y="1319760"/>
            <a:ext cx="751680" cy="7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371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178280" y="2560680"/>
            <a:ext cx="540720" cy="742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3276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251460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61720" y="2605320"/>
            <a:ext cx="570960" cy="72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23160" y="2603880"/>
            <a:ext cx="1707120" cy="6595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9920" y="2472120"/>
            <a:ext cx="3168360" cy="799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329840" y="2419560"/>
            <a:ext cx="3426120" cy="87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85560" y="2493000"/>
            <a:ext cx="1908360" cy="802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240" y="2514600"/>
            <a:ext cx="609480" cy="6858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2971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Times New Roman"/>
              </a:rPr>
              <a:t>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12303E-007 C -0.11285 -0.05227 -0.22518 -0.10407 -0.27084 -0.1265 E">
                                      <p:cBhvr>
                                        <p:cTn id="162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8954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448 0.00879 C 0.03264 0.04695 0.0408 0.08534 -0.00902 0.10245 C -0.05868 0.1198 -0.22534 0.11101 -0.27309 0.11171 C -0.32083 0.1124 -0.3085 0.10939 -0.29583 0.10639 E">
                                      <p:cBhvr>
                                        <p:cTn id="21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2278200">
            <a:off x="866160" y="1688760"/>
            <a:ext cx="64548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0" y="411"/>
                </a:moveTo>
                <a:arcTo wR="10800" hR="10800" stAng="-4448906" swAng="2897416"/>
                <a:lnTo>
                  <a:pt x="10800" y="10800"/>
                </a:lnTo>
                <a:close/>
              </a:path>
              <a:path fill="none" w="21600" h="21600">
                <a:moveTo>
                  <a:pt x="13750" y="411"/>
                </a:moveTo>
                <a:arcTo wR="10800" hR="10800" stAng="-4448906" swAng="289741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2821800">
            <a:off x="3028680" y="2296800"/>
            <a:ext cx="646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0" y="411"/>
                </a:moveTo>
                <a:arcTo wR="10800" hR="10800" stAng="-4448906" swAng="3559834"/>
                <a:lnTo>
                  <a:pt x="10800" y="10800"/>
                </a:lnTo>
                <a:close/>
              </a:path>
              <a:path fill="none" w="21600" h="21600">
                <a:moveTo>
                  <a:pt x="13750" y="411"/>
                </a:moveTo>
                <a:arcTo wR="10800" hR="10800" stAng="-4448906" swAng="35598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3276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3809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1905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цифра неполного делимого меньше делителя, то в частном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 rot="2361600">
            <a:off x="2386440" y="2057760"/>
            <a:ext cx="374400" cy="35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1" y="1066"/>
                </a:moveTo>
                <a:arcTo wR="10800" hR="10800" stAng="-6940310" swAng="7809473"/>
                <a:lnTo>
                  <a:pt x="10800" y="10800"/>
                </a:lnTo>
                <a:close/>
              </a:path>
              <a:path fill="none" w="21600" h="21600">
                <a:moveTo>
                  <a:pt x="6121" y="1066"/>
                </a:moveTo>
                <a:arcTo wR="10800" hR="10800" stAng="-6940310" swAng="780947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 rot="3367200">
            <a:off x="3744000" y="-992880"/>
            <a:ext cx="2242800" cy="532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1" y="936"/>
                </a:moveTo>
                <a:arcTo wR="10800" hR="10800" stAng="-6842167" swAng="5495997"/>
                <a:lnTo>
                  <a:pt x="10800" y="10800"/>
                </a:lnTo>
                <a:close/>
              </a:path>
              <a:path fill="none" w="21600" h="21600">
                <a:moveTo>
                  <a:pt x="6401" y="936"/>
                </a:moveTo>
                <a:arcTo wR="10800" hR="10800" stAng="-6842167" swAng="5495997"/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4876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57400" y="5638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29741 E">
                                      <p:cBhvr>
                                        <p:cTn id="482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025E-006 L 2.77556E-017 0.29741 E">
                                      <p:cBhvr>
                                        <p:cTn id="513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43062 E">
                                      <p:cBhvr>
                                        <p:cTn id="572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3505800">
            <a:off x="915480" y="1543680"/>
            <a:ext cx="796680" cy="77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12" y="458"/>
                </a:moveTo>
                <a:arcTo wR="10800" hR="10800" stAng="-4395194" swAng="5131322"/>
                <a:lnTo>
                  <a:pt x="10800" y="10800"/>
                </a:lnTo>
                <a:close/>
              </a:path>
              <a:path fill="none" w="21600" h="21600">
                <a:moveTo>
                  <a:pt x="13912" y="458"/>
                </a:moveTo>
                <a:arcTo wR="10800" hR="10800" stAng="-4395194" swAng="513132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 rot="2821800">
            <a:off x="3029040" y="2220840"/>
            <a:ext cx="64584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0" y="411"/>
                </a:moveTo>
                <a:arcTo wR="10800" hR="10800" stAng="-4448906" swAng="3559834"/>
                <a:lnTo>
                  <a:pt x="10800" y="10800"/>
                </a:lnTo>
                <a:close/>
              </a:path>
              <a:path fill="none" w="21600" h="21600">
                <a:moveTo>
                  <a:pt x="13750" y="411"/>
                </a:moveTo>
                <a:arcTo wR="10800" hR="10800" stAng="-4448906" swAng="35598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1752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1752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2666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7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716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9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430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828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666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002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 rot="2361600">
            <a:off x="2081880" y="2058840"/>
            <a:ext cx="373680" cy="35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1" y="1066"/>
                </a:moveTo>
                <a:arcTo wR="10800" hR="10800" stAng="-6940310" swAng="7809473"/>
                <a:lnTo>
                  <a:pt x="10800" y="10800"/>
                </a:lnTo>
                <a:close/>
              </a:path>
              <a:path fill="none" w="21600" h="21600">
                <a:moveTo>
                  <a:pt x="6121" y="1066"/>
                </a:moveTo>
                <a:arcTo wR="10800" hR="10800" stAng="-6940310" swAng="780947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3367200">
            <a:off x="2949840" y="-250920"/>
            <a:ext cx="2102400" cy="40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1" y="936"/>
                </a:moveTo>
                <a:arcTo wR="10800" hR="10800" stAng="-6842167" swAng="5495997"/>
                <a:lnTo>
                  <a:pt x="10800" y="10800"/>
                </a:lnTo>
                <a:close/>
              </a:path>
              <a:path fill="none" w="21600" h="21600">
                <a:moveTo>
                  <a:pt x="6401" y="936"/>
                </a:moveTo>
                <a:arcTo wR="10800" hR="10800" stAng="-6842167" swAng="5495997"/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0 0.14199 E">
                                      <p:cBhvr>
                                        <p:cTn id="791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5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4736E-006 L 2.77556E-017 0.2863 E">
                                      <p:cBhvr>
                                        <p:cTn id="83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984 : 8 =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123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93865 : 2 =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469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07х9-852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879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840х6-795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77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х (739+564)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10424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9х(1010-235)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697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асибо за урок!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коро наступит самый любимый мой праздник- Новый год! Думаю, что и вы его очень любите. Я приготовил для вас сюрпризы. Хотите узнать какие? Выполните все мои задания. Желаю удачи!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о скорой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99224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157320" y="620640"/>
          <a:ext cx="2901960" cy="86364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х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57320" y="549360"/>
          <a:ext cx="3119400" cy="151056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1800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57320" y="2421000"/>
          <a:ext cx="2901960" cy="93636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57320" y="2924280"/>
          <a:ext cx="3190680" cy="1009080"/>
        </p:xfrm>
        <a:graphic>
          <a:graphicData uri="http://schemas.openxmlformats.org/drawingml/2006/table">
            <a:tbl>
              <a:tblPr/>
              <a:tblGrid>
                <a:gridCol w="3190680"/>
              </a:tblGrid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flipH="1">
            <a:off x="2123640" y="2133720"/>
            <a:ext cx="1584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1:17Z</dcterms:created>
  <dc:creator>USER</dc:creator>
  <dc:description/>
  <dc:language>en-US</dc:language>
  <cp:lastModifiedBy>Пользователь</cp:lastModifiedBy>
  <dcterms:modified xsi:type="dcterms:W3CDTF">2008-11-21T18:05:59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