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9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594-AA9D-4625-A4C7-4877C7C5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F88-7A91-4B6E-A113-5759EE97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EAB-A1BC-4D7E-98F8-C00481A6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55F-A919-4CF9-AA91-ADCFD17C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1DF8-A036-4480-8F9E-6A64EFF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6BC9-3DC0-41E2-AED4-3D860DB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049-FDC9-4F32-BAE3-3EF94D9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4AD-4033-43C1-9C53-BCA921D3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BD86-FAAF-40DB-86CE-510D8CA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73B4-FADE-4B0B-8F4D-A33389C0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A7B-845B-490A-AFCD-95C998E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EF4-38EC-4D4C-ACFD-2E19A5D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66E-9E98-462B-9239-CEB4888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F634-B092-4AE1-8FE2-AA5F8039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DC64-C78A-40A4-A34D-78D2814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780-BECD-454A-92D2-F8408C73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BA86-0CC8-4FC0-BD5E-AD10713F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6AE5-EC61-469D-96AC-A54F6FCD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B0E2-676B-498E-A536-1C4E05A0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F41B-6874-4773-9CDB-5665D63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C301-DB72-4277-91FD-6E982996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DD44-35AE-4DA6-81B1-D7F1DDD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A3D-B6B5-4C2C-9B9F-C651171B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FA06-401D-4C41-8F6A-DEA8B876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3A7C-B367-4D9A-A1FD-BCC06BF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4A97-0758-46F5-9850-23453B8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15BF-0576-4171-86C4-F78BB75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7B38-4796-4D12-998C-FEE5D6DD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5CF3-3D33-4266-94D0-1AB146DB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B472-C420-46C4-B933-C53089B1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E62-E372-421D-88AB-0216D4F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205-7656-410C-BE66-5EEB8F6E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4A5-B08E-4355-9B51-7AFC23A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979-A258-481F-A66B-2DC5EBC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A66-FE08-4C8F-A9B3-F3B25B5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42E-CC71-4584-A8FE-41E6BB0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B5A-F4D0-4565-A5BB-48EFD5D59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3D81-82BE-46AC-BDB9-A19B0465D6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5B5-1EAF-4C9F-8680-81DA22B6DA3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316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157320" y="3860640"/>
          <a:ext cx="3119400" cy="108036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57320" y="3284640"/>
          <a:ext cx="3838320" cy="26636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979640" y="4941720"/>
          <a:ext cx="1368360" cy="143928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4932360" y="3860640"/>
          <a:ext cx="4056120" cy="100800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916360" y="3933720"/>
          <a:ext cx="3743280" cy="107892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932360" y="5734080"/>
          <a:ext cx="4056120" cy="86328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157320" y="404640"/>
          <a:ext cx="2974680" cy="86328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2278200">
            <a:off x="866160" y="1688760"/>
            <a:ext cx="64548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2897416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28974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2821800">
            <a:off x="3028680" y="2296800"/>
            <a:ext cx="646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3559834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35598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3809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 rot="2361600">
            <a:off x="2386440" y="2057760"/>
            <a:ext cx="37440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1" y="1066"/>
                </a:moveTo>
                <a:arcTo wR="10800" hR="10800" stAng="-6940310" swAng="7809473"/>
                <a:lnTo>
                  <a:pt x="10800" y="10800"/>
                </a:lnTo>
                <a:close/>
              </a:path>
              <a:path fill="none" w="21600" h="21600">
                <a:moveTo>
                  <a:pt x="6121" y="1066"/>
                </a:moveTo>
                <a:arcTo wR="10800" hR="10800" stAng="-6940310" swAng="7809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 rot="3367200">
            <a:off x="3744000" y="-992880"/>
            <a:ext cx="2242800" cy="53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1" y="936"/>
                </a:moveTo>
                <a:arcTo wR="10800" hR="10800" stAng="-6842167" swAng="5495997"/>
                <a:lnTo>
                  <a:pt x="10800" y="10800"/>
                </a:lnTo>
                <a:close/>
              </a:path>
              <a:path fill="none" w="21600" h="21600">
                <a:moveTo>
                  <a:pt x="6401" y="936"/>
                </a:moveTo>
                <a:arcTo wR="10800" hR="10800" stAng="-6842167" swAng="5495997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82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13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7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3505800">
            <a:off x="915480" y="1543680"/>
            <a:ext cx="796680" cy="77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12" y="458"/>
                </a:moveTo>
                <a:arcTo wR="10800" hR="10800" stAng="-4395194" swAng="5131322"/>
                <a:lnTo>
                  <a:pt x="10800" y="10800"/>
                </a:lnTo>
                <a:close/>
              </a:path>
              <a:path fill="none" w="21600" h="21600">
                <a:moveTo>
                  <a:pt x="13912" y="458"/>
                </a:moveTo>
                <a:arcTo wR="10800" hR="10800" stAng="-4395194" swAng="513132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 rot="2821800">
            <a:off x="3029040" y="2220840"/>
            <a:ext cx="64584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3559834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35598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 rot="2361600">
            <a:off x="2081880" y="2058840"/>
            <a:ext cx="373680" cy="35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1" y="1066"/>
                </a:moveTo>
                <a:arcTo wR="10800" hR="10800" stAng="-6940310" swAng="7809473"/>
                <a:lnTo>
                  <a:pt x="10800" y="10800"/>
                </a:lnTo>
                <a:close/>
              </a:path>
              <a:path fill="none" w="21600" h="21600">
                <a:moveTo>
                  <a:pt x="6121" y="1066"/>
                </a:moveTo>
                <a:arcTo wR="10800" hR="10800" stAng="-6940310" swAng="7809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3367200">
            <a:off x="2949840" y="-250920"/>
            <a:ext cx="210240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1" y="936"/>
                </a:moveTo>
                <a:arcTo wR="10800" hR="10800" stAng="-6842167" swAng="5495997"/>
                <a:lnTo>
                  <a:pt x="10800" y="10800"/>
                </a:lnTo>
                <a:close/>
              </a:path>
              <a:path fill="none" w="21600" h="21600">
                <a:moveTo>
                  <a:pt x="6401" y="936"/>
                </a:moveTo>
                <a:arcTo wR="10800" hR="10800" stAng="-6842167" swAng="5495997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91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5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3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984 : 8 =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123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3865 : 2 =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469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7х9-852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79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840х6-795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7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х (739+564)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10424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9х(1010-235)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69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57320" y="549360"/>
          <a:ext cx="3119400" cy="151056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57320" y="2421000"/>
          <a:ext cx="2901960" cy="93636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57320" y="2924280"/>
          <a:ext cx="3190680" cy="100908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Пользователь</cp:lastModifiedBy>
  <dcterms:modified xsi:type="dcterms:W3CDTF">2008-11-21T18:05:59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