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0AA-57AD-4501-A748-50185A7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041-2718-4D02-9C18-7CE21613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88C-DD60-4D8A-9ECE-278A43EB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AD7-E715-443F-961F-0B244260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28D-D644-427E-808F-CD0C8E80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BD86-DA6C-4773-96B6-B3DAEEA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3F9A-1BA7-4A74-B35B-FDD4BB85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42A-156C-49E6-81D2-BF545D35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FE03-BBD6-445A-B56B-74D25B9A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CCD-9FCB-4472-BD3C-0AF275A0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8EB-B0E6-4E33-85F1-EF7E988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5E8-D33D-451E-8EE3-53BD9C7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29AD-3E6A-4628-B8B5-F17D68F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46FB-CD59-44F0-ACF2-225B039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4DEF-D727-4446-B07A-A68CED3A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9BBE-F138-4629-9D1D-608DD9EB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7E6-F3FA-4673-8BC5-921011B5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1AD-A800-4CF6-8639-9A54EAE0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487-5A64-4AA6-B389-F4F5BAD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085-D560-4E4D-AB1E-64E6B8DA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6CC-E5CE-42A9-920B-A92D34F1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83B-F213-401A-A7AE-BC5301A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E8F-3205-4EC8-8659-BBFFAD7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7FC-CF3D-4C0A-8FFE-8BEC1B7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E4FE-5106-43F3-9051-A41EA7DCC1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284F-7604-4FB5-841F-08D59FDCB6F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РОК  ВНЕКЛАССНОГО ЧТЕНИЯ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 10-11 КЛАССАХ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ОНЯТИЕ «ДОСТОИНСТВО» В РАССКАЗЕ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.Б.ДАНИЛЬЧЕНКО «ПОХОРОНЫ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2872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олнила: Селезнева Анна Александровна, к.ф.н., учитель русского языка и литературы МОУ лицея № 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428760"/>
          <a:ext cx="9144000" cy="6013440"/>
        </p:xfrm>
        <a:graphic>
          <a:graphicData uri="http://schemas.openxmlformats.org/drawingml/2006/table">
            <a:tbl>
              <a:tblPr/>
              <a:tblGrid>
                <a:gridCol w="2868480"/>
                <a:gridCol w="3343320"/>
                <a:gridCol w="2932200"/>
              </a:tblGrid>
              <a:tr h="280800"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Тема разговор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О покойно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2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оездка на кладбищ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Рыбалка, поездка на пляж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оездка в колхоз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В одном месте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решали, ехать на кладбище или не ехать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и склонялись к тому, чтобы не ехать, поскольку народу хватает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да и вообще в такую жару нечего там делать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В другом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говорили совсем о постороннем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то ли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сегодняшней вечерней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рыбалк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то ли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о завтрашней поездке на пляж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Чуть дальше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курсанты обсуждали предстоящую поездку в колхоз на уборку…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…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Суровый был мужик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не отнимешь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Но и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справедливый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, тоже не отнимешь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…Вот ведь, в лучшей больнице лежал, каких профессоров из Москвы приглашали! А толку?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Цирроз печени есть цирроз печени…И до шестидесяти пяти не дотянул. 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Эх, мужчины!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Возникшее у него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при виде солдатского ордена Славы </a:t>
                      </a:r>
                      <a:r>
                        <a:rPr b="0" lang="en-US" sz="16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Calibri"/>
                        </a:rPr>
                        <a:t>уважение к генералу незаметно растворилось, исчезло» 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642960" y="1000080"/>
            <a:ext cx="778680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Можно ли людей, присутствующих на похоронах генерала назвать достойными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О какой стороне достоинства идет речь в этой части рассказа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00040" y="500040"/>
          <a:ext cx="8215200" cy="6161040"/>
        </p:xfrm>
        <a:graphic>
          <a:graphicData uri="http://schemas.openxmlformats.org/drawingml/2006/table">
            <a:tbl>
              <a:tblPr/>
              <a:tblGrid>
                <a:gridCol w="4105440"/>
                <a:gridCol w="410976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ведение сына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ведение мачехи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Зоя Филипповна,- вмешался сын покойного,- ну, что вы в самом деле.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Какая разница? На кладбище простимся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…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Все, что вам причитается, вы получите.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 неожиданности пасынок опешил на мгновение и едва было не сплошал…однако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быстро пришел в себя и резко отбил ее руку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н прикладывал к лицу носовой платок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и поносил вдову, не стесняясь в выражениях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к уж она причитала, так голосила и обвисала, едва не падая, на руках окружавших ее женщин, что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все провожающие только о ней и сокрушались...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Голосила без передышки, на одной ноте,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не подпуская никого к покойному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лаза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ее хищно впились в бумаги, сверлящий цепкий взгляд,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казалось, готов был вырвать их из рук пасынка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дова </a:t>
                      </a:r>
                      <a:r>
                        <a:rPr b="0" lang="en-US" sz="22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накинулась на него шипящей кошкой, 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оровя запустить руку в карман и выхватить нужные ей бумаги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редства раскрытия понятия «достоинство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Яркие определе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Риторические вопрос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Развитие параллельных сюжетных линий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иемы раскрытия понятия «достоинство» в рассказ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трастные сцен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трастные диалог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трастные поступк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Открытый финал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.Данильченко рисует нам в  рассказе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раз человека, лишенного чувства собственного достоинства.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«Моральный кодекс» такого «героя» сводится к следующему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го поведение зависит от  «хищнических» взглядов и убеждений, от сиюминутных интере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н легко поддается манипуляциям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нцип верности истине замещается у него принципом собственной пользы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д давлением обстоятельств может совершать поступки, противоречащие собственной совести и наносящие вред другим людя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Кодекс «достойного человек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Живи и действуй в согласии со своей совестью и системой общечеловеческих ценнос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Храни свою честь и достоинство. Несмотря на трудности, старайся развивать и обогащать свои убеждения, свой внутренний мир, себя как лич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 Поддерживай в себе чувство любви к людям, к живой и неживой природе, к родине, к близким и дальним к тебе людям. Не будь равнодушен к несправедлив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Кодекс «достойного человек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- Обращение с другими людьми должно быть вежливым и предупредительным. Относись с должным уважением и доброжелательностью к каждому челове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- Будь милосердным. Сочувствуй слабым, больным, попавшим в беду, обездоленны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- Делай добро не из тщеславия и не для показа, а как крайне важное, а порой и трудное дел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82184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Цель урока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рассмотреть понятие «достоинство» в рассказе А.Б.Данильченко «Похороны», выявить средства и способы реализации данного понятия в вышеназванном произведен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достижения поставленной цели на нашем уроке решаются следующие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задачи: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характеризуетс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жизненный и творческий путь писател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ыявляютс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новные составляющие понятия «достоинство»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ютс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новные средства, помогающие актуализировать ту или иную составляющую «достоинства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Биография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. Б. Данильченко родился 8 июня 1940 г. в поселке Гроза Гомельского района Гомельской области. В 1958 году окончил школу рабочей молодежи. Образование высшее – Литературный институт им. М. Горького г. Гомель. Ушел из жизни в 2001 год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8" descr="гомель"/>
          <p:cNvPicPr/>
          <p:nvPr/>
        </p:nvPicPr>
        <p:blipFill>
          <a:blip r:embed="rId1"/>
          <a:stretch/>
        </p:blipFill>
        <p:spPr>
          <a:xfrm>
            <a:off x="1857240" y="3857760"/>
            <a:ext cx="3321360" cy="268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данильченко"/>
          <p:cNvPicPr/>
          <p:nvPr/>
        </p:nvPicPr>
        <p:blipFill>
          <a:blip r:embed="rId2"/>
          <a:stretch/>
        </p:blipFill>
        <p:spPr>
          <a:xfrm>
            <a:off x="0" y="1143000"/>
            <a:ext cx="3602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ая деятель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eaeaea"/>
                </a:solidFill>
                <a:latin typeface="Verdana"/>
              </a:rPr>
              <a:t>В 1956 г. работал слесарем на Гомельском заводе, затем в Донбассе в шахте электрослесарем и комбайнером угольных машин. Служил в рядах Советской Армии в Калининградской области. После демобилизации работал слесарем на Томсельмаше, позднее – на авторемонтном заводе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8" descr="гомсельмаш"/>
          <p:cNvPicPr/>
          <p:nvPr/>
        </p:nvPicPr>
        <p:blipFill>
          <a:blip r:embed="rId1"/>
          <a:stretch/>
        </p:blipFill>
        <p:spPr>
          <a:xfrm>
            <a:off x="250920" y="2133720"/>
            <a:ext cx="4608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итературное творче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лен союза писателей с 1977 г. В 198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87 г. – ответственный секретарь Волгоградской областной организации Союза писателей России. В 2000 г. За роман «Люди живут семьями» удостоен Всероссийской литературной премии «Сталинград»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6" descr="союз писателей"/>
          <p:cNvPicPr/>
          <p:nvPr/>
        </p:nvPicPr>
        <p:blipFill>
          <a:blip r:embed="rId1"/>
          <a:stretch/>
        </p:blipFill>
        <p:spPr>
          <a:xfrm>
            <a:off x="250920" y="2276640"/>
            <a:ext cx="453708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руктура понятия «достоинство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2" descr="D:\Школа\10 класс\Литература &amp; русский язык\НР\достоинство.jpg"/>
          <p:cNvPicPr/>
          <p:nvPr/>
        </p:nvPicPr>
        <p:blipFill>
          <a:blip r:embed="rId1"/>
          <a:stretch/>
        </p:blipFill>
        <p:spPr>
          <a:xfrm>
            <a:off x="428760" y="1500120"/>
            <a:ext cx="85010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Изображение  человеческого достоинства в критической ситуации (на примере рассказа «Похороны»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Любовь, ненависть, сострадание, милосердие, разочарование, вера, надежда…Мало кому из писателей удавалось показать в своем произведении эту яркую галерею чувств, рождаемых в душе человека. Анатолий Данильченко смог не только их отобразить, но и подвести нас к нравственному выбору: быть или не быть похожими на героев его рассказа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«Похороны»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15" descr="226875905"/>
          <p:cNvPicPr/>
          <p:nvPr/>
        </p:nvPicPr>
        <p:blipFill>
          <a:blip r:embed="rId1"/>
          <a:stretch/>
        </p:blipFill>
        <p:spPr>
          <a:xfrm>
            <a:off x="34920" y="2070000"/>
            <a:ext cx="45356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просы для работы с класс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Рассказ называется «Похороны». Как вы думаете, почему именно похороны изобразил автор в этом рассказе? Каким, на ваш взгляд, должно быть поведение любого человека на похоронах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360" y="642600"/>
            <a:ext cx="8929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На какие условные части можно разделить рассказ? Как бы вы назвали каждую част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Рассказ условно можно раздели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на три част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охороны «пышные», генеральские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охороны «средние», с выставлением горя напоказ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охороны «настоящие», вызывающие у читателя боль и сострада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 Кто является связующим звеном всего рассказа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22:46Z</dcterms:created>
  <dc:creator>XP GAME 2008</dc:creator>
  <dc:description/>
  <dc:language>en-US</dc:language>
  <cp:lastModifiedBy>User</cp:lastModifiedBy>
  <dcterms:modified xsi:type="dcterms:W3CDTF">2013-03-09T14:27:40Z</dcterms:modified>
  <cp:revision>43</cp:revision>
  <dc:subject/>
  <dc:title>Нравственная проблематика рассказов А. Данильченко</dc:title>
</cp:coreProperties>
</file>