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1FA-163B-4F89-A2B6-1EFCD349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F60-EAE9-42B1-B439-B0B1D25F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50E-870B-4D12-8D26-C96835B2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D9F-6C70-403E-B37F-3DFE96F9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8551-A6F6-4541-BB91-41C7A37A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C4E7-9E23-45B5-9595-F52AA23E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98F4-BDD5-4C11-A2B0-9E9A05CE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2F51-2BF0-4946-87EA-D50AC288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A138-5BAF-4F82-98E4-4C86F651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2012-9E35-4F53-A3DF-30A29E8D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E469-5E7A-486D-9DE2-876A389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702-4E94-488E-8C11-3F52A60F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D7A7-8706-4253-969A-33C17C69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B7CA-AB84-4AC4-A436-FE90E0A4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178F-4282-47FC-960E-84F11A5C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4C71-7465-40B7-A012-0120468D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A96D-76C6-4413-9EA5-9DF0E188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78F-9B85-4DC4-8976-AFDF4D99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324-B4C9-4A70-87BC-5F9227ED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8F0-5C0A-40DB-9103-3A737D79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4E1-714F-4F89-9248-9DC3751C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F78-5DAB-4E2D-A61F-9EB4670E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D3F-D7BC-4B56-978D-DE6FFE94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A5A-AE45-4F34-947B-17616615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6B33-741B-4F0B-B31A-E0FEE86FE7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FD0E-434F-47FC-AE4B-E600AABA308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РОК  ВНЕКЛАССНОГО ЧТЕНИЯ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 10-11 КЛАССАХ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ОНЯТИЕ «ДОСТОИНСТВО» В РАССКАЗЕ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.Б.ДАНИЛЬЧЕНКО «ПОХОРОНЫ»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28720" y="1599840"/>
            <a:ext cx="4257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полнила: Селезнева Анна Александровна, к.ф.н., учитель русского языка и литературы МОУ лицея № 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428760"/>
          <a:ext cx="9144000" cy="6013440"/>
        </p:xfrm>
        <a:graphic>
          <a:graphicData uri="http://schemas.openxmlformats.org/drawingml/2006/table">
            <a:tbl>
              <a:tblPr/>
              <a:tblGrid>
                <a:gridCol w="2868480"/>
                <a:gridCol w="3343320"/>
                <a:gridCol w="2932200"/>
              </a:tblGrid>
              <a:tr h="280800"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Тема разговор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Цита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О покойно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2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Поездка на кладбищ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Рыбалка, поездка на пляж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Поездка в колхоз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«В одном месте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решали, ехать на кладбище или не ехать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, и склонялись к тому, чтобы не ехать, поскольку народу хватает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да и вообще в такую жару нечего там делать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«В другом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говорили совсем о постороннем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, то ли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 сегодняшней вечерней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рыбалке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, то ли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о завтрашней поездке на пляж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«Чуть дальше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курсанты обсуждали предстоящую поездку в колхоз на уборку…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- …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Суровый был мужик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, не отнимешь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- Но и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справедливый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, тоже не отнимешь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- …Вот ведь, в лучшей больнице лежал, каких профессоров из Москвы приглашали! А толку?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Цирроз печени есть цирроз печени…И до шестидесяти пяти не дотянул. 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Эх, мужчины!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«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Возникшее у него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 при виде солдатского ордена Славы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уважение к генералу незаметно растворилось, исчезло» 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642960" y="1000080"/>
            <a:ext cx="7786800" cy="43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Можно ли людей, присутствующих на похоронах генерала назвать достойными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О какой стороне достоинства идет речь в этой части рассказа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00040" y="500040"/>
          <a:ext cx="8215200" cy="6161040"/>
        </p:xfrm>
        <a:graphic>
          <a:graphicData uri="http://schemas.openxmlformats.org/drawingml/2006/table">
            <a:tbl>
              <a:tblPr/>
              <a:tblGrid>
                <a:gridCol w="4105440"/>
                <a:gridCol w="4109760"/>
              </a:tblGrid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ведение сына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ведение мачехи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Зоя Филипповна,- вмешался сын покойного,- ну, что вы в самом деле.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Какая разница? На кладбище простимся…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…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Все, что вам причитается, вы получите.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 неожиданности пасынок опешил на мгновение и едва было не сплошал…однако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быстро пришел в себя и резко отбил ее руку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н прикладывал к лицу носовой платок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и поносил вдову, не стесняясь в выражениях…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к уж она причитала, так голосила и обвисала, едва не падая, на руках окружавших ее женщин, что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все провожающие только о ней и сокрушались...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Голосила без передышки, на одной ноте,</a:t>
                      </a: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не подпуская никого к покойному…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лаза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ее хищно впились в бумаги, сверлящий цепкий взгляд,</a:t>
                      </a: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казалось, готов был вырвать их из рук пасынка…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дова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накинулась на него шипящей кошкой, </a:t>
                      </a: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оровя запустить руку в карман и выхватить нужные ей бумаги…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редства раскрытия понятия «достоинство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Яркие определе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Риторические вопросы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Развитие параллельных сюжетных линий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иемы раскрытия понятия «достоинство» в рассказ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трастные сцен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трастные диалог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трастные поступк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Открытый финал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А.Данильченко рисует нам в  рассказе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раз человека, лишенного чувства собственного достоинства.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«Моральный кодекс» такого «героя» сводится к следующему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го поведение зависит от  «хищнических» взглядов и убеждений, от сиюминутных интересов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н легко поддается манипуляциям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нцип верности истине замещается у него принципом собственной пользы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д давлением обстоятельств может совершать поступки, противоречащие собственной совести и наносящие вред другим людя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Кодекс «достойного человек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- Живи и действуй в согласии со своей совестью и системой общечеловеческих ценност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- Храни свою честь и достоинство. Несмотря на трудности, старайся развивать и обогащать свои убеждения, свой внутренний мир, себя как личнос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-  Поддерживай в себе чувство любви к людям, к живой и неживой природе, к родине, к близким и дальним к тебе людям. Не будь равнодушен к несправедливост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Кодекс «достойного человек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- Обращение с другими людьми должно быть вежливым и предупредительным. Относись с должным уважением и доброжелательностью к каждому человек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- Будь милосердным. Сочувствуй слабым, больным, попавшим в беду, обездоленны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- Делай добро не из тщеславия и не для показа, а как крайне важное, а порой и трудное дел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357120"/>
            <a:ext cx="821844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Цель урока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—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рассмотреть понятие «достоинство» в рассказе А.Б.Данильченко «Похороны», выявить средства и способы реализации данного понятия в вышеназванном произведен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достижения поставленной цели на нашем уроке решаются следующие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задачи: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характеризуетс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жизненный и творческий путь писателя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выявляютс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новные составляющие понятия «достоинство»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ютс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новные средства, помогающие актуализировать ту или иную составляющую «достоинства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Биография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. Б. Данильченко родился 8 июня 1940 г. в поселке Гроза Гомельского района Гомельской области. В 1958 году окончил школу рабочей молодежи. Образование высшее – Литературный институт им. М. Горького г. Гомель. Ушел из жизни в 2001 год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8" descr="гомель"/>
          <p:cNvPicPr/>
          <p:nvPr/>
        </p:nvPicPr>
        <p:blipFill>
          <a:blip r:embed="rId1"/>
          <a:stretch/>
        </p:blipFill>
        <p:spPr>
          <a:xfrm>
            <a:off x="1857240" y="3857760"/>
            <a:ext cx="3321360" cy="2684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данильченко"/>
          <p:cNvPicPr/>
          <p:nvPr/>
        </p:nvPicPr>
        <p:blipFill>
          <a:blip r:embed="rId2"/>
          <a:stretch/>
        </p:blipFill>
        <p:spPr>
          <a:xfrm>
            <a:off x="0" y="1143000"/>
            <a:ext cx="3602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рудовая деятель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eaeaea"/>
                </a:solidFill>
                <a:latin typeface="Verdana"/>
              </a:rPr>
              <a:t>В 1956 г. работал слесарем на Гомельском заводе, затем в Донбассе в шахте электрослесарем и комбайнером угольных машин. Служил в рядах Советской Армии в Калининградской области. После демобилизации работал слесарем на Томсельмаше, позднее – на авторемонтном заводе.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8" descr="гомсельмаш"/>
          <p:cNvPicPr/>
          <p:nvPr/>
        </p:nvPicPr>
        <p:blipFill>
          <a:blip r:embed="rId1"/>
          <a:stretch/>
        </p:blipFill>
        <p:spPr>
          <a:xfrm>
            <a:off x="250920" y="2133720"/>
            <a:ext cx="46083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итературное творче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лен союза писателей с 1977 г. В 198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87 г. – ответственный секретарь Волгоградской областной организации Союза писателей России. В 2000 г. За роман «Люди живут семьями» удостоен Всероссийской литературной премии «Сталинград»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6" descr="союз писателей"/>
          <p:cNvPicPr/>
          <p:nvPr/>
        </p:nvPicPr>
        <p:blipFill>
          <a:blip r:embed="rId1"/>
          <a:stretch/>
        </p:blipFill>
        <p:spPr>
          <a:xfrm>
            <a:off x="250920" y="2276640"/>
            <a:ext cx="453708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руктура понятия «достоинство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2" descr="D:\Школа\10 класс\Литература &amp; русский язык\НР\достоинство.jpg"/>
          <p:cNvPicPr/>
          <p:nvPr/>
        </p:nvPicPr>
        <p:blipFill>
          <a:blip r:embed="rId1"/>
          <a:stretch/>
        </p:blipFill>
        <p:spPr>
          <a:xfrm>
            <a:off x="428760" y="1500120"/>
            <a:ext cx="850104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Изображение  человеческого достоинства в критической ситуации (на примере рассказа «Похороны»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Любовь, ненависть, сострадание, милосердие, разочарование, вера, надежда…Мало кому из писателей удавалось показать в своем произведении эту яркую галерею чувств, рождаемых в душе человека. Анатолий Данильченко смог не только их отобразить, но и подвести нас к нравственному выбору: быть или не быть похожими на героев его рассказа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«Похороны»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15" descr="226875905"/>
          <p:cNvPicPr/>
          <p:nvPr/>
        </p:nvPicPr>
        <p:blipFill>
          <a:blip r:embed="rId1"/>
          <a:stretch/>
        </p:blipFill>
        <p:spPr>
          <a:xfrm>
            <a:off x="34920" y="2070000"/>
            <a:ext cx="45356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просы для работы с класс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Рассказ называется «Похороны». Как вы думаете, почему именно похороны изобразил автор в этом рассказе? Каким, на ваш взгляд, должно быть поведение любого человека на похоронах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-360" y="642600"/>
            <a:ext cx="8929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На какие условные части можно разделить рассказ? Как бы вы назвали каждую часть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Рассказ условно можно разделить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                 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на три част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похороны «пышные», генеральские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похороны «средние», с выставлением горя напоказ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похороны «настоящие», вызывающие у читателя боль и сострада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. Кто является связующим звеном всего рассказа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5:22:46Z</dcterms:created>
  <dc:creator>XP GAME 2008</dc:creator>
  <dc:description/>
  <dc:language>en-US</dc:language>
  <cp:lastModifiedBy>User</cp:lastModifiedBy>
  <dcterms:modified xsi:type="dcterms:W3CDTF">2013-03-09T14:27:40Z</dcterms:modified>
  <cp:revision>43</cp:revision>
  <dc:subject/>
  <dc:title>Нравственная проблематика рассказов А. Данильченко</dc:title>
</cp:coreProperties>
</file>