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969E-B672-461F-8A0C-4E055D731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6A80-73EB-4FD8-A4B8-8AEFF758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ABF3-C8C0-4A83-A8A6-FC623388F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695A-339C-4455-8D69-0DB8E7811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4C6A-C977-4E7D-A4F1-3E494125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A27B-56EE-486D-A63D-67B1B997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0CDF-5307-4AB8-BCE3-8A6A84A7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4E9C-1223-4E54-868B-25632C72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FB31-E78E-4636-9A71-8C5F8FD4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777D-D2E0-4A4E-835C-539C165A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A4D6-C40D-4A4E-BCBE-EE5FEF81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BB61-B36B-46D7-8529-E0ECA964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650B-A3F9-44D3-82D8-BE94BCF6AF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mages.yandex.ru/yandsearch?source=wiz&amp;text=&#1092;&#1086;&#1090;&#1086;%20&#1073;&#1091;&#1082;&#1074;&#1099;%20&#1100;&amp;noreask=1&amp;img_url=http%3A%2F%2Fimg-fotki.yandex.ru%2Fget%2F5907%2Fsvetlera.4c4%2F0_68ce8_6a80c97_XS.jpg&amp;pos=2&amp;rpt=simage&amp;lr=100711&amp;nojs=1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images.yandex.ru/yandsearch?text=&#1092;&#1086;&#1090;&#1086;%20&#1073;&#1091;&#1082;&#1074;&#1099;%20&#1098;&amp;img_url=http%3A%2F%2Fimg-fotki.yandex.ru%2Fget%2F5705%2Fvalenta-mog.bb%2F0_675cf_913425db_L.jpg&amp;pos=0&amp;uinfo=sw-1312-sh-612-fw-1079-fh-448-pd-1&amp;rpt=simage&amp;nojs=1" TargetMode="External"/><Relationship Id="rId5" Type="http://schemas.openxmlformats.org/officeDocument/2006/relationships/image" Target="../media/image4.png"/><Relationship Id="rId6" Type="http://schemas.openxmlformats.org/officeDocument/2006/relationships/hyperlink" Target="http://images.yandex.ru/yandsearch?text=&#1092;&#1086;&#1090;&#1086;%20&#1073;&#1091;&#1082;&#1074;&#1099;%20&#1099;&amp;img_url=http%3A%2F%2Fs004.radikal.ru%2Fi207%2F1011%2Fa2%2F563577178ce3t.jpg&amp;pos=1&amp;uinfo=sw-1312-sh-612-fw-1079-fh-448-pd-1&amp;rpt=simage&amp;nojs=1" TargetMode="External"/><Relationship Id="rId7" Type="http://schemas.openxmlformats.org/officeDocument/2006/relationships/image" Target="../media/image5.png"/><Relationship Id="rId8" Type="http://schemas.openxmlformats.org/officeDocument/2006/relationships/hyperlink" Target="http://images.yandex.ru/yandsearch?text=&#1092;&#1086;&#1090;&#1086;%20&#1096;&#1082;&#1086;&#1083;&#1100;&#1085;&#1080;&#1082;&#1086;&#1074;%20&#1085;&#1072;%20&#1084;&#1080;&#1085;&#1091;&#1090;&#1082;&#1077;%20&#1095;&#1080;&#1089;&#1090;&#1086;&#1087;&#1080;&#1089;&#1072;&#1085;&#1080;&#1103;&amp;img_url=http%3A%2F%2Fs10.rimg.info%2F27e23abd8d76f5386d67c9f57803b88c.gif&amp;pos=1&amp;rpt=simage&amp;nojs=1" TargetMode="External"/><Relationship Id="rId9" Type="http://schemas.openxmlformats.org/officeDocument/2006/relationships/image" Target="../media/image6.png"/><Relationship Id="rId10" Type="http://schemas.openxmlformats.org/officeDocument/2006/relationships/hyperlink" Target="http://images.yandex.ru/yandsearch?text=&#1092;&#1086;&#1090;&#1086;%20&#1089;&#1082;&#1072;&#1079;&#1086;&#1095;&#1085;&#1099;&#1093;%20&#1096;&#1082;&#1086;&#1083;&#1100;&#1085;&#1099;&#1093;%20&#1087;&#1088;&#1080;&#1085;&#1072;&#1076;&#1083;&#1077;&#1078;&#1085;&#1086;&#1089;&#1090;&#1077;&#1081;&amp;img_url=http%3A%2F%2F900igr.net%2Fdata%2Fskazki-i-igry%2FPervoklassnik.files%2F0022-078-Zavtra-ty-idesh-v-shkolu-davaj-slozhim-v-portfel-te-predmety-kotorye.png&amp;pos=12&amp;uinfo=sw-1312-sh-612-fw-1079-fh-448-pd-1&amp;rpt=simage&amp;nojs=1" TargetMode="External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mages.yandex.ru/yandsearch?source=wiz&amp;text=&#1088;&#1080;&#1089;&#1091;&#1085;&#1086;&#1082;%20&#1089;&#1086;&#1088;&#1086;&#1082;&#1080;&amp;noreask=1&amp;img_url=http%3A%2F%2Fforest.geoman.ru%2Fforest%2Fitem%2Ff00%2Fs02%2Fe0002646%2Fpic%2F000001.jpg&amp;pos=11&amp;rpt=simage&amp;lr=100711&amp;nojs=1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images.yandex.ru/yandsearch?text=&#1088;&#1080;&#1089;&#1091;&#1085;&#1086;&#1082;%20&#1074;&#1086;&#1088;&#1086;&#1073;&#1077;&#1081;&amp;img_url=http%3A%2F%2F900igr.net%2Fdatai%2Frusskij-jazyk%2FUroki-pisma-v-1-klasse%2F0007-004-Vorobej.jpg&amp;pos=0&amp;uinfo=sw-1312-sh-612-fw-1079-fh-448-pd-1&amp;rpt=simage&amp;nojs=1" TargetMode="External"/><Relationship Id="rId5" Type="http://schemas.openxmlformats.org/officeDocument/2006/relationships/image" Target="../media/image9.jpeg"/><Relationship Id="rId6" Type="http://schemas.openxmlformats.org/officeDocument/2006/relationships/hyperlink" Target="http://images.yandex.ru/yandsearch?text=&#1088;&#1080;&#1089;&#1091;&#1085;&#1086;&#1082;%20&#1074;&#1086;&#1088;&#1086;&#1085;&#1072;&amp;img_url=http%3A%2F%2Fcorvidae.narod.ru%2Fimage1%2Fris_raven1.jpg&amp;pos=3&amp;uinfo=sw-1312-sh-612-fw-1079-fh-448-pd-1&amp;rpt=simage&amp;nojs=1" TargetMode="External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images.yandex.ru/yandsearch?text=&#1088;&#1080;&#1089;&#1091;&#1085;&#1086;&#1082;%20&#1083;&#1080;&#1084;&#1086;&#1085;&amp;img_url=http%3A%2F%2Fwww.clipart.net.ua%2Fimages%2Fclip3838.jpg&amp;pos=2&amp;uinfo=sw-1312-sh-612-fw-1079-fh-448-pd-1&amp;rpt=simage&amp;nojs=1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images.yandex.ru/yandsearch?text=&#1088;&#1080;&#1089;&#1091;&#1085;&#1086;&#1082;%20&#1087;&#1086;&#1084;&#1080;&#1076;&#1086;&#1088;&#1072;&amp;img_url=http://img1.liveinternet.ru/images/attach/c/5/84/902/84902749_466278.jpg&amp;pos=2&amp;uinfo=sw-1312-sh-612-fw-1079-fh-448-pd-1&amp;rpt=simage&amp;nojs=1" TargetMode="External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628640"/>
            <a:ext cx="7772400" cy="147024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ризнак и сло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 русского языка в 1 клас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МК «Школа Росси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im0-tub-ru.yandex.net/i?id=225966137-26-72&amp;n=2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68600" y="3565440"/>
            <a:ext cx="1700280" cy="4683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im5-tub-ru.yandex.net/i?id=238659986-64-72&amp;n=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31880" y="1981080"/>
            <a:ext cx="1992240" cy="4230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ttp://im5-tub-ru.yandex.net/i?id=183754007-61-72&amp;n=2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59520" y="2414520"/>
            <a:ext cx="2292480" cy="343692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1258920" y="620640"/>
            <a:ext cx="6192720" cy="1556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Минутка чистопис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http://im3-tub-ru.yandex.net/i?id=579090866-37-72&amp;n=2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53160" y="-6480"/>
            <a:ext cx="1597320" cy="1974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http://im4-tub-ru.yandex.net/i?id=359482406-13-72&amp;n=21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-6480" y="5510160"/>
            <a:ext cx="212112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511344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сарока]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вараб'эй']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варона]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im7-tub-ru.yandex.net/i?id=274405217-36-72&amp;n=2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19640" y="189000"/>
            <a:ext cx="1513080" cy="1830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im3-tub-ru.yandex.net/i?id=300349813-10-72&amp;n=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300720" y="2349360"/>
            <a:ext cx="2121120" cy="1590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im7-tub-ru.yandex.net/i?id=71939242-01-72&amp;n=2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003640" y="4508640"/>
            <a:ext cx="23767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6264360" cy="42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шите предмет: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 цвету;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 форме;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 вкусу.</a:t>
            </a:r>
            <a:br>
              <a:rPr sz="5400"/>
            </a:b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im3-tub-ru.yandex.net/i?id=51101276-64-72&amp;n=2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11280" y="4005360"/>
            <a:ext cx="3456000" cy="259236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4211640" y="1557360"/>
            <a:ext cx="2376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ЁЛ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7"/>
          <p:cNvSpPr/>
          <p:nvPr/>
        </p:nvSpPr>
        <p:spPr>
          <a:xfrm>
            <a:off x="6443640" y="1700280"/>
            <a:ext cx="2305080" cy="2016000"/>
          </a:xfrm>
          <a:prstGeom prst="ellipse">
            <a:avLst/>
          </a:prstGeom>
          <a:solidFill>
            <a:srgbClr val="ffff66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Л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4211640" y="3357720"/>
            <a:ext cx="23763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http://im2-tub-ru.yandex.net/i?id=144812866-49-72&amp;n=2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6920" y="836640"/>
            <a:ext cx="2953080" cy="2952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9" name="Рисунок 2" descr="http://im8-tub-ru.yandex.net/i?id=89904782-23-72&amp;n=21"/>
          <p:cNvPicPr/>
          <p:nvPr/>
        </p:nvPicPr>
        <p:blipFill>
          <a:blip r:embed="rId4"/>
          <a:stretch/>
        </p:blipFill>
        <p:spPr>
          <a:xfrm>
            <a:off x="5003640" y="2852640"/>
            <a:ext cx="2737080" cy="2737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42354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. Что нового узнали на уроке?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. Что особенно понравилось? Почему?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. Что вызвало затруднение? Почем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773000"/>
            <a:ext cx="822960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М О Л О Д Ц Ы 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http://im8-tub-ru.yandex.net/i?id=76935181-01-72&amp;n=21"/>
          <p:cNvPicPr/>
          <p:nvPr/>
        </p:nvPicPr>
        <p:blipFill>
          <a:blip r:embed="rId2"/>
          <a:stretch/>
        </p:blipFill>
        <p:spPr>
          <a:xfrm>
            <a:off x="2908440" y="3565440"/>
            <a:ext cx="31813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53146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резентацию подготовила: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учитель начальных классов МОУ «Колодясская основная школа» Симочкина Татьяна Ивановна</a:t>
            </a:r>
            <a:br>
              <a:rPr sz="4400"/>
            </a:br>
            <a:br>
              <a:rPr sz="44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. Колодяссы, 2013г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5T15:29:34Z</dcterms:created>
  <dc:creator>user</dc:creator>
  <dc:description/>
  <dc:language>en-US</dc:language>
  <cp:lastModifiedBy>user</cp:lastModifiedBy>
  <dcterms:modified xsi:type="dcterms:W3CDTF">2013-03-17T13:38:15Z</dcterms:modified>
  <cp:revision>13</cp:revision>
  <dc:subject/>
  <dc:title>Признак и слово</dc:title>
</cp:coreProperties>
</file>