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8.png" ContentType="image/png"/>
  <Override PartName="/ppt/media/image15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E5D65-716D-41BC-88EF-BB7FA0120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48F38-15B0-4AD6-9890-CFF582CAD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60215-A40A-4820-94C3-8E4564FD4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ACC75-8A5C-4755-8A6D-156A81956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71979-7802-4E05-87CC-8E95FC7D7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86107-3175-4DC8-A44A-D07B4CBC2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3E1D5-29FF-4849-B6D5-FAB002148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1C0F7-3011-489C-8682-01A4E0643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62C0F-D75C-4283-A46F-4F3DC04D0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3C930-47BB-4D5D-9D65-30FBAE8C4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4FDFA-D906-462D-A9BE-EC333668B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DECBB-4C5D-4E6A-B61D-7FA02E1CD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C1447-23EA-4B86-9922-D43E72CA46D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images.yandex.ru/yandsearch?source=wiz&amp;text=&#1092;&#1086;&#1090;&#1086;%20&#1073;&#1091;&#1082;&#1074;&#1099;%20&#1100;&amp;noreask=1&amp;img_url=http%3A%2F%2Fimg-fotki.yandex.ru%2Fget%2F5907%2Fsvetlera.4c4%2F0_68ce8_6a80c97_XS.jpg&amp;pos=2&amp;rpt=simage&amp;lr=100711&amp;nojs=1" TargetMode="External"/><Relationship Id="rId3" Type="http://schemas.openxmlformats.org/officeDocument/2006/relationships/image" Target="../media/image3.png"/><Relationship Id="rId4" Type="http://schemas.openxmlformats.org/officeDocument/2006/relationships/hyperlink" Target="http://images.yandex.ru/yandsearch?text=&#1092;&#1086;&#1090;&#1086;%20&#1073;&#1091;&#1082;&#1074;&#1099;%20&#1098;&amp;img_url=http%3A%2F%2Fimg-fotki.yandex.ru%2Fget%2F5705%2Fvalenta-mog.bb%2F0_675cf_913425db_L.jpg&amp;pos=0&amp;uinfo=sw-1312-sh-612-fw-1079-fh-448-pd-1&amp;rpt=simage&amp;nojs=1" TargetMode="External"/><Relationship Id="rId5" Type="http://schemas.openxmlformats.org/officeDocument/2006/relationships/image" Target="../media/image4.png"/><Relationship Id="rId6" Type="http://schemas.openxmlformats.org/officeDocument/2006/relationships/hyperlink" Target="http://images.yandex.ru/yandsearch?text=&#1092;&#1086;&#1090;&#1086;%20&#1073;&#1091;&#1082;&#1074;&#1099;%20&#1099;&amp;img_url=http%3A%2F%2Fs004.radikal.ru%2Fi207%2F1011%2Fa2%2F563577178ce3t.jpg&amp;pos=1&amp;uinfo=sw-1312-sh-612-fw-1079-fh-448-pd-1&amp;rpt=simage&amp;nojs=1" TargetMode="External"/><Relationship Id="rId7" Type="http://schemas.openxmlformats.org/officeDocument/2006/relationships/image" Target="../media/image5.png"/><Relationship Id="rId8" Type="http://schemas.openxmlformats.org/officeDocument/2006/relationships/hyperlink" Target="http://images.yandex.ru/yandsearch?text=&#1092;&#1086;&#1090;&#1086;%20&#1096;&#1082;&#1086;&#1083;&#1100;&#1085;&#1080;&#1082;&#1086;&#1074;%20&#1085;&#1072;%20&#1084;&#1080;&#1085;&#1091;&#1090;&#1082;&#1077;%20&#1095;&#1080;&#1089;&#1090;&#1086;&#1087;&#1080;&#1089;&#1072;&#1085;&#1080;&#1103;&amp;img_url=http%3A%2F%2Fs10.rimg.info%2F27e23abd8d76f5386d67c9f57803b88c.gif&amp;pos=1&amp;rpt=simage&amp;nojs=1" TargetMode="External"/><Relationship Id="rId9" Type="http://schemas.openxmlformats.org/officeDocument/2006/relationships/image" Target="../media/image6.png"/><Relationship Id="rId10" Type="http://schemas.openxmlformats.org/officeDocument/2006/relationships/hyperlink" Target="http://images.yandex.ru/yandsearch?text=&#1092;&#1086;&#1090;&#1086;%20&#1089;&#1082;&#1072;&#1079;&#1086;&#1095;&#1085;&#1099;&#1093;%20&#1096;&#1082;&#1086;&#1083;&#1100;&#1085;&#1099;&#1093;%20&#1087;&#1088;&#1080;&#1085;&#1072;&#1076;&#1083;&#1077;&#1078;&#1085;&#1086;&#1089;&#1090;&#1077;&#1081;&amp;img_url=http%3A%2F%2F900igr.net%2Fdata%2Fskazki-i-igry%2FPervoklassnik.files%2F0022-078-Zavtra-ty-idesh-v-shkolu-davaj-slozhim-v-portfel-te-predmety-kotorye.png&amp;pos=12&amp;uinfo=sw-1312-sh-612-fw-1079-fh-448-pd-1&amp;rpt=simage&amp;nojs=1" TargetMode="External"/><Relationship Id="rId11" Type="http://schemas.openxmlformats.org/officeDocument/2006/relationships/image" Target="../media/image7.png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images.yandex.ru/yandsearch?source=wiz&amp;text=&#1088;&#1080;&#1089;&#1091;&#1085;&#1086;&#1082;%20&#1089;&#1086;&#1088;&#1086;&#1082;&#1080;&amp;noreask=1&amp;img_url=http%3A%2F%2Fforest.geoman.ru%2Fforest%2Fitem%2Ff00%2Fs02%2Fe0002646%2Fpic%2F000001.jpg&amp;pos=11&amp;rpt=simage&amp;lr=100711&amp;nojs=1" TargetMode="External"/><Relationship Id="rId3" Type="http://schemas.openxmlformats.org/officeDocument/2006/relationships/image" Target="../media/image8.jpeg"/><Relationship Id="rId4" Type="http://schemas.openxmlformats.org/officeDocument/2006/relationships/hyperlink" Target="http://images.yandex.ru/yandsearch?text=&#1088;&#1080;&#1089;&#1091;&#1085;&#1086;&#1082;%20&#1074;&#1086;&#1088;&#1086;&#1073;&#1077;&#1081;&amp;img_url=http%3A%2F%2F900igr.net%2Fdatai%2Frusskij-jazyk%2FUroki-pisma-v-1-klasse%2F0007-004-Vorobej.jpg&amp;pos=0&amp;uinfo=sw-1312-sh-612-fw-1079-fh-448-pd-1&amp;rpt=simage&amp;nojs=1" TargetMode="External"/><Relationship Id="rId5" Type="http://schemas.openxmlformats.org/officeDocument/2006/relationships/image" Target="../media/image9.jpeg"/><Relationship Id="rId6" Type="http://schemas.openxmlformats.org/officeDocument/2006/relationships/hyperlink" Target="http://images.yandex.ru/yandsearch?text=&#1088;&#1080;&#1089;&#1091;&#1085;&#1086;&#1082;%20&#1074;&#1086;&#1088;&#1086;&#1085;&#1072;&amp;img_url=http%3A%2F%2Fcorvidae.narod.ru%2Fimage1%2Fris_raven1.jpg&amp;pos=3&amp;uinfo=sw-1312-sh-612-fw-1079-fh-448-pd-1&amp;rpt=simage&amp;nojs=1" TargetMode="External"/><Relationship Id="rId7" Type="http://schemas.openxmlformats.org/officeDocument/2006/relationships/image" Target="../media/image10.jpe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images.yandex.ru/yandsearch?text=&#1088;&#1080;&#1089;&#1091;&#1085;&#1086;&#1082;%20&#1083;&#1080;&#1084;&#1086;&#1085;&amp;img_url=http%3A%2F%2Fwww.clipart.net.ua%2Fimages%2Fclip3838.jpg&amp;pos=2&amp;uinfo=sw-1312-sh-612-fw-1079-fh-448-pd-1&amp;rpt=simage&amp;nojs=1" TargetMode="External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hyperlink" Target="http://images.yandex.ru/yandsearch?text=&#1088;&#1080;&#1089;&#1091;&#1085;&#1086;&#1082;%20&#1087;&#1086;&#1084;&#1080;&#1076;&#1086;&#1088;&#1072;&amp;img_url=http://img1.liveinternet.ru/images/attach/c/5/84/902/84902749_466278.jpg&amp;pos=2&amp;uinfo=sw-1312-sh-612-fw-1079-fh-448-pd-1&amp;rpt=simage&amp;nojs=1" TargetMode="External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1628640"/>
            <a:ext cx="7772400" cy="1470240"/>
          </a:xfrm>
          <a:prstGeom prst="rect">
            <a:avLst/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Признак и слов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рок русского языка в 1 класс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МК «Школа России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http://im0-tub-ru.yandex.net/i?id=225966137-26-72&amp;n=2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468600" y="3565440"/>
            <a:ext cx="1700280" cy="46832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4" descr="http://im5-tub-ru.yandex.net/i?id=238659986-64-72&amp;n=21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731880" y="1981080"/>
            <a:ext cx="1992240" cy="42307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http://im5-tub-ru.yandex.net/i?id=183754007-61-72&amp;n=21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6059520" y="2414520"/>
            <a:ext cx="2292480" cy="3436920"/>
          </a:xfrm>
          <a:prstGeom prst="rect">
            <a:avLst/>
          </a:prstGeom>
          <a:ln w="0">
            <a:noFill/>
          </a:ln>
        </p:spPr>
      </p:pic>
      <p:sp>
        <p:nvSpPr>
          <p:cNvPr id="46" name="TextBox 4"/>
          <p:cNvSpPr/>
          <p:nvPr/>
        </p:nvSpPr>
        <p:spPr>
          <a:xfrm>
            <a:off x="1258920" y="620640"/>
            <a:ext cx="6192720" cy="155628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Monotype Corsiva"/>
              </a:rPr>
              <a:t>Минутка чистописан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2" descr="http://im3-tub-ru.yandex.net/i?id=579090866-37-72&amp;n=21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7553160" y="-6480"/>
            <a:ext cx="1597320" cy="19749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0" descr="http://im4-tub-ru.yandex.net/i?id=359482406-13-72&amp;n=21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-6480" y="5510160"/>
            <a:ext cx="2121120" cy="13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3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3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3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3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3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3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3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3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3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3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3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3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475920"/>
            <a:ext cx="5113440" cy="525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сарока]</a:t>
            </a:r>
            <a:br>
              <a:rPr sz="4800"/>
            </a:br>
            <a:br>
              <a:rPr sz="4800"/>
            </a:br>
            <a:br>
              <a:rPr sz="4800"/>
            </a:b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[вараб'эй']</a:t>
            </a:r>
            <a:br>
              <a:rPr sz="4800"/>
            </a:br>
            <a:br>
              <a:rPr sz="4800"/>
            </a:br>
            <a:br>
              <a:rPr sz="4800"/>
            </a:b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[варона]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http://im7-tub-ru.yandex.net/i?id=274405217-36-72&amp;n=2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219640" y="189000"/>
            <a:ext cx="1513080" cy="18302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http://im3-tub-ru.yandex.net/i?id=300349813-10-72&amp;n=21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300720" y="2349360"/>
            <a:ext cx="2121120" cy="15908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http://im7-tub-ru.yandex.net/i?id=71939242-01-72&amp;n=21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5003640" y="4508640"/>
            <a:ext cx="2376720" cy="170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8920" y="-360"/>
            <a:ext cx="6264360" cy="423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ишите предмет:</a:t>
            </a:r>
            <a:br>
              <a:rPr sz="5400"/>
            </a:b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о цвету;</a:t>
            </a:r>
            <a:br>
              <a:rPr sz="5400"/>
            </a:b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о форме;</a:t>
            </a:r>
            <a:br>
              <a:rPr sz="5400"/>
            </a:b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о вкусу.</a:t>
            </a:r>
            <a:br>
              <a:rPr sz="5400"/>
            </a:br>
            <a:br>
              <a:rPr sz="4000"/>
            </a:b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http://im3-tub-ru.yandex.net/i?id=51101276-64-72&amp;n=2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411280" y="4005360"/>
            <a:ext cx="3456000" cy="2592360"/>
          </a:xfrm>
          <a:prstGeom prst="rect">
            <a:avLst/>
          </a:prstGeom>
          <a:ln w="0">
            <a:noFill/>
          </a:ln>
        </p:spPr>
      </p:pic>
      <p:sp>
        <p:nvSpPr>
          <p:cNvPr id="55" name="TextBox 5"/>
          <p:cNvSpPr/>
          <p:nvPr/>
        </p:nvSpPr>
        <p:spPr>
          <a:xfrm>
            <a:off x="4211640" y="1557360"/>
            <a:ext cx="237636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ЁЛТ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Овал 7"/>
          <p:cNvSpPr/>
          <p:nvPr/>
        </p:nvSpPr>
        <p:spPr>
          <a:xfrm>
            <a:off x="6443640" y="1700280"/>
            <a:ext cx="2305080" cy="2016000"/>
          </a:xfrm>
          <a:prstGeom prst="ellipse">
            <a:avLst/>
          </a:prstGeom>
          <a:solidFill>
            <a:srgbClr val="ffff66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УГЛ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8"/>
          <p:cNvSpPr/>
          <p:nvPr/>
        </p:nvSpPr>
        <p:spPr>
          <a:xfrm>
            <a:off x="4211640" y="3357720"/>
            <a:ext cx="2376360" cy="581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СЛ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9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4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Рисунок 1" descr="http://im2-tub-ru.yandex.net/i?id=144812866-49-72&amp;n=2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26920" y="836640"/>
            <a:ext cx="2953080" cy="29527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59" name="Рисунок 2" descr="http://im8-tub-ru.yandex.net/i?id=89904782-23-72&amp;n=21"/>
          <p:cNvPicPr/>
          <p:nvPr/>
        </p:nvPicPr>
        <p:blipFill>
          <a:blip r:embed="rId4"/>
          <a:stretch/>
        </p:blipFill>
        <p:spPr>
          <a:xfrm>
            <a:off x="5003640" y="2852640"/>
            <a:ext cx="2737080" cy="27370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6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1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95280" y="1052280"/>
            <a:ext cx="8229600" cy="423540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1. Что нового узнали на уроке?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2. Что особенно понравилось? Почему?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3. Что вызвало затруднение? Почему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5280" y="1773000"/>
            <a:ext cx="8229600" cy="114300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Calibri"/>
              </a:rPr>
              <a:t>М О Л О Д Ц Ы !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4" descr="http://im8-tub-ru.yandex.net/i?id=76935181-01-72&amp;n=21"/>
          <p:cNvPicPr/>
          <p:nvPr/>
        </p:nvPicPr>
        <p:blipFill>
          <a:blip r:embed="rId2"/>
          <a:stretch/>
        </p:blipFill>
        <p:spPr>
          <a:xfrm>
            <a:off x="2908440" y="3565440"/>
            <a:ext cx="318132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280" y="691920"/>
            <a:ext cx="8229600" cy="531468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Презентацию подготовила:</a:t>
            </a: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 </a:t>
            </a: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Monotype Corsiva"/>
              </a:rPr>
              <a:t>учитель начальных классов МОУ «Колодясская основная школа» Симочкина Татьяна Ивановна</a:t>
            </a:r>
            <a:br>
              <a:rPr sz="4400"/>
            </a:br>
            <a:br>
              <a:rPr sz="4400"/>
            </a:b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с. Колодяссы, 2013год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5T15:29:34Z</dcterms:created>
  <dc:creator>user</dc:creator>
  <dc:description/>
  <dc:language>en-US</dc:language>
  <cp:lastModifiedBy>user</cp:lastModifiedBy>
  <dcterms:modified xsi:type="dcterms:W3CDTF">2013-03-17T13:38:15Z</dcterms:modified>
  <cp:revision>13</cp:revision>
  <dc:subject/>
  <dc:title>Признак и слово</dc:title>
</cp:coreProperties>
</file>