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3.png" ContentType="image/pn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B353-3E5A-422F-A94A-C5C753071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7CBC-C05F-4E1C-A541-D463AEF6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A33C-98AC-4F5B-9644-996718254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A4BA-863C-48E6-B5A6-3DE4A6D57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3805-AD67-4B4C-ADAE-0131D7973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84B8-6F4C-4109-BD17-EC880AEF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EB0E-DE07-4145-AD4F-4DCF1CAC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9DEC-32CD-476F-BDB8-67E18344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4668-3FCC-4879-BD81-77A1888C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AC04-79AD-47CC-9047-5561F929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3705-8499-4113-A702-2A50810B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6E68-CA7E-4501-A041-6C0E002A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D2CB-2E4A-46A6-B5B9-81CD42DD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4065-0B95-4113-A0F1-5B5726B7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DF60-0CFC-45E4-BB49-125CC70F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F07C-128C-4C48-9833-41D532F0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DD58-C9D8-42B5-983D-77FE18FA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C8D02-0185-4B7A-BE01-DCA92932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E533B-11A9-4C30-ABA1-4A23431A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2474F-F341-45E4-866D-088A02A0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9437C-54D8-4BAE-9E96-74060EC5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3636A-B1FA-432E-A34E-B6E395AC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A182-FC00-4C24-AF7A-B18171F7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95464-39AE-4528-A3DC-9EE12610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AF27C-117E-43E5-82E3-2DD39B4C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AAB13-1946-4F9E-BCF6-E07A6128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0F2F5-BC2C-4F96-943F-AE02C84F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41B3D-A2BE-44A0-8B02-17A5CC9F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ADC49-3B4E-4F69-8FE5-5788172B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3E962-DBDA-4F93-AE47-9BCEEC14B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519C-9E7F-4499-B9C1-AE4AA9D3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C827-1281-477B-8B37-3BC70613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7D3C-1191-40A3-ADE3-FBB1974B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CCDC-86FA-4EFD-969D-A2F898D0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D8F6-9FC7-430B-BC5B-0045050C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566D-6631-42D5-893C-1DAEAF02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C160-C929-4DD7-9672-479758CDEF3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ECC5-5232-4E07-979C-4780C82CCC3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0"/>
          <p:cNvGrpSpPr/>
          <p:nvPr/>
        </p:nvGrpSpPr>
        <p:grpSpPr>
          <a:xfrm>
            <a:off x="7167960" y="-82800"/>
            <a:ext cx="2433960" cy="2255760"/>
            <a:chOff x="7167960" y="-82800"/>
            <a:chExt cx="2433960" cy="2255760"/>
          </a:xfrm>
        </p:grpSpPr>
        <p:grpSp>
          <p:nvGrpSpPr>
            <p:cNvPr id="82" name="Group 41"/>
            <p:cNvGrpSpPr/>
            <p:nvPr/>
          </p:nvGrpSpPr>
          <p:grpSpPr>
            <a:xfrm>
              <a:off x="7167960" y="-82800"/>
              <a:ext cx="2433960" cy="2255760"/>
              <a:chOff x="7167960" y="-82800"/>
              <a:chExt cx="2433960" cy="2255760"/>
            </a:xfrm>
          </p:grpSpPr>
          <p:sp>
            <p:nvSpPr>
              <p:cNvPr id="8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" name="Group 43"/>
              <p:cNvGrpSpPr/>
              <p:nvPr/>
            </p:nvGrpSpPr>
            <p:grpSpPr>
              <a:xfrm>
                <a:off x="7167960" y="-82800"/>
                <a:ext cx="2433960" cy="2255760"/>
                <a:chOff x="7167960" y="-82800"/>
                <a:chExt cx="2433960" cy="2255760"/>
              </a:xfrm>
            </p:grpSpPr>
            <p:sp>
              <p:nvSpPr>
                <p:cNvPr id="85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5"/>
                <p:cNvSpPr/>
                <p:nvPr/>
              </p:nvSpPr>
              <p:spPr>
                <a:xfrm rot="18427200">
                  <a:off x="8026920" y="518400"/>
                  <a:ext cx="430920" cy="695160"/>
                </a:xfrm>
                <a:custGeom>
                  <a:avLst/>
                  <a:gdLst>
                    <a:gd name="textAreaLeft" fmla="*/ 0 w 430920"/>
                    <a:gd name="textAreaRight" fmla="*/ 431280 w 4309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6"/>
                <p:cNvSpPr/>
                <p:nvPr/>
              </p:nvSpPr>
              <p:spPr>
                <a:xfrm rot="18427200">
                  <a:off x="7723440" y="281520"/>
                  <a:ext cx="808920" cy="1425600"/>
                </a:xfrm>
                <a:custGeom>
                  <a:avLst/>
                  <a:gdLst>
                    <a:gd name="textAreaLeft" fmla="*/ 0 w 808920"/>
                    <a:gd name="textAreaRight" fmla="*/ 809280 w 8089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7"/>
                <p:cNvSpPr/>
                <p:nvPr/>
              </p:nvSpPr>
              <p:spPr>
                <a:xfrm rot="18427200">
                  <a:off x="7777440" y="-21600"/>
                  <a:ext cx="1214640" cy="2133360"/>
                </a:xfrm>
                <a:custGeom>
                  <a:avLst/>
                  <a:gdLst>
                    <a:gd name="textAreaLeft" fmla="*/ 0 w 1214640"/>
                    <a:gd name="textAreaRight" fmla="*/ 1214640 w 1214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48"/>
                <p:cNvSpPr/>
                <p:nvPr/>
              </p:nvSpPr>
              <p:spPr>
                <a:xfrm rot="18427200">
                  <a:off x="8422920" y="1421280"/>
                  <a:ext cx="270360" cy="193680"/>
                </a:xfrm>
                <a:custGeom>
                  <a:avLst/>
                  <a:gdLst>
                    <a:gd name="textAreaLeft" fmla="*/ 0 w 270360"/>
                    <a:gd name="textAreaRight" fmla="*/ 270720 w 2703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49"/>
                <p:cNvSpPr/>
                <p:nvPr/>
              </p:nvSpPr>
              <p:spPr>
                <a:xfrm rot="18427200">
                  <a:off x="8338680" y="1275840"/>
                  <a:ext cx="289800" cy="228600"/>
                </a:xfrm>
                <a:custGeom>
                  <a:avLst/>
                  <a:gdLst>
                    <a:gd name="textAreaLeft" fmla="*/ 0 w 289800"/>
                    <a:gd name="textAreaRight" fmla="*/ 290160 w 2898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50"/>
                <p:cNvSpPr/>
                <p:nvPr/>
              </p:nvSpPr>
              <p:spPr>
                <a:xfrm rot="18427200">
                  <a:off x="7912440" y="335880"/>
                  <a:ext cx="289800" cy="233640"/>
                </a:xfrm>
                <a:custGeom>
                  <a:avLst/>
                  <a:gdLst>
                    <a:gd name="textAreaLeft" fmla="*/ 0 w 289800"/>
                    <a:gd name="textAreaRight" fmla="*/ 290160 w 2898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51"/>
                <p:cNvSpPr/>
                <p:nvPr/>
              </p:nvSpPr>
              <p:spPr>
                <a:xfrm rot="18427200">
                  <a:off x="7866720" y="212040"/>
                  <a:ext cx="286560" cy="219240"/>
                </a:xfrm>
                <a:custGeom>
                  <a:avLst/>
                  <a:gdLst>
                    <a:gd name="textAreaLeft" fmla="*/ 0 w 286560"/>
                    <a:gd name="textAreaRight" fmla="*/ 286920 w 28656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309F-0743-435F-97A9-F54D4D17E3C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5" descr="ol3056_01"/>
          <p:cNvPicPr/>
          <p:nvPr/>
        </p:nvPicPr>
        <p:blipFill>
          <a:blip r:embed="rId1"/>
          <a:stretch/>
        </p:blipFill>
        <p:spPr>
          <a:xfrm>
            <a:off x="250920" y="404640"/>
            <a:ext cx="3644640" cy="47530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>
            <a:off x="3924360" y="1052640"/>
            <a:ext cx="4635360" cy="46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ект по т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и обучающиеся 3 класса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Сокрутовская  о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руководством Ильченко Л.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2"/>
          <p:cNvSpPr/>
          <p:nvPr/>
        </p:nvSpPr>
        <p:spPr>
          <a:xfrm>
            <a:off x="3566520" y="63086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23"/>
          <p:cNvSpPr txBox="1"/>
          <p:nvPr/>
        </p:nvSpPr>
        <p:spPr>
          <a:xfrm>
            <a:off x="5003640" y="1844640"/>
            <a:ext cx="288612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Незнайка 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его друзья» 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Picture 4" descr="25000060682"/>
          <p:cNvPicPr/>
          <p:nvPr/>
        </p:nvPicPr>
        <p:blipFill>
          <a:blip r:embed="rId1"/>
          <a:stretch/>
        </p:blipFill>
        <p:spPr>
          <a:xfrm>
            <a:off x="468360" y="1413000"/>
            <a:ext cx="2023920" cy="29844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7"/>
          <p:cNvSpPr/>
          <p:nvPr/>
        </p:nvSpPr>
        <p:spPr>
          <a:xfrm>
            <a:off x="2341080" y="333360"/>
            <a:ext cx="437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Отгадывание кроссворд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о Незнайке и его друзь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Рисунок 6" descr="SAM_1522.JPG"/>
          <p:cNvPicPr/>
          <p:nvPr/>
        </p:nvPicPr>
        <p:blipFill>
          <a:blip r:embed="rId2"/>
          <a:stretch/>
        </p:blipFill>
        <p:spPr>
          <a:xfrm>
            <a:off x="2735280" y="2168640"/>
            <a:ext cx="5629320" cy="42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3851280" y="1268280"/>
            <a:ext cx="360360" cy="287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200"/>
                </a:solidFill>
                <a:latin typeface="Comic Sans MS"/>
              </a:rPr>
              <a:t>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4211640" y="126828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4572000" y="126828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4932360" y="126828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5292720" y="126828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5651640" y="126828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3851280" y="1557360"/>
            <a:ext cx="36036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4211640" y="15573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4572000" y="15573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4932360" y="15573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4"/>
          <p:cNvSpPr/>
          <p:nvPr/>
        </p:nvSpPr>
        <p:spPr>
          <a:xfrm>
            <a:off x="3492360" y="15573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2771640" y="18446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7"/>
          <p:cNvSpPr/>
          <p:nvPr/>
        </p:nvSpPr>
        <p:spPr>
          <a:xfrm>
            <a:off x="3132000" y="18446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8"/>
          <p:cNvSpPr/>
          <p:nvPr/>
        </p:nvSpPr>
        <p:spPr>
          <a:xfrm>
            <a:off x="3492360" y="18446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9"/>
          <p:cNvSpPr/>
          <p:nvPr/>
        </p:nvSpPr>
        <p:spPr>
          <a:xfrm>
            <a:off x="3851280" y="1844640"/>
            <a:ext cx="36036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omic Sans MS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0"/>
          <p:cNvSpPr/>
          <p:nvPr/>
        </p:nvSpPr>
        <p:spPr>
          <a:xfrm>
            <a:off x="4211640" y="18446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1"/>
          <p:cNvSpPr/>
          <p:nvPr/>
        </p:nvSpPr>
        <p:spPr>
          <a:xfrm>
            <a:off x="4572000" y="18446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2"/>
          <p:cNvSpPr/>
          <p:nvPr/>
        </p:nvSpPr>
        <p:spPr>
          <a:xfrm>
            <a:off x="4932360" y="18446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3"/>
          <p:cNvSpPr/>
          <p:nvPr/>
        </p:nvSpPr>
        <p:spPr>
          <a:xfrm>
            <a:off x="5651640" y="18446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4"/>
          <p:cNvSpPr/>
          <p:nvPr/>
        </p:nvSpPr>
        <p:spPr>
          <a:xfrm>
            <a:off x="5292720" y="18446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5"/>
          <p:cNvSpPr/>
          <p:nvPr/>
        </p:nvSpPr>
        <p:spPr>
          <a:xfrm>
            <a:off x="2050920" y="21337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6"/>
          <p:cNvSpPr/>
          <p:nvPr/>
        </p:nvSpPr>
        <p:spPr>
          <a:xfrm>
            <a:off x="2411280" y="21337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7"/>
          <p:cNvSpPr/>
          <p:nvPr/>
        </p:nvSpPr>
        <p:spPr>
          <a:xfrm>
            <a:off x="2771640" y="21337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8"/>
          <p:cNvSpPr/>
          <p:nvPr/>
        </p:nvSpPr>
        <p:spPr>
          <a:xfrm>
            <a:off x="3132000" y="21337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9"/>
          <p:cNvSpPr/>
          <p:nvPr/>
        </p:nvSpPr>
        <p:spPr>
          <a:xfrm>
            <a:off x="3492360" y="21337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0"/>
          <p:cNvSpPr/>
          <p:nvPr/>
        </p:nvSpPr>
        <p:spPr>
          <a:xfrm>
            <a:off x="3851280" y="2133720"/>
            <a:ext cx="36036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omic Sans MS"/>
              </a:rPr>
              <a:t>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1"/>
          <p:cNvSpPr/>
          <p:nvPr/>
        </p:nvSpPr>
        <p:spPr>
          <a:xfrm>
            <a:off x="4211640" y="21337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2"/>
          <p:cNvSpPr/>
          <p:nvPr/>
        </p:nvSpPr>
        <p:spPr>
          <a:xfrm>
            <a:off x="4572000" y="21337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3"/>
          <p:cNvSpPr/>
          <p:nvPr/>
        </p:nvSpPr>
        <p:spPr>
          <a:xfrm>
            <a:off x="4932360" y="21337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4"/>
          <p:cNvSpPr/>
          <p:nvPr/>
        </p:nvSpPr>
        <p:spPr>
          <a:xfrm>
            <a:off x="2050920" y="24210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5"/>
          <p:cNvSpPr/>
          <p:nvPr/>
        </p:nvSpPr>
        <p:spPr>
          <a:xfrm>
            <a:off x="2411280" y="24210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6"/>
          <p:cNvSpPr/>
          <p:nvPr/>
        </p:nvSpPr>
        <p:spPr>
          <a:xfrm>
            <a:off x="2771640" y="24210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7"/>
          <p:cNvSpPr/>
          <p:nvPr/>
        </p:nvSpPr>
        <p:spPr>
          <a:xfrm>
            <a:off x="3132000" y="24210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8"/>
          <p:cNvSpPr/>
          <p:nvPr/>
        </p:nvSpPr>
        <p:spPr>
          <a:xfrm>
            <a:off x="3492360" y="24210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9"/>
          <p:cNvSpPr/>
          <p:nvPr/>
        </p:nvSpPr>
        <p:spPr>
          <a:xfrm>
            <a:off x="3851280" y="2421000"/>
            <a:ext cx="36036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omic Sans MS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0"/>
          <p:cNvSpPr/>
          <p:nvPr/>
        </p:nvSpPr>
        <p:spPr>
          <a:xfrm>
            <a:off x="2411280" y="27082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1"/>
          <p:cNvSpPr/>
          <p:nvPr/>
        </p:nvSpPr>
        <p:spPr>
          <a:xfrm>
            <a:off x="2771640" y="27082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2"/>
          <p:cNvSpPr/>
          <p:nvPr/>
        </p:nvSpPr>
        <p:spPr>
          <a:xfrm>
            <a:off x="3851280" y="2708280"/>
            <a:ext cx="36036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omic Sans MS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3"/>
          <p:cNvSpPr/>
          <p:nvPr/>
        </p:nvSpPr>
        <p:spPr>
          <a:xfrm>
            <a:off x="3132000" y="27082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4"/>
          <p:cNvSpPr/>
          <p:nvPr/>
        </p:nvSpPr>
        <p:spPr>
          <a:xfrm>
            <a:off x="3492360" y="27082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5"/>
          <p:cNvSpPr/>
          <p:nvPr/>
        </p:nvSpPr>
        <p:spPr>
          <a:xfrm>
            <a:off x="934920" y="33336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Перед вами неизвестные стихи-загадки Незнай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о его друзьях-товарищ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7"/>
          <p:cNvSpPr/>
          <p:nvPr/>
        </p:nvSpPr>
        <p:spPr>
          <a:xfrm>
            <a:off x="5580000" y="2276640"/>
            <a:ext cx="32400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него такое пузо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дто скушал два арбуз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не знаю, трус 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позитор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акал на деревяш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вездочёт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кочил из люль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ктор наш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ушал свой беретик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ихотворец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друга рисовал портр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азали мне: «Спасибо»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т 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8" descr="koz15"/>
          <p:cNvPicPr/>
          <p:nvPr/>
        </p:nvPicPr>
        <p:blipFill>
          <a:blip r:embed="rId1"/>
          <a:stretch/>
        </p:blipFill>
        <p:spPr>
          <a:xfrm>
            <a:off x="1763640" y="4581360"/>
            <a:ext cx="3313080" cy="218124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0"/>
          <p:cNvSpPr/>
          <p:nvPr/>
        </p:nvSpPr>
        <p:spPr>
          <a:xfrm>
            <a:off x="2050920" y="27082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1"/>
          <p:cNvSpPr/>
          <p:nvPr/>
        </p:nvSpPr>
        <p:spPr>
          <a:xfrm>
            <a:off x="2112480" y="273384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2"/>
          <p:cNvSpPr/>
          <p:nvPr/>
        </p:nvSpPr>
        <p:spPr>
          <a:xfrm>
            <a:off x="611280" y="3357720"/>
            <a:ext cx="352116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 выделенных клетках по вертика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3"/>
          <p:cNvSpPr/>
          <p:nvPr/>
        </p:nvSpPr>
        <p:spPr>
          <a:xfrm>
            <a:off x="6279840" y="186516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 горизонта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4"/>
          <p:cNvSpPr/>
          <p:nvPr/>
        </p:nvSpPr>
        <p:spPr>
          <a:xfrm>
            <a:off x="2411280" y="18446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3492360" y="1268280"/>
            <a:ext cx="36036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3095640" y="1557360"/>
            <a:ext cx="36036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2016000" y="1844640"/>
            <a:ext cx="36036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1655640" y="2133720"/>
            <a:ext cx="36036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1"/>
          <p:cNvSpPr/>
          <p:nvPr/>
        </p:nvSpPr>
        <p:spPr>
          <a:xfrm>
            <a:off x="1239840" y="2368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1655640" y="2421000"/>
            <a:ext cx="36036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1692360" y="2708280"/>
            <a:ext cx="36036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7"/>
          <p:cNvSpPr/>
          <p:nvPr/>
        </p:nvSpPr>
        <p:spPr>
          <a:xfrm>
            <a:off x="684360" y="3789360"/>
            <a:ext cx="45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то подстрелил кастрюльк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хотник меткий …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655640" y="-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1743120" y="100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971640" y="189000"/>
            <a:ext cx="71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Конкурс рисунков. Оформление выста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024_Гимн Незнайки и его друзей (М. Минков - Ю. Энтин).mp3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9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0" y="1200240"/>
            <a:ext cx="7956720" cy="56577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0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0" y="1011240"/>
            <a:ext cx="7956720" cy="58467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1" descr="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0" y="1003320"/>
            <a:ext cx="8209080" cy="58546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2" descr="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0" y="1015920"/>
            <a:ext cx="8209080" cy="5842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3" descr="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0" y="1052640"/>
            <a:ext cx="8064360" cy="58053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4" descr=""/>
          <p:cNvPicPr/>
          <p:nvPr/>
        </p:nvPicPr>
        <p:blipFill>
          <a:blip r:embed="rId7"/>
          <a:stretch/>
        </p:blipFill>
        <p:spPr>
          <a:xfrm>
            <a:off x="2627280" y="692280"/>
            <a:ext cx="4432320" cy="59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34" dur="5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6000"/>
                            </p:stCondLst>
                            <p:childTnLst>
                              <p:par>
                                <p:cTn id="4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7000"/>
                            </p:stCondLst>
                            <p:childTnLst>
                              <p:par>
                                <p:cTn id="441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42" dur="5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9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50" dur="5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9000"/>
                            </p:stCondLst>
                            <p:childTnLst>
                              <p:par>
                                <p:cTn id="457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58" dur="5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4000"/>
                            </p:stCondLst>
                            <p:childTnLst>
                              <p:par>
                                <p:cTn id="46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5000"/>
                            </p:stCondLst>
                            <p:childTnLst>
                              <p:par>
                                <p:cTn id="465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66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30000"/>
                            </p:stCondLst>
                            <p:childTnLst>
                              <p:par>
                                <p:cTn id="4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6" dur="1" fill="hold"/>
                                        <p:tgtEl>
                                          <p:spTgt spid="2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143320" y="3714480"/>
            <a:ext cx="32382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1959120" y="71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754920" y="297000"/>
            <a:ext cx="646272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Создание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ение правил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ение эскиза игрового по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борка и изготовление иллюстративного матери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лючительное оформление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робиров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7" descr="F:\Незнайка\школа\CIMG0268.JPG"/>
          <p:cNvPicPr/>
          <p:nvPr/>
        </p:nvPicPr>
        <p:blipFill>
          <a:blip r:embed="rId1"/>
          <a:stretch/>
        </p:blipFill>
        <p:spPr>
          <a:xfrm>
            <a:off x="5040360" y="3897360"/>
            <a:ext cx="3168720" cy="23781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6" descr="CIMG0261"/>
          <p:cNvPicPr/>
          <p:nvPr/>
        </p:nvPicPr>
        <p:blipFill>
          <a:blip r:embed="rId2"/>
          <a:stretch/>
        </p:blipFill>
        <p:spPr>
          <a:xfrm>
            <a:off x="1332000" y="2924280"/>
            <a:ext cx="3171600" cy="237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3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7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908000" y="152280"/>
            <a:ext cx="5832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СТОЛЬНАЯ ИГРА-ПУТЕШЕСТВИЕ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      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НЕЗНАЙКА И ЕГО ДРУЗЬ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дназначена для детей 6 – 8 ле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личество участников игры: 2 – 4 человек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мплектация:      Игровое пол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авила игр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ишки игроко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гральный кубик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словные обозначения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  Путешествуй вместе с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алышами-коротышка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  Кружок «Ответь на вопрос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оссворда и двигайся вперёд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 Пропусти ход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 Кружок «Шаг вперёд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Oval 4"/>
          <p:cNvSpPr/>
          <p:nvPr/>
        </p:nvSpPr>
        <p:spPr>
          <a:xfrm>
            <a:off x="3203640" y="3645000"/>
            <a:ext cx="395280" cy="323640"/>
          </a:xfrm>
          <a:prstGeom prst="ellipse">
            <a:avLst/>
          </a:prstGeom>
          <a:solidFill>
            <a:srgbClr val="70f6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5"/>
          <p:cNvSpPr/>
          <p:nvPr/>
        </p:nvSpPr>
        <p:spPr>
          <a:xfrm>
            <a:off x="3203640" y="4545000"/>
            <a:ext cx="395280" cy="324000"/>
          </a:xfrm>
          <a:prstGeom prst="ellipse">
            <a:avLst/>
          </a:prstGeom>
          <a:solidFill>
            <a:srgbClr val="6f93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6"/>
          <p:cNvSpPr/>
          <p:nvPr/>
        </p:nvSpPr>
        <p:spPr>
          <a:xfrm>
            <a:off x="3203640" y="5337000"/>
            <a:ext cx="395280" cy="324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7"/>
          <p:cNvSpPr/>
          <p:nvPr/>
        </p:nvSpPr>
        <p:spPr>
          <a:xfrm>
            <a:off x="3203640" y="5842080"/>
            <a:ext cx="395280" cy="323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1871640" y="297000"/>
            <a:ext cx="5867280" cy="68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ИЛА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ери или разыграй с помощью кубика фишки и право первого х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вь фишки на стартовый круж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очереди кидайте кубик и передвигайте фишки на столько кружков, сколько выпадает на верхней грани куб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адая на кружки зелёного цвета, ты должен перемещаться вперёд, куда указывает стрелка, на кружок с зелёным обод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ав на кружок красного цвета, ты должен пропустить х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беждает тот, кто первым пройдёт весь маршрут и вернётся дом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3" name="Picture 4" descr="P1000100"/>
          <p:cNvPicPr/>
          <p:nvPr/>
        </p:nvPicPr>
        <p:blipFill>
          <a:blip r:embed="rId1"/>
          <a:stretch/>
        </p:blipFill>
        <p:spPr>
          <a:xfrm>
            <a:off x="4211640" y="3191040"/>
            <a:ext cx="4427640" cy="34048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P1000065"/>
          <p:cNvPicPr/>
          <p:nvPr/>
        </p:nvPicPr>
        <p:blipFill>
          <a:blip r:embed="rId2"/>
          <a:stretch/>
        </p:blipFill>
        <p:spPr>
          <a:xfrm>
            <a:off x="395280" y="728640"/>
            <a:ext cx="3708360" cy="2865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6"/>
          <p:cNvSpPr/>
          <p:nvPr/>
        </p:nvSpPr>
        <p:spPr>
          <a:xfrm>
            <a:off x="5041800" y="177336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Апробир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4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1"/>
          <p:cNvSpPr/>
          <p:nvPr/>
        </p:nvSpPr>
        <p:spPr>
          <a:xfrm>
            <a:off x="1727280" y="836640"/>
            <a:ext cx="61704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703dff"/>
                </a:solidFill>
                <a:latin typeface="Arial"/>
              </a:rPr>
              <a:t>Критерии успех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тигнут конечный результа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а создана активная команда участ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ники проекта получили удовольствие от свое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укт проекта можно использовать во внеурочной деятельности кла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9" name="Picture 7" descr="SNC11333"/>
          <p:cNvPicPr/>
          <p:nvPr/>
        </p:nvPicPr>
        <p:blipFill>
          <a:blip r:embed="rId1"/>
          <a:stretch/>
        </p:blipFill>
        <p:spPr>
          <a:xfrm>
            <a:off x="6443640" y="3789360"/>
            <a:ext cx="2265480" cy="2924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SNC11334"/>
          <p:cNvPicPr/>
          <p:nvPr/>
        </p:nvPicPr>
        <p:blipFill>
          <a:blip r:embed="rId2"/>
          <a:stretch/>
        </p:blipFill>
        <p:spPr>
          <a:xfrm>
            <a:off x="5364000" y="584280"/>
            <a:ext cx="2322720" cy="29239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9"/>
          <p:cNvSpPr/>
          <p:nvPr/>
        </p:nvSpPr>
        <p:spPr>
          <a:xfrm>
            <a:off x="1241280" y="20808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Презентация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Рисунок 8" descr="SAM_1523.JPG"/>
          <p:cNvPicPr/>
          <p:nvPr/>
        </p:nvPicPr>
        <p:blipFill>
          <a:blip r:embed="rId3"/>
          <a:stretch/>
        </p:blipFill>
        <p:spPr>
          <a:xfrm>
            <a:off x="719280" y="1952640"/>
            <a:ext cx="4321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5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950760" y="86184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503280" y="441360"/>
            <a:ext cx="7991280" cy="64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спорт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ем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: «Незнайка и его друзь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Цели: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знакомить обучающихся с принципом комплексного подхода в создании творческого продукта проект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влечь каждого обучающегося в активный творческий процес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чить представлять свой труд в виде презент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спитывать интерес к художественной литерату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и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звитие творчества, способностей к изобретательству, эстетического вкуса обучаю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ормирование умений взаимодействия и взаимопомощи в групп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зработка и изготовление предполагаемого продукта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611280" y="476280"/>
            <a:ext cx="784836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ип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руппов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неурочны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есрочны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ворческий, практико-ориентирован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едполагаемый продукт проекта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- выставка рисун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настольная иг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7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3105360" cy="345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_1000026532"/>
          <p:cNvPicPr/>
          <p:nvPr/>
        </p:nvPicPr>
        <p:blipFill>
          <a:blip r:embed="rId2"/>
          <a:stretch/>
        </p:blipFill>
        <p:spPr>
          <a:xfrm>
            <a:off x="3708360" y="5084640"/>
            <a:ext cx="1065240" cy="1440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Безымянный"/>
          <p:cNvPicPr/>
          <p:nvPr/>
        </p:nvPicPr>
        <p:blipFill>
          <a:blip r:embed="rId3"/>
          <a:stretch/>
        </p:blipFill>
        <p:spPr>
          <a:xfrm>
            <a:off x="6227640" y="5084640"/>
            <a:ext cx="1057320" cy="1441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2" descr="846"/>
          <p:cNvPicPr/>
          <p:nvPr/>
        </p:nvPicPr>
        <p:blipFill>
          <a:blip r:embed="rId4"/>
          <a:stretch/>
        </p:blipFill>
        <p:spPr>
          <a:xfrm>
            <a:off x="5003640" y="4292640"/>
            <a:ext cx="1047960" cy="14414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24"/>
          <p:cNvSpPr/>
          <p:nvPr/>
        </p:nvSpPr>
        <p:spPr>
          <a:xfrm>
            <a:off x="4840200" y="86184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4356000" y="646200"/>
            <a:ext cx="4032360" cy="31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400" spc="-1" strike="noStrike">
                <a:solidFill>
                  <a:srgbClr val="002060"/>
                </a:solidFill>
                <a:latin typeface="Comic Sans MS"/>
              </a:rPr>
              <a:t>Николай Николаевич Носов родил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omic Sans MS"/>
              </a:rPr>
              <a:t>в 1908 году в Киеве, в семье актёр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omic Sans MS"/>
              </a:rPr>
              <a:t>   </a:t>
            </a:r>
            <a:r>
              <a:rPr b="1" lang="ru-RU" sz="1400" spc="-1" strike="noStrike">
                <a:solidFill>
                  <a:srgbClr val="002060"/>
                </a:solidFill>
                <a:latin typeface="Comic Sans MS"/>
              </a:rPr>
              <a:t>После окончания школы он учился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omic Sans MS"/>
              </a:rPr>
              <a:t>Москве, в институте кинематограф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omic Sans MS"/>
              </a:rPr>
              <a:t>   </a:t>
            </a:r>
            <a:r>
              <a:rPr b="1" lang="ru-RU" sz="1400" spc="-1" strike="noStrike">
                <a:solidFill>
                  <a:srgbClr val="002060"/>
                </a:solidFill>
                <a:latin typeface="Comic Sans MS"/>
              </a:rPr>
              <a:t>Он работал режиссёром, поставил немало мультипликационных, научных и учебных фильмов. О том, чтобы стать писателем, он и не думал.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omic Sans MS"/>
              </a:rPr>
              <a:t>   </a:t>
            </a:r>
            <a:r>
              <a:rPr b="1" lang="ru-RU" sz="1400" spc="-1" strike="noStrike">
                <a:solidFill>
                  <a:srgbClr val="002060"/>
                </a:solidFill>
                <a:latin typeface="Comic Sans MS"/>
              </a:rPr>
              <a:t>Подрастал сын и просил всё новых и новых сказок. И вот Носов стал сочинять для него забавные рассказы, которые мы так полюби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7"/>
          <p:cNvSpPr/>
          <p:nvPr/>
        </p:nvSpPr>
        <p:spPr>
          <a:xfrm>
            <a:off x="1224720" y="260280"/>
            <a:ext cx="58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Знакомство с творчеством Н.Нос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8" descr="image"/>
          <p:cNvPicPr/>
          <p:nvPr/>
        </p:nvPicPr>
        <p:blipFill>
          <a:blip r:embed="rId5"/>
          <a:stretch/>
        </p:blipFill>
        <p:spPr>
          <a:xfrm>
            <a:off x="7451640" y="4292640"/>
            <a:ext cx="107496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602360" y="333360"/>
            <a:ext cx="61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Чтение книги Н.Нос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«Приключения Незнайки и его друз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6" descr="SAM_1516.JPG"/>
          <p:cNvPicPr/>
          <p:nvPr/>
        </p:nvPicPr>
        <p:blipFill>
          <a:blip r:embed="rId1"/>
          <a:stretch/>
        </p:blipFill>
        <p:spPr>
          <a:xfrm>
            <a:off x="1584360" y="1413000"/>
            <a:ext cx="593892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058120" y="2097000"/>
            <a:ext cx="5208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Arial"/>
              </a:rPr>
              <a:t>Живёт в Цветочном город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Arial"/>
              </a:rPr>
              <a:t>Большую шляпу носит он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Arial"/>
              </a:rPr>
              <a:t>«Канареечные» брю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Arial"/>
              </a:rPr>
              <a:t>И рубашку с галсту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17440" y="151920"/>
            <a:ext cx="3738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130280" y="1828800"/>
            <a:ext cx="4251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4" descr="nezn_p"/>
          <p:cNvPicPr/>
          <p:nvPr/>
        </p:nvPicPr>
        <p:blipFill>
          <a:blip r:embed="rId1"/>
          <a:stretch/>
        </p:blipFill>
        <p:spPr>
          <a:xfrm>
            <a:off x="0" y="404640"/>
            <a:ext cx="3311640" cy="4967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3419640" y="836640"/>
            <a:ext cx="5113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- Приключения Незнай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Знают все на свете знай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Я эти стихи сам придумал. Я очень способный. Больше всего люблю небылицы. А что лучше, не знаю: шапка-невидимка или ковёр-самолёт? Говорят я всё делаю  выворот-нашиворот, то есть шиворот-навыворот. Но если я ошибусь, мои друзья меня поправ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4" descr="11"/>
          <p:cNvPicPr/>
          <p:nvPr/>
        </p:nvPicPr>
        <p:blipFill>
          <a:blip r:embed="rId1"/>
          <a:stretch/>
        </p:blipFill>
        <p:spPr>
          <a:xfrm>
            <a:off x="0" y="520560"/>
            <a:ext cx="4276800" cy="63374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6"/>
          <p:cNvSpPr/>
          <p:nvPr/>
        </p:nvSpPr>
        <p:spPr>
          <a:xfrm>
            <a:off x="4786560" y="2060640"/>
            <a:ext cx="304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3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А это мои друз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малыши-короты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519120" y="2142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539640" y="189000"/>
            <a:ext cx="7559640" cy="65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                                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Виктор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«Коротышки из Цветочного го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Comic Sans MS"/>
              <a:buAutoNum type="arabicPeriod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Comic Sans MS"/>
              </a:rPr>
              <a:t>Ответь на вопрос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Каков рост каждого малыша-коротышки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На какой улице жил Незнайка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Как малыши называли малышек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Как малышки называли малышей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В каком городе жила Снежинка и другие малышки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Comic Sans MS"/>
              <a:buAutoNum type="arabicPeriod" startAt="2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Comic Sans MS"/>
              </a:rPr>
              <a:t>Соедини описание героя книги и его им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Малышка, которая любила балы.                                                        Гунь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Он боялся лететь на воздушном шаре.                                                   Знай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Он дал Незнайке большую медную трубу.                                              Снежин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В его комнате книги лежали даже под кроватью.                                      Сиропчи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Он сочинил песню про кузнечика.                                                       Торопыж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Он вывихнул ногу.                                                                         Пончи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Он и о себе и о Тюбике говорил: «Мы – художники».                                Гвозди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Он сделал подзорную трубу, чтобы смотреть на Луну.                                Авось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Он был лучшим другом Незнайки.                                                       Незнай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Он придумал слово «мозготрясение».                                                   Гус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Он ходил в костюме, в котором не было ни одной пуговицы.                       Пуль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Он грыз сахар во время полёта на шаре.                                                Цвети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У него очень засорена речь.                                                               Стекляшки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Кто первым вернулся в Цветочный город после путешествия?                        Собака Буль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Comic Sans MS"/>
              <a:buAutoNum type="arabicPeriod" startAt="3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Comic Sans MS"/>
              </a:rPr>
              <a:t>С каким героем книги Н.Носова ты хотел бы подружиться? Почем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Comic Sans MS"/>
              <a:buAutoNum type="arabicPeriod" startAt="3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Comic Sans MS"/>
              <a:buAutoNum type="arabicPeriod" startAt="3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Comic Sans MS"/>
              </a:rPr>
              <a:t>Помоги Незнайке придумать рифмы к слова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кузнечик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печенье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шишка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1" lang="ru-RU" sz="1400" spc="-1" strike="noStrike">
                <a:solidFill>
                  <a:srgbClr val="9933ff"/>
                </a:solidFill>
                <a:latin typeface="Comic Sans MS"/>
              </a:rPr>
              <a:t>5. Нарисуй своего любимого героя из книги Н. Носова.</a:t>
            </a:r>
            <a:r>
              <a:rPr b="1" lang="ru-RU" sz="1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1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1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1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1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1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1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1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1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1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1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1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1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1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1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1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1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1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1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1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1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1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1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1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1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1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1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1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1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1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1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1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1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13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13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3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3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3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13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13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13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13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3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3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13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13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13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3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13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13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13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13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3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7:11:46Z</dcterms:created>
  <dc:creator>Наташа</dc:creator>
  <dc:description/>
  <dc:language>en-US</dc:language>
  <cp:lastModifiedBy>Людмила</cp:lastModifiedBy>
  <dcterms:modified xsi:type="dcterms:W3CDTF">2013-03-20T12:40:54Z</dcterms:modified>
  <cp:revision>38</cp:revision>
  <dc:subject/>
  <dc:title>Слайд 1</dc:title>
</cp:coreProperties>
</file>