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74B-40C4-4BC8-B0B9-332A0E54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1B8-C523-494F-8CB8-13012313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F5E-608A-48DA-96C7-FFDDE747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60A-E210-46CA-AAF8-D2D78F6E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69A-DD24-429A-A69C-5CDD2BD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DCC-0358-4709-9432-423D385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966B-FC96-4973-8DA7-2698B030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64F5-31EF-44C9-901A-236112AF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D070-3CBD-4B24-BFF0-E0CF426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CCC2-6968-420F-934A-BB414626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3C7-C392-4020-931A-47B4B38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561-29E3-48E2-B629-0F1059D6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BC85-71A0-40E9-B571-F64DCB3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98C-1183-4BE0-9D38-DB6A2C2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89E0-324E-4ED2-AADB-09A226C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FAB-A897-4ED9-9417-15C0C132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F33A-0A07-4E77-99A1-8D251880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12AB-8889-44CA-BE31-88ABACCF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4E36-78FB-4C46-90F1-984DD5E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6C70-0F49-482B-A574-81CA4BE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4133-DA19-43B5-942E-810C513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F156-3388-4B3E-AB80-29510ED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637-71E8-4A3C-9D2C-BEBE3B5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26FB-BDBC-4D7B-9B12-86058AE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04FB-4976-41D0-A8C9-3C51DA0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8D3E-64C4-48EE-90D9-327FE91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109F-C398-4091-90A4-AA24AE3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A984-4F29-4F93-8472-C3747C31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14C7-72AD-4236-AE32-ACEC8E25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F2B1-9516-4AB4-A163-B5271CEA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AB4-5E07-4799-B4E8-CFBBB60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A87-E1ED-4036-A00A-2E29249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E5F-C8D6-493C-A2FF-34D7885F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35A-51E2-4ACE-9960-7E6278D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8A2-69EA-4F4A-BEC1-9D0D5A8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66B-9A73-4E5B-A9A7-BB03114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21A-1524-471C-8BCC-E74D54925B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A81-B23B-4A80-9D1C-F212433A0AE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82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09F-A44D-414E-A5CA-2B65A71D37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ol3056_01"/>
          <p:cNvPicPr/>
          <p:nvPr/>
        </p:nvPicPr>
        <p:blipFill>
          <a:blip r:embed="rId1"/>
          <a:stretch/>
        </p:blipFill>
        <p:spPr>
          <a:xfrm>
            <a:off x="250920" y="404640"/>
            <a:ext cx="3644640" cy="4753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3924360" y="1052640"/>
            <a:ext cx="463536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ект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обучающиеся 3 класса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крутовская 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ководством Ильченко Л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3566520" y="630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5003640" y="1844640"/>
            <a:ext cx="28861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Незнайка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его друзья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25000060682"/>
          <p:cNvPicPr/>
          <p:nvPr/>
        </p:nvPicPr>
        <p:blipFill>
          <a:blip r:embed="rId1"/>
          <a:stretch/>
        </p:blipFill>
        <p:spPr>
          <a:xfrm>
            <a:off x="468360" y="1413000"/>
            <a:ext cx="2023920" cy="2984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341080" y="333360"/>
            <a:ext cx="437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гадывание кроссвор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 Незнайке и его друз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6" descr="SAM_1522.JPG"/>
          <p:cNvPicPr/>
          <p:nvPr/>
        </p:nvPicPr>
        <p:blipFill>
          <a:blip r:embed="rId2"/>
          <a:stretch/>
        </p:blipFill>
        <p:spPr>
          <a:xfrm>
            <a:off x="2735280" y="2168640"/>
            <a:ext cx="562932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851280" y="1268280"/>
            <a:ext cx="360360" cy="2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200"/>
                </a:solidFill>
                <a:latin typeface="Comic Sans MS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21164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57200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3236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29272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651640" y="12682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851280" y="155736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21164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57200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3236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492360" y="1557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77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313200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349236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3851280" y="184464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421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457200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93236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565164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529272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05092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241128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77164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313200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349236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3851280" y="213372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421164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457200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4932360" y="2133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205092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241128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277164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313200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8"/>
          <p:cNvSpPr/>
          <p:nvPr/>
        </p:nvSpPr>
        <p:spPr>
          <a:xfrm>
            <a:off x="3492360" y="2421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3851280" y="242100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241128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277164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3851280" y="2708280"/>
            <a:ext cx="36036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313200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349236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934920" y="333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еред вами неизвестные стихи-загадки Незна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о его друзьях-товарищ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5580000" y="2276640"/>
            <a:ext cx="3240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го такое пуз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то скушал два арбу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е знаю, трус 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озитор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кал на деревя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очё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кочил из люль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тор наш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ушал свой берети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отворец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руга рисовал портр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али мне: «Спасибо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8" descr="koz15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21812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0"/>
          <p:cNvSpPr/>
          <p:nvPr/>
        </p:nvSpPr>
        <p:spPr>
          <a:xfrm>
            <a:off x="2050920" y="2708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2112480" y="27338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611280" y="3357720"/>
            <a:ext cx="35211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выделенных клетках по вертик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6279840" y="18651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2411280" y="1844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92360" y="1268280"/>
            <a:ext cx="360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095640" y="155736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016000" y="184464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1655640" y="213372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23984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655640" y="242100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692360" y="270828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7"/>
          <p:cNvSpPr/>
          <p:nvPr/>
        </p:nvSpPr>
        <p:spPr>
          <a:xfrm>
            <a:off x="684360" y="378936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подстрелил кастрюль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 меткий 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55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74312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71640" y="18900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онкурс рисунков. Оформление вы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024_Гимн Незнайки и его друзей (М. Минков - Ю. Энтин).mp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200240"/>
            <a:ext cx="7956720" cy="5657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011240"/>
            <a:ext cx="7956720" cy="5846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0" y="1003320"/>
            <a:ext cx="8209080" cy="585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0" y="1015920"/>
            <a:ext cx="8209080" cy="5842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0" y="1052640"/>
            <a:ext cx="8064360" cy="5805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"/>
          <p:cNvPicPr/>
          <p:nvPr/>
        </p:nvPicPr>
        <p:blipFill>
          <a:blip r:embed="rId7"/>
          <a:stretch/>
        </p:blipFill>
        <p:spPr>
          <a:xfrm>
            <a:off x="2627280" y="692280"/>
            <a:ext cx="443232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4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2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0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8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6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43320" y="3714480"/>
            <a:ext cx="3238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959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54920" y="297000"/>
            <a:ext cx="6462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здан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правил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эскиза игрового 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ка и изготовление иллюстратив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ительное оформлен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об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F:\Незнайка\школа\CIMG0268.JPG"/>
          <p:cNvPicPr/>
          <p:nvPr/>
        </p:nvPicPr>
        <p:blipFill>
          <a:blip r:embed="rId1"/>
          <a:stretch/>
        </p:blipFill>
        <p:spPr>
          <a:xfrm>
            <a:off x="5040360" y="389736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CIMG0261"/>
          <p:cNvPicPr/>
          <p:nvPr/>
        </p:nvPicPr>
        <p:blipFill>
          <a:blip r:embed="rId2"/>
          <a:stretch/>
        </p:blipFill>
        <p:spPr>
          <a:xfrm>
            <a:off x="1332000" y="2924280"/>
            <a:ext cx="3171600" cy="23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08000" y="152280"/>
            <a:ext cx="5832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СТОЛЬНАЯ ИГРА-ПУТЕШЕСТВ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ЕЗНАЙКА И ЕГО ДРУЗЬ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назначена для детей 6 – 8 л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личество участников игры: 2 – 4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лектация:      Игровое пол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ила иг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шки игрок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гральный куби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словные обознач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Путешествуй вместе с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ышами-коротышк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Кружок «Ответь на вопрос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ссворда и двигайся вперёд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Пропусти хо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Кружок «Шаг вперёд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3203640" y="3645000"/>
            <a:ext cx="395280" cy="323640"/>
          </a:xfrm>
          <a:prstGeom prst="ellipse">
            <a:avLst/>
          </a:prstGeom>
          <a:solidFill>
            <a:srgbClr val="70f6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3203640" y="4545000"/>
            <a:ext cx="395280" cy="324000"/>
          </a:xfrm>
          <a:prstGeom prst="ellipse">
            <a:avLst/>
          </a:prstGeom>
          <a:solidFill>
            <a:srgbClr val="6f93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3203640" y="5337000"/>
            <a:ext cx="39528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203640" y="5842080"/>
            <a:ext cx="395280" cy="32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871640" y="297000"/>
            <a:ext cx="5867280" cy="68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 или разыграй с помощью кубика фишки и право первого х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фишки на стартовый кру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череди кидайте кубик и передвигайте фишки на столько кружков, сколько выпадает на верхней грани куб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я на кружки зелёного цвета, ты должен перемещаться вперёд, куда указывает стрелка, на кружок с зелёным обо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в на кружок красного цвета, ты должен пропустить 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ждает тот, кто первым пройдёт весь маршрут и вернётся до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4" descr="P1000100"/>
          <p:cNvPicPr/>
          <p:nvPr/>
        </p:nvPicPr>
        <p:blipFill>
          <a:blip r:embed="rId1"/>
          <a:stretch/>
        </p:blipFill>
        <p:spPr>
          <a:xfrm>
            <a:off x="4211640" y="3191040"/>
            <a:ext cx="4427640" cy="3404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P1000065"/>
          <p:cNvPicPr/>
          <p:nvPr/>
        </p:nvPicPr>
        <p:blipFill>
          <a:blip r:embed="rId2"/>
          <a:stretch/>
        </p:blipFill>
        <p:spPr>
          <a:xfrm>
            <a:off x="395280" y="728640"/>
            <a:ext cx="3708360" cy="2865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5041800" y="17733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проб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1727280" y="836640"/>
            <a:ext cx="61704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Критерии успе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гнут конечный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создана активная команда уча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проекта получили удовольствие от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 проекта можно использовать во внеурочной деятельности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7" descr="SNC11333"/>
          <p:cNvPicPr/>
          <p:nvPr/>
        </p:nvPicPr>
        <p:blipFill>
          <a:blip r:embed="rId1"/>
          <a:stretch/>
        </p:blipFill>
        <p:spPr>
          <a:xfrm>
            <a:off x="6443640" y="3789360"/>
            <a:ext cx="2265480" cy="2924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SNC11334"/>
          <p:cNvPicPr/>
          <p:nvPr/>
        </p:nvPicPr>
        <p:blipFill>
          <a:blip r:embed="rId2"/>
          <a:stretch/>
        </p:blipFill>
        <p:spPr>
          <a:xfrm>
            <a:off x="5364000" y="584280"/>
            <a:ext cx="2322720" cy="2923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9"/>
          <p:cNvSpPr/>
          <p:nvPr/>
        </p:nvSpPr>
        <p:spPr>
          <a:xfrm>
            <a:off x="1241280" y="2080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резент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8" descr="SAM_1523.JPG"/>
          <p:cNvPicPr/>
          <p:nvPr/>
        </p:nvPicPr>
        <p:blipFill>
          <a:blip r:embed="rId3"/>
          <a:stretch/>
        </p:blipFill>
        <p:spPr>
          <a:xfrm>
            <a:off x="719280" y="195264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50760" y="861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03280" y="441360"/>
            <a:ext cx="7991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порт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«Незнайка и его друз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накомить обучающихся с принципом комплексного подхода в создании творческого продукта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влечь каждого обучающегося в активный творческий проце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ь представлять свой труд в виде през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ывать интерес к художественной литер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тие творчества, способностей к изобретательству, эстетического вкуса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взаимодействия и взаимопомощи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работка и изготовление предполагаемого продукта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1280" y="476280"/>
            <a:ext cx="7848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о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ур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есроч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ворческий, практико-ориент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ый продукт проект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- выставка рисун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астоль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10536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_1000026532"/>
          <p:cNvPicPr/>
          <p:nvPr/>
        </p:nvPicPr>
        <p:blipFill>
          <a:blip r:embed="rId2"/>
          <a:stretch/>
        </p:blipFill>
        <p:spPr>
          <a:xfrm>
            <a:off x="3708360" y="5084640"/>
            <a:ext cx="1065240" cy="14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Безымянный"/>
          <p:cNvPicPr/>
          <p:nvPr/>
        </p:nvPicPr>
        <p:blipFill>
          <a:blip r:embed="rId3"/>
          <a:stretch/>
        </p:blipFill>
        <p:spPr>
          <a:xfrm>
            <a:off x="6227640" y="5084640"/>
            <a:ext cx="105732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846"/>
          <p:cNvPicPr/>
          <p:nvPr/>
        </p:nvPicPr>
        <p:blipFill>
          <a:blip r:embed="rId4"/>
          <a:stretch/>
        </p:blipFill>
        <p:spPr>
          <a:xfrm>
            <a:off x="5003640" y="4292640"/>
            <a:ext cx="1047960" cy="144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4"/>
          <p:cNvSpPr/>
          <p:nvPr/>
        </p:nvSpPr>
        <p:spPr>
          <a:xfrm>
            <a:off x="4840200" y="861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4356000" y="646200"/>
            <a:ext cx="403236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Николай Николаевич Носов роди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в 1908 году в Киеве, в семье актё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После окончания школы он учил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Москве, в институте кинематогра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Он работал режиссёром, поставил немало мультипликационных, научных и учебных фильмов. О том, чтобы стать писателем, он и не думал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Подрастал сын и просил всё новых и новых сказок. И вот Носов стал сочинять для него забавные рассказы, которые мы так полюб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1224720" y="2602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Знакомство с творчеством Н.Но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8" descr="image"/>
          <p:cNvPicPr/>
          <p:nvPr/>
        </p:nvPicPr>
        <p:blipFill>
          <a:blip r:embed="rId5"/>
          <a:stretch/>
        </p:blipFill>
        <p:spPr>
          <a:xfrm>
            <a:off x="7451640" y="4292640"/>
            <a:ext cx="10749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602360" y="33336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Чтение книги Н.Но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«Приключения Незнайки и его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6" descr="SAM_1516.JPG"/>
          <p:cNvPicPr/>
          <p:nvPr/>
        </p:nvPicPr>
        <p:blipFill>
          <a:blip r:embed="rId1"/>
          <a:stretch/>
        </p:blipFill>
        <p:spPr>
          <a:xfrm>
            <a:off x="1584360" y="1413000"/>
            <a:ext cx="5938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058120" y="2097000"/>
            <a:ext cx="520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Живёт в Цветочном горо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Большую шляпу носит 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«Канареечные»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И рубашку с галсту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17440" y="151920"/>
            <a:ext cx="3738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30280" y="1828800"/>
            <a:ext cx="4251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nezn_p"/>
          <p:cNvPicPr/>
          <p:nvPr/>
        </p:nvPicPr>
        <p:blipFill>
          <a:blip r:embed="rId1"/>
          <a:stretch/>
        </p:blipFill>
        <p:spPr>
          <a:xfrm>
            <a:off x="0" y="404640"/>
            <a:ext cx="3311640" cy="4967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3419640" y="836640"/>
            <a:ext cx="51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- Приключения Незна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Знают все на свете зн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Я эти стихи сам придумал. Я очень способный. Больше всего люблю небылицы. А что лучше, не знаю: шапка-невидимка или ковёр-самолёт? Говорят я всё делаю  выворот-нашиворот, то есть шиворот-навыворот. Но если я ошибусь, мои друзья меня поправ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1"/>
          <p:cNvPicPr/>
          <p:nvPr/>
        </p:nvPicPr>
        <p:blipFill>
          <a:blip r:embed="rId1"/>
          <a:stretch/>
        </p:blipFill>
        <p:spPr>
          <a:xfrm>
            <a:off x="0" y="520560"/>
            <a:ext cx="4276800" cy="63374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4786560" y="2060640"/>
            <a:ext cx="30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 это мои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малыши-короты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19120" y="214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9640" y="189000"/>
            <a:ext cx="755964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Викто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«Коротышки из Цветочного го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Ответь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ов рост каждого малыша-коротыш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На какой улице жил Незнай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 малыши называли малыше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ак малышки называли малыше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В каком городе жила Снежинка и другие малыш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2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Соедини описание героя книги и его им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Малышка, которая любила балы.                                                        Гун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боялся лететь на воздушном шаре.                                                   Знай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дал Незнайке большую медную трубу.                                              Снежи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В его комнате книги лежали даже под кроватью.                                      Сиропч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сочинил песню про кузнечика.                                                       Торопыж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вывихнул ногу.                                                                         Понч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и о себе и о Тюбике говорил: «Мы – художники».                                Гвозд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сделал подзорную трубу, чтобы смотреть на Луну.                                Авос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был лучшим другом Незнайки.                                                       Незнай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придумал слово «мозготрясение».                                                   Гус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ходил в костюме, в котором не было ни одной пуговицы.                       П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Он грыз сахар во время полёта на шаре.                                                Цвет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У него очень засорена речь.                                                               Стекляшк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Кто первым вернулся в Цветочный город после путешествия?                        Собака Б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С каким героем книги Н.Носова ты хотел бы подружиться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Помоги Незнайке придумать рифмы к слов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узнечи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ечень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шишк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Comic Sans MS"/>
              </a:rPr>
              <a:t>5. Нарисуй своего любимого героя из книги Н. Носова.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7:11:46Z</dcterms:created>
  <dc:creator>Наташа</dc:creator>
  <dc:description/>
  <dc:language>en-US</dc:language>
  <cp:lastModifiedBy>Людмила</cp:lastModifiedBy>
  <dcterms:modified xsi:type="dcterms:W3CDTF">2013-03-20T12:40:54Z</dcterms:modified>
  <cp:revision>38</cp:revision>
  <dc:subject/>
  <dc:title>Слайд 1</dc:title>
</cp:coreProperties>
</file>