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608-114A-4C88-A305-C5A24F11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F41-E054-45CC-A524-3095226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4ED-1DA3-4E97-B034-97190D0A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9AD-EB84-43AE-B0A8-B92FB7AE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EF4-98BF-4E0A-AFB4-071A4B4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2E6-6F3B-4A74-9223-0C74E2D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F59-54CC-472F-A14A-F00DE49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A46-240D-4903-8732-F2ABA22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49A-763F-4FC9-A13F-D1A98194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4D9-6787-42D2-B0B9-AE93E3D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D9E-8412-4365-96ED-24753E7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48C-019E-4A17-A329-D28507A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F5A-5001-4EA8-ACF2-C6C03FD55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dou17aistenok.ru/images/1a117a674452.jpg"/>
          <p:cNvPicPr/>
          <p:nvPr/>
        </p:nvPicPr>
        <p:blipFill>
          <a:blip r:embed="rId1"/>
          <a:stretch/>
        </p:blipFill>
        <p:spPr>
          <a:xfrm>
            <a:off x="1857240" y="0"/>
            <a:ext cx="4865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greenmama.ru/dn_images/02/60/04/48/127080472514.gif"/>
          <p:cNvPicPr/>
          <p:nvPr/>
        </p:nvPicPr>
        <p:blipFill>
          <a:blip r:embed="rId1"/>
          <a:stretch/>
        </p:blipFill>
        <p:spPr>
          <a:xfrm>
            <a:off x="277920" y="571680"/>
            <a:ext cx="5268960" cy="5929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572080" y="24289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ds55.centerstart.ru/sites/ds55.centerstart.ru/files/color/e3417dbbdf24t.jpg"/>
          <p:cNvPicPr/>
          <p:nvPr/>
        </p:nvPicPr>
        <p:blipFill>
          <a:blip r:embed="rId1"/>
          <a:stretch/>
        </p:blipFill>
        <p:spPr>
          <a:xfrm>
            <a:off x="165240" y="214200"/>
            <a:ext cx="5184720" cy="6643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5072040" y="2571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чером ужи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freelance.ru/img/portfolio/pics/00/02/11/135576.jpg"/>
          <p:cNvPicPr/>
          <p:nvPr/>
        </p:nvPicPr>
        <p:blipFill>
          <a:blip r:embed="rId1"/>
          <a:stretch/>
        </p:blipFill>
        <p:spPr>
          <a:xfrm>
            <a:off x="-19080" y="1285920"/>
            <a:ext cx="9163080" cy="5572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Гуляем, родителей поджид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-fotki.yandex.ru/get/3106/mistina.d/0_1c23a_c3233727_M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чер д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691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643280" y="2714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Ложимся сп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2011320" y="2766960"/>
            <a:ext cx="5114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28440" y="1071720"/>
            <a:ext cx="9115560" cy="5808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Утром просыпае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714920" y="2928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Умывае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-15840"/>
            <a:ext cx="4876920" cy="6873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929120" y="26431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елаем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711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714920" y="26431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автрак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Рисуем, лепим, считае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Гу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42920" y="2142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нем обед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stihi.ru/pics/2012/06/23/3594.jpg"/>
          <p:cNvPicPr/>
          <p:nvPr/>
        </p:nvPicPr>
        <p:blipFill>
          <a:blip r:embed="rId1"/>
          <a:stretch/>
        </p:blipFill>
        <p:spPr>
          <a:xfrm>
            <a:off x="71280" y="9288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715000" y="2428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Сп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23:58Z</dcterms:created>
  <dc:creator>Admin</dc:creator>
  <dc:description/>
  <dc:language>en-US</dc:language>
  <cp:lastModifiedBy>Admin</cp:lastModifiedBy>
  <dcterms:modified xsi:type="dcterms:W3CDTF">2013-03-20T08:55:03Z</dcterms:modified>
  <cp:revision>6</cp:revision>
  <dc:subject/>
  <dc:title>Слайд 1</dc:title>
</cp:coreProperties>
</file>