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1A3-390A-4556-8773-0619F97F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CCD-8F3C-43F8-98D7-3E845075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4EE-E547-480E-8C57-5E6CF157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FAF-F319-44AD-89E7-013C6310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F55-CCAB-4503-8E09-C81C1B9B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78A-06D1-4BF0-AFF5-C05C91F4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01C-57EB-483E-AC96-1487FF37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842-EEA7-4562-9B4D-7E111AD8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EBF-3C22-4F11-B492-9B2C96D3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467-5A64-4481-87D1-CA0A6EA5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C56-2915-4FE8-A0AF-30F5EEDF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C96-DA11-49D5-AB69-3105E089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85B1-B6F0-42AE-93C7-99D4CDAC12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dou17aistenok.ru/images/1a117a674452.jpg"/>
          <p:cNvPicPr/>
          <p:nvPr/>
        </p:nvPicPr>
        <p:blipFill>
          <a:blip r:embed="rId1"/>
          <a:stretch/>
        </p:blipFill>
        <p:spPr>
          <a:xfrm>
            <a:off x="1857240" y="0"/>
            <a:ext cx="48657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greenmama.ru/dn_images/02/60/04/48/127080472514.gif"/>
          <p:cNvPicPr/>
          <p:nvPr/>
        </p:nvPicPr>
        <p:blipFill>
          <a:blip r:embed="rId1"/>
          <a:stretch/>
        </p:blipFill>
        <p:spPr>
          <a:xfrm>
            <a:off x="277920" y="571680"/>
            <a:ext cx="5268960" cy="5929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5572080" y="24289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Игр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ds55.centerstart.ru/sites/ds55.centerstart.ru/files/color/e3417dbbdf24t.jpg"/>
          <p:cNvPicPr/>
          <p:nvPr/>
        </p:nvPicPr>
        <p:blipFill>
          <a:blip r:embed="rId1"/>
          <a:stretch/>
        </p:blipFill>
        <p:spPr>
          <a:xfrm>
            <a:off x="165240" y="214200"/>
            <a:ext cx="5184720" cy="6643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5072040" y="257184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ечером ужин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freelance.ru/img/portfolio/pics/00/02/11/135576.jpg"/>
          <p:cNvPicPr/>
          <p:nvPr/>
        </p:nvPicPr>
        <p:blipFill>
          <a:blip r:embed="rId1"/>
          <a:stretch/>
        </p:blipFill>
        <p:spPr>
          <a:xfrm>
            <a:off x="-19080" y="1285920"/>
            <a:ext cx="9163080" cy="5572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Гуляем, родителей поджид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mg-fotki.yandex.ru/get/3106/mistina.d/0_1c23a_c3233727_M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ечер до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0"/>
            <a:ext cx="46911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4643280" y="2714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Ложимся сп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1" descr=""/>
          <p:cNvPicPr/>
          <p:nvPr/>
        </p:nvPicPr>
        <p:blipFill>
          <a:blip r:embed="rId1"/>
          <a:stretch/>
        </p:blipFill>
        <p:spPr>
          <a:xfrm>
            <a:off x="2011320" y="2766960"/>
            <a:ext cx="51148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28440" y="1071720"/>
            <a:ext cx="9115560" cy="5808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0" y="35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Утром просыпае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4714920" y="29289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Умывае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-15840"/>
            <a:ext cx="4876920" cy="6873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929120" y="26431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Делаем за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0"/>
            <a:ext cx="4711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714920" y="264312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Завтрак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Рисуем, лепим, считае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Гу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Распорядок дня: памятка малышу (стихи, картинки)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142920" y="21420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Днем обед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stihi.ru/pics/2012/06/23/3594.jpg"/>
          <p:cNvPicPr/>
          <p:nvPr/>
        </p:nvPicPr>
        <p:blipFill>
          <a:blip r:embed="rId1"/>
          <a:stretch/>
        </p:blipFill>
        <p:spPr>
          <a:xfrm>
            <a:off x="71280" y="928800"/>
            <a:ext cx="5619960" cy="5619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715000" y="2428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Сп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23:58Z</dcterms:created>
  <dc:creator>Admin</dc:creator>
  <dc:description/>
  <dc:language>en-US</dc:language>
  <cp:lastModifiedBy>Admin</cp:lastModifiedBy>
  <dcterms:modified xsi:type="dcterms:W3CDTF">2013-03-20T08:55:03Z</dcterms:modified>
  <cp:revision>6</cp:revision>
  <dc:subject/>
  <dc:title>Слайд 1</dc:title>
</cp:coreProperties>
</file>