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201-07B0-4594-97D1-4176B407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599-1A28-44A9-90A1-8740AEA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617-7D32-4E6D-B369-8567BD67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759-9F8A-4AA4-BBCF-E1E5B256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B7AF-10CB-46AF-85B8-A5670DDE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39B3-E907-4764-BCB4-F88A2A67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793C-65DF-4BB1-9802-43726A69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0CB3-E0FF-4517-A61F-F2062FE0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F312-1037-4B71-8938-2E435997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3799-84E7-4B8D-9BF8-167A2A33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461A-157B-4112-9E0C-AC54FBB5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3F8-AA42-42D0-B849-F35AA698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C23F-FC92-480E-8412-59867929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0AFA-0ABF-4496-B5B7-17AA232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961C-720D-42F3-B093-CE88BBF6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B1B2-AB52-408C-B055-0DB44AB9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A603-9BCD-4193-A056-42CD02E5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25ED6-344C-4258-8309-D5DAFD5A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27C9-B6AB-44FB-9E92-A1474D9C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63BBB-E160-47B8-A5F3-1C4F72B3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187FF-229D-4AE6-A9E0-093C66AF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04E5-30B8-4AB6-BA80-93A4A4BD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D93-5290-4087-ADCE-BA1A3C8C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989F-5DC7-4507-B6FF-B3B42FB0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5EBE-8A3B-4520-BB7D-78C4C79A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B6F0-2DDD-403F-B985-BC73733E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ADA7-015C-4266-99D7-CB396A0F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14F8-410E-43CF-861B-667CCBC6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DD5A-081C-4C7A-872C-F8D5BB67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10FD-AB75-479C-8F53-48B3BE56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10C0-0339-4766-9DF2-3ABA5B15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A316-4A7A-4D8C-A267-D71DE55D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30E0B-738C-4208-ACBA-91ACC4DB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6CE-9A4E-4BD5-9303-777CC801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9B6B7-7BF7-4C5C-B8E0-F7BAEDC7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BFFF3-050A-4D45-9DB9-1F69E2C4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1534-C378-4674-A8E3-2B93D62A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8D4F0-00DD-43A4-86D5-E898B8EA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0D67-4FEE-4B48-B801-FD31C993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5E440-F3D7-4062-BCC4-271EC41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067C-8145-4799-8B9D-0EBE10F4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3379-FA44-4A46-BE30-15249A8D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CB6F2-3ABF-4367-9B9C-8F8F291B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A485F-5A0D-43B3-964D-EC0438D4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2D5-021A-4B1E-B953-4C8804F7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E3B99-B304-4080-9F75-9C3F5D6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FF2F-8404-41C9-8C82-F92D31EB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E8297-16A4-4F5A-97D0-9B15973C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36BCF-0F95-4FE0-852F-AC1CAB5C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46FC5-63FA-4F36-B964-8D1193B6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11D5-239A-4272-AB7A-657A2A82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54E25-76EE-4D66-9E41-0385CE8E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CEBFF-4423-4643-BF84-8658C3E0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AFF91-8570-4457-8960-72B01304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DB71C-A1B7-488D-87B3-5FC44DCC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3BB-FEB6-4D07-8A6A-6682F898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7A6E4-A4B8-45C4-8BD4-EDD260E9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005-FAFD-491B-9D3D-5E864243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A31-B9E4-4EFE-B979-326C668B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E0E-D409-4F8D-86F7-5602F806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CAB0-8412-45DF-8605-D84AAA8BCD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DB7C-1884-430D-A932-AF457D952F5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2F46-A834-44CD-AC93-428511AF5BD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317F-E942-4D31-8123-C1F82BB6B6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B2CD-16DD-449B-8C7D-9BBA12D073A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39.radikal.ru/i083/0903/f4/d40dba347ab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arradio.ru/forum/files/_____2_10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014.radikal.ru/0803/3f/3700cca625c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zn.rodgor.ru/nafisha/pictures/clubevent/259/konstantinovo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28600"/>
            <a:ext cx="7580160" cy="91440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b95c00"/>
                </a:solidFill>
                <a:latin typeface="Verdana"/>
              </a:rPr>
              <a:t>Тема Родины в стихах Сергея Есенин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C:\Users\user\Desktop\луч света.jpeg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Никакая родина друг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Не вольет мне в грудь мою теплынь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4 из 20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бы забоченилис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и всех-то п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3" descr="Картинка 12 из 20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5" descr="33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685800" y="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533520" y="6858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оломенская грусть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33520" y="49525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Край ты мой заброшенный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Край ты мой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пустырь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5" descr="констант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562720" y="685800"/>
            <a:ext cx="3581280" cy="601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Потонула деревня в ухабинах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Заслонили избенки ле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Только видно, на кочках и впадинах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Как синеют кругом небе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**   **     **   **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Но люблю тебя, родина кроткая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А за что – разгадать не могу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зима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55555555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914400" y="304920"/>
            <a:ext cx="79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й любимый! Сердцу с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ирды солнца в водах ло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хотел бы зате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зеленях твоих стозвонны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3505320" cy="586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«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Отговорила роща золотая», «Письмо матери», «Над окошком месяц. Под окошком ветер...», «Сыпь, тальянка, звонко сыпь, тальянка, смело...», «Клен ты мой опавший, клен заледенелый...»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-  Почему народ так любит стихи, ставшие песням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7" descr="i?id=142129521&amp;tov=4"/>
          <p:cNvPicPr/>
          <p:nvPr/>
        </p:nvPicPr>
        <p:blipFill>
          <a:blip r:embed="rId1"/>
          <a:stretch/>
        </p:blipFill>
        <p:spPr>
          <a:xfrm>
            <a:off x="36576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одна мне помощь и отра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одна мне несказанный све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9" descr="esenin014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Поэт наделен божественным даром слышать «песни дождей и черемух», слышать. Как «плачут вербы» и «золотеющая осень... листвою плачет на песок», чувствовать сердцем, «Что яблоне тоже больно/Терять своих листьев медь»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6666666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58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685800" y="7621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0" y="0"/>
            <a:ext cx="4419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крикнет рать свят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инь ты Русь, живи в раю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скажу: «Не надо р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йте Родину мо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0552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Я буду воспевать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сем существом в поэте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Шестую часть земли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 названьем кратким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усь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”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Есени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15" descr="4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3760" y="45720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За 30 лет, отпущенных ему на земле, Есенин успел так много, словно прожил огромную жизнь.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8" descr="6668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ой ты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Русь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моя родная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…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5" descr="Картинка 8 из 203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57200"/>
            <a:ext cx="728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 Есениных в селе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онстантинов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Картинка 1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5720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0880" y="3049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И над кажд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c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трокой без кон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Отражает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режняя уда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Забияки и сорванца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7" descr="Картинка 20 из 3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397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 Русь – малиновое поле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 синь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упавшая в реку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…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5" descr="Картинка 17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943600" y="304920"/>
            <a:ext cx="3200400" cy="624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сь мо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ревянная Русь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один тв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вец и глашата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4" descr="555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257440" y="76212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А в сердце свет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Ру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Картинка 2 из 3"/>
          <p:cNvPicPr/>
          <p:nvPr/>
        </p:nvPicPr>
        <p:blipFill>
          <a:blip r:embed="rId1"/>
          <a:stretch/>
        </p:blipFill>
        <p:spPr>
          <a:xfrm>
            <a:off x="762120" y="533520"/>
            <a:ext cx="4495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0T18:23:2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