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C53-6451-4BB9-84F5-F350B6BA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0CC-4AAC-4B76-B1B8-FE131F4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006-0814-418E-996E-35C09BBC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FBC-30D5-4132-9358-B51B9112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9144-8A85-4488-906A-E5BDE0B5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312-3C35-465D-B7E0-8B84100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6CC-ECEA-47A2-99A8-E01D3C97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FEB-A334-460F-91DC-BA0D6E31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381-A443-4D1F-BC4F-7A0F245E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6324-7D04-4976-A871-B5F26261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69B6-4F74-47A6-94C2-31CF39B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B6-F856-4860-AF95-BCF1356F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C7F5-C998-4BA9-BFD9-C8C88D2A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996C-58DD-4C6A-9C03-532083A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2B73-469D-4778-953C-5D68B18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F31D-A01D-483F-8DB7-C1C6DF49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032-BAA5-44DE-8B8A-B7493546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1D2C-8790-434E-9F24-2C3AC9C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4153-58F1-494D-9F03-43EF2050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35C7-5C4A-4C7F-B603-6AF0289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83AA-6FA0-45BB-A0A0-9AB64194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70F9-DEEF-41BD-8620-3E5BB103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BD0-2A82-4231-8477-01A3075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D023-3B1A-46E9-B6F2-18588AA9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44A5-87E6-4D19-B222-720B28B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0C51-83D0-4413-B604-8CA71B9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3C20-7F07-4BC5-B03D-3A471EB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EC3D-5CB3-4544-A8AD-8057594E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4C4E-98C9-4A91-AF8A-C83CA6C6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C954-FDDA-4211-875A-C05D3959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E822-AD2A-40FA-9151-0A10994A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4FF2-8ACD-4085-9D3B-C9DB5FB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D04CF-C647-478D-820C-AC8DB765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2EA-7C95-42F5-B988-AADE4E2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FC8A-D4FB-4316-9B54-4DA0AE04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2B98-A8FD-4B0F-B43F-970A9008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A178-9F8C-4241-B3E4-F47927B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4E8F-2999-49E2-89D4-2D80CD1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95333-28B5-4A8D-9DF6-D9AE659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9066-E8D5-4CF1-AAFE-B419DF9D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E603-833F-43DE-9847-9D750E7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E6F6-9C25-4166-9958-43D99B43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B3C76-D64F-49F1-A968-8566C88E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8D08-0576-496B-9312-4036FAE5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76B-0818-4AD1-8067-820A251A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B6B0-9D6A-4576-A266-F47B481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8667D-4777-46F7-B32F-D886400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0BA9-7D4E-42D8-981E-00D3ACA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E698-EDB4-49D8-885B-60ACFF6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B02C-7D96-4B22-B28B-22770C0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3BAF-9541-429A-B888-712D993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BD965-041C-4DCC-8CFF-800EE29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C6F5-569C-4D4E-9E47-CD0C919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ACF4-8CE4-4FE6-AD40-BEADA410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52C4-38F5-44E0-9601-BBC8502D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FAE-3843-4032-97AF-DDB3090C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C694-A61A-4F44-9130-417FD411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2E3-29CE-4AF1-8D13-E6AC0F0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C03-1998-4E95-9EB3-887FD48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0E2-753E-4448-B3C2-980D9EE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AB14-D9DD-4E04-B90A-6311E8BA6D9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F8D-B90A-4221-9C0A-1A3E058FC4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AE1-FC98-4879-AD28-E7059656F8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6DF-F5BC-4826-AC5D-4DC93703ED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A27-C4E1-441E-BDB7-1A445BF40D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39.radikal.ru/i083/0903/f4/d40dba347ab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rradio.ru/forum/files/_____2_1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14.radikal.ru/0803/3f/3700cca625c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zn.rodgor.ru/nafisha/pictures/clubevent/259/konstantinov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28600"/>
            <a:ext cx="7580160" cy="9144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b95c00"/>
                </a:solidFill>
                <a:latin typeface="Verdana"/>
              </a:rPr>
              <a:t>Тема Родины в стихах Сергея 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user\Desktop\луч света.jpeg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икакая родина друг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е вольет мне в грудь мою теплынь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4 из 20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бы забоченилис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и всех-то п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3" descr="Картинка 12 из 20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5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685800" y="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685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ломенская груст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 заброшенны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пустырь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конст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62720" y="685800"/>
            <a:ext cx="3581280" cy="601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Потонула деревня в ухаб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Заслонили избенки л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Только видно, на кочках и впад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Как синеют кругом неб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**   **     **   **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Но люблю тебя, родина кротка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А за что – разгадать не могу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зима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55555555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914400" y="30492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ирды солнца в водах ло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тел бы зате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зеленях твоих стозвонны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350532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говорила роща золотая», «Письмо матери», «Над окошком месяц. Под окошком ветер...», «Сыпь, тальянка, звонко сыпь, тальянка, смело...», «Клен ты мой опавший, клен заледенелый...»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-  Почему народ так любит стихи, ставшие песня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7" descr="i?id=142129521&amp;tov=4"/>
          <p:cNvPicPr/>
          <p:nvPr/>
        </p:nvPicPr>
        <p:blipFill>
          <a:blip r:embed="rId1"/>
          <a:stretch/>
        </p:blipFill>
        <p:spPr>
          <a:xfrm>
            <a:off x="36576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помощь и отра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несказанный св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9" descr="esenin014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Поэт наделен божественным даром слышать «песни дождей и черемух», слышать. Как «плачут вербы» и «золотеющая осень... листвою плачет на песок», чувствовать сердцем, «Что яблоне тоже больно/Терять своих листьев медь»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6666666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5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685800" y="7621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0"/>
            <a:ext cx="4419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крикнет рать св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инь ты Русь, живи в р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скажу: «Не надо 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Родину мо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055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Я буду воспевать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сем существом в поэт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Шестую часть земли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 названьем кратким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усь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”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Есени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15" descr="4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За 30 лет, отпущенных ему на земле, Есенин успел так много, словно прожил огромную жизнь.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8" descr="6668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ой ты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Рус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моя родная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Картинка 8 из 20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57200"/>
            <a:ext cx="728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 Есениных в се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нстантино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Картинка 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5720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0880" y="304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И над ка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c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трокой без кон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Отражает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режняя уда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Забияки и сорванца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7" descr="Картинка 20 из 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397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 Русь – малиновое по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 син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упавшая в реку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Картинка 17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943600" y="304920"/>
            <a:ext cx="3200400" cy="62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ь мо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янная Русь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один тв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вец и глашата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555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57440" y="762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А в сердце свет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Картинка 2 из 3"/>
          <p:cNvPicPr/>
          <p:nvPr/>
        </p:nvPicPr>
        <p:blipFill>
          <a:blip r:embed="rId1"/>
          <a:stretch/>
        </p:blipFill>
        <p:spPr>
          <a:xfrm>
            <a:off x="762120" y="5335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18:23:2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