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3108-6449-44F8-B254-6EC436D2E2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2E15-E93A-413D-9B1C-E0E498392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6A5F-232B-48E7-9B15-2C4435583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5116-FE8C-4EB3-9DD2-DBD26FB77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2E9-C1FD-40E7-8BF8-8F60687B5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703-48E9-458B-98A9-6BC04247B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177-6813-4E09-A377-F67C29470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0868-5D2C-4BE6-9C62-45795C2F5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A94-4763-4A15-8DB0-B643D7A32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0E1D-4CA2-4B3E-A053-E48CF9D7B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3389-FE85-4BF2-9548-254CCEE6E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245-5BB1-4248-8729-0385B0AE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0C6-1EB5-4E11-BD39-B27143D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7CA-9EE9-41A2-B7A7-600FFD91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65F-E0EA-4823-86EE-D38C21CB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294F-3A7A-43B0-9858-65C8F3BE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CB8-99C1-44F6-9F56-4EC6237B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3331-C26D-49E2-98E5-2FDFC36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5F4-5159-4BE9-83F6-2E94EB6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59C6-D7FA-4F19-844C-43182D69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7D8-44DB-4B3E-A9D3-E653CDA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DCDC-AAC8-4723-9F7D-6F1794ED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444-6ECB-4E69-AEA3-CF60163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A9F7-ACE5-4C87-946A-6386A47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B0D3-63DB-4AF6-BA47-9B29AAC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2CBB-E876-4728-806F-A0827ABD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1A04-619E-4549-AACC-A513749F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360-414B-404D-A416-FE9E3E31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B376-8DBF-4388-AF5C-2CFE0EBA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FEF4-4D86-461D-B7FA-92EED90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9528-4A8C-47D9-8ED1-9B873BBD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DF88-FAF2-4E44-BC64-C72D6119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253D-B757-4D02-A9EC-7B6877A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B6D-2A30-417E-92E1-9212E232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9A73-7B4B-47A2-87EE-F9A8B1A5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3D32-E128-4B61-B728-80869FD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B798-5D3F-4ECB-B9E6-3950767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1758-0DA7-4F06-B2E4-23B3680C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CAC1-5168-4BBC-A10A-307EAC81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2A97-CA18-4E4D-9FB8-D87D4EED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C572-F80B-48D7-95D6-5A5AB5A5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BCCD-C414-47C2-ACC8-E83B28EA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B7DF-52C4-4D03-AD82-70ECF83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4995-6CA2-499D-A237-AA69D2A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DED-8FC1-4AEE-A57F-8CF0D69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2187-E8EE-468C-B35C-E3DC209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E726-119A-410F-BBE6-04F81777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0E72-565F-46E6-AD20-8295F965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358B-652D-438B-B896-626423D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F301-2722-4294-B409-F6417DA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9AB8-058E-4DCF-888A-48603A8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9611-9F98-4977-8FB6-D85B5F9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65E4-CFB7-4F9A-AD7F-EBAAFF6A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56CF-5122-4C19-9A93-26AA023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5036-AD56-4DFD-ABFA-D4A7D59A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86F-FB43-4E8F-91BF-BC8E90C5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955D-9381-4218-9732-AD933D5B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7416-1F01-4F94-B35B-0450A67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C404-354A-4FE8-A20C-0FC21406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E182-B4A7-4938-B9CB-61D9826F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B992-EB02-4563-8A16-A908132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8125-2238-4A66-B6C2-7E1194F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B95B-58A4-46E2-8555-8DF97F0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6E00-36A8-4713-B145-ACCF324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D740-21E3-4C38-A244-26BFBFAC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139E7-B451-41B8-8FD6-ED0E372C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463-8096-40F4-8275-AE0D307D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A5ECB-9B1A-4EA1-92EC-EED9C59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A3F-DF9A-4857-8057-8E1B4E6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117-9E21-429E-8428-8625DBC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A5D-0D9D-4565-9E3D-F2DCDA1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64A-8F63-4CD5-B36C-F51391BDC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77DA-0A20-4914-A15B-BA3BFF386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EC0-04B2-41D3-BAAD-A848125E2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CE54-6D25-4699-B4DB-148AC229A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780B-BC1B-4723-BE04-1FEF00881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БОУ гимназия№5 г.Морозовск Ростовская обл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Ь- после шипящих  у имён существительных» 3 класс.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ореева В.И.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7669080" y="3284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724360" y="3573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324000" y="2349360"/>
            <a:ext cx="38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 – Ничего не    понятно 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24000" y="3789360"/>
            <a:ext cx="54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 – Всё понятно. Трудностей не испытыв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24000" y="5589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– Хочу знать боль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3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блема: реши, везде ли нужен мягкий зна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андыш(ь), камыш(ь), задач(ь), реч(ь), мелоч(Ь), глуш(ь),  колюч(ь), клю.ч(ь), туч(ь), дач(ь), хорош(ь),луж(ь),тиш(ь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ягкий знак на конце слов после шипящи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учебни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Ь пишется-  у имён сущ. Ж.р. 3 ск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 не пишется – у имён сущ. М.р.   2с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ратких прилага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ущ. мн.ч. в Р.пад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действий при написании слов с шипящими звуками на кон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14320" y="2714760"/>
            <a:ext cx="64292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асть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спомнить орф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Образец рассуждения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400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ч…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Это имя существительное 3 –его скло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 конце имён существительных 3-го склонения пишется  Ь  зна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одёж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хор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щ                                    до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колюч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 дач                            ре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приго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ёж                                  мыш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рпич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ду встре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ро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-1244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Зад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33ff"/>
                </a:solidFill>
                <a:latin typeface="Calibri"/>
              </a:rPr>
              <a:t>Найдите слова на изучаемую тему, поясните правописание этих сл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с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 называют радостным  праздником света. Солнечный луч отражается на ослепительной скатерти снегов. Воздух свеж и прозрачен. Пробираешься по рыхлому снегу в глушь  леса. С лыж слетают комья снега. С макушки ели свалилась тяжёлая шапка снега и с шумом упала навзничь. Слышишь трель дятла. Празднично в весеннем лесу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Вставьте, где необходимо </a:t>
            </a: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ь</a:t>
            </a: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 зн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Подчеркните лишнее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емуч__,  хорош__,   стриж…, пригож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 Из-за рощ_, много задач_, с дач__,  глуш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Шалаш…..,скрипач……печ….,ключ…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 Доч…,    меч…,     ноч….,брош….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Тареева</cp:lastModifiedBy>
  <dcterms:modified xsi:type="dcterms:W3CDTF">2013-03-19T16:40:38Z</dcterms:modified>
  <cp:revision>6</cp:revision>
  <dc:subject/>
  <dc:title>Слайд 1</dc:title>
</cp:coreProperties>
</file>