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5FAC-6AC9-4CE1-BD58-BC51D648A8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4CD8-C9D3-488B-A302-2689CA8F9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2B76-BAF4-441A-A752-1CB17E141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637E-E8E4-46B4-94C7-CA9D0E867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7AB5-611F-4FB0-8C5F-A1995747F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CC81-9177-41B9-8150-9FB14F0BE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C72-DB73-4AEC-967B-EC5DFB07C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B196-B7A5-4BFB-A121-005ADA77D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693-12F0-40A7-9323-4A80386AC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3685-A60B-4825-9263-E2D560A965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580-1808-41D2-9E6E-6464C2CEA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199-3CA2-4265-A07D-F8ACC946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A0B-879C-4361-AF08-C473E1E0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F1A-E05C-408B-AFEC-46B83943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7F9-61AE-4788-8969-69BEC09D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0009-18E2-44AC-B01E-B5ECA3C0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3219-3F36-4AC3-A648-D3CA077A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6B4D-BD43-4BDE-B5C0-AC835F45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FD5-B922-47EA-9B0C-2FF00C1A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1B1A-14CE-4AF4-9375-A1C61DEC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BFBD-E78F-49A2-A134-C99371B6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90F6-CC03-493E-92D3-137BA83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F13-0500-444B-AB0F-1B005E47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6C95-7402-4E7D-AFDA-7E4C8E46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45D8-8A92-4FC8-A7D9-459C25C9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1B2-6E93-42BF-8F1A-7D1CB79C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6F37-B958-4FF8-BBD6-4F31AD05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E29-6D2E-484A-97B6-040EB238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C837-D068-4CC2-BD35-7946A03C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6A97-7C41-49CB-B438-C76B6FF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C39EE-B983-4981-968B-897DCA16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577A-E3FA-4126-A01B-751F12EF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DB61-0B68-4B5C-812C-26C6F636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BF2-0916-46C2-9BCD-8EB1D2C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DE04-E137-4133-B129-D1F8E0D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3957-A846-4BBA-BCF1-5EBF29F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782B-68D0-4497-9292-FEFA30D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0464-8F3B-4BC6-9BAE-56741360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9672-BF1F-4812-8420-54CC0FD4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E06E-4305-4C7C-B39F-7B34EB36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4021-3495-4E29-BA18-6D67C160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025D-0BEB-4F00-9B17-486F9192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D2A8E-172B-4C23-B845-FABECBDD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0392-D660-453E-ADC8-CA7C5B96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027-3C71-4072-95B9-42C75DBF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C330-7B6F-4C65-8C15-CFAA5537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C6743-A146-42F1-8D4D-640AD277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185A-A531-4D53-94D4-286E0FE0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BAC2-B671-41F4-8866-624772FC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AD9B-D702-40A8-A672-AF454033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11E5A-5F90-423F-AB5D-F06E939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01DC-AFF3-4338-861E-7EB1161F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10BE-CD71-4034-BCB8-7D3F934C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5EA0-4DA7-452C-AC21-6B138777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726C-192E-4659-960E-18B50C6D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ACF-E00C-448D-9239-5B82E759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C912A-2AA5-4589-A322-500C385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FC451-C17F-4DA8-B6C3-6C73B100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6DB8-59B2-40B0-AC51-2F0B392F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F5EE9-420F-43C4-82EE-14E17724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B2E89-D5EF-4802-9310-790AC890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B97CE-2168-4D25-85A8-3E29951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E7182-C9EE-4FBF-8AF8-88821A70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8C2C-DAEE-40F3-92BB-7D917D9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98FCE-FF0D-4683-9223-02E885D5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9783-A60B-41CA-A226-68D32754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D00-B3B3-4D13-98DB-D62C4D51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CE5C-CBE7-49EE-9B1E-6D2B50BF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85F-CF70-4162-9612-2FDDA20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6B9-710E-48BF-B926-FBCB7CE3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6C8-0198-4CF4-A57F-12B6C611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29DB-4244-468A-8779-8025E6FD5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C359-9248-4BB8-93F0-FB7B4A499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6291-02D4-4A77-82C3-944327D94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7F99-F957-48C6-A9A5-B50FC9D88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48B-7162-4D77-8210-155C7AE3F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БОУ гимназия№5 г.Морозовск Ростовская обл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Ь- после шипящих  у имён существительных» 3 класс.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ореева В.И.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3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7669080" y="3284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724360" y="3573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324000" y="2349360"/>
            <a:ext cx="38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 – Ничего не    понятно 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24000" y="3789360"/>
            <a:ext cx="54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 – Всё понятно. Трудностей не испытыв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324000" y="5589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– Хочу знать боль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3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блема: реши, везде ли нужен мягкий зна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андыш(ь), камыш(ь), задач(ь), реч(ь), мелоч(Ь), глуш(ь),  колюч(ь), клю.ч(ь), туч(ь), дач(ь), хорош(ь),луж(ь),тиш(ь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ягкий знак на конце слов после шипящи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учебни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Ь пишется-  у имён сущ. Ж.р. 3 ск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 не пишется – у имён сущ. М.р.   2с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ратких прилага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сущ. мн.ч. в Р.пад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26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действий при написании слов с шипящими звуками на кон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14320" y="2714760"/>
            <a:ext cx="64292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асть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спомнить орф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Образец рассуждения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400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ч…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Это имя существительное 3 –его скло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 конце имён существительных 3-го склонения пишется  Ь  зна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одёж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хор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щ                                    до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колюч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 дач                            ре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приго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ёж                                  мыш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рпич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ду встре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ро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и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-1244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Зада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33ff"/>
                </a:solidFill>
                <a:latin typeface="Calibri"/>
              </a:rPr>
              <a:t>Найдите слова на изучаемую тему, поясните правописание этих сл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св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 называют радостным  праздником света. Солнечный луч отражается на ослепительной скатерти снегов. Воздух свеж и прозрачен. Пробираешься по рыхлому снегу в глушь  леса. С лыж слетают комья снега. С макушки ели свалилась тяжёлая шапка снега и с шумом упала навзничь. Слышишь трель дятла. Празднично в весеннем лесу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Calibri"/>
              </a:rPr>
              <a:t>Вставьте, где необходимо </a:t>
            </a: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ь</a:t>
            </a:r>
            <a:r>
              <a:rPr b="0" i="1" lang="ru-RU" sz="3200" spc="-1" strike="noStrike">
                <a:solidFill>
                  <a:srgbClr val="0000cc"/>
                </a:solidFill>
                <a:latin typeface="Calibri"/>
              </a:rPr>
              <a:t> зн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Calibri"/>
              </a:rPr>
              <a:t>Подчеркните лишнее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емуч__,  хорош__,   стриж…, пригож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 Из-за рощ_, много задач_, с дач__,  глуш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Шалаш…..,скрипач……печ….,ключ…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 Доч…,    меч…,     ноч….,брош….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Тареева</cp:lastModifiedBy>
  <dcterms:modified xsi:type="dcterms:W3CDTF">2013-03-19T16:40:38Z</dcterms:modified>
  <cp:revision>6</cp:revision>
  <dc:subject/>
  <dc:title>Слайд 1</dc:title>
</cp:coreProperties>
</file>