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breeze.wav" ContentType="audio/x-wav"/>
  <Override PartName="/ppt/media/chimes.wav" ContentType="audio/x-wav"/>
  <Override PartName="/ppt/media/type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7C4-641B-4CB1-BAD4-2F2F377E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AD8-58BA-42E5-BB21-00FBC1A0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53DA8-2693-4AA0-975F-74729C2E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CBD32-BE87-4699-8B20-7191FB6F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F17B9-5646-4A9C-A98F-0DCFE1FD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39759-345A-451D-9DEC-C9994E3C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84BD3-8AFB-4575-8613-0CEE5785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8709F-2825-4621-8B84-A23147B8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9996A-10C8-4880-9852-F51B1532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6BDC8-8D73-4C35-A14F-5674B9B3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5E93E-94B5-4672-8DCE-7C120A15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DED66-286E-42A9-ADD2-921BD764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9FD-B6B5-4574-8630-32260B83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B4262-933A-4241-9B95-866C6989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FDBC8-E0AF-4E6C-967F-FDFA0D94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4ED29-3F15-4B7A-AE94-86698EDC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349F3-E478-4D89-A631-AC0166F8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9CB7E-C03D-4C58-A294-DBE167D2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D8DA1-7232-44B1-AF46-57F34B2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45CF9-7D8E-4580-961B-386C946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638F8-4FE5-403B-8A64-1951D2C6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D024C-EDA8-42A3-8357-6F64E5F3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D2C1D-994B-43F2-A066-DD1369BB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B1D-F688-4F69-9789-802B7F5F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A622F-2C2F-4863-BD67-9CDAA3E3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0EC3D-2BDA-43F6-8F5B-A74A6042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ECCDB-217A-4147-B911-CB4838ED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CD867-AC37-4E6A-AE48-0D90B38F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ADB1B-8FF0-408D-8125-989ED5A7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7C889-BCCE-4ACE-9E76-C258FDC4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B5069-3BBE-447B-BA39-88FD3084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3C657-7510-4FAD-9D72-B650ECA4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5FC7E-9E78-4DBB-ABC0-97FE0677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F5F7A-461F-4800-87DE-081980C0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5750-AAB3-468D-8A46-3D8EDB4F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DB28F-2E5F-4DC8-854A-E9986921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0F69F-EDAD-467D-AD24-37D67B6E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52F04-D4F5-4F57-9BB7-3FE322B6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328B2-7436-4A30-BABF-6CB6EEED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D2B7B-7A7E-4430-B82B-FEF8E571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EB8E7-DBA9-4FB1-8BB9-ADA0F8C3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00D39-6C58-471C-BFA1-3892C923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46BB5-75DD-43B8-BF7C-581D4332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C9878-1138-45BD-AF34-E821006D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45065-95C2-4B7A-906A-D65E05C2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4E2B-D054-4B01-AB3D-4B56DFF3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E98CF-2997-4E5A-B0F1-1A1284AE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7E6AC-F576-4E36-85DF-D945610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C1535-FC65-4B28-A973-93BFDF78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2001F-8766-4AFA-A823-9EE871E6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0983A-36C1-4A44-B2CF-902008A5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4872E-6EA6-4634-AA13-EB077C5D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59F7F-C3C6-423D-97EC-34C2B228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F6ACE-05AC-44CA-85EC-D2FE4E09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A6995-1081-4635-AB65-67580D2C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7FA24-2019-4B91-82B1-88BA0E53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156B-70B4-43BB-A4C6-50FAE4BC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2F21A-CBDC-40D2-80F9-24D2D707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AB92B-EB04-4C49-8CC7-668EED14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0438D-487E-4373-B776-BEC28DDD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8FB00-CB15-4BC6-9FD5-94BD713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8F2E4-C78D-4D1D-978D-A829AF7D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F0DEB-7639-43F6-A362-FA7E1CF2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7BE34-8A5D-4810-A931-F848D163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5F88-204D-4664-9B7A-00D66723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E799-DBFA-4356-8BD7-6A87E5D5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6053-8818-49BD-AF77-83393277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372E-6918-4766-81A8-56C06DFC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5C5-8029-4F0C-A6CE-E137E6CA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9A28-0B77-4B53-A4CD-06450F4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1505-A709-4440-92A0-DCF9FB44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2DFF-A7B5-46A6-B6A5-9844B212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571B-B7A7-4C3E-B6DE-AE9C8F8E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04AC-7CF3-4EBD-84D3-E31D40B9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F500F-C1CC-4721-9DEA-46B01ABE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FEF6-7416-4AEC-B77D-0EAACF5D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36BB-AC95-47F4-A9ED-45A36004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FA09-9507-427C-BEB3-B9477E1F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8AE0-4914-4F27-983D-FAC10276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CF5-97D3-4E04-983C-26D8E622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4F82-C094-4D6E-A5DB-DB491093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D273-8E76-4ACA-974C-48B0F0E3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A5C56-EFE9-4D17-AD69-DEE2F54D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95CF-E020-42ED-908F-66192AFC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4C58-0D5B-4606-8F52-3D91A8BD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67D7-259F-4D89-91A5-320D99C3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3091A-5990-4C65-8CEC-C029BB19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10D5D-2FA9-4605-AC23-DCCE534F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555B-4F0E-427B-A28D-EBB79C91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2712C-5F50-42EF-8CEC-6D26E7E5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EA7-3221-4F89-A23C-DA8D2A99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5619-B97C-4EB1-964A-D547583D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A6656-51AE-436D-A26D-B995B507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4BA7-4EF5-424F-9BF9-C3BA9AAF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10B17-A121-4A9B-B93B-0C56AB6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D8F3-9E11-41F1-A810-4D34D51E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6ACF3-8952-4FA7-B77D-71319AA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4393C-D7E4-4967-B004-10F38787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FE677-30D1-42E7-B64D-54A73A46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BB987-C0EB-4A9C-9ABA-07C39C2F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7C36D-2B5B-4FCF-B9F1-3963899B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11F-1E80-41C0-AB57-57471DE8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22619-DD44-4AA0-A294-7D0FF51B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1D298-8845-43F9-B2D3-212D9756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FC65-4FF2-4634-9A11-B0A42870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5DB67-7B01-4423-98DB-588C7EDB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13C72-0ABE-44B7-A5A3-AA7A184E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4915B-33B5-4B05-877C-72A02A92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54C9-C98E-4BD2-8B62-F470F611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5C373-0A07-4DE9-82A2-8026EB4D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A750-4EF0-43C8-A1A9-A4732CBC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E3614-7042-4ACE-B3AB-34437DDF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FB8-B101-48D2-BB05-30133D74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0E2A8-08F2-4AE0-988E-B7DA6504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4281C-7FEA-4F72-B157-7EC5084C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4B07D-6470-4CA5-A620-33F4843E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1EBB0-C6C5-43B5-BE35-792F3B1D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BFA80-722B-43CF-AED3-1EDAE429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5410E-46A4-4444-9D32-A1E640BE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6E332-0F4D-4D0A-A757-782977CC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9FECA-49FD-4934-9AF8-6EA1614B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3953C-C899-4191-8E53-24A614B9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1A0C2-C933-4BFF-BF65-89189673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D50-ACA7-4BF5-A7BB-D89D8590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76C0F-6100-4178-B4A4-3813A215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C4DE5-2BA7-4566-BAB1-E349BC81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B6FB5-2C17-4F73-AD86-78115AA1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D5CA8-ACFF-426F-9C94-D1AB198B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4FC92-4ACB-439D-A262-D1302D32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2C00-7B26-4E16-91A8-67EF41D9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BCF2F-070E-44E4-BAAD-BD425396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FF282-016B-4BE5-B887-912D6ACC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4D478-D015-4823-BE5C-2B408F8D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32F49-8F6D-47B1-90B3-BDDDC3DB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48E-2787-4783-A953-1AC95745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F12D-B775-4D0A-92FD-FF595376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D2E2C-6A87-4729-9545-D0A6A0D9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72FE1-6378-4775-AC70-6BD09B8F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AC2C5-A99C-4466-A7E9-17D49905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EDBDA-B9C3-4D6D-9859-C4F27CC7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6740D-1C48-4119-A784-62110E4A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87213-826B-4D70-8625-DB2DED7A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6A976-C9E1-4523-8304-84109F6E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8ADB1-4297-4A6C-98AA-3C3EE8E8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58C95-61FF-4FCF-AE5F-50D11344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7C6-19E4-4016-A517-F6459721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4AF23-7749-49A7-AB8C-F4FD25C5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F9ACE-A0CF-4F5F-A503-6097D9B4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08190-A377-4E76-9607-36CD2242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D1935-EF02-4917-9529-2ED6695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FAC01-A937-4772-8C40-67B1D0B3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28F1D-93E8-4B9F-833E-868334AC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3FFD5-7B03-48FB-A8F3-2C77BE67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E4E82-5FDC-4859-B590-E377E9F6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6AC61-4DFC-40FE-B647-6132A0BB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2717C-14F8-463F-B078-3D25181D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2120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64E-7957-4EF7-853A-02F949C76237}" type="slidenum">
              <a:rPr b="0" lang="ru-RU" sz="2600" spc="-1" strike="noStrike">
                <a:solidFill>
                  <a:srgbClr val="21203c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B850-9931-4D39-9EC1-549738FB3CE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676c5a"/>
          </a:solidFill>
          <a:ln w="9360">
            <a:solidFill>
              <a:srgbClr val="676c5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76c5a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76c5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76c5a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76c5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76c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F3F4-1119-4810-92C4-AE277146BB9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grpSp>
          <p:nvGrpSpPr>
            <p:cNvPr id="5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5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5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5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3AFF-778C-41F7-A107-2679A3C53D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9CB4-A866-4D82-AE8F-91795C7393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3BDF-A805-4BB8-AE13-B382BC4447D2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8cb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797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grpSp>
          <p:nvGrpSpPr>
            <p:cNvPr id="6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7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7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grpSp>
            <p:nvGrpSpPr>
              <p:cNvPr id="7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4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8cb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8cb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grpSp>
            <p:nvGrpSpPr>
              <p:cNvPr id="8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676c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ff33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676c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b6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8E1E-6AAB-48A4-957D-6679D689A939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DD3E-A212-4E62-AFB1-9D65A3753CB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76c5a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76c5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76c5a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76c5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76c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676c5a"/>
          </a:solidFill>
          <a:ln w="9360">
            <a:solidFill>
              <a:srgbClr val="676c5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76c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0145-9DDF-430C-8740-7DA47F06210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6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76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26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212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26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7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27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2120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057F-CB85-47E5-B215-BB8D00AEEE4F}" type="slidenum">
              <a:rPr b="0" lang="ru-RU" sz="2600" spc="-1" strike="noStrike">
                <a:solidFill>
                  <a:srgbClr val="21203c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314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788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76077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7978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7CCF-0BFF-4443-8AF0-FCA30675AB2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476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6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6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6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grpSp>
          <p:nvGrpSpPr>
            <p:cNvPr id="36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7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7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8cb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37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797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grpSp>
          <p:nvGrpSpPr>
            <p:cNvPr id="37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7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676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8cb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F2D2-38E7-413F-B676-0F0915ADC26F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b6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84B4-30FF-47BD-B1DB-06C391D4E8E6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амообразование и самовоспитание как основа успешности учащегося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« Век живи – век учис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Garamond"/>
              </a:rPr>
              <a:t>План саморазвития ( составлен нашим современником – 11-летним подростком )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стать интеллигентн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ути достижения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определить, для чего это над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определить ограничения, которые могут встретиться на пу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определить способы достижения цели и выстроить иерархию их осущест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Для эт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 составляю перечень тех качеств, которые я должен развить у себя, чтобы добиться ц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составляю перечень тех отрицательных качеств в себе, которые я должен преодоле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- намечаю серию действий для тренировки или, наоборот, ликвидации каждого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chimes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66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"/>
          <p:cNvGraphicFramePr/>
          <p:nvPr/>
        </p:nvGraphicFramePr>
        <p:xfrm>
          <a:off x="304920" y="228600"/>
          <a:ext cx="8305560" cy="6205680"/>
        </p:xfrm>
        <a:graphic>
          <a:graphicData uri="http://schemas.openxmlformats.org/drawingml/2006/table">
            <a:tbl>
              <a:tblPr/>
              <a:tblGrid>
                <a:gridCol w="1904760"/>
                <a:gridCol w="2448000"/>
                <a:gridCol w="1754280"/>
                <a:gridCol w="2198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разованность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рядочность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жданственность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ля чего</a:t>
                      </a:r>
                      <a:endParaRPr b="1" i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не это</a:t>
                      </a:r>
                      <a:endParaRPr b="1" i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до?</a:t>
                      </a:r>
                      <a:endParaRPr b="1" i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находить ответы на все мыслимые вопросы мироздания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ощущать себя человеком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улучшить не только свою жизнь, но и окружающих меня людей, потому что все мы тесно связаны в обществе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граничения</a:t>
                      </a:r>
                      <a:endParaRPr b="1" i="1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получить 1-2 специальных образования. Семейный бюджет не резиновый - на освоение всех культурных ценностей средств не хватит.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к свободного времени.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недостатки: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олюбие, склонность к компромиссу, вспыльчивость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меня ещё ничего реально не зависит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особы</a:t>
                      </a:r>
                      <a:endParaRPr b="1" i="1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, просмотр телепрограмм, походы в театры, музеи, занятия физической культурой, Интернет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упать по совести, т.е.так, как хотелось бы, чтобы поступали с тобою, не лгать, узнать и освоить правила общения с людьми, преодолеть нерешительность, стать сдержанным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ать жизненные принципы, говорить что думаешь, ставить общественное вровень с личным</a:t>
                      </a:r>
                      <a:endParaRPr b="1" i="1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Всякое настоящее образование достигается путем само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.Руба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Всякое воспитание в конечном счете есть самовоспитание»        Л.Выгот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ordArt 4"/>
          <p:cNvSpPr txBox="1"/>
          <p:nvPr/>
        </p:nvSpPr>
        <p:spPr>
          <a:xfrm>
            <a:off x="1676520" y="3124080"/>
            <a:ext cx="569592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аем успехов!</a:t>
            </a:r>
            <a:endParaRPr b="1" i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950040" y="568800"/>
            <a:ext cx="7548120" cy="25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риоритетная задача</a:t>
            </a:r>
            <a:br>
              <a:rPr sz="3200"/>
            </a:b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развития нашего общества, условие его выживания, это –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восстановление, возрождение духовности и гуманитарной культуры,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в чем совершенно исключительная роль принадлежит образовательным учреждениям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838080" y="3123720"/>
            <a:ext cx="7693200" cy="29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аким должен быть выпускник  современной школ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03c"/>
                </a:solidFill>
                <a:latin typeface="Arial"/>
              </a:rPr>
              <a:t>Модель выпускника современной шко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осовершенствующая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овоспитывающая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оразвивающаяся лич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breeze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819720" y="2865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Какой же он –</a:t>
            </a: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человек будущего </a:t>
            </a: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49" name="Diagram 5"/>
          <p:cNvGrpSpPr/>
          <p:nvPr/>
        </p:nvGrpSpPr>
        <p:grpSpPr>
          <a:xfrm>
            <a:off x="1622880" y="1143000"/>
            <a:ext cx="6909840" cy="5405040"/>
            <a:chOff x="1622880" y="1143000"/>
            <a:chExt cx="6909840" cy="5405040"/>
          </a:xfrm>
        </p:grpSpPr>
        <p:sp>
          <p:nvSpPr>
            <p:cNvPr id="650" name="_s1028"/>
            <p:cNvSpPr/>
            <p:nvPr/>
          </p:nvSpPr>
          <p:spPr>
            <a:xfrm flipH="1" flipV="1">
              <a:off x="3477600" y="2888280"/>
              <a:ext cx="509760" cy="47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1" name="_s1029"/>
            <p:cNvSpPr/>
            <p:nvPr/>
          </p:nvSpPr>
          <p:spPr>
            <a:xfrm>
              <a:off x="2253600" y="173772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Гражданин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2" name="_s1030"/>
            <p:cNvSpPr/>
            <p:nvPr/>
          </p:nvSpPr>
          <p:spPr>
            <a:xfrm flipH="1">
              <a:off x="3055320" y="3845520"/>
              <a:ext cx="72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3" name="_s1031"/>
            <p:cNvSpPr/>
            <p:nvPr/>
          </p:nvSpPr>
          <p:spPr>
            <a:xfrm>
              <a:off x="1622880" y="317016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Творческая 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4" name="_s1032"/>
            <p:cNvSpPr/>
            <p:nvPr/>
          </p:nvSpPr>
          <p:spPr>
            <a:xfrm flipH="1">
              <a:off x="3477600" y="4322520"/>
              <a:ext cx="509760" cy="47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5" name="_s1033"/>
            <p:cNvSpPr/>
            <p:nvPr/>
          </p:nvSpPr>
          <p:spPr>
            <a:xfrm>
              <a:off x="2253600" y="460188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Культурный 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6" name="_s1034"/>
            <p:cNvSpPr/>
            <p:nvPr/>
          </p:nvSpPr>
          <p:spPr>
            <a:xfrm>
              <a:off x="4495320" y="4521240"/>
              <a:ext cx="0" cy="67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7" name="_s1035"/>
            <p:cNvSpPr/>
            <p:nvPr/>
          </p:nvSpPr>
          <p:spPr>
            <a:xfrm>
              <a:off x="3776760" y="519696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Компетентный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8" name="_s1036"/>
            <p:cNvSpPr/>
            <p:nvPr/>
          </p:nvSpPr>
          <p:spPr>
            <a:xfrm>
              <a:off x="5003280" y="4322520"/>
              <a:ext cx="509760" cy="47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9" name="_s1037"/>
            <p:cNvSpPr/>
            <p:nvPr/>
          </p:nvSpPr>
          <p:spPr>
            <a:xfrm>
              <a:off x="5302440" y="460404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Образованный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0" name="_s1038"/>
            <p:cNvSpPr/>
            <p:nvPr/>
          </p:nvSpPr>
          <p:spPr>
            <a:xfrm>
              <a:off x="5214240" y="3845520"/>
              <a:ext cx="72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1" name="_s1039"/>
            <p:cNvSpPr/>
            <p:nvPr/>
          </p:nvSpPr>
          <p:spPr>
            <a:xfrm>
              <a:off x="5935680" y="317016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Деловой 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2" name="_s1040"/>
            <p:cNvSpPr/>
            <p:nvPr/>
          </p:nvSpPr>
          <p:spPr>
            <a:xfrm flipV="1">
              <a:off x="5003280" y="2888280"/>
              <a:ext cx="509760" cy="47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3" name="_s1041"/>
            <p:cNvSpPr/>
            <p:nvPr/>
          </p:nvSpPr>
          <p:spPr>
            <a:xfrm>
              <a:off x="5302440" y="173592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Здоровый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4" name="_s1042"/>
            <p:cNvSpPr/>
            <p:nvPr/>
          </p:nvSpPr>
          <p:spPr>
            <a:xfrm flipV="1">
              <a:off x="4495320" y="2493720"/>
              <a:ext cx="0" cy="677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5" name="_s1043"/>
            <p:cNvSpPr/>
            <p:nvPr/>
          </p:nvSpPr>
          <p:spPr>
            <a:xfrm>
              <a:off x="3776760" y="1143000"/>
              <a:ext cx="1437120" cy="135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212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Личность 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с 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доминантой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21203c"/>
                  </a:solidFill>
                  <a:latin typeface="Garamond"/>
                </a:rPr>
                <a:t>на …</a:t>
              </a:r>
              <a:endParaRPr b="1" i="1" lang="en-US" sz="1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6" name="_s1044"/>
            <p:cNvSpPr/>
            <p:nvPr/>
          </p:nvSpPr>
          <p:spPr>
            <a:xfrm>
              <a:off x="3776760" y="3172320"/>
              <a:ext cx="1437120" cy="135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67" name="Oval 27"/>
            <p:cNvSpPr/>
            <p:nvPr/>
          </p:nvSpPr>
          <p:spPr>
            <a:xfrm>
              <a:off x="7620480" y="1827720"/>
              <a:ext cx="912240" cy="91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pic>
        <p:nvPicPr>
          <p:cNvPr id="668" name="Picture 24" descr="123010"/>
          <p:cNvPicPr/>
          <p:nvPr/>
        </p:nvPicPr>
        <p:blipFill>
          <a:blip r:embed="rId1"/>
          <a:stretch/>
        </p:blipFill>
        <p:spPr>
          <a:xfrm>
            <a:off x="3505320" y="3200400"/>
            <a:ext cx="2062080" cy="144468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26"/>
          <p:cNvSpPr/>
          <p:nvPr/>
        </p:nvSpPr>
        <p:spPr>
          <a:xfrm>
            <a:off x="2514600" y="533520"/>
            <a:ext cx="4692600" cy="1544400"/>
          </a:xfrm>
          <a:prstGeom prst="wedgeEllipseCallout">
            <a:avLst>
              <a:gd name="adj1" fmla="val -6393"/>
              <a:gd name="adj2" fmla="val 12143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Личность с доминантой на самосовершенствование, постоянно занимающийся самообразованием, сохраняющий интерес к познанию мира на протяжении всей жизни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0" name="AutoShape 28"/>
          <p:cNvSpPr/>
          <p:nvPr/>
        </p:nvSpPr>
        <p:spPr>
          <a:xfrm>
            <a:off x="5181480" y="1219320"/>
            <a:ext cx="3900600" cy="23000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203c"/>
                </a:solidFill>
                <a:latin typeface="Garamond"/>
              </a:rPr>
              <a:t>Здоровый физически и психически, ориентирующийся на здоровый образ жизни, испытывающий постоянную потребность в  саморегуляции и физическом совершенствовании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1" name="AutoShape 30"/>
          <p:cNvSpPr/>
          <p:nvPr/>
        </p:nvSpPr>
        <p:spPr>
          <a:xfrm>
            <a:off x="5638680" y="4191120"/>
            <a:ext cx="3252960" cy="2442960"/>
          </a:xfrm>
          <a:prstGeom prst="wedgeEllipseCallout">
            <a:avLst>
              <a:gd name="adj1" fmla="val -63226"/>
              <a:gd name="adj2" fmla="val -326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Образованный,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воспитанный,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интеллигентный человек,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в основе поступков которого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превалируют гуманистические идеи и ценности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2" name="AutoShape 31"/>
          <p:cNvSpPr/>
          <p:nvPr/>
        </p:nvSpPr>
        <p:spPr>
          <a:xfrm>
            <a:off x="2438280" y="4952880"/>
            <a:ext cx="5089680" cy="1687680"/>
          </a:xfrm>
          <a:prstGeom prst="wedgeEllipseCallout">
            <a:avLst>
              <a:gd name="adj1" fmla="val -824"/>
              <a:gd name="adj2" fmla="val -6627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Компетентный, социально зрелый, свободный, осознающий свои права и признающий права других людей с их убеждениями и вероисповеданием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3" name="Oval 32"/>
          <p:cNvSpPr/>
          <p:nvPr/>
        </p:nvSpPr>
        <p:spPr>
          <a:xfrm>
            <a:off x="533520" y="38098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4" name="Oval 33"/>
          <p:cNvSpPr/>
          <p:nvPr/>
        </p:nvSpPr>
        <p:spPr>
          <a:xfrm flipV="1">
            <a:off x="7620120" y="2742480"/>
            <a:ext cx="91440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5" name="AutoShape 34"/>
          <p:cNvSpPr/>
          <p:nvPr/>
        </p:nvSpPr>
        <p:spPr>
          <a:xfrm>
            <a:off x="5999040" y="2971800"/>
            <a:ext cx="3144960" cy="1400040"/>
          </a:xfrm>
          <a:prstGeom prst="wedgeEllipseCallout">
            <a:avLst>
              <a:gd name="adj1" fmla="val -66555"/>
              <a:gd name="adj2" fmla="val 5666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Деловой, трудолюбивый,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самостоятельный, 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конкурентоспособный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6" name="AutoShape 35"/>
          <p:cNvSpPr/>
          <p:nvPr/>
        </p:nvSpPr>
        <p:spPr>
          <a:xfrm>
            <a:off x="228600" y="4419720"/>
            <a:ext cx="3252960" cy="2263680"/>
          </a:xfrm>
          <a:prstGeom prst="wedgeEllipseCallout">
            <a:avLst>
              <a:gd name="adj1" fmla="val 56393"/>
              <a:gd name="adj2" fmla="val -38078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203c"/>
                </a:solidFill>
                <a:latin typeface="Garamond"/>
              </a:rPr>
              <a:t>Высоконравственный и духовно культурный,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203c"/>
                </a:solidFill>
                <a:latin typeface="Garamond"/>
              </a:rPr>
              <a:t>живущий интересами ноосферного развития, участвующий в межнациональном общении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7" name="AutoShape 36"/>
          <p:cNvSpPr/>
          <p:nvPr/>
        </p:nvSpPr>
        <p:spPr>
          <a:xfrm>
            <a:off x="304920" y="3124080"/>
            <a:ext cx="2928960" cy="1343160"/>
          </a:xfrm>
          <a:prstGeom prst="wedgeEllipseCallout">
            <a:avLst>
              <a:gd name="adj1" fmla="val 63226"/>
              <a:gd name="adj2" fmla="val 44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Творческая личность, постоянно совершенствующая самоё себя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8" name="AutoShape 37"/>
          <p:cNvSpPr/>
          <p:nvPr/>
        </p:nvSpPr>
        <p:spPr>
          <a:xfrm>
            <a:off x="304920" y="1371600"/>
            <a:ext cx="4081320" cy="1760400"/>
          </a:xfrm>
          <a:prstGeom prst="wedgeEllipseCallout">
            <a:avLst>
              <a:gd name="adj1" fmla="val 38722"/>
              <a:gd name="adj2" fmla="val 539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03c"/>
                </a:solidFill>
                <a:latin typeface="Garamond"/>
              </a:rPr>
              <a:t>Гражданин, патриот, семьянин, Человек Мира, знающий свою родословную, малую и большую родину, уважающий и чтящий обычаи предков, их веру.</a:t>
            </a:r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657720" y="581760"/>
            <a:ext cx="782856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Кто может воспитать         Человека будущего? 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693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По рекомендациям ЮНЕСКО современный выпускник должен иметь шесть основных ключевых компетентност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умение работать с числовой информаци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коммуникативные ум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владение информационными технологиями, умение жить в информационном общест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открытость новому знанию, навыки саморазвития и само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умение сотрудничать, работать в команд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03c"/>
                </a:solidFill>
                <a:latin typeface="Arial"/>
              </a:rPr>
              <a:t>умение решать проблемы, принимать решения и нести за них ответстве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7" name="breeze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3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30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300"/>
                            </p:stCondLst>
                            <p:childTnLst>
                              <p:par>
                                <p:cTn id="1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3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3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3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04B5-0B23-40A4-8B55-E2FDA19DDEB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амовоспитание -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процесс намеренного изменения, возведения человеком себя самого на более высокую ступень физического, духовно-нравственного, социального   и творческого развития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(Г.К.Селевко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Селевко Г.К.,  к.п.н., профессор, зав.лабораторией развивающих технологий Ярославского областного института развития образ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ECCB-AFEF-4D4D-B2E0-1649FC4670E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амообразование - 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целенаправленная, свободная и    самостоятельная познавательная деятельность, направленная на удовлетворение интересов, потребностей человека в познании окружающего мира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( Г.К.Селевко 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5B40-9427-4449-8588-C9D7D3E06F77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Факторы, влияющие на процесс самообразования и самовоспита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формирование общественных идеалов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притязания личности на признание себя в  коллективе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ориентация на положительные примеры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создание обстановки здоровой критики и самокритики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внесение в работу атмосферы состязательност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0581-10FD-4E5A-B31D-9DED0445F418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етоды самовоспит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оприказ, самообязательство,самоприну – ждение, самоубе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овнушение,самопоощрение,самонаказание, самоутешение, самокрит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оконтроль,самооценка,корректировка  плана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моционально-мысленный перенос в положение другого человека (эмпатия), сопережи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оинструктирование, самоподчинение, самонапомин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j0299125"/>
          <p:cNvPicPr/>
          <p:nvPr/>
        </p:nvPicPr>
        <p:blipFill>
          <a:blip r:embed="rId1"/>
          <a:stretch/>
        </p:blipFill>
        <p:spPr>
          <a:xfrm>
            <a:off x="228600" y="38098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Номер слайда 6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1E7E-57F5-4C47-A5B8-51936B4289E8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95" name="Diagram 5"/>
          <p:cNvGrpSpPr/>
          <p:nvPr/>
        </p:nvGrpSpPr>
        <p:grpSpPr>
          <a:xfrm>
            <a:off x="407520" y="1603080"/>
            <a:ext cx="8179200" cy="5684760"/>
            <a:chOff x="407520" y="1603080"/>
            <a:chExt cx="8179200" cy="5684760"/>
          </a:xfrm>
        </p:grpSpPr>
        <p:sp>
          <p:nvSpPr>
            <p:cNvPr id="696" name="_s2052"/>
            <p:cNvSpPr/>
            <p:nvPr/>
          </p:nvSpPr>
          <p:spPr>
            <a:xfrm>
              <a:off x="1612440" y="2065320"/>
              <a:ext cx="5764680" cy="3232080"/>
            </a:xfrm>
            <a:custGeom>
              <a:avLst/>
              <a:gdLst>
                <a:gd name="textAreaLeft" fmla="*/ 0 w 5764680"/>
                <a:gd name="textAreaRight" fmla="*/ 5765040 w 5764680"/>
                <a:gd name="textAreaTop" fmla="*/ 0 h 3232080"/>
                <a:gd name="textAreaBottom" fmla="*/ 3232440 h 32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97" name="_s2053"/>
            <p:cNvSpPr/>
            <p:nvPr/>
          </p:nvSpPr>
          <p:spPr>
            <a:xfrm rot="7200000">
              <a:off x="3666240" y="1561320"/>
              <a:ext cx="3232080" cy="5764680"/>
            </a:xfrm>
            <a:custGeom>
              <a:avLst/>
              <a:gdLst>
                <a:gd name="textAreaLeft" fmla="*/ 0 w 3232080"/>
                <a:gd name="textAreaRight" fmla="*/ 3232440 w 3232080"/>
                <a:gd name="textAreaTop" fmla="*/ 0 h 5764680"/>
                <a:gd name="textAreaBottom" fmla="*/ 5765040 h 576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98" name="_s2054"/>
            <p:cNvSpPr/>
            <p:nvPr/>
          </p:nvSpPr>
          <p:spPr>
            <a:xfrm rot="14400000">
              <a:off x="2095200" y="1564200"/>
              <a:ext cx="3232800" cy="5764680"/>
            </a:xfrm>
            <a:custGeom>
              <a:avLst/>
              <a:gdLst>
                <a:gd name="textAreaLeft" fmla="*/ 0 w 3232800"/>
                <a:gd name="textAreaRight" fmla="*/ 3233160 w 3232800"/>
                <a:gd name="textAreaTop" fmla="*/ 0 h 5764680"/>
                <a:gd name="textAreaBottom" fmla="*/ 5765040 h 576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99" name="_s2055"/>
            <p:cNvSpPr/>
            <p:nvPr/>
          </p:nvSpPr>
          <p:spPr>
            <a:xfrm>
              <a:off x="6068880" y="2657160"/>
              <a:ext cx="23119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cc"/>
                  </a:solidFill>
                  <a:latin typeface="Garamond"/>
                </a:rPr>
                <a:t>Самоорганизация</a:t>
              </a:r>
              <a:endParaRPr b="1" i="1" lang="en-US" sz="3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Garamond"/>
                </a:rPr>
                <a:t>(самоконтроль,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Garamond"/>
                </a:rPr>
                <a:t>самоотчет,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Garamond"/>
                </a:rPr>
                <a:t>самоанализ)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700" name="_s2056"/>
            <p:cNvSpPr/>
            <p:nvPr/>
          </p:nvSpPr>
          <p:spPr>
            <a:xfrm>
              <a:off x="3338640" y="5311440"/>
              <a:ext cx="23119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cc"/>
                  </a:solidFill>
                  <a:latin typeface="Garamond"/>
                </a:rPr>
                <a:t>Самоинфор-</a:t>
              </a:r>
              <a:endParaRPr b="1" i="1" lang="en-US" sz="3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cc"/>
                  </a:solidFill>
                  <a:latin typeface="Garamond"/>
                </a:rPr>
                <a:t>мирование</a:t>
              </a:r>
              <a:endParaRPr b="1" i="1" lang="en-US" sz="3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701" name="_s2057"/>
            <p:cNvSpPr/>
            <p:nvPr/>
          </p:nvSpPr>
          <p:spPr>
            <a:xfrm>
              <a:off x="609480" y="2660040"/>
              <a:ext cx="23119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cc"/>
                  </a:solidFill>
                  <a:latin typeface="Garamond"/>
                </a:rPr>
                <a:t>Самопобуждение</a:t>
              </a:r>
              <a:endParaRPr b="1" i="1" lang="en-US" sz="36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cc"/>
                  </a:solidFill>
                  <a:latin typeface="Garamond"/>
                </a:rPr>
                <a:t>(</a:t>
              </a:r>
              <a:r>
                <a:rPr b="0" lang="ru-RU" sz="2000" spc="-1" strike="noStrike">
                  <a:solidFill>
                    <a:srgbClr val="ffffcc"/>
                  </a:solidFill>
                  <a:latin typeface="Garamond"/>
                </a:rPr>
                <a:t>самоприказ, 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cc"/>
                  </a:solidFill>
                  <a:latin typeface="Garamond"/>
                </a:rPr>
                <a:t>самопринуждение,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cc"/>
                  </a:solidFill>
                  <a:latin typeface="Garamond"/>
                </a:rPr>
                <a:t>самоубеждение)</a:t>
              </a:r>
              <a:endParaRPr b="1" i="1" lang="en-US" sz="20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pic>
        <p:nvPicPr>
          <p:cNvPr id="702" name="Picture 20" descr="j0233018"/>
          <p:cNvPicPr/>
          <p:nvPr/>
        </p:nvPicPr>
        <p:blipFill>
          <a:blip r:embed="rId1"/>
          <a:stretch/>
        </p:blipFill>
        <p:spPr>
          <a:xfrm>
            <a:off x="3505320" y="3048120"/>
            <a:ext cx="2292120" cy="232704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Методы самообраз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комп</cp:lastModifiedBy>
  <dcterms:modified xsi:type="dcterms:W3CDTF">2013-03-20T16:10:04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