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breeze.wav" ContentType="audio/x-wav"/>
  <Override PartName="/ppt/media/chimes.wav" ContentType="audio/x-wav"/>
  <Override PartName="/ppt/media/type.wav" ContentType="audio/x-wav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0E6-5689-4213-B601-B8BD1057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9EB0-849B-4EBA-8A94-AA00706D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10E55-30E4-4EB2-BAB8-C0B71B6A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BDE4F-CE02-4AC9-BA27-7057A6C1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4C80D-FA33-4A97-AF10-B4184B7C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91F80-280B-49C1-BDA6-8BBB732A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805CC-97DD-4538-AA80-C5951EDC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B49BC-DB57-479A-8B18-072E5575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E0891-272C-413E-9C6B-F2B0324A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FAAB9-9104-4FC6-AE15-34504AD5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F0C5B-DA2D-481C-869D-71CB3F87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90A68-AA92-4049-ADD3-E044B78C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332B-8527-472D-87F5-D72E57A6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1F50E-005A-4359-8CBA-18E29723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C2C48-9D71-4250-A29D-79A7E6AB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41153-52DE-4886-8D44-931B3C98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F7E1F-778E-45A5-A786-115BFF65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D2230-ECAB-4FF8-B35E-3D3010D3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AA7BB-AF5C-476A-94EA-FFDB4B59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09295-0373-43E7-B528-3DAAF656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C164C-8430-46BF-8FA6-8505D26B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2793D-59B8-40A4-9D8F-819ACA66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BB673-450C-4993-AD47-C70026BB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8C0-08C1-4ABA-AF2F-C8895B1C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6BD85-A881-4C6A-A074-C1BEAEF2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FE1BD-FEBA-4225-A642-646D4C2E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89447-8B95-4CF6-BAE0-2B150E31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BDA45-A0D9-4F47-9113-95207574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CD48C-F134-4F6B-8478-78C91F1D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4EED1-F414-4931-A9E3-1DBEF7EE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BB7D3-33F4-43AA-B6A9-4E14186F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166D9-AF89-4C89-9E71-74203DDA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6B8CA-F9EE-4380-B725-E4E1C324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6662F-06CD-4F45-9613-02D8F2CB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740C-37B3-46F1-A160-2A0DECD7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30666-6BBA-4E43-9ED2-9F9CBC27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2EF45-AD4A-435E-8DE6-9E5B1B19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20C9A-6979-4CB0-BAE7-E533CE26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2F565-9EDE-46AF-9C1A-74A06FA4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09B3B-C640-4281-849F-A4A555DC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2911B-2FB6-4FCE-A8D6-022939A9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5A29F-2A53-4294-8E36-AD5913F0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F7D68-FA24-426F-96A2-A1A1CE74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6B047-B01D-40A7-A1C5-179C5476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9F374-6610-408F-83B9-827F7E7E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059B-9AF5-4C86-8364-052936D4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C8B44-9C04-41E3-9700-16D11EBC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505F0-E4B1-4CA9-8DEA-EC15AB27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3AA28-7C5F-46C8-ADF9-9F52B60E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6E4E3-68FD-4560-A8C6-3871BF0F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71D79-150B-4415-B203-5A793911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E1398-2E3D-48F5-9997-2D64B8B1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74FFF-5CA2-4760-962A-D416AAAD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A6751A-C6EB-45DB-828B-556B743C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5DE04-8F6A-406A-94A2-6EF677AA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8B1CA-0F12-48E0-B3F3-7476C2EB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8D9B-ABCD-43C2-8331-43756BC5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4DF80-F570-41C2-884B-51D66296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72EA7-48DE-4016-A0C7-754CA359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222AB-4803-4C0D-9860-E6F239F9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B1C6E1-5E57-4EA6-99A5-03F2534A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5EC014-2537-4C28-96D0-9919C267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6DE36-782C-4B9C-9D4B-D94711A6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C7B7B-CB89-46F7-8DDC-B7DF3E7D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3FF6-981F-4C19-97BC-6ADD5DFB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7C97-5B8C-4910-AA15-46F48D63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B045-CD26-4E92-A31E-C5B03C68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9A8D-F050-4F60-BFA4-5B4393C5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132-C161-4B8B-B07F-75930E28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8B18-E51D-45BF-843C-782CBE42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3C4F-E6F5-46A1-BCEE-8AE38E04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7B10-9512-44D1-BD09-3E37762E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CEF7-8DF6-47A5-BE94-B25609BA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A58F-84B9-4F3F-A366-FED4FF4C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88477-DD98-4C6E-8E09-C5770151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AA1EF-14F9-4F57-8D5F-7F286F49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713A4-BBE9-4E4F-AF1F-38A305FA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03F24-8D84-49A1-A0C5-E0347FE7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1201-654F-480F-8067-78504042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04D-48F6-4DDA-A3AB-6044137B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732C9-191A-4597-812A-661791C1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6FBC0-69AD-4620-A700-0F4C3F8F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2CE1B-2F34-498C-8CCA-F78180DD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12129-88D0-439A-8B26-C1A39EDF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40D77-0834-4581-A9B3-BCBC3A72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0D6F6-353C-43F5-BA26-87031DD6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FDCE3-131A-4B3C-B659-FC3E1896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51952-85B7-49F9-A2A3-9ABDF018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6CB61-0FF8-4A22-B347-26F97739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2E29F-E488-4EA3-B705-38CB2773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609-5EE6-4979-9555-7DC600BB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02A0-95C0-489C-9283-F165934F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DDC67-B8C0-48FA-B39F-BAE18368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242C3-EEB1-4CF6-A808-6330F25E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C810E-86EE-4653-872E-AEFF98FE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B6FFC-3D73-49C9-A2EC-7A90B344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8B4A6-EFEF-407A-8B29-B444E7F9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F3516-F68E-462B-B1AD-392A22A3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EF930-2BFE-401B-8C4C-927EF0FA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A5871-3678-48BF-8ABB-BAFED764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582CF-C7D1-4C45-9F5D-EBBCAC63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AC7-E8D0-4834-912D-643A39F0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53986-15A6-433C-AA7B-3AB68321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54630-2878-412C-8F0F-F616013E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AB73A-8F51-47C6-90CF-9CF180A1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655FB-1B50-4133-8A3F-9C3B73E3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DDE52-0983-46EE-9314-557D323E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4FA89-4EEF-4E71-B254-84C583CF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9A5FD-18B8-4F31-80B5-AE66AA20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9D16E-844D-4020-AB1C-5623C212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CA76F-49D7-46C5-9562-3C95F1DD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07F91-512A-47FF-9639-0C4430B3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F95-F441-42D1-B3A4-B045E07D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B1E4A-C192-4735-8C23-7D859DF7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BDAC9-81BB-4264-A437-7ADC16E8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1F5B9-E32F-442D-8320-FED9B29A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1F6FF-EB6B-4F11-B020-8BC45C07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46863-DE58-4A13-AB66-CAE4484C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E5647-E7F4-4D31-B246-27E0DE00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3AFCC-4C91-4C05-849B-2FD11AC9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7D370-C9FB-465C-998D-AA3943E6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EE6AC-11A1-4DA5-BB09-B1DB270C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031BD-37A7-484A-8504-E3503931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001-4146-4276-8E66-723EFE2D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CE88F-AA3F-4D39-A122-46711192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58E74-306C-4AFD-B8BD-5022EF83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D3E88-ACE0-4C8B-BE96-438F9858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DEC6C-E8E0-467C-9BA2-55FC5B63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9DEA5-AA8A-49F7-94D5-EC15A43F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03730-37A3-42BB-94D9-1BA78D4E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2A69E-2EDD-4BD9-B7B6-0E42D607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198C5-5C02-4169-B2CA-F5ADF7E0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B8654-DA8B-4F04-9158-EBA46138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7A826-0A75-4017-B65F-B966A534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EE9-1A84-4E8A-94E1-5D1691AE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AAE1C-727E-4798-9906-00214AF7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1C43F-B57F-4165-8C21-BA9A6077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08254-CB20-4E94-A482-856E631C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CB969-EB54-47E1-B84D-8CAADB96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93165-93D3-48C5-9B70-BAD032E7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C8EA0-24F8-43CE-B76D-9B2502B9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E3886-6C70-4FE3-BF58-7AE6F630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A33A9-304B-47BA-9C49-0021E7EE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8FEEE-71E4-45C6-8C20-B7CA9C53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A7322-FCCA-4047-AA28-E3320FBC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C70-7528-4653-8A5B-3DDB79DC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DC0EF-1575-46A5-B1EA-F260B4DF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2869A-F4FA-443F-9868-A3DFD3A9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F3E10-B7C5-4B95-B5FB-F71A4393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E70F1-4129-45F4-8E8B-5BDE85CD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B62B8-C384-463C-8FE3-9AEF2481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6B633-3A1A-477D-97AA-EBD1DF74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F97CD-45EC-4223-8B97-ACE28A51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E421B-C16A-4762-B36B-37388C61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909DC-3EF1-4AE2-BAEE-22676842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BE74E-DBA9-42BB-BE35-0AFEB580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2120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8600-0ADD-49A0-8E25-E7D3BE1C3F00}" type="slidenum">
              <a:rPr b="0" lang="ru-RU" sz="2600" spc="-1" strike="noStrike">
                <a:solidFill>
                  <a:srgbClr val="21203c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4B01-682E-40A0-BF0E-59B7CF3B9B9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676c5a"/>
          </a:solidFill>
          <a:ln w="9360">
            <a:solidFill>
              <a:srgbClr val="676c5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676c5a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676c5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676c5a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676c5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676c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FBD8-D824-476A-9E06-F67381825603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5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grpSp>
          <p:nvGrpSpPr>
            <p:cNvPr id="55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5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797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55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212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55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</p:grpSp>
        <p:grpSp>
          <p:nvGrpSpPr>
            <p:cNvPr id="55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5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56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</p:grp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cb0a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760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760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5750-67AA-4606-B104-BF6AA170D16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6D1F-E9AD-42A3-8B6F-BC0AF272926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65A1-A172-4EE6-B9BD-21FF5088E465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8cb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797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7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797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797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4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797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grpSp>
          <p:nvGrpSpPr>
            <p:cNvPr id="6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7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7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grpSp>
            <p:nvGrpSpPr>
              <p:cNvPr id="7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4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8cb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85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8cb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grpSp>
            <p:nvGrpSpPr>
              <p:cNvPr id="8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676c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b6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C24E-B11C-47CB-BA76-F4AED3C1DBC2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00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BEE9-DF6C-426B-8D20-C8782226997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676c5a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676c5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676c5a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676c5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676c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676c5a"/>
          </a:solidFill>
          <a:ln w="9360">
            <a:solidFill>
              <a:srgbClr val="676c5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676c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50AA-6CFA-408A-AA33-47F0A4484AFD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6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676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26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212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26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7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27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2120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5516-7D2E-46EF-B336-7E818ABEB42B}" type="slidenum">
              <a:rPr b="0" lang="ru-RU" sz="2600" spc="-1" strike="noStrike">
                <a:solidFill>
                  <a:srgbClr val="21203c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314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797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788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76077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7978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635B-3443-4841-B849-88F2C01DDE5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476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5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6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36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36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797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grpSp>
          <p:nvGrpSpPr>
            <p:cNvPr id="36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6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36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36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36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</p:grpSp>
      </p:grpSp>
      <p:grpSp>
        <p:nvGrpSpPr>
          <p:cNvPr id="36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70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371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8cb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372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797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grpSp>
          <p:nvGrpSpPr>
            <p:cNvPr id="37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7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37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8cb0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7A06-07C8-4E67-A8E6-E39821F7BCE0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00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b6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937A-1BD5-4356-B7FC-101459E8B34F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амообразование и самовоспитание как основа успешности учащегося 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« Век живи – век учис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6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Garamond"/>
              </a:rPr>
              <a:t>План саморазвития ( составлен нашим современником – 11-летним подростком )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стать интеллигентным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ути достижения 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- определить, для чего это над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- определить ограничения, которые могут встретиться на пу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- определить способы достижения цели и выстроить иерархию их осущест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Для это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-  составляю перечень тех качеств, которые я должен развить у себя, чтобы добиться це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- составляю перечень тех отрицательных качеств в себе, которые я должен преодоле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- намечаю серию действий для тренировки или, наоборот, ликвидации каждого ка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1" name="chimes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9000"/>
                            </p:stCondLst>
                            <p:childTnLst>
                              <p:par>
                                <p:cTn id="2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7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7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66"/>
            </a:gs>
            <a:gs pos="100000">
              <a:srgbClr val="cc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6" name=""/>
          <p:cNvGraphicFramePr/>
          <p:nvPr/>
        </p:nvGraphicFramePr>
        <p:xfrm>
          <a:off x="304920" y="228600"/>
          <a:ext cx="8305560" cy="6205680"/>
        </p:xfrm>
        <a:graphic>
          <a:graphicData uri="http://schemas.openxmlformats.org/drawingml/2006/table">
            <a:tbl>
              <a:tblPr/>
              <a:tblGrid>
                <a:gridCol w="1904760"/>
                <a:gridCol w="2448000"/>
                <a:gridCol w="1754280"/>
                <a:gridCol w="2198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разованность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рядочность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ражданственность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ля чего</a:t>
                      </a:r>
                      <a:endParaRPr b="1" i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не это</a:t>
                      </a:r>
                      <a:endParaRPr b="1" i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до?</a:t>
                      </a:r>
                      <a:endParaRPr b="1" i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 находить ответы на все мыслимые вопросы мироздания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 ощущать себя человеком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 улучшить не только свою жизнь, но и окружающих меня людей, потому что все мы тесно связаны в обществе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граничения</a:t>
                      </a:r>
                      <a:endParaRPr b="1" i="1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ь получить 1-2 специальных образования. Семейный бюджет не резиновый - на освоение всех культурных ценностей средств не хватит.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к свободного времени.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е недостатки: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толюбие, склонность к компромиссу, вспыльчивость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меня ещё ничего реально не зависит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пособы</a:t>
                      </a:r>
                      <a:endParaRPr b="1" i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ение, просмотр телепрограмм, походы в театры, музеи, занятия физической культурой, Интернет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упать по совести, т.е.так, как хотелось бы, чтобы поступали с тобою, не лгать, узнать и освоить правила общения с людьми, преодолеть нерешительность, стать сдержанным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ать жизненные принципы, говорить что думаешь, ставить общественное вровень с личным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out" orient="vert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Всякое настоящее образование достигается путем самообразо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.Руба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Всякое воспитание в конечном счете есть самовоспитание»        Л.Выгот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WordArt 4"/>
          <p:cNvSpPr txBox="1"/>
          <p:nvPr/>
        </p:nvSpPr>
        <p:spPr>
          <a:xfrm>
            <a:off x="1676520" y="3124080"/>
            <a:ext cx="5695920" cy="18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елаем успехов!</a:t>
            </a:r>
            <a:endParaRPr b="1" i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950040" y="568800"/>
            <a:ext cx="7548120" cy="25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Приоритетная задача</a:t>
            </a:r>
            <a:br>
              <a:rPr sz="3200"/>
            </a:b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развития нашего общества, условие его выживания, это –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восстановление, возрождение духовности и гуманитарной культуры,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в чем совершенно исключительная роль принадлежит образовательным учреждениям.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838080" y="3123720"/>
            <a:ext cx="7693200" cy="29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аким должен быть выпускник  современной школ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203c"/>
                </a:solidFill>
                <a:latin typeface="Arial"/>
              </a:rPr>
              <a:t>Модель выпускника современной школ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амосовершенствующая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амовоспитывающая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аморазвивающаяся лич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1" name="breeze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819720" y="2865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Какой же он –</a:t>
            </a: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человек будущего </a:t>
            </a: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649" name="Diagram 5"/>
          <p:cNvGrpSpPr/>
          <p:nvPr/>
        </p:nvGrpSpPr>
        <p:grpSpPr>
          <a:xfrm>
            <a:off x="1622880" y="1143000"/>
            <a:ext cx="6909840" cy="5405040"/>
            <a:chOff x="1622880" y="1143000"/>
            <a:chExt cx="6909840" cy="5405040"/>
          </a:xfrm>
        </p:grpSpPr>
        <p:sp>
          <p:nvSpPr>
            <p:cNvPr id="650" name="_s1028"/>
            <p:cNvSpPr/>
            <p:nvPr/>
          </p:nvSpPr>
          <p:spPr>
            <a:xfrm flipH="1" flipV="1">
              <a:off x="3477600" y="2888280"/>
              <a:ext cx="509760" cy="47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1" name="_s1029"/>
            <p:cNvSpPr/>
            <p:nvPr/>
          </p:nvSpPr>
          <p:spPr>
            <a:xfrm>
              <a:off x="2253600" y="1737720"/>
              <a:ext cx="1437120" cy="135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212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Гражданин…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2" name="_s1030"/>
            <p:cNvSpPr/>
            <p:nvPr/>
          </p:nvSpPr>
          <p:spPr>
            <a:xfrm flipH="1">
              <a:off x="3055320" y="3845520"/>
              <a:ext cx="721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3" name="_s1031"/>
            <p:cNvSpPr/>
            <p:nvPr/>
          </p:nvSpPr>
          <p:spPr>
            <a:xfrm>
              <a:off x="1622880" y="3170160"/>
              <a:ext cx="1437120" cy="135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212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Творческая …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4" name="_s1032"/>
            <p:cNvSpPr/>
            <p:nvPr/>
          </p:nvSpPr>
          <p:spPr>
            <a:xfrm flipH="1">
              <a:off x="3477600" y="4322520"/>
              <a:ext cx="509760" cy="47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5" name="_s1033"/>
            <p:cNvSpPr/>
            <p:nvPr/>
          </p:nvSpPr>
          <p:spPr>
            <a:xfrm>
              <a:off x="2253600" y="4601880"/>
              <a:ext cx="1437120" cy="135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212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Культурный …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6" name="_s1034"/>
            <p:cNvSpPr/>
            <p:nvPr/>
          </p:nvSpPr>
          <p:spPr>
            <a:xfrm>
              <a:off x="4495320" y="4521240"/>
              <a:ext cx="0" cy="677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7" name="_s1035"/>
            <p:cNvSpPr/>
            <p:nvPr/>
          </p:nvSpPr>
          <p:spPr>
            <a:xfrm>
              <a:off x="3776760" y="5196960"/>
              <a:ext cx="1437120" cy="135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212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Компетентный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…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8" name="_s1036"/>
            <p:cNvSpPr/>
            <p:nvPr/>
          </p:nvSpPr>
          <p:spPr>
            <a:xfrm>
              <a:off x="5003280" y="4322520"/>
              <a:ext cx="509760" cy="47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9" name="_s1037"/>
            <p:cNvSpPr/>
            <p:nvPr/>
          </p:nvSpPr>
          <p:spPr>
            <a:xfrm>
              <a:off x="5302440" y="4604040"/>
              <a:ext cx="1437120" cy="135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212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Образованный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…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60" name="_s1038"/>
            <p:cNvSpPr/>
            <p:nvPr/>
          </p:nvSpPr>
          <p:spPr>
            <a:xfrm>
              <a:off x="5214240" y="3845520"/>
              <a:ext cx="721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61" name="_s1039"/>
            <p:cNvSpPr/>
            <p:nvPr/>
          </p:nvSpPr>
          <p:spPr>
            <a:xfrm>
              <a:off x="5935680" y="3170160"/>
              <a:ext cx="1437120" cy="135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212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Деловой …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62" name="_s1040"/>
            <p:cNvSpPr/>
            <p:nvPr/>
          </p:nvSpPr>
          <p:spPr>
            <a:xfrm flipV="1">
              <a:off x="5003280" y="2888280"/>
              <a:ext cx="509760" cy="47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63" name="_s1041"/>
            <p:cNvSpPr/>
            <p:nvPr/>
          </p:nvSpPr>
          <p:spPr>
            <a:xfrm>
              <a:off x="5302440" y="1735920"/>
              <a:ext cx="1437120" cy="135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212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Здоровый…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64" name="_s1042"/>
            <p:cNvSpPr/>
            <p:nvPr/>
          </p:nvSpPr>
          <p:spPr>
            <a:xfrm flipV="1">
              <a:off x="4495320" y="2493720"/>
              <a:ext cx="0" cy="677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65" name="_s1043"/>
            <p:cNvSpPr/>
            <p:nvPr/>
          </p:nvSpPr>
          <p:spPr>
            <a:xfrm>
              <a:off x="3776760" y="1143000"/>
              <a:ext cx="1437120" cy="135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212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Личность 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с 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доминантой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на …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66" name="_s1044"/>
            <p:cNvSpPr/>
            <p:nvPr/>
          </p:nvSpPr>
          <p:spPr>
            <a:xfrm>
              <a:off x="3776760" y="3172320"/>
              <a:ext cx="1437120" cy="135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67" name="Oval 27"/>
            <p:cNvSpPr/>
            <p:nvPr/>
          </p:nvSpPr>
          <p:spPr>
            <a:xfrm>
              <a:off x="7620480" y="1827720"/>
              <a:ext cx="912240" cy="915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pic>
        <p:nvPicPr>
          <p:cNvPr id="668" name="Picture 24" descr="123010"/>
          <p:cNvPicPr/>
          <p:nvPr/>
        </p:nvPicPr>
        <p:blipFill>
          <a:blip r:embed="rId1"/>
          <a:stretch/>
        </p:blipFill>
        <p:spPr>
          <a:xfrm>
            <a:off x="3505320" y="3200400"/>
            <a:ext cx="2062080" cy="1444680"/>
          </a:xfrm>
          <a:prstGeom prst="rect">
            <a:avLst/>
          </a:prstGeom>
          <a:ln w="0">
            <a:noFill/>
          </a:ln>
        </p:spPr>
      </p:pic>
      <p:sp>
        <p:nvSpPr>
          <p:cNvPr id="669" name="AutoShape 26"/>
          <p:cNvSpPr/>
          <p:nvPr/>
        </p:nvSpPr>
        <p:spPr>
          <a:xfrm>
            <a:off x="2514600" y="533520"/>
            <a:ext cx="4692600" cy="1544400"/>
          </a:xfrm>
          <a:prstGeom prst="wedgeEllipseCallout">
            <a:avLst>
              <a:gd name="adj1" fmla="val -6393"/>
              <a:gd name="adj2" fmla="val 12143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 </a:t>
            </a: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Личность с доминантой на самосовершенствование, постоянно занимающийся самообразованием, сохраняющий интерес к познанию мира на протяжении всей жизни.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0" name="AutoShape 28"/>
          <p:cNvSpPr/>
          <p:nvPr/>
        </p:nvSpPr>
        <p:spPr>
          <a:xfrm>
            <a:off x="5181480" y="1219320"/>
            <a:ext cx="3900600" cy="23000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203c"/>
                </a:solidFill>
                <a:latin typeface="Garamond"/>
              </a:rPr>
              <a:t>Здоровый физически и психически, ориентирующийся на здоровый образ жизни, испытывающий постоянную потребность в  саморегуляции и физическом совершенствовании.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1" name="AutoShape 30"/>
          <p:cNvSpPr/>
          <p:nvPr/>
        </p:nvSpPr>
        <p:spPr>
          <a:xfrm>
            <a:off x="5638680" y="4191120"/>
            <a:ext cx="3252960" cy="2442960"/>
          </a:xfrm>
          <a:prstGeom prst="wedgeEllipseCallout">
            <a:avLst>
              <a:gd name="adj1" fmla="val -63226"/>
              <a:gd name="adj2" fmla="val -3265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Образованный,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воспитанный,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интеллигентный человек,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в основе поступков которого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превалируют гуманистические идеи и ценности.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2" name="AutoShape 31"/>
          <p:cNvSpPr/>
          <p:nvPr/>
        </p:nvSpPr>
        <p:spPr>
          <a:xfrm>
            <a:off x="2438280" y="4952880"/>
            <a:ext cx="5089680" cy="1687680"/>
          </a:xfrm>
          <a:prstGeom prst="wedgeEllipseCallout">
            <a:avLst>
              <a:gd name="adj1" fmla="val -824"/>
              <a:gd name="adj2" fmla="val -6627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Компетентный, социально зрелый, свободный, осознающий свои права и признающий права других людей с их убеждениями и вероисповеданием.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3" name="Oval 32"/>
          <p:cNvSpPr/>
          <p:nvPr/>
        </p:nvSpPr>
        <p:spPr>
          <a:xfrm>
            <a:off x="533520" y="38098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4" name="Oval 33"/>
          <p:cNvSpPr/>
          <p:nvPr/>
        </p:nvSpPr>
        <p:spPr>
          <a:xfrm flipV="1">
            <a:off x="7620120" y="2742480"/>
            <a:ext cx="91440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5" name="AutoShape 34"/>
          <p:cNvSpPr/>
          <p:nvPr/>
        </p:nvSpPr>
        <p:spPr>
          <a:xfrm>
            <a:off x="5999040" y="2971800"/>
            <a:ext cx="3144960" cy="1400040"/>
          </a:xfrm>
          <a:prstGeom prst="wedgeEllipseCallout">
            <a:avLst>
              <a:gd name="adj1" fmla="val -66555"/>
              <a:gd name="adj2" fmla="val 5666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Деловой, трудолюбивый,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самостоятельный, 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конкурентоспособный.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6" name="AutoShape 35"/>
          <p:cNvSpPr/>
          <p:nvPr/>
        </p:nvSpPr>
        <p:spPr>
          <a:xfrm>
            <a:off x="228600" y="4419720"/>
            <a:ext cx="3252960" cy="2263680"/>
          </a:xfrm>
          <a:prstGeom prst="wedgeEllipseCallout">
            <a:avLst>
              <a:gd name="adj1" fmla="val 56393"/>
              <a:gd name="adj2" fmla="val -38078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203c"/>
                </a:solidFill>
                <a:latin typeface="Garamond"/>
              </a:rPr>
              <a:t>Высоконравственный и духовно культурный,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203c"/>
                </a:solidFill>
                <a:latin typeface="Garamond"/>
              </a:rPr>
              <a:t>живущий интересами ноосферного развития, участвующий в межнациональном общении.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7" name="AutoShape 36"/>
          <p:cNvSpPr/>
          <p:nvPr/>
        </p:nvSpPr>
        <p:spPr>
          <a:xfrm>
            <a:off x="304920" y="3124080"/>
            <a:ext cx="2928960" cy="1343160"/>
          </a:xfrm>
          <a:prstGeom prst="wedgeEllipseCallout">
            <a:avLst>
              <a:gd name="adj1" fmla="val 63226"/>
              <a:gd name="adj2" fmla="val 44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Творческая личность, постоянно совершенствующая самоё себя.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8" name="AutoShape 37"/>
          <p:cNvSpPr/>
          <p:nvPr/>
        </p:nvSpPr>
        <p:spPr>
          <a:xfrm>
            <a:off x="304920" y="1371600"/>
            <a:ext cx="4081320" cy="1760400"/>
          </a:xfrm>
          <a:prstGeom prst="wedgeEllipseCallout">
            <a:avLst>
              <a:gd name="adj1" fmla="val 38722"/>
              <a:gd name="adj2" fmla="val 539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Гражданин, патриот, семьянин, Человек Мира, знающий свою родословную, малую и большую родину, уважающий и чтящий обычаи предков, их веру.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type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5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7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5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657720" y="581760"/>
            <a:ext cx="782856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Кто может воспитать         Человека будущего? 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693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По рекомендациям ЮНЕСКО современный выпускник должен иметь шесть основных ключевых компетентносте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03c"/>
                </a:solidFill>
                <a:latin typeface="Arial"/>
              </a:rPr>
              <a:t>умение работать с числовой информаци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03c"/>
                </a:solidFill>
                <a:latin typeface="Arial"/>
              </a:rPr>
              <a:t>коммуникативные ум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03c"/>
                </a:solidFill>
                <a:latin typeface="Arial"/>
              </a:rPr>
              <a:t>владение информационными технологиями, умение жить в информационном обществ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03c"/>
                </a:solidFill>
                <a:latin typeface="Arial"/>
              </a:rPr>
              <a:t>открытость новому знанию, навыки саморазвития и самообра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03c"/>
                </a:solidFill>
                <a:latin typeface="Arial"/>
              </a:rPr>
              <a:t>умение сотрудничать, работать в команд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03c"/>
                </a:solidFill>
                <a:latin typeface="Arial"/>
              </a:rPr>
              <a:t>умение решать проблемы, принимать решения и нести за них ответствен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7" name="breeze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300"/>
                            </p:stCondLst>
                            <p:childTnLst>
                              <p:par>
                                <p:cTn id="1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300"/>
                            </p:stCondLst>
                            <p:childTnLst>
                              <p:par>
                                <p:cTn id="1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300"/>
                            </p:stCondLst>
                            <p:childTnLst>
                              <p:par>
                                <p:cTn id="1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3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30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3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6300"/>
                            </p:stCondLst>
                            <p:childTnLst>
                              <p:par>
                                <p:cTn id="2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C64E-BFCF-42CC-B36E-86006FB553F9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Самовоспитание -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процесс намеренного изменения, возведения человеком себя самого на более высокую ступень физического, духовно-нравственного, социального   и творческого развития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(Г.К.Селевко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Селевко Г.К.,  к.п.н., профессор, зав.лабораторией развивающих технологий Ярославского областного института развития образова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17E7-BA1A-4B3A-B0F3-4D149064D47E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Самообразование - 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целенаправленная, свободная и    самостоятельная познавательная деятельность, направленная на удовлетворение интересов, потребностей человека в познании окружающего мира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                                  </a:t>
            </a: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( Г.К.Селевко 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6196-2C4F-43CD-B742-3A862F856F25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Факторы, влияющие на процесс самообразования и самовоспитан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формирование общественных идеалов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притязания личности на признание себя в  коллективе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ориентация на положительные примеры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создание обстановки здоровой критики и самокритики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внесение в работу атмосферы состязательности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6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169E-E913-46C4-9032-20CCF74B3B69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етоды самовоспит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моприказ, самообязательство,самоприну – ждение, самоубе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мовнушение,самопоощрение,самонаказание, самоутешение, самокрит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моконтроль,самооценка,корректировка  плана де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моционально-мысленный перенос в положение другого человека (эмпатия), сопережи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моинструктирование, самоподчинение, самонапомин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6" descr="j0299125"/>
          <p:cNvPicPr/>
          <p:nvPr/>
        </p:nvPicPr>
        <p:blipFill>
          <a:blip r:embed="rId1"/>
          <a:stretch/>
        </p:blipFill>
        <p:spPr>
          <a:xfrm>
            <a:off x="228600" y="38098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Номер слайда 6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3269-90B5-4212-817B-EB6351DB5217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95" name="Diagram 5"/>
          <p:cNvGrpSpPr/>
          <p:nvPr/>
        </p:nvGrpSpPr>
        <p:grpSpPr>
          <a:xfrm>
            <a:off x="407520" y="1603080"/>
            <a:ext cx="8179200" cy="5684760"/>
            <a:chOff x="407520" y="1603080"/>
            <a:chExt cx="8179200" cy="5684760"/>
          </a:xfrm>
        </p:grpSpPr>
        <p:sp>
          <p:nvSpPr>
            <p:cNvPr id="696" name="_s2052"/>
            <p:cNvSpPr/>
            <p:nvPr/>
          </p:nvSpPr>
          <p:spPr>
            <a:xfrm>
              <a:off x="1612440" y="2065320"/>
              <a:ext cx="5764680" cy="3232080"/>
            </a:xfrm>
            <a:custGeom>
              <a:avLst/>
              <a:gdLst>
                <a:gd name="textAreaLeft" fmla="*/ 0 w 5764680"/>
                <a:gd name="textAreaRight" fmla="*/ 5765040 w 5764680"/>
                <a:gd name="textAreaTop" fmla="*/ 0 h 3232080"/>
                <a:gd name="textAreaBottom" fmla="*/ 3232440 h 32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97" name="_s2053"/>
            <p:cNvSpPr/>
            <p:nvPr/>
          </p:nvSpPr>
          <p:spPr>
            <a:xfrm rot="7200000">
              <a:off x="3666240" y="1561320"/>
              <a:ext cx="3232080" cy="5764680"/>
            </a:xfrm>
            <a:custGeom>
              <a:avLst/>
              <a:gdLst>
                <a:gd name="textAreaLeft" fmla="*/ 0 w 3232080"/>
                <a:gd name="textAreaRight" fmla="*/ 3232440 w 3232080"/>
                <a:gd name="textAreaTop" fmla="*/ 0 h 5764680"/>
                <a:gd name="textAreaBottom" fmla="*/ 5765040 h 576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98" name="_s2054"/>
            <p:cNvSpPr/>
            <p:nvPr/>
          </p:nvSpPr>
          <p:spPr>
            <a:xfrm rot="14400000">
              <a:off x="2095200" y="1564200"/>
              <a:ext cx="3232800" cy="5764680"/>
            </a:xfrm>
            <a:custGeom>
              <a:avLst/>
              <a:gdLst>
                <a:gd name="textAreaLeft" fmla="*/ 0 w 3232800"/>
                <a:gd name="textAreaRight" fmla="*/ 3233160 w 3232800"/>
                <a:gd name="textAreaTop" fmla="*/ 0 h 5764680"/>
                <a:gd name="textAreaBottom" fmla="*/ 5765040 h 576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99" name="_s2055"/>
            <p:cNvSpPr/>
            <p:nvPr/>
          </p:nvSpPr>
          <p:spPr>
            <a:xfrm>
              <a:off x="6068880" y="2657160"/>
              <a:ext cx="2311920" cy="12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cc"/>
                  </a:solidFill>
                  <a:latin typeface="Garamond"/>
                </a:rPr>
                <a:t>Самоорганизация</a:t>
              </a:r>
              <a:endParaRPr b="1" i="1" lang="en-US" sz="36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Garamond"/>
                </a:rPr>
                <a:t>(самоконтроль,</a:t>
              </a: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Garamond"/>
                </a:rPr>
                <a:t>самоотчет,</a:t>
              </a: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Garamond"/>
                </a:rPr>
                <a:t>самоанализ)</a:t>
              </a: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700" name="_s2056"/>
            <p:cNvSpPr/>
            <p:nvPr/>
          </p:nvSpPr>
          <p:spPr>
            <a:xfrm>
              <a:off x="3338640" y="5311440"/>
              <a:ext cx="2311920" cy="12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cc"/>
                  </a:solidFill>
                  <a:latin typeface="Garamond"/>
                </a:rPr>
                <a:t>Самоинфор-</a:t>
              </a:r>
              <a:endParaRPr b="1" i="1" lang="en-US" sz="36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cc"/>
                  </a:solidFill>
                  <a:latin typeface="Garamond"/>
                </a:rPr>
                <a:t>мирование</a:t>
              </a:r>
              <a:endParaRPr b="1" i="1" lang="en-US" sz="3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701" name="_s2057"/>
            <p:cNvSpPr/>
            <p:nvPr/>
          </p:nvSpPr>
          <p:spPr>
            <a:xfrm>
              <a:off x="609480" y="2660040"/>
              <a:ext cx="2311920" cy="12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cc"/>
                  </a:solidFill>
                  <a:latin typeface="Garamond"/>
                </a:rPr>
                <a:t>Самопобуждение</a:t>
              </a:r>
              <a:endParaRPr b="1" i="1" lang="en-US" sz="36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cc"/>
                  </a:solidFill>
                  <a:latin typeface="Garamond"/>
                </a:rPr>
                <a:t>(</a:t>
              </a:r>
              <a:r>
                <a:rPr b="0" lang="ru-RU" sz="2000" spc="-1" strike="noStrike">
                  <a:solidFill>
                    <a:srgbClr val="ffffcc"/>
                  </a:solidFill>
                  <a:latin typeface="Garamond"/>
                </a:rPr>
                <a:t>самоприказ, </a:t>
              </a: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cc"/>
                  </a:solidFill>
                  <a:latin typeface="Garamond"/>
                </a:rPr>
                <a:t>самопринуждение,</a:t>
              </a: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cc"/>
                  </a:solidFill>
                  <a:latin typeface="Garamond"/>
                </a:rPr>
                <a:t>самоубеждение)</a:t>
              </a: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pic>
        <p:nvPicPr>
          <p:cNvPr id="702" name="Picture 20" descr="j0233018"/>
          <p:cNvPicPr/>
          <p:nvPr/>
        </p:nvPicPr>
        <p:blipFill>
          <a:blip r:embed="rId1"/>
          <a:stretch/>
        </p:blipFill>
        <p:spPr>
          <a:xfrm>
            <a:off x="3505320" y="3048120"/>
            <a:ext cx="2292120" cy="232704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Методы самообразо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рахман И.Д.</dc:creator>
  <dc:description/>
  <dc:language>en-US</dc:language>
  <cp:lastModifiedBy>комп</cp:lastModifiedBy>
  <dcterms:modified xsi:type="dcterms:W3CDTF">2013-03-20T16:10:04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