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DF79-7BAA-4648-89E4-0CA0B6AF2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2720" y="325080"/>
            <a:ext cx="62895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2540160"/>
            <a:ext cx="600552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8560" y="5458680"/>
            <a:ext cx="600552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980B-C34C-4191-8C86-971F81A6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2720" y="325080"/>
            <a:ext cx="62895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28560" y="2540160"/>
            <a:ext cx="293040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05840" y="2540160"/>
            <a:ext cx="293040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8560" y="5458680"/>
            <a:ext cx="293040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705840" y="5458680"/>
            <a:ext cx="293040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56F7-AD38-4C50-B474-A51932E80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325080"/>
            <a:ext cx="62895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28560" y="2540160"/>
            <a:ext cx="19335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659320" y="2540160"/>
            <a:ext cx="19335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89720" y="2540160"/>
            <a:ext cx="19335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28560" y="5458680"/>
            <a:ext cx="19335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2659320" y="5458680"/>
            <a:ext cx="19335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4689720" y="5458680"/>
            <a:ext cx="19335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82BA-D402-4C3F-9F24-8EE781DE9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7C18-92E2-42BB-A64C-27B27935A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2720" y="325080"/>
            <a:ext cx="62895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28560" y="2540160"/>
            <a:ext cx="6005520" cy="55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8C6E-150D-4DC2-9CC1-862E62F2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25080"/>
            <a:ext cx="62895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2540160"/>
            <a:ext cx="60055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AA0E-58EC-4F61-BCE6-0B561997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25080"/>
            <a:ext cx="62895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2540160"/>
            <a:ext cx="293040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705840" y="2540160"/>
            <a:ext cx="293040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9C18-D01C-4ABB-AE8E-B0CD77EF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25080"/>
            <a:ext cx="62895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91CC-E15C-47A0-936B-43638080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342720" y="325080"/>
            <a:ext cx="6289560" cy="88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FE60-22B8-4157-9B87-FD978834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25080"/>
            <a:ext cx="62895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2540160"/>
            <a:ext cx="293040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05840" y="2540160"/>
            <a:ext cx="293040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5458680"/>
            <a:ext cx="293040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A712-0A1A-46B3-8BD9-13587AF6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25080"/>
            <a:ext cx="62895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28560" y="2540160"/>
            <a:ext cx="6005520" cy="55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2FC7-9FB4-445D-981C-1DD33CDD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325080"/>
            <a:ext cx="62895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2540160"/>
            <a:ext cx="293040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05840" y="2540160"/>
            <a:ext cx="293040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705840" y="5458680"/>
            <a:ext cx="293040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404EC-DA11-4AAB-B74C-07440F1C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720" y="325080"/>
            <a:ext cx="62895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2540160"/>
            <a:ext cx="293040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05840" y="2540160"/>
            <a:ext cx="293040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8560" y="5458680"/>
            <a:ext cx="600552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A976-3EA9-47D0-BC8B-D31695CE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325080"/>
            <a:ext cx="62895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8560" y="2540160"/>
            <a:ext cx="600552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28560" y="5458680"/>
            <a:ext cx="600552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E487-24CF-4F70-94F2-7E1081AA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25080"/>
            <a:ext cx="62895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28560" y="2540160"/>
            <a:ext cx="293040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05840" y="2540160"/>
            <a:ext cx="293040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28560" y="5458680"/>
            <a:ext cx="293040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705840" y="5458680"/>
            <a:ext cx="293040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AF45-C3AC-4F0A-A4B9-BD75FB87D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2720" y="325080"/>
            <a:ext cx="62895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28560" y="2540160"/>
            <a:ext cx="19335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2659320" y="2540160"/>
            <a:ext cx="19335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89720" y="2540160"/>
            <a:ext cx="19335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28560" y="5458680"/>
            <a:ext cx="19335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2659320" y="5458680"/>
            <a:ext cx="19335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4689720" y="5458680"/>
            <a:ext cx="19335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6D69-4D92-4755-9284-113579181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25080"/>
            <a:ext cx="62895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8560" y="2540160"/>
            <a:ext cx="60055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0A8F-50BE-469B-A7C2-6C142C27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25080"/>
            <a:ext cx="62895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2540160"/>
            <a:ext cx="293040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05840" y="2540160"/>
            <a:ext cx="293040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DD5B-7165-4A11-9D75-F9510C57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25080"/>
            <a:ext cx="62895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3302-BC88-437A-AC2A-B02CA132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42720" y="325080"/>
            <a:ext cx="6289560" cy="88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D457-4DB9-4BA8-9CCB-13DB5CD7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25080"/>
            <a:ext cx="62895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2540160"/>
            <a:ext cx="293040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705840" y="2540160"/>
            <a:ext cx="293040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5458680"/>
            <a:ext cx="293040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6440-8B07-42CB-BFEB-891067A8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25080"/>
            <a:ext cx="62895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2540160"/>
            <a:ext cx="293040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05840" y="2540160"/>
            <a:ext cx="293040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705840" y="5458680"/>
            <a:ext cx="293040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85EF-8D5F-4881-B172-43EA17DA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25080"/>
            <a:ext cx="62895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560" y="2540160"/>
            <a:ext cx="293040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05840" y="2540160"/>
            <a:ext cx="293040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560" y="5458680"/>
            <a:ext cx="600552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C2F0-4DFB-4F70-9700-8501CA06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39760" y="2438280"/>
            <a:ext cx="6617880" cy="6705360"/>
            <a:chOff x="239760" y="2438280"/>
            <a:chExt cx="6617880" cy="6705360"/>
          </a:xfrm>
        </p:grpSpPr>
        <p:sp>
          <p:nvSpPr>
            <p:cNvPr id="1" name=""/>
            <p:cNvSpPr/>
            <p:nvPr/>
          </p:nvSpPr>
          <p:spPr>
            <a:xfrm>
              <a:off x="628920" y="6157080"/>
              <a:ext cx="6228720" cy="2986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50200" y="2438280"/>
              <a:ext cx="6607440" cy="670536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8920" y="6205680"/>
              <a:ext cx="6228720" cy="29379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8920" y="2438280"/>
              <a:ext cx="5484600" cy="6120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5480" bIns="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8920" y="2438280"/>
              <a:ext cx="34200" cy="377784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7840" y="6146640"/>
              <a:ext cx="34200" cy="299700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9760" y="6146640"/>
              <a:ext cx="3427560" cy="6120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5480" bIns="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39760" y="6146640"/>
              <a:ext cx="35640" cy="299700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628200" y="8326440"/>
            <a:ext cx="14274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25718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5203800" y="8326440"/>
            <a:ext cx="1425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A955-4C16-48A2-B010-B58A605AF2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42720" y="325080"/>
            <a:ext cx="62895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28560" y="2540160"/>
            <a:ext cx="60055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39760" y="2336760"/>
            <a:ext cx="6617880" cy="6838560"/>
            <a:chOff x="239760" y="2336760"/>
            <a:chExt cx="6617880" cy="6838560"/>
          </a:xfrm>
        </p:grpSpPr>
        <p:sp>
          <p:nvSpPr>
            <p:cNvPr id="51" name=""/>
            <p:cNvSpPr/>
            <p:nvPr/>
          </p:nvSpPr>
          <p:spPr>
            <a:xfrm>
              <a:off x="250200" y="2336760"/>
              <a:ext cx="6607440" cy="680688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8920" y="5079600"/>
              <a:ext cx="6228720" cy="406368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39760" y="5031360"/>
              <a:ext cx="4113360" cy="6120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5480" bIns="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8920" y="2336760"/>
              <a:ext cx="5826600" cy="6120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5480" bIns="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39760" y="5031360"/>
              <a:ext cx="35640" cy="414396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28920" y="2336760"/>
              <a:ext cx="34200" cy="68263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3040" y="2539800"/>
            <a:ext cx="5829120" cy="23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743040" y="8326440"/>
            <a:ext cx="14270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260208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5203800" y="8326440"/>
            <a:ext cx="1425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48C6-C39B-4257-9C9D-600B921ABB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2720" y="325080"/>
            <a:ext cx="62895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c0c00"/>
                </a:solidFill>
                <a:latin typeface="Arial Black"/>
              </a:rPr>
              <a:t>Солнышко или просто Божья коровка.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8" name="Picture 10" descr="http://cs5428.vkontakte.ru/u101736992/-6/x_1094d58d.jpg"/>
          <p:cNvPicPr/>
          <p:nvPr/>
        </p:nvPicPr>
        <p:blipFill>
          <a:blip r:embed="rId1"/>
          <a:stretch/>
        </p:blipFill>
        <p:spPr>
          <a:xfrm>
            <a:off x="620640" y="2700360"/>
            <a:ext cx="6096240" cy="4302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49360" y="7956720"/>
            <a:ext cx="611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c00"/>
                </a:solidFill>
                <a:latin typeface="Arial Black"/>
              </a:rPr>
              <a:t>Выполнила: ученица 3 «б» класса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c00"/>
                </a:solidFill>
                <a:latin typeface="Arial Black"/>
              </a:rPr>
              <a:t>                       </a:t>
            </a:r>
            <a:r>
              <a:rPr b="1" lang="ru-RU" sz="2000" spc="-1" strike="noStrike">
                <a:solidFill>
                  <a:srgbClr val="0c0c00"/>
                </a:solidFill>
                <a:latin typeface="Arial Black"/>
              </a:rPr>
              <a:t>Миндибаева Кристи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2720" y="325080"/>
            <a:ext cx="62895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c0c00"/>
                </a:solidFill>
                <a:latin typeface="Arial Black"/>
              </a:rPr>
              <a:t>Божья коровка ест тлю – этим она очень помогает растениям – не дает тле сгрызть все листики у цветочков и кустиков.</a:t>
            </a:r>
            <a:endParaRPr b="1" lang="en-US" sz="25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9" name="Picture 2" descr="http://cornit.narod.ru/final_ab006162.jpg"/>
          <p:cNvPicPr/>
          <p:nvPr/>
        </p:nvPicPr>
        <p:blipFill>
          <a:blip r:embed="rId1"/>
          <a:stretch/>
        </p:blipFill>
        <p:spPr>
          <a:xfrm>
            <a:off x="907920" y="3780000"/>
            <a:ext cx="523584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33360" y="325440"/>
            <a:ext cx="629928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c0c00"/>
                </a:solidFill>
                <a:latin typeface="Arial Black"/>
              </a:rPr>
              <a:t>Возможно, в будущем, человек откажется от ядохимикатов и обратит внимание на крошечных помощников в борьбе с вредителями. И в первом ряду защитников садов и полей достойно займёт своё место маленький красно-оранжевый жучок с черными точками – </a:t>
            </a:r>
            <a:r>
              <a:rPr b="1" lang="en-US" sz="3000" spc="-1" strike="noStrike">
                <a:solidFill>
                  <a:srgbClr val="0c0c00"/>
                </a:solidFill>
                <a:latin typeface="Arial Black"/>
              </a:rPr>
              <a:t>божья коровка</a:t>
            </a:r>
            <a:r>
              <a:rPr b="1" lang="en-US" sz="2500" spc="-1" strike="noStrike">
                <a:solidFill>
                  <a:srgbClr val="0c0c00"/>
                </a:solidFill>
                <a:latin typeface="Arial Black"/>
              </a:rPr>
              <a:t>.</a:t>
            </a:r>
            <a:endParaRPr b="1" lang="en-US" sz="25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1" name="" descr="Божья коровка"/>
          <p:cNvPicPr/>
          <p:nvPr/>
        </p:nvPicPr>
        <p:blipFill>
          <a:blip r:embed="rId1"/>
          <a:stretch/>
        </p:blipFill>
        <p:spPr>
          <a:xfrm>
            <a:off x="981000" y="4788000"/>
            <a:ext cx="476244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33360" y="-360"/>
            <a:ext cx="62992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0c0c00"/>
                </a:solidFill>
                <a:latin typeface="Arial Black"/>
              </a:rPr>
              <a:t>Божья коровка считается</a:t>
            </a:r>
            <a:r>
              <a:rPr b="1" lang="ru-RU" sz="4000" spc="-1" strike="noStrike">
                <a:solidFill>
                  <a:srgbClr val="0c0c00"/>
                </a:solidFill>
                <a:latin typeface="Arial Black"/>
              </a:rPr>
              <a:t> </a:t>
            </a:r>
            <a:r>
              <a:rPr b="1" lang="ru-RU" sz="2500" spc="-1" strike="noStrike">
                <a:solidFill>
                  <a:srgbClr val="0c0c00"/>
                </a:solidFill>
                <a:latin typeface="Arial Black"/>
              </a:rPr>
              <a:t>существом весьма доверчивым. В России, Англии и Дании существует игра — ребёнок ловит божью коровку и читает ей стишок: </a:t>
            </a:r>
            <a:br>
              <a:rPr sz="2500"/>
            </a:br>
            <a:r>
              <a:rPr b="1" lang="en-US" sz="2500" spc="-1" strike="noStrike">
                <a:solidFill>
                  <a:srgbClr val="0c0c00"/>
                </a:solidFill>
                <a:latin typeface="Arial Black"/>
              </a:rPr>
              <a:t>           </a:t>
            </a:r>
            <a:r>
              <a:rPr b="1" lang="ru-RU" sz="2500" spc="-1" strike="noStrike">
                <a:solidFill>
                  <a:srgbClr val="0c0c00"/>
                </a:solidFill>
                <a:latin typeface="Arial Black"/>
              </a:rPr>
              <a:t>        Божья коровка, </a:t>
            </a:r>
            <a:br>
              <a:rPr sz="2500"/>
            </a:br>
            <a:r>
              <a:rPr b="1" lang="ru-RU" sz="2500" spc="-1" strike="noStrike">
                <a:solidFill>
                  <a:srgbClr val="0c0c00"/>
                </a:solidFill>
                <a:latin typeface="Arial Black"/>
              </a:rPr>
              <a:t>        </a:t>
            </a:r>
            <a:r>
              <a:rPr b="1" lang="en-US" sz="2500" spc="-1" strike="noStrike">
                <a:solidFill>
                  <a:srgbClr val="0c0c00"/>
                </a:solidFill>
                <a:latin typeface="Arial Black"/>
              </a:rPr>
              <a:t>           </a:t>
            </a:r>
            <a:r>
              <a:rPr b="1" lang="ru-RU" sz="2500" spc="-1" strike="noStrike">
                <a:solidFill>
                  <a:srgbClr val="0c0c00"/>
                </a:solidFill>
                <a:latin typeface="Arial Black"/>
              </a:rPr>
              <a:t>Полети на небо, </a:t>
            </a:r>
            <a:br>
              <a:rPr sz="2500"/>
            </a:br>
            <a:r>
              <a:rPr b="1" lang="ru-RU" sz="2500" spc="-1" strike="noStrike">
                <a:solidFill>
                  <a:srgbClr val="0c0c00"/>
                </a:solidFill>
                <a:latin typeface="Arial Black"/>
              </a:rPr>
              <a:t>        </a:t>
            </a:r>
            <a:r>
              <a:rPr b="1" lang="en-US" sz="2500" spc="-1" strike="noStrike">
                <a:solidFill>
                  <a:srgbClr val="0c0c00"/>
                </a:solidFill>
                <a:latin typeface="Arial Black"/>
              </a:rPr>
              <a:t>           </a:t>
            </a:r>
            <a:r>
              <a:rPr b="1" lang="ru-RU" sz="2500" spc="-1" strike="noStrike">
                <a:solidFill>
                  <a:srgbClr val="0c0c00"/>
                </a:solidFill>
                <a:latin typeface="Arial Black"/>
              </a:rPr>
              <a:t>Там твои детки...</a:t>
            </a: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0c0c00"/>
                </a:solidFill>
                <a:latin typeface="Arial Black"/>
              </a:rPr>
              <a:t>и жучок полз на кончики пальцев и, расправив крылья, взлетал. </a:t>
            </a:r>
            <a:br>
              <a:rPr sz="2500"/>
            </a:br>
            <a:endParaRPr b="1" lang="en-US" sz="25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276640" y="5508720"/>
            <a:ext cx="2216160" cy="2144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79600" y="7811280"/>
            <a:ext cx="56476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c0c00"/>
                </a:solidFill>
                <a:latin typeface="Arial Black"/>
              </a:rPr>
              <a:t>Во</a:t>
            </a:r>
            <a:r>
              <a:rPr b="1" lang="ru-RU" sz="2500" spc="-1" strike="noStrike">
                <a:solidFill>
                  <a:srgbClr val="0c0c00"/>
                </a:solidFill>
                <a:latin typeface="Arial"/>
              </a:rPr>
              <a:t> </a:t>
            </a:r>
            <a:r>
              <a:rPr b="1" lang="ru-RU" sz="2500" spc="-1" strike="noStrike">
                <a:solidFill>
                  <a:srgbClr val="0c0c00"/>
                </a:solidFill>
                <a:latin typeface="Arial Black"/>
              </a:rPr>
              <a:t>время полета божья коровка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c0c00"/>
                </a:solidFill>
                <a:latin typeface="Arial Black"/>
              </a:rPr>
              <a:t>делает 85 взмахов крыльями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c0c00"/>
                </a:solidFill>
                <a:latin typeface="Arial Black"/>
              </a:rPr>
              <a:t>в секунду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0280" y="-360"/>
            <a:ext cx="628992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c0c00"/>
                </a:solidFill>
                <a:latin typeface="Arial Black"/>
              </a:rPr>
              <a:t>У божьей коровки на спинке чёрные точечки.</a:t>
            </a:r>
            <a:endParaRPr b="1" lang="en-US" sz="25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Picture 2" descr="http://photo.a42.ru/photos/84766/full/16518.jpg"/>
          <p:cNvPicPr/>
          <p:nvPr/>
        </p:nvPicPr>
        <p:blipFill>
          <a:blip r:embed="rId1"/>
          <a:srcRect l="0" t="0" r="0" b="7631"/>
          <a:stretch/>
        </p:blipFill>
        <p:spPr>
          <a:xfrm>
            <a:off x="620640" y="1979640"/>
            <a:ext cx="6005520" cy="4692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5920" y="7019280"/>
            <a:ext cx="6742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c0c00"/>
                </a:solidFill>
                <a:latin typeface="Arial Black"/>
              </a:rPr>
              <a:t>Чем старше божья коровка, тем меньше у нее становится пятен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2720" y="325080"/>
            <a:ext cx="62895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c00"/>
                </a:solidFill>
                <a:latin typeface="Arial Black"/>
              </a:rPr>
              <a:t>Божьи коровки бывают разных цветов: красные, белые, оранжевые, желтые, черные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Picture 2" descr="http://photo.a42.ru/photos/84766/full/16518.jpg"/>
          <p:cNvPicPr/>
          <p:nvPr/>
        </p:nvPicPr>
        <p:blipFill>
          <a:blip r:embed="rId1"/>
          <a:srcRect l="16459" t="19732" r="11030" b="5838"/>
          <a:stretch/>
        </p:blipFill>
        <p:spPr>
          <a:xfrm>
            <a:off x="549360" y="2556000"/>
            <a:ext cx="2693880" cy="2160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http://img-fotki.yandex.ru/get/4609/124075818.a/0_660af_7a0f4f_XL"/>
          <p:cNvPicPr/>
          <p:nvPr/>
        </p:nvPicPr>
        <p:blipFill>
          <a:blip r:embed="rId2"/>
          <a:srcRect l="19846" t="18902" r="27238" b="16842"/>
          <a:stretch/>
        </p:blipFill>
        <p:spPr>
          <a:xfrm>
            <a:off x="3716280" y="6516720"/>
            <a:ext cx="2664000" cy="2425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http://bialczynski.files.wordpress.com/2009/11/thea-vigintiduopunctata-7231.jpg"/>
          <p:cNvPicPr/>
          <p:nvPr/>
        </p:nvPicPr>
        <p:blipFill>
          <a:blip r:embed="rId3"/>
          <a:stretch/>
        </p:blipFill>
        <p:spPr>
          <a:xfrm>
            <a:off x="549360" y="6443640"/>
            <a:ext cx="2520720" cy="2519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http://www.dezinfo.net/images3/image/06.2010/bozikorot/1001.jpg"/>
          <p:cNvPicPr/>
          <p:nvPr/>
        </p:nvPicPr>
        <p:blipFill>
          <a:blip r:embed="rId4"/>
          <a:srcRect l="33807" t="46304" r="18943" b="23457"/>
          <a:stretch/>
        </p:blipFill>
        <p:spPr>
          <a:xfrm>
            <a:off x="3716280" y="2556000"/>
            <a:ext cx="2664000" cy="2131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http://freepages.misc.rootsweb.ancestry.com/~larsonmorgan/beetles/Multicolored%20Asian%20Lady%20Beetle%20(Harmonia%20axyridis)%202.jpg"/>
          <p:cNvPicPr/>
          <p:nvPr/>
        </p:nvPicPr>
        <p:blipFill>
          <a:blip r:embed="rId5"/>
          <a:srcRect l="12899" t="15989" r="8324" b="8901"/>
          <a:stretch/>
        </p:blipFill>
        <p:spPr>
          <a:xfrm>
            <a:off x="2276640" y="4356000"/>
            <a:ext cx="27082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25080"/>
            <a:ext cx="62895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c0c00"/>
                </a:solidFill>
                <a:latin typeface="Arial Black"/>
              </a:rPr>
              <a:t>Божьи коровки устраивают свои домики на листьях и цветах разных растений.</a:t>
            </a:r>
            <a:endParaRPr b="1" lang="en-US" sz="25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28640" y="2124000"/>
            <a:ext cx="3300480" cy="3300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84280" y="5796000"/>
            <a:ext cx="382608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468360"/>
            <a:ext cx="6858000" cy="19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c0c00"/>
                </a:solidFill>
                <a:latin typeface="Arial Black"/>
              </a:rPr>
              <a:t>Яйца божьи коровки откладывают на нижней стороне листа.</a:t>
            </a:r>
            <a:r>
              <a:rPr b="1" lang="en-US" sz="2500" spc="-1" strike="noStrike">
                <a:solidFill>
                  <a:srgbClr val="0c0c00"/>
                </a:solidFill>
                <a:latin typeface="Arial Black"/>
              </a:rPr>
              <a:t>  </a:t>
            </a:r>
            <a:br>
              <a:rPr sz="2500"/>
            </a:br>
            <a:endParaRPr b="1" lang="en-US" sz="25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13000" y="2771640"/>
            <a:ext cx="3933720" cy="2438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78040" y="5460120"/>
            <a:ext cx="4719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c0c00"/>
                </a:solidFill>
                <a:latin typeface="Arial Black"/>
              </a:rPr>
              <a:t>Затем яйца превращаются в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c0c00"/>
                </a:solidFill>
                <a:latin typeface="Arial Black"/>
              </a:rPr>
              <a:t>личинки</a:t>
            </a:r>
            <a:r>
              <a:rPr b="1" lang="en-US" sz="2500" spc="-1" strike="noStrike">
                <a:solidFill>
                  <a:srgbClr val="0c0c00"/>
                </a:solidFill>
                <a:latin typeface="Arial Black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700280" y="6372360"/>
            <a:ext cx="360684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42720" y="325080"/>
            <a:ext cx="628956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  </a:t>
            </a:r>
            <a:r>
              <a:rPr b="1" lang="en-US" sz="2500" spc="-1" strike="noStrike">
                <a:solidFill>
                  <a:srgbClr val="0c0c00"/>
                </a:solidFill>
                <a:latin typeface="Arial Black"/>
              </a:rPr>
              <a:t>Затем идет стадия куколки.</a:t>
            </a:r>
            <a:endParaRPr b="1" lang="en-US" sz="25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57360" y="1476360"/>
            <a:ext cx="3343320" cy="25066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907920" y="4263120"/>
            <a:ext cx="51134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c0c00"/>
                </a:solidFill>
                <a:latin typeface="Arial Black"/>
              </a:rPr>
              <a:t>Через одну - две недели на свет появляется новый жучок.</a:t>
            </a:r>
            <a:r>
              <a:rPr b="1" lang="en-US" sz="2500" spc="-1" strike="noStrike">
                <a:solidFill>
                  <a:srgbClr val="0c0c00"/>
                </a:solidFill>
                <a:latin typeface="Arial Black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773360" y="6084720"/>
            <a:ext cx="3306600" cy="23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3080" y="325440"/>
            <a:ext cx="63259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c0c00"/>
                </a:solidFill>
                <a:latin typeface="Arial Black"/>
              </a:rPr>
              <a:t>Новорождённое насекомое, мягкое, бледного цвета, без точек, сидит неподвижно на одном месте и ждёт. И вот одно за другим проступают темные пятнышки, надкрылья твердеют и  приобретают красный цвет.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4" name="" descr="Божья коровка"/>
          <p:cNvPicPr/>
          <p:nvPr/>
        </p:nvPicPr>
        <p:blipFill>
          <a:blip r:embed="rId1"/>
          <a:stretch/>
        </p:blipFill>
        <p:spPr>
          <a:xfrm>
            <a:off x="1052640" y="4356000"/>
            <a:ext cx="476244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2720" y="325080"/>
            <a:ext cx="62895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c0c00"/>
                </a:solidFill>
                <a:latin typeface="Arial Black"/>
              </a:rPr>
              <a:t>Божья коровка питается не только тлей, но и яйцами бабочек, мелких гусениц, куколками насекомых.</a:t>
            </a:r>
            <a:endParaRPr b="1" lang="en-US" sz="25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6" name="Picture 2" descr="http://dobrochan.ru/src/jpg/1201/ladybug_est_tlyu.jpg"/>
          <p:cNvPicPr/>
          <p:nvPr/>
        </p:nvPicPr>
        <p:blipFill>
          <a:blip r:embed="rId1"/>
          <a:stretch/>
        </p:blipFill>
        <p:spPr>
          <a:xfrm>
            <a:off x="476280" y="2195640"/>
            <a:ext cx="6005520" cy="45068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33360" y="7308000"/>
            <a:ext cx="6742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c0c00"/>
                </a:solidFill>
                <a:latin typeface="Arial Black"/>
              </a:rPr>
              <a:t>В рацион жучков также входит цветочный нектар и пыльца.</a:t>
            </a:r>
            <a:r>
              <a:rPr b="1" lang="en-US" sz="2500" spc="-1" strike="noStrike">
                <a:solidFill>
                  <a:srgbClr val="0c0c00"/>
                </a:solidFill>
                <a:latin typeface="Arial Black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14:29:37Z</dcterms:created>
  <dc:creator>Customer</dc:creator>
  <dc:description/>
  <dc:language>en-US</dc:language>
  <cp:lastModifiedBy>Customer</cp:lastModifiedBy>
  <dcterms:modified xsi:type="dcterms:W3CDTF">2013-03-13T15:44:10Z</dcterms:modified>
  <cp:revision>38</cp:revision>
  <dc:subject/>
  <dc:title> Солнышко или просто Божья коровка </dc:title>
</cp:coreProperties>
</file>