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57A-8369-4DA9-B258-854935E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545868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728-8E4F-44FD-924A-DA23741C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0584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B11-3D05-47BD-8B5E-C73E3508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5932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972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65932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68972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F8A-1B8B-47A3-9734-3F3745F8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F187-7D10-4A0D-9FAC-9BD77546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DBCF-8AE3-4CEE-8311-1BD98C97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5C49-2F70-4ED4-9035-17715BD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20C4-1DF2-471B-8FB4-F313E0DA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5A36-39FE-48E5-A514-271A1A48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2720" y="325080"/>
            <a:ext cx="6289560" cy="88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554C-20BC-4F81-9BD9-CBFEAF5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BEF2-83D5-4E07-B250-8F2F0850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9B0-842C-443E-A8CA-25F4A63E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0584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D20B-E8E6-447B-B12D-16FAC94A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0F88-27CA-4CDD-84F3-8CA30D86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8560" y="545868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013E-D60D-4410-8BCA-3D5540A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70584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6A3-EB9F-46CA-BCD3-5E37947C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932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89720" y="254016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2856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932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89720" y="5458680"/>
            <a:ext cx="1933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44E4-0F32-41D5-A98C-734E673B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814-9362-42CF-B1C5-6B9540D8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476-103B-4FB7-9A60-3D431C0B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FAC-F0E6-486C-AD09-3B73242F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325080"/>
            <a:ext cx="6289560" cy="88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099-3C60-4DD0-99E3-1D9BF0E4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28C-2550-4626-BD75-8C1DFEDC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05840" y="545868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954-C276-4EF4-B813-C98D342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05840" y="2540160"/>
            <a:ext cx="29304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5458680"/>
            <a:ext cx="60055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D91-3715-455E-B4D8-5AABDA7B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9760" y="2438280"/>
            <a:ext cx="6617880" cy="6705360"/>
            <a:chOff x="239760" y="2438280"/>
            <a:chExt cx="6617880" cy="6705360"/>
          </a:xfrm>
        </p:grpSpPr>
        <p:sp>
          <p:nvSpPr>
            <p:cNvPr id="1" name=""/>
            <p:cNvSpPr/>
            <p:nvPr/>
          </p:nvSpPr>
          <p:spPr>
            <a:xfrm>
              <a:off x="628920" y="6157080"/>
              <a:ext cx="6228720" cy="2986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0200" y="2438280"/>
              <a:ext cx="6607440" cy="67053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8920" y="6205680"/>
              <a:ext cx="6228720" cy="29379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8920" y="2438280"/>
              <a:ext cx="5484600" cy="612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8920" y="2438280"/>
              <a:ext cx="34200" cy="377784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7840" y="6146640"/>
              <a:ext cx="34200" cy="29970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9760" y="6146640"/>
              <a:ext cx="3427560" cy="612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9760" y="6146640"/>
              <a:ext cx="35640" cy="29970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628200" y="8326440"/>
            <a:ext cx="1427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25718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203800" y="8326440"/>
            <a:ext cx="1425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D568-3EB3-4016-A4DE-A7507EE95B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28560" y="2540160"/>
            <a:ext cx="60055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9760" y="2336760"/>
            <a:ext cx="6617880" cy="6838560"/>
            <a:chOff x="239760" y="2336760"/>
            <a:chExt cx="6617880" cy="6838560"/>
          </a:xfrm>
        </p:grpSpPr>
        <p:sp>
          <p:nvSpPr>
            <p:cNvPr id="51" name=""/>
            <p:cNvSpPr/>
            <p:nvPr/>
          </p:nvSpPr>
          <p:spPr>
            <a:xfrm>
              <a:off x="250200" y="2336760"/>
              <a:ext cx="6607440" cy="68068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920" y="5079600"/>
              <a:ext cx="6228720" cy="40636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9760" y="5031360"/>
              <a:ext cx="4113360" cy="612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8920" y="2336760"/>
              <a:ext cx="5826600" cy="612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9760" y="5031360"/>
              <a:ext cx="35640" cy="41439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8920" y="2336760"/>
              <a:ext cx="34200" cy="68263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2539800"/>
            <a:ext cx="582912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8326440"/>
            <a:ext cx="14270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60208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5203800" y="8326440"/>
            <a:ext cx="1425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AD8-8222-46AD-8A04-1D08D1ECBE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c0c00"/>
                </a:solidFill>
                <a:latin typeface="Arial Black"/>
              </a:rPr>
              <a:t>Солнышко или просто Божья коровка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Picture 10" descr="http://cs5428.vkontakte.ru/u101736992/-6/x_1094d58d.jpg"/>
          <p:cNvPicPr/>
          <p:nvPr/>
        </p:nvPicPr>
        <p:blipFill>
          <a:blip r:embed="rId1"/>
          <a:stretch/>
        </p:blipFill>
        <p:spPr>
          <a:xfrm>
            <a:off x="620640" y="2700360"/>
            <a:ext cx="6096240" cy="430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9360" y="7956720"/>
            <a:ext cx="61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c00"/>
                </a:solidFill>
                <a:latin typeface="Arial Black"/>
              </a:rPr>
              <a:t>Выполнила: ученица 3 «б» класс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c00"/>
                </a:solidFill>
                <a:latin typeface="Arial Black"/>
              </a:rPr>
              <a:t>                       </a:t>
            </a:r>
            <a:r>
              <a:rPr b="1" lang="ru-RU" sz="2000" spc="-1" strike="noStrike">
                <a:solidFill>
                  <a:srgbClr val="0c0c00"/>
                </a:solidFill>
                <a:latin typeface="Arial Black"/>
              </a:rPr>
              <a:t>Миндибаева Крис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Божья коровка ест тлю – этим она очень помогает растениям – не дает тле сгрызть все листики у цветочков и кустиков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2" descr="http://cornit.narod.ru/final_ab006162.jpg"/>
          <p:cNvPicPr/>
          <p:nvPr/>
        </p:nvPicPr>
        <p:blipFill>
          <a:blip r:embed="rId1"/>
          <a:stretch/>
        </p:blipFill>
        <p:spPr>
          <a:xfrm>
            <a:off x="907920" y="3780000"/>
            <a:ext cx="52358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3360" y="325440"/>
            <a:ext cx="62992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Возможно, в будущем, человек откажется от ядохимикатов и обратит внимание на крошечных помощников в борьбе с вредителями. И в первом ряду защитников садов и полей достойно займёт своё место маленький красно-оранжевый жучок с черными точками – </a:t>
            </a:r>
            <a:r>
              <a:rPr b="1" lang="en-US" sz="3000" spc="-1" strike="noStrike">
                <a:solidFill>
                  <a:srgbClr val="0c0c00"/>
                </a:solidFill>
                <a:latin typeface="Arial Black"/>
              </a:rPr>
              <a:t>божья коровка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Божья коровка"/>
          <p:cNvPicPr/>
          <p:nvPr/>
        </p:nvPicPr>
        <p:blipFill>
          <a:blip r:embed="rId1"/>
          <a:stretch/>
        </p:blipFill>
        <p:spPr>
          <a:xfrm>
            <a:off x="981000" y="4788000"/>
            <a:ext cx="4762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62992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Божья коровка считается</a:t>
            </a:r>
            <a:r>
              <a:rPr b="1" lang="ru-RU" sz="4000" spc="-1" strike="noStrike">
                <a:solidFill>
                  <a:srgbClr val="0c0c00"/>
                </a:solidFill>
                <a:latin typeface="Arial Black"/>
              </a:rPr>
              <a:t>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существом весьма доверчивым. В России, Англии и Дании существует игра — ребёнок ловит божью коровку и читает ей стишок: </a:t>
            </a:r>
            <a:br>
              <a:rPr sz="2500"/>
            </a:b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         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        Божья коровка, </a:t>
            </a:r>
            <a:br>
              <a:rPr sz="2500"/>
            </a:b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        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         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Полети на небо, </a:t>
            </a:r>
            <a:br>
              <a:rPr sz="2500"/>
            </a:b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        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         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Там твои детки..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и жучок полз на кончики пальцев и, расправив крылья, взлетал. </a:t>
            </a:r>
            <a:br>
              <a:rPr sz="2500"/>
            </a:b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76640" y="5508720"/>
            <a:ext cx="2216160" cy="214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9600" y="7811280"/>
            <a:ext cx="5647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Во</a:t>
            </a:r>
            <a:r>
              <a:rPr b="1" lang="ru-RU" sz="2500" spc="-1" strike="noStrike">
                <a:solidFill>
                  <a:srgbClr val="0c0c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время полета божья коровк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делает 85 взмахов крыльям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c00"/>
                </a:solidFill>
                <a:latin typeface="Arial Black"/>
              </a:rPr>
              <a:t>в секунду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0280" y="-360"/>
            <a:ext cx="62899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У божьей коровки на спинке чёрные точечки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2" descr="http://photo.a42.ru/photos/84766/full/16518.jpg"/>
          <p:cNvPicPr/>
          <p:nvPr/>
        </p:nvPicPr>
        <p:blipFill>
          <a:blip r:embed="rId1"/>
          <a:srcRect l="0" t="0" r="0" b="7631"/>
          <a:stretch/>
        </p:blipFill>
        <p:spPr>
          <a:xfrm>
            <a:off x="620640" y="1979640"/>
            <a:ext cx="6005520" cy="469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5920" y="7019280"/>
            <a:ext cx="674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Чем старше божья коровка, тем меньше у нее становится пятен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0"/>
                </a:solidFill>
                <a:latin typeface="Arial Black"/>
              </a:rPr>
              <a:t>Божьи коровки бывают разных цветов: красные, белые, оранжевые, желтые, черные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2" descr="http://photo.a42.ru/photos/84766/full/16518.jpg"/>
          <p:cNvPicPr/>
          <p:nvPr/>
        </p:nvPicPr>
        <p:blipFill>
          <a:blip r:embed="rId1"/>
          <a:srcRect l="16459" t="19732" r="11030" b="5838"/>
          <a:stretch/>
        </p:blipFill>
        <p:spPr>
          <a:xfrm>
            <a:off x="549360" y="2556000"/>
            <a:ext cx="269388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img-fotki.yandex.ru/get/4609/124075818.a/0_660af_7a0f4f_XL"/>
          <p:cNvPicPr/>
          <p:nvPr/>
        </p:nvPicPr>
        <p:blipFill>
          <a:blip r:embed="rId2"/>
          <a:srcRect l="19846" t="18902" r="27238" b="16842"/>
          <a:stretch/>
        </p:blipFill>
        <p:spPr>
          <a:xfrm>
            <a:off x="3716280" y="6516720"/>
            <a:ext cx="2664000" cy="242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bialczynski.files.wordpress.com/2009/11/thea-vigintiduopunctata-7231.jpg"/>
          <p:cNvPicPr/>
          <p:nvPr/>
        </p:nvPicPr>
        <p:blipFill>
          <a:blip r:embed="rId3"/>
          <a:stretch/>
        </p:blipFill>
        <p:spPr>
          <a:xfrm>
            <a:off x="549360" y="6443640"/>
            <a:ext cx="252072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://www.dezinfo.net/images3/image/06.2010/bozikorot/1001.jpg"/>
          <p:cNvPicPr/>
          <p:nvPr/>
        </p:nvPicPr>
        <p:blipFill>
          <a:blip r:embed="rId4"/>
          <a:srcRect l="33807" t="46304" r="18943" b="23457"/>
          <a:stretch/>
        </p:blipFill>
        <p:spPr>
          <a:xfrm>
            <a:off x="3716280" y="2556000"/>
            <a:ext cx="2664000" cy="213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freepages.misc.rootsweb.ancestry.com/~larsonmorgan/beetles/Multicolored%20Asian%20Lady%20Beetle%20(Harmonia%20axyridis)%202.jpg"/>
          <p:cNvPicPr/>
          <p:nvPr/>
        </p:nvPicPr>
        <p:blipFill>
          <a:blip r:embed="rId5"/>
          <a:srcRect l="12899" t="15989" r="8324" b="8901"/>
          <a:stretch/>
        </p:blipFill>
        <p:spPr>
          <a:xfrm>
            <a:off x="2276640" y="4356000"/>
            <a:ext cx="2708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Божьи коровки устраивают свои домики на листьях и цветах разных растений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8640" y="2124000"/>
            <a:ext cx="3300480" cy="3300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84280" y="5796000"/>
            <a:ext cx="38260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68360"/>
            <a:ext cx="68580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Яйца божьи коровки откладывают на нижней стороне листа.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 </a:t>
            </a:r>
            <a:br>
              <a:rPr sz="2500"/>
            </a:b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13000" y="2771640"/>
            <a:ext cx="3933720" cy="243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78040" y="5460120"/>
            <a:ext cx="471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c0c00"/>
                </a:solidFill>
                <a:latin typeface="Arial Black"/>
              </a:rPr>
              <a:t>Затем яйца превращаются 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c0c00"/>
                </a:solidFill>
                <a:latin typeface="Arial Black"/>
              </a:rPr>
              <a:t>личинки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00280" y="6372360"/>
            <a:ext cx="36068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  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Затем идет стадия куколки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57360" y="1476360"/>
            <a:ext cx="3343320" cy="2506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7920" y="4263120"/>
            <a:ext cx="5113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c0c00"/>
                </a:solidFill>
                <a:latin typeface="Arial Black"/>
              </a:rPr>
              <a:t>Через одну - две недели на свет появляется новый жучок.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73360" y="6084720"/>
            <a:ext cx="330660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3080" y="325440"/>
            <a:ext cx="63259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Новорождённое насекомое, мягкое, бледного цвета, без точек, сидит неподвижно на одном месте и ждёт. И вот одно за другим проступают темные пятнышки, надкрылья твердеют и  приобретают красный цвет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Божья коровка"/>
          <p:cNvPicPr/>
          <p:nvPr/>
        </p:nvPicPr>
        <p:blipFill>
          <a:blip r:embed="rId1"/>
          <a:stretch/>
        </p:blipFill>
        <p:spPr>
          <a:xfrm>
            <a:off x="1052640" y="43560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25080"/>
            <a:ext cx="62895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Божья коровка питается не только тлей, но и яйцами бабочек, мелких гусениц, куколками насекомых.</a:t>
            </a:r>
            <a:endParaRPr b="1" lang="en-US" sz="2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2" descr="http://dobrochan.ru/src/jpg/1201/ladybug_est_tlyu.jpg"/>
          <p:cNvPicPr/>
          <p:nvPr/>
        </p:nvPicPr>
        <p:blipFill>
          <a:blip r:embed="rId1"/>
          <a:stretch/>
        </p:blipFill>
        <p:spPr>
          <a:xfrm>
            <a:off x="476280" y="2195640"/>
            <a:ext cx="6005520" cy="4506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33360" y="7308000"/>
            <a:ext cx="674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c0c00"/>
                </a:solidFill>
                <a:latin typeface="Arial Black"/>
              </a:rPr>
              <a:t>В рацион жучков также входит цветочный нектар и пыльца.</a:t>
            </a:r>
            <a:r>
              <a:rPr b="1" lang="en-US" sz="2500" spc="-1" strike="noStrike">
                <a:solidFill>
                  <a:srgbClr val="0c0c00"/>
                </a:solidFill>
                <a:latin typeface="Arial Black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4:29:37Z</dcterms:created>
  <dc:creator>Customer</dc:creator>
  <dc:description/>
  <dc:language>en-US</dc:language>
  <cp:lastModifiedBy>Customer</cp:lastModifiedBy>
  <dcterms:modified xsi:type="dcterms:W3CDTF">2013-03-13T15:44:10Z</dcterms:modified>
  <cp:revision>38</cp:revision>
  <dc:subject/>
  <dc:title> Солнышко или просто Божья коровка </dc:title>
</cp:coreProperties>
</file>