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A10-96FC-412B-85A0-6B54F4A8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814-0A7B-43BC-A014-5FAABDCD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F28-DA81-4843-A9D6-9AA865A6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F8B-83E2-4656-A83E-C41FBA3D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D69E-C167-4E39-A547-FC6A30C9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71E0-02D5-411E-962A-21946012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95F3-96A1-4900-8A0C-93AC1132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3A78-9119-4336-9C7C-4C0DF7F6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B77B-28C9-4F5E-B63D-866531B9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A4D9-FC75-4905-9D70-75CEFB4B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4751-70B9-4BCB-9A48-35B0717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8E8-E3C5-4042-B0DC-425672B2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B38D-86BE-4972-81B4-2B1452A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7520-06F1-4AB3-9178-F7ADE475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6602-70F6-4F3E-8A1C-B63F4348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0159-23BB-4FF3-8AFE-2E8C4D09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5EA0-445E-4CA2-9D34-250204D3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482-0012-4CF3-8341-8C4447D7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DAF-BFC7-4593-B6F8-9E9362F8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72B-B826-4A2E-A706-FAA7134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313-81A9-4EDE-ACAA-D759AD14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35D-A002-42A3-AD85-FB520FE4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98E-D90B-4A1E-ADEF-38E03EC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E2C-6E42-4AC9-BA35-55715A0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3212-8254-49D7-B314-132DEA7E14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2472-C655-4660-833D-CC9EDE4D66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mily memb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527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7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sessive c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ственное числ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662200"/>
          <a:ext cx="8229600" cy="285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7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4560" y="1699920"/>
            <a:ext cx="856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sessive c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ожественное числ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2928960"/>
          <a:ext cx="8229600" cy="2068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7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557000"/>
            <a:ext cx="777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y’s bag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умка Мэ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irls’ room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ната девоче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hildren’s books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книги дет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y and Jill’s dad-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па Джил и Джон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ister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on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ther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ther of my br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ughter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other of my mo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ther of my fat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ther of my sister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ndm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s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ndfa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ther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1a p 6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m and K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hny and Gi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1b p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m is Bill’s grandfather. He’s 68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h is Bill’s grandmother. She’s 67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 is Bill’s father. He’s 45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e is Bill’s mother. She is 40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e is Bill’s uncle. He’s 36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net is Bill’s aunt. She’s 33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m and Kate are Bill’s sisters. They’re 8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y and Gill are Bill’s cousins. They’re 11 and 7 years o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2 p 6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m and Kate are twi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e and Sam are Bill’s par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m and Beth are Bill’s grandpar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y is Mike’s s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e is Sam’s w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e is Janet’s husban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m and Kate are Sue’s daugh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e is in his late sixt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 is in his mid fort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3a p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kind of text is it? Is it a letter or an advertisem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is this letter fro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es Bill know Migue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3b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-fal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-fal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tr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-tr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4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sisters has Bill g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s got two sist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cousins has Bill g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s got two cousi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uncles has Bill go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s got one unc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 5 p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- 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-he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-we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-facial featu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-h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7:17:59Z</dcterms:created>
  <dc:creator>Наталья</dc:creator>
  <dc:description/>
  <dc:language>en-US</dc:language>
  <cp:lastModifiedBy>Наталья</cp:lastModifiedBy>
  <dcterms:modified xsi:type="dcterms:W3CDTF">2012-11-21T20:10:41Z</dcterms:modified>
  <cp:revision>11</cp:revision>
  <dc:subject/>
  <dc:title>Ex 1a p 6 </dc:title>
</cp:coreProperties>
</file>