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1880-9AB1-43D7-B11F-543B5B124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7187-F18D-4CCA-AAB7-125C74145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22EC-7C82-41BB-BF25-9A5A79287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7A16-9079-412F-9CB0-55907EAE3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4E3E2-7030-43C9-92ED-4390E353B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05048-786C-452F-91AE-1DB10172E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9D3E2-48B9-4ABA-A541-A0627FB72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08AC7-8E97-40C2-8C64-401CA4A0B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379FF-4CEA-450A-B8D8-6D3802506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7A30E-62B5-492E-8D10-0A771801E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E9EDF-5F9E-4C50-BF23-819DBD62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1525-FE7F-402C-B91D-36DA6BA4B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78BC5-76F0-48D9-AE4E-7248EB29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BEAE9-A343-4BE5-82B1-23893116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33CA5-FA07-4119-A865-799E3C3A6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9E50B-2B17-4DE3-B5B0-D69568E0C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FEF23-9BA8-4E3E-B4C5-9A9710C50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D95C-4402-4827-ADF3-D0B91A400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9C88-1115-4896-9F8F-3836872F7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8E46-348B-45A4-AF82-C8785881A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235B-FA18-4528-9A1F-2A1DA274C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FF31-7407-4E78-B161-FCBF5FFB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26EB-A8F3-4BBA-8D26-45DEE3EC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D48D-3650-4C3A-96E0-04C60D81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6A55-F202-4697-874B-7E85463979E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1B773-5418-4882-AC87-5C902426812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amily memb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619280" y="1557360"/>
            <a:ext cx="6527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x 7 p 7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ossessive ca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динственное числ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57200" y="2662200"/>
          <a:ext cx="8229600" cy="2854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o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ou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h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x 7 p 7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74560" y="1699920"/>
            <a:ext cx="8569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ossessive ca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ножественное число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57200" y="2928960"/>
          <a:ext cx="8229600" cy="20685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u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o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ou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he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hei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x 7 p 7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39640" y="1557000"/>
            <a:ext cx="7777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ry’s bag-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умка Мэр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girls’ room-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мната девоче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children’s books-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книги дете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ohny and Jill’s dad-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апа Джил и Джонн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sister of my mothe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son of my mothe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other of my mothe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ather of my brothe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aughter of my mothe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rother of my mothe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ather of my fathe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other of my sister.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roth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randmoth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st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randfath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u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oth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nc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ather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x 1a p 6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et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u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k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ane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im and Ka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ohny and Gil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x 1b p 6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om is Bill’s grandfather. He’s 68 years ol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th is Bill’s grandmother. She’s 67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am is Bill’s father. He’s 45 years ol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ue is Bill’s mother. She is 40 years ol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ike is Bill’s uncle. He’s 36 years ol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anet is Bill’s aunt. She’s 33 years ol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im and Kate are Bill’s sisters. They’re 8 years ol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ohny and Gill are Bill’s cousins. They’re 11 and 7 years ol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x 2 p 6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im and Kate are twin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ue and Sam are Bill’s parent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om and Beth are Bill’s grandparent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ohny is Mike’s so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ue is Sam’s wif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ike is Janet’s husban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im and Kate are Sue’s daughter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ike is in his late sixti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am is in his mid forti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x 3a p 6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kind of text is it? Is it a letter or an advertisement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o is this letter from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es Bill know Miguel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x 3b p 7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-fal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-fal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-tru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4-tru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x 4 p 7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w many sisters has Bill got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 has got two sister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w many cousins has Bill got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 has got two cousin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w many uncles has Bill got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 has got one uncl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x 5 p 7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- ag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-heigh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-weigh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-facial featur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-hai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7T17:17:59Z</dcterms:created>
  <dc:creator>Наталья</dc:creator>
  <dc:description/>
  <dc:language>en-US</dc:language>
  <cp:lastModifiedBy>Наталья</cp:lastModifiedBy>
  <dcterms:modified xsi:type="dcterms:W3CDTF">2012-11-21T20:10:41Z</dcterms:modified>
  <cp:revision>11</cp:revision>
  <dc:subject/>
  <dc:title>Ex 1a p 6 </dc:title>
</cp:coreProperties>
</file>