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7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45F-9F2F-4CB7-B43C-9BD29C86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AAF-2F06-410D-90FA-41AF18C2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6CF-4652-4143-AC9A-3A7F0040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583-BA45-4A1B-AE2D-3715A326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A29-5425-4B5C-9521-29A551C9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B84-7DA5-4930-B234-C2BAEB76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7DF-58BE-449F-8D94-6E9B6F8A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127-3FBD-4B82-89EA-7B4E81B1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145-65D8-4924-9FF3-2ED1D917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701-9AB9-4B45-A02F-430753ED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91C-96CE-4764-9569-41E5B4C4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B44-175D-4302-9C82-27F87D9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1C74-D558-450B-98F8-8DE0AA01B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Конспект урока математики.3 класс</a:t>
            </a:r>
            <a:br>
              <a:rPr sz="1400"/>
            </a:br>
            <a:r>
              <a:rPr b="1" i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УМК «Школа Росс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ff"/>
                </a:solidFill>
                <a:uFillTx/>
                <a:latin typeface="Arial"/>
              </a:rPr>
              <a:t>Сложение и вычи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ff"/>
                </a:solidFill>
                <a:uFillTx/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cc00ff"/>
                </a:solidFill>
                <a:uFillTx/>
                <a:latin typeface="Arial"/>
              </a:rPr>
              <a:t>Приемы устных вычислений в пределах 1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Автор: Бандурка Александра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МОУСОШ №10 ст. Советск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МО Новокубанский  рай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Краснодар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86064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3274920"/>
            <a:ext cx="3457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тр.  51   №2   и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99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 + 600        400 - 30       450 - 60     340 +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149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900                               370                   390                  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314172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ЗАПИШИ ОТВЕТЫ НА БАБ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аскрась столько крыльев у своей бабочки, сколько совпало у тебя ответ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: №5 стр. 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5757840" cy="5864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140360" y="1413000"/>
            <a:ext cx="4752720" cy="18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80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1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а уроке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делаем работу над ошибками, допущенных в контрольной работе по теме: «Нумерация от 1 до 1000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имся выполнять устные вычисления с числами, запись которых оканчивается нул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0-80 или 450+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486900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486900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64000" y="4362480"/>
            <a:ext cx="35290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Итоги контро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71640" y="1125360"/>
            <a:ext cx="3581640" cy="3448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ценка «4» -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ценка «3»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ценка «2»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1181160" cy="149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19280" y="1844640"/>
            <a:ext cx="1200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Работа над ошибк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о ли расставлен порядок выполнения действ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 + 30 : 3 х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306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           1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306864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             1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4508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1 - (28 - 17) х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5445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: (26 + 4) х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Работа над ошибка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олните пропуски нужными чис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2924280"/>
            <a:ext cx="64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2852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8 = 7 (ост.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3860640"/>
            <a:ext cx="64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378936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7 = 6 (ост.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494172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Составь подобный пример для своего сосе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Работа над ошибка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набора красок стоят 72 руб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стоят 4 таких набора крас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57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набора - 72 ру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076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  набора - ?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581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72 : 3 = 24 (р.) - за 1 на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08464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01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24 х 4 = 96 (р.) - за 4 на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516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твет: 96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3640" y="3832200"/>
            <a:ext cx="33847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30,   790,   899,   359,   3,   4,   7,   500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0,   70,   120,   24,   81,   72,   5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17002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роверь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355920" y="4508640"/>
            <a:ext cx="18954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Устные вычисления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в пределах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тни с сотн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сятки с десятка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с единицам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50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00 + 200 = 500 потому, что 3 сотни + 2 сотни = 5 со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40766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00 - 300 = 400 потому, что 7 сотен - 3 сотни = 4 со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472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40 - 50 = 290 потому, что 34 десятка - 5 десятков = 29 деся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30064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30 + 80 = 310 потому, что 23 десятка + 8 десятков = 31 дес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43640" y="765000"/>
            <a:ext cx="23065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Работа над ошибк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34936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2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22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1989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1417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ертите отрезок КС на  60 мм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4221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6560" y="4024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380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2520" y="386064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79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 сколько раз отрезок КС меньше отрезка А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8:18:52Z</dcterms:created>
  <dc:creator>Пользователь</dc:creator>
  <dc:description/>
  <dc:language>en-US</dc:language>
  <cp:lastModifiedBy>Пользователь</cp:lastModifiedBy>
  <dcterms:modified xsi:type="dcterms:W3CDTF">2010-03-09T22:27:12Z</dcterms:modified>
  <cp:revision>4</cp:revision>
  <dc:subject/>
  <dc:title>Слайд 1</dc:title>
</cp:coreProperties>
</file>