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6.jpeg" ContentType="image/jpeg"/>
  <Override PartName="/ppt/media/image22.jpeg" ContentType="image/jpeg"/>
  <Override PartName="/ppt/media/image7.png" ContentType="image/png"/>
  <Override PartName="/ppt/media/image32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27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D2F-C7B5-4A6A-B6BD-E41B6A50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A4D-FB1E-40DB-9338-793705A9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C9A-139E-48EA-AD81-E592042F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469-719E-452A-9570-F718DB6F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60DF-230A-44D1-82D4-0AC9F273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C91E-0C84-4A91-AFF8-E11DE1F7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D5E7-95E6-4788-9CE2-740DEC13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3E41-20EE-4200-B922-75C13030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48E2-ADB9-44D0-ADBA-8F48720A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A831-F053-43C6-8DFE-8223E739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3BBC-54CD-45D8-B4C3-79FEC5B5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C96-E3D9-48B9-A63E-3BAC05EE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9DB7-D225-41A1-9342-18C3EA66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AE19-C01C-4CB5-B4D9-235ECD8A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A8E1-4CDF-4D60-82CA-F91054DE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51F1-E654-4400-8608-BCE49E9B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62A-5676-442B-9450-DBD78E7D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AFE-4964-4B48-B4DE-1F4AB9AC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AEE-A2DB-49F0-BACF-525DE345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F9F-CFA5-4782-BD56-2574D008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38E-1FF7-493A-AED3-268A2289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6E1-2C90-4A06-902A-7780CE33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FBE-DBF8-4867-84FD-738E8B6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AB9-FA0F-4035-8B8E-1553DBE6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 rot="10800000"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9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3" name="Rectangle 10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8687160" y="353880"/>
            <a:ext cx="202680" cy="6503760"/>
            <a:chOff x="8687160" y="353880"/>
            <a:chExt cx="202680" cy="6503760"/>
          </a:xfrm>
        </p:grpSpPr>
        <p:sp>
          <p:nvSpPr>
            <p:cNvPr id="6" name="Rectangle 13"/>
            <p:cNvSpPr/>
            <p:nvPr/>
          </p:nvSpPr>
          <p:spPr>
            <a:xfrm flipH="1" rot="10800000">
              <a:off x="8686800" y="353880"/>
              <a:ext cx="75960" cy="649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 rot="10800000">
              <a:off x="8813520" y="581760"/>
              <a:ext cx="76320" cy="627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9" name="Rectangle 16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8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12" name="Rectangle 19"/>
            <p:cNvSpPr/>
            <p:nvPr/>
          </p:nvSpPr>
          <p:spPr>
            <a:xfrm flipH="1" rot="5400000">
              <a:off x="5572800" y="3468960"/>
              <a:ext cx="75960" cy="6496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20"/>
            <p:cNvSpPr/>
            <p:nvPr/>
          </p:nvSpPr>
          <p:spPr>
            <a:xfrm rot="5400000">
              <a:off x="5689800" y="3453120"/>
              <a:ext cx="76320" cy="627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F6E7-E033-4027-9205-5D4AE4147C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Group 21"/>
          <p:cNvGrpSpPr/>
          <p:nvPr/>
        </p:nvGrpSpPr>
        <p:grpSpPr>
          <a:xfrm>
            <a:off x="304920" y="152280"/>
            <a:ext cx="761760" cy="1067040"/>
            <a:chOff x="304920" y="152280"/>
            <a:chExt cx="761760" cy="1067040"/>
          </a:xfrm>
        </p:grpSpPr>
        <p:sp>
          <p:nvSpPr>
            <p:cNvPr id="19" name="AutoShape 22"/>
            <p:cNvSpPr/>
            <p:nvPr/>
          </p:nvSpPr>
          <p:spPr>
            <a:xfrm>
              <a:off x="304920" y="152280"/>
              <a:ext cx="7617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416160" y="183600"/>
              <a:ext cx="650160" cy="103104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1031040"/>
                <a:gd name="textAreaBottom" fmla="*/ 1031400 h 103104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755280" y="684000"/>
              <a:ext cx="109440" cy="201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0160"/>
                <a:gd name="textAreaBottom" fmla="*/ 20160 h 2016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777600" y="684000"/>
              <a:ext cx="74160" cy="190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789480" y="687600"/>
              <a:ext cx="44280" cy="154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802080" y="687600"/>
              <a:ext cx="20160" cy="13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770040" y="264960"/>
              <a:ext cx="82800" cy="1908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811440" y="266040"/>
              <a:ext cx="36000" cy="1861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773280" y="266040"/>
              <a:ext cx="34920" cy="188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763920" y="199440"/>
              <a:ext cx="86040" cy="61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819000" y="266040"/>
              <a:ext cx="25200" cy="183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779760" y="266040"/>
              <a:ext cx="21960" cy="188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777600" y="199440"/>
              <a:ext cx="55080" cy="619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5"/>
            <p:cNvSpPr/>
            <p:nvPr/>
          </p:nvSpPr>
          <p:spPr>
            <a:xfrm>
              <a:off x="822240" y="266040"/>
              <a:ext cx="16920" cy="183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6"/>
            <p:cNvSpPr/>
            <p:nvPr/>
          </p:nvSpPr>
          <p:spPr>
            <a:xfrm>
              <a:off x="783000" y="266040"/>
              <a:ext cx="12600" cy="186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7"/>
            <p:cNvSpPr/>
            <p:nvPr/>
          </p:nvSpPr>
          <p:spPr>
            <a:xfrm>
              <a:off x="795600" y="199440"/>
              <a:ext cx="28440" cy="60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8"/>
            <p:cNvSpPr/>
            <p:nvPr/>
          </p:nvSpPr>
          <p:spPr>
            <a:xfrm>
              <a:off x="805320" y="199440"/>
              <a:ext cx="9360" cy="60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9"/>
            <p:cNvSpPr/>
            <p:nvPr/>
          </p:nvSpPr>
          <p:spPr>
            <a:xfrm>
              <a:off x="432360" y="476280"/>
              <a:ext cx="298440" cy="4730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0"/>
            <p:cNvSpPr/>
            <p:nvPr/>
          </p:nvSpPr>
          <p:spPr>
            <a:xfrm>
              <a:off x="416160" y="923760"/>
              <a:ext cx="533160" cy="2952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1"/>
            <p:cNvSpPr/>
            <p:nvPr/>
          </p:nvSpPr>
          <p:spPr>
            <a:xfrm>
              <a:off x="532080" y="879480"/>
              <a:ext cx="402840" cy="4608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2"/>
            <p:cNvSpPr/>
            <p:nvPr/>
          </p:nvSpPr>
          <p:spPr>
            <a:xfrm>
              <a:off x="947880" y="1135080"/>
              <a:ext cx="34920" cy="842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3"/>
            <p:cNvSpPr/>
            <p:nvPr/>
          </p:nvSpPr>
          <p:spPr>
            <a:xfrm>
              <a:off x="1046520" y="1044360"/>
              <a:ext cx="18720" cy="79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4"/>
            <p:cNvSpPr/>
            <p:nvPr/>
          </p:nvSpPr>
          <p:spPr>
            <a:xfrm>
              <a:off x="925200" y="821160"/>
              <a:ext cx="114480" cy="1083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5"/>
            <p:cNvSpPr/>
            <p:nvPr/>
          </p:nvSpPr>
          <p:spPr>
            <a:xfrm>
              <a:off x="750960" y="476280"/>
              <a:ext cx="135720" cy="208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6"/>
            <p:cNvSpPr/>
            <p:nvPr/>
          </p:nvSpPr>
          <p:spPr>
            <a:xfrm>
              <a:off x="755280" y="477360"/>
              <a:ext cx="128520" cy="2066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7"/>
            <p:cNvSpPr/>
            <p:nvPr/>
          </p:nvSpPr>
          <p:spPr>
            <a:xfrm>
              <a:off x="760680" y="477360"/>
              <a:ext cx="118800" cy="206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8"/>
            <p:cNvSpPr/>
            <p:nvPr/>
          </p:nvSpPr>
          <p:spPr>
            <a:xfrm>
              <a:off x="765000" y="477360"/>
              <a:ext cx="111240" cy="2066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9"/>
            <p:cNvSpPr/>
            <p:nvPr/>
          </p:nvSpPr>
          <p:spPr>
            <a:xfrm>
              <a:off x="770040" y="477360"/>
              <a:ext cx="105120" cy="2066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0"/>
            <p:cNvSpPr/>
            <p:nvPr/>
          </p:nvSpPr>
          <p:spPr>
            <a:xfrm>
              <a:off x="774360" y="477360"/>
              <a:ext cx="96480" cy="206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1"/>
            <p:cNvSpPr/>
            <p:nvPr/>
          </p:nvSpPr>
          <p:spPr>
            <a:xfrm>
              <a:off x="779760" y="477360"/>
              <a:ext cx="86760" cy="206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2"/>
            <p:cNvSpPr/>
            <p:nvPr/>
          </p:nvSpPr>
          <p:spPr>
            <a:xfrm>
              <a:off x="783720" y="477360"/>
              <a:ext cx="79560" cy="206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3"/>
            <p:cNvSpPr/>
            <p:nvPr/>
          </p:nvSpPr>
          <p:spPr>
            <a:xfrm>
              <a:off x="789480" y="479160"/>
              <a:ext cx="70920" cy="2044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4"/>
            <p:cNvSpPr/>
            <p:nvPr/>
          </p:nvSpPr>
          <p:spPr>
            <a:xfrm>
              <a:off x="795600" y="479160"/>
              <a:ext cx="63720" cy="2044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5"/>
            <p:cNvSpPr/>
            <p:nvPr/>
          </p:nvSpPr>
          <p:spPr>
            <a:xfrm>
              <a:off x="798840" y="479160"/>
              <a:ext cx="55080" cy="204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6"/>
            <p:cNvSpPr/>
            <p:nvPr/>
          </p:nvSpPr>
          <p:spPr>
            <a:xfrm>
              <a:off x="803160" y="479160"/>
              <a:ext cx="47520" cy="2044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7"/>
            <p:cNvSpPr/>
            <p:nvPr/>
          </p:nvSpPr>
          <p:spPr>
            <a:xfrm>
              <a:off x="700920" y="550440"/>
              <a:ext cx="52200" cy="122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8"/>
            <p:cNvSpPr/>
            <p:nvPr/>
          </p:nvSpPr>
          <p:spPr>
            <a:xfrm>
              <a:off x="745920" y="450360"/>
              <a:ext cx="132480" cy="219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9"/>
            <p:cNvSpPr/>
            <p:nvPr/>
          </p:nvSpPr>
          <p:spPr>
            <a:xfrm>
              <a:off x="628920" y="458640"/>
              <a:ext cx="109080" cy="1296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0"/>
            <p:cNvSpPr/>
            <p:nvPr/>
          </p:nvSpPr>
          <p:spPr>
            <a:xfrm>
              <a:off x="792720" y="654120"/>
              <a:ext cx="156960" cy="730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1"/>
            <p:cNvSpPr/>
            <p:nvPr/>
          </p:nvSpPr>
          <p:spPr>
            <a:xfrm>
              <a:off x="771480" y="452160"/>
              <a:ext cx="90000" cy="194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2"/>
            <p:cNvSpPr/>
            <p:nvPr/>
          </p:nvSpPr>
          <p:spPr>
            <a:xfrm>
              <a:off x="651240" y="458640"/>
              <a:ext cx="73440" cy="1296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3"/>
            <p:cNvSpPr/>
            <p:nvPr/>
          </p:nvSpPr>
          <p:spPr>
            <a:xfrm>
              <a:off x="822240" y="661680"/>
              <a:ext cx="108360" cy="532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4"/>
            <p:cNvSpPr/>
            <p:nvPr/>
          </p:nvSpPr>
          <p:spPr>
            <a:xfrm>
              <a:off x="786240" y="454320"/>
              <a:ext cx="55080" cy="15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5"/>
            <p:cNvSpPr/>
            <p:nvPr/>
          </p:nvSpPr>
          <p:spPr>
            <a:xfrm>
              <a:off x="663840" y="458640"/>
              <a:ext cx="42480" cy="1296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6"/>
            <p:cNvSpPr/>
            <p:nvPr/>
          </p:nvSpPr>
          <p:spPr>
            <a:xfrm>
              <a:off x="838080" y="671760"/>
              <a:ext cx="68040" cy="360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802080" y="455040"/>
              <a:ext cx="25200" cy="13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8"/>
            <p:cNvSpPr/>
            <p:nvPr/>
          </p:nvSpPr>
          <p:spPr>
            <a:xfrm>
              <a:off x="674640" y="458640"/>
              <a:ext cx="20160" cy="1296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855360" y="677520"/>
              <a:ext cx="32760" cy="23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0"/>
            <p:cNvSpPr/>
            <p:nvPr/>
          </p:nvSpPr>
          <p:spPr>
            <a:xfrm>
              <a:off x="811440" y="763560"/>
              <a:ext cx="44280" cy="313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1"/>
            <p:cNvSpPr/>
            <p:nvPr/>
          </p:nvSpPr>
          <p:spPr>
            <a:xfrm>
              <a:off x="799920" y="744120"/>
              <a:ext cx="63360" cy="1368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72"/>
            <p:cNvSpPr/>
            <p:nvPr/>
          </p:nvSpPr>
          <p:spPr>
            <a:xfrm>
              <a:off x="819000" y="763560"/>
              <a:ext cx="26280" cy="313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3"/>
            <p:cNvSpPr/>
            <p:nvPr/>
          </p:nvSpPr>
          <p:spPr>
            <a:xfrm>
              <a:off x="811440" y="744120"/>
              <a:ext cx="38160" cy="1368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4"/>
            <p:cNvSpPr/>
            <p:nvPr/>
          </p:nvSpPr>
          <p:spPr>
            <a:xfrm>
              <a:off x="826560" y="763560"/>
              <a:ext cx="9360" cy="313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5"/>
            <p:cNvSpPr/>
            <p:nvPr/>
          </p:nvSpPr>
          <p:spPr>
            <a:xfrm>
              <a:off x="822240" y="744120"/>
              <a:ext cx="16920" cy="136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890280" y="727560"/>
              <a:ext cx="57600" cy="50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951840" y="710640"/>
              <a:ext cx="61560" cy="50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942480" y="699480"/>
              <a:ext cx="44280" cy="313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895320" y="727560"/>
              <a:ext cx="39240" cy="424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963720" y="721080"/>
              <a:ext cx="45360" cy="414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950760" y="708120"/>
              <a:ext cx="31680" cy="20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902160" y="730080"/>
              <a:ext cx="25200" cy="33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973080" y="727560"/>
              <a:ext cx="29880" cy="31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960480" y="712440"/>
              <a:ext cx="13680" cy="12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874440" y="709920"/>
              <a:ext cx="60480" cy="360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883080" y="709920"/>
              <a:ext cx="41400" cy="28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890280" y="712440"/>
              <a:ext cx="20160" cy="1548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798840" y="669960"/>
              <a:ext cx="161280" cy="694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826560" y="718920"/>
              <a:ext cx="47520" cy="19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928440" y="684000"/>
              <a:ext cx="42480" cy="309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613800" y="480960"/>
              <a:ext cx="106200" cy="101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620280" y="605160"/>
              <a:ext cx="42480" cy="39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491760" y="957240"/>
              <a:ext cx="58320" cy="55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686160" y="838800"/>
              <a:ext cx="44280" cy="26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748800" y="805320"/>
              <a:ext cx="36000" cy="20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01200" y="480960"/>
              <a:ext cx="108360" cy="101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604440" y="483120"/>
              <a:ext cx="99720" cy="950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604440" y="483120"/>
              <a:ext cx="93240" cy="907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607320" y="483840"/>
              <a:ext cx="87120" cy="820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607320" y="483840"/>
              <a:ext cx="80640" cy="774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610920" y="487440"/>
              <a:ext cx="74160" cy="69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612720" y="487440"/>
              <a:ext cx="66960" cy="637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613800" y="488520"/>
              <a:ext cx="60480" cy="58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616320" y="488520"/>
              <a:ext cx="54000" cy="52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617040" y="490320"/>
              <a:ext cx="47880" cy="460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617040" y="492120"/>
              <a:ext cx="42480" cy="39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620280" y="49212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609480" y="606240"/>
              <a:ext cx="42480" cy="41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10920" y="606240"/>
              <a:ext cx="39240" cy="3960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10920" y="6080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10920" y="608040"/>
              <a:ext cx="36000" cy="331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12720" y="609840"/>
              <a:ext cx="32040" cy="302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3"/>
            <p:cNvSpPr/>
            <p:nvPr/>
          </p:nvSpPr>
          <p:spPr>
            <a:xfrm>
              <a:off x="612720" y="6098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4"/>
            <p:cNvSpPr/>
            <p:nvPr/>
          </p:nvSpPr>
          <p:spPr>
            <a:xfrm>
              <a:off x="613800" y="609840"/>
              <a:ext cx="26280" cy="24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5"/>
            <p:cNvSpPr/>
            <p:nvPr/>
          </p:nvSpPr>
          <p:spPr>
            <a:xfrm>
              <a:off x="613800" y="609840"/>
              <a:ext cx="23040" cy="237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6"/>
            <p:cNvSpPr/>
            <p:nvPr/>
          </p:nvSpPr>
          <p:spPr>
            <a:xfrm>
              <a:off x="616320" y="610560"/>
              <a:ext cx="21960" cy="20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160"/>
                <a:gd name="textAreaBottom" fmla="*/ 20160 h 2016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7"/>
            <p:cNvSpPr/>
            <p:nvPr/>
          </p:nvSpPr>
          <p:spPr>
            <a:xfrm>
              <a:off x="616320" y="610560"/>
              <a:ext cx="18720" cy="176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8"/>
            <p:cNvSpPr/>
            <p:nvPr/>
          </p:nvSpPr>
          <p:spPr>
            <a:xfrm>
              <a:off x="617040" y="610560"/>
              <a:ext cx="15840" cy="15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9"/>
            <p:cNvSpPr/>
            <p:nvPr/>
          </p:nvSpPr>
          <p:spPr>
            <a:xfrm>
              <a:off x="617040" y="610560"/>
              <a:ext cx="13680" cy="136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0"/>
            <p:cNvSpPr/>
            <p:nvPr/>
          </p:nvSpPr>
          <p:spPr>
            <a:xfrm>
              <a:off x="475920" y="960840"/>
              <a:ext cx="58320" cy="55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1"/>
            <p:cNvSpPr/>
            <p:nvPr/>
          </p:nvSpPr>
          <p:spPr>
            <a:xfrm>
              <a:off x="477720" y="960840"/>
              <a:ext cx="54000" cy="53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2"/>
            <p:cNvSpPr/>
            <p:nvPr/>
          </p:nvSpPr>
          <p:spPr>
            <a:xfrm>
              <a:off x="479160" y="9608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3"/>
            <p:cNvSpPr/>
            <p:nvPr/>
          </p:nvSpPr>
          <p:spPr>
            <a:xfrm>
              <a:off x="479160" y="96156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4"/>
            <p:cNvSpPr/>
            <p:nvPr/>
          </p:nvSpPr>
          <p:spPr>
            <a:xfrm>
              <a:off x="479160" y="961560"/>
              <a:ext cx="45360" cy="42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5"/>
            <p:cNvSpPr/>
            <p:nvPr/>
          </p:nvSpPr>
          <p:spPr>
            <a:xfrm>
              <a:off x="481320" y="961560"/>
              <a:ext cx="41400" cy="378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7800"/>
                <a:gd name="textAreaBottom" fmla="*/ 37800 h 37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6"/>
            <p:cNvSpPr/>
            <p:nvPr/>
          </p:nvSpPr>
          <p:spPr>
            <a:xfrm>
              <a:off x="482040" y="963720"/>
              <a:ext cx="36000" cy="35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7"/>
            <p:cNvSpPr/>
            <p:nvPr/>
          </p:nvSpPr>
          <p:spPr>
            <a:xfrm>
              <a:off x="482040" y="963720"/>
              <a:ext cx="32760" cy="31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1320"/>
                <a:gd name="textAreaBottom" fmla="*/ 31320 h 3132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8"/>
            <p:cNvSpPr/>
            <p:nvPr/>
          </p:nvSpPr>
          <p:spPr>
            <a:xfrm>
              <a:off x="484200" y="965520"/>
              <a:ext cx="28440" cy="26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9"/>
            <p:cNvSpPr/>
            <p:nvPr/>
          </p:nvSpPr>
          <p:spPr>
            <a:xfrm>
              <a:off x="484200" y="965520"/>
              <a:ext cx="26280" cy="241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0"/>
            <p:cNvSpPr/>
            <p:nvPr/>
          </p:nvSpPr>
          <p:spPr>
            <a:xfrm>
              <a:off x="485280" y="965520"/>
              <a:ext cx="23040" cy="219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1"/>
            <p:cNvSpPr/>
            <p:nvPr/>
          </p:nvSpPr>
          <p:spPr>
            <a:xfrm>
              <a:off x="485280" y="965520"/>
              <a:ext cx="20160" cy="194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2"/>
            <p:cNvSpPr/>
            <p:nvPr/>
          </p:nvSpPr>
          <p:spPr>
            <a:xfrm>
              <a:off x="686160" y="833040"/>
              <a:ext cx="44280" cy="20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3"/>
            <p:cNvSpPr/>
            <p:nvPr/>
          </p:nvSpPr>
          <p:spPr>
            <a:xfrm>
              <a:off x="688320" y="833040"/>
              <a:ext cx="41400" cy="19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4"/>
            <p:cNvSpPr/>
            <p:nvPr/>
          </p:nvSpPr>
          <p:spPr>
            <a:xfrm>
              <a:off x="688320" y="833040"/>
              <a:ext cx="41400" cy="17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5"/>
            <p:cNvSpPr/>
            <p:nvPr/>
          </p:nvSpPr>
          <p:spPr>
            <a:xfrm>
              <a:off x="691560" y="833040"/>
              <a:ext cx="34920" cy="17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6"/>
            <p:cNvSpPr/>
            <p:nvPr/>
          </p:nvSpPr>
          <p:spPr>
            <a:xfrm>
              <a:off x="693720" y="833040"/>
              <a:ext cx="34920" cy="15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7"/>
            <p:cNvSpPr/>
            <p:nvPr/>
          </p:nvSpPr>
          <p:spPr>
            <a:xfrm>
              <a:off x="694800" y="833040"/>
              <a:ext cx="31680" cy="15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8"/>
            <p:cNvSpPr/>
            <p:nvPr/>
          </p:nvSpPr>
          <p:spPr>
            <a:xfrm>
              <a:off x="697680" y="834840"/>
              <a:ext cx="28440" cy="12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9"/>
            <p:cNvSpPr/>
            <p:nvPr/>
          </p:nvSpPr>
          <p:spPr>
            <a:xfrm>
              <a:off x="700200" y="8348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0"/>
            <p:cNvSpPr/>
            <p:nvPr/>
          </p:nvSpPr>
          <p:spPr>
            <a:xfrm>
              <a:off x="700920" y="834840"/>
              <a:ext cx="22320" cy="90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1"/>
            <p:cNvSpPr/>
            <p:nvPr/>
          </p:nvSpPr>
          <p:spPr>
            <a:xfrm>
              <a:off x="703080" y="834840"/>
              <a:ext cx="20160" cy="9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2"/>
            <p:cNvSpPr/>
            <p:nvPr/>
          </p:nvSpPr>
          <p:spPr>
            <a:xfrm>
              <a:off x="704520" y="834840"/>
              <a:ext cx="18720" cy="8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3"/>
            <p:cNvSpPr/>
            <p:nvPr/>
          </p:nvSpPr>
          <p:spPr>
            <a:xfrm>
              <a:off x="707400" y="834840"/>
              <a:ext cx="12600" cy="8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4"/>
            <p:cNvSpPr/>
            <p:nvPr/>
          </p:nvSpPr>
          <p:spPr>
            <a:xfrm>
              <a:off x="748800" y="801720"/>
              <a:ext cx="36000" cy="15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5"/>
            <p:cNvSpPr/>
            <p:nvPr/>
          </p:nvSpPr>
          <p:spPr>
            <a:xfrm>
              <a:off x="750960" y="801720"/>
              <a:ext cx="32760" cy="136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6"/>
            <p:cNvSpPr/>
            <p:nvPr/>
          </p:nvSpPr>
          <p:spPr>
            <a:xfrm>
              <a:off x="754200" y="803160"/>
              <a:ext cx="28440" cy="12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7"/>
            <p:cNvSpPr/>
            <p:nvPr/>
          </p:nvSpPr>
          <p:spPr>
            <a:xfrm>
              <a:off x="754200" y="803160"/>
              <a:ext cx="28440" cy="10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8"/>
            <p:cNvSpPr/>
            <p:nvPr/>
          </p:nvSpPr>
          <p:spPr>
            <a:xfrm>
              <a:off x="755280" y="803160"/>
              <a:ext cx="26640" cy="10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49"/>
            <p:cNvSpPr/>
            <p:nvPr/>
          </p:nvSpPr>
          <p:spPr>
            <a:xfrm>
              <a:off x="757440" y="80316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0"/>
            <p:cNvSpPr/>
            <p:nvPr/>
          </p:nvSpPr>
          <p:spPr>
            <a:xfrm>
              <a:off x="758520" y="80316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1"/>
            <p:cNvSpPr/>
            <p:nvPr/>
          </p:nvSpPr>
          <p:spPr>
            <a:xfrm>
              <a:off x="760680" y="803160"/>
              <a:ext cx="19080" cy="8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2"/>
            <p:cNvSpPr/>
            <p:nvPr/>
          </p:nvSpPr>
          <p:spPr>
            <a:xfrm>
              <a:off x="761760" y="803160"/>
              <a:ext cx="16560" cy="82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3"/>
            <p:cNvSpPr/>
            <p:nvPr/>
          </p:nvSpPr>
          <p:spPr>
            <a:xfrm>
              <a:off x="763920" y="80316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4"/>
            <p:cNvSpPr/>
            <p:nvPr/>
          </p:nvSpPr>
          <p:spPr>
            <a:xfrm>
              <a:off x="765000" y="803160"/>
              <a:ext cx="13680" cy="6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5"/>
            <p:cNvSpPr/>
            <p:nvPr/>
          </p:nvSpPr>
          <p:spPr>
            <a:xfrm>
              <a:off x="767160" y="803160"/>
              <a:ext cx="10440" cy="4320"/>
            </a:xfrm>
            <a:custGeom>
              <a:avLst/>
              <a:gdLst>
                <a:gd name="textAreaLeft" fmla="*/ 0 w 10440"/>
                <a:gd name="textAreaRight" fmla="*/ 10440 w 1044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6"/>
            <p:cNvSpPr/>
            <p:nvPr/>
          </p:nvSpPr>
          <p:spPr>
            <a:xfrm>
              <a:off x="636480" y="516240"/>
              <a:ext cx="39240" cy="3780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7"/>
            <p:cNvSpPr/>
            <p:nvPr/>
          </p:nvSpPr>
          <p:spPr>
            <a:xfrm>
              <a:off x="623520" y="621000"/>
              <a:ext cx="13680" cy="15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8"/>
            <p:cNvSpPr/>
            <p:nvPr/>
          </p:nvSpPr>
          <p:spPr>
            <a:xfrm>
              <a:off x="495000" y="979560"/>
              <a:ext cx="20160" cy="201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9"/>
            <p:cNvSpPr/>
            <p:nvPr/>
          </p:nvSpPr>
          <p:spPr>
            <a:xfrm>
              <a:off x="707400" y="812520"/>
              <a:ext cx="244080" cy="536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0"/>
            <p:cNvSpPr/>
            <p:nvPr/>
          </p:nvSpPr>
          <p:spPr>
            <a:xfrm>
              <a:off x="638280" y="1012680"/>
              <a:ext cx="141480" cy="414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1"/>
            <p:cNvSpPr/>
            <p:nvPr/>
          </p:nvSpPr>
          <p:spPr>
            <a:xfrm>
              <a:off x="638280" y="1021320"/>
              <a:ext cx="138960" cy="284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2"/>
            <p:cNvSpPr/>
            <p:nvPr/>
          </p:nvSpPr>
          <p:spPr>
            <a:xfrm>
              <a:off x="639360" y="1025640"/>
              <a:ext cx="137880" cy="17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3"/>
            <p:cNvSpPr/>
            <p:nvPr/>
          </p:nvSpPr>
          <p:spPr>
            <a:xfrm>
              <a:off x="748080" y="1014840"/>
              <a:ext cx="53640" cy="58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4"/>
            <p:cNvSpPr/>
            <p:nvPr/>
          </p:nvSpPr>
          <p:spPr>
            <a:xfrm>
              <a:off x="783000" y="992520"/>
              <a:ext cx="88920" cy="8856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5"/>
            <p:cNvSpPr/>
            <p:nvPr/>
          </p:nvSpPr>
          <p:spPr>
            <a:xfrm>
              <a:off x="802080" y="988560"/>
              <a:ext cx="73440" cy="90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6"/>
            <p:cNvSpPr/>
            <p:nvPr/>
          </p:nvSpPr>
          <p:spPr>
            <a:xfrm>
              <a:off x="805320" y="992520"/>
              <a:ext cx="69840" cy="8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7"/>
            <p:cNvSpPr/>
            <p:nvPr/>
          </p:nvSpPr>
          <p:spPr>
            <a:xfrm>
              <a:off x="806400" y="994320"/>
              <a:ext cx="66960" cy="82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8"/>
            <p:cNvSpPr/>
            <p:nvPr/>
          </p:nvSpPr>
          <p:spPr>
            <a:xfrm>
              <a:off x="808560" y="997200"/>
              <a:ext cx="63360" cy="77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9"/>
            <p:cNvSpPr/>
            <p:nvPr/>
          </p:nvSpPr>
          <p:spPr>
            <a:xfrm>
              <a:off x="811440" y="999000"/>
              <a:ext cx="60480" cy="74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0"/>
            <p:cNvSpPr/>
            <p:nvPr/>
          </p:nvSpPr>
          <p:spPr>
            <a:xfrm>
              <a:off x="811440" y="1001520"/>
              <a:ext cx="58320" cy="69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1"/>
            <p:cNvSpPr/>
            <p:nvPr/>
          </p:nvSpPr>
          <p:spPr>
            <a:xfrm>
              <a:off x="813960" y="1003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2"/>
            <p:cNvSpPr/>
            <p:nvPr/>
          </p:nvSpPr>
          <p:spPr>
            <a:xfrm>
              <a:off x="816120" y="1006200"/>
              <a:ext cx="51840" cy="637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3"/>
            <p:cNvSpPr/>
            <p:nvPr/>
          </p:nvSpPr>
          <p:spPr>
            <a:xfrm>
              <a:off x="816840" y="1008000"/>
              <a:ext cx="47880" cy="601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4"/>
            <p:cNvSpPr/>
            <p:nvPr/>
          </p:nvSpPr>
          <p:spPr>
            <a:xfrm>
              <a:off x="820080" y="1010880"/>
              <a:ext cx="44640" cy="5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5"/>
            <p:cNvSpPr/>
            <p:nvPr/>
          </p:nvSpPr>
          <p:spPr>
            <a:xfrm>
              <a:off x="822240" y="1014840"/>
              <a:ext cx="41400" cy="507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6"/>
            <p:cNvSpPr/>
            <p:nvPr/>
          </p:nvSpPr>
          <p:spPr>
            <a:xfrm>
              <a:off x="823320" y="1016640"/>
              <a:ext cx="37800" cy="47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0b800f12c739caea0dd94939624c2493"/>
          <p:cNvPicPr/>
          <p:nvPr/>
        </p:nvPicPr>
        <p:blipFill>
          <a:blip r:embed="rId2"/>
          <a:stretch/>
        </p:blipFill>
        <p:spPr>
          <a:xfrm>
            <a:off x="7924680" y="304920"/>
            <a:ext cx="938160" cy="11620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5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213" name="Rectangle 16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7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0"/>
          <p:cNvGrpSpPr/>
          <p:nvPr/>
        </p:nvGrpSpPr>
        <p:grpSpPr>
          <a:xfrm>
            <a:off x="152280" y="3809880"/>
            <a:ext cx="2819160" cy="2705040"/>
            <a:chOff x="152280" y="3809880"/>
            <a:chExt cx="2819160" cy="2705040"/>
          </a:xfrm>
        </p:grpSpPr>
        <p:sp>
          <p:nvSpPr>
            <p:cNvPr id="216" name="AutoShape 11"/>
            <p:cNvSpPr/>
            <p:nvPr/>
          </p:nvSpPr>
          <p:spPr>
            <a:xfrm>
              <a:off x="152280" y="4493880"/>
              <a:ext cx="1508040" cy="1306080"/>
            </a:xfrm>
            <a:prstGeom prst="hexagon">
              <a:avLst>
                <a:gd name="adj" fmla="val 2886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2"/>
            <p:cNvSpPr/>
            <p:nvPr/>
          </p:nvSpPr>
          <p:spPr>
            <a:xfrm>
              <a:off x="1397880" y="380988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3"/>
            <p:cNvSpPr/>
            <p:nvPr/>
          </p:nvSpPr>
          <p:spPr>
            <a:xfrm>
              <a:off x="1365120" y="520884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8687160" y="353880"/>
            <a:ext cx="202680" cy="6503760"/>
            <a:chOff x="8687160" y="353880"/>
            <a:chExt cx="202680" cy="6503760"/>
          </a:xfrm>
        </p:grpSpPr>
        <p:sp>
          <p:nvSpPr>
            <p:cNvPr id="220" name="Rectangle 19"/>
            <p:cNvSpPr/>
            <p:nvPr/>
          </p:nvSpPr>
          <p:spPr>
            <a:xfrm flipH="1" rot="10800000">
              <a:off x="8686800" y="353880"/>
              <a:ext cx="75960" cy="649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 rot="10800000">
              <a:off x="8813520" y="581760"/>
              <a:ext cx="76320" cy="627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1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223" name="Rectangle 22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4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226" name="Rectangle 25"/>
            <p:cNvSpPr/>
            <p:nvPr/>
          </p:nvSpPr>
          <p:spPr>
            <a:xfrm flipH="1" rot="5400000">
              <a:off x="5572800" y="3468960"/>
              <a:ext cx="75960" cy="6496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 rot="5400000">
              <a:off x="5689800" y="3453120"/>
              <a:ext cx="76320" cy="627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4282-FAFB-4AD9-BDA2-C71C08DB41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бюджет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21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123720" y="2133360"/>
            <a:ext cx="5257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оздействие антисептиков на микроорганиз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 Дани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риллиантового зелёного раст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йод и откуда он берется, мы более менее понимаем (он есть в таблице Менделеева и производится из водорослей), а зеленка или точн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иллиантового зелёного раств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ак написано на баночке) нам совсем не понятен. </a:t>
            </a:r>
            <a:br>
              <a:rPr sz="24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лковый словар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усского языка (Ожегов С., Шведова Н), где пишут: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ЕЛЕНК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, ж. (разг.). Лекарство - обеззараживающая жидкость зеленого цвета на спирту для лечения царапин, порезов, заболеваний кожи. Смазать зеле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о это не ответ на вопрос: что же такое зеленка по сути и из чего её делают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им запрос… так, что там на баночке написано?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вор бриллиантового зеленого спиртовой 1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ищем ег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7543800" y="3505320"/>
            <a:ext cx="1027080" cy="2087280"/>
          </a:xfrm>
          <a:prstGeom prst="rect">
            <a:avLst/>
          </a:prstGeom>
          <a:ln w="0">
            <a:noFill/>
          </a:ln>
        </p:spPr>
      </p:pic>
      <p:sp>
        <p:nvSpPr>
          <p:cNvPr id="295" name="Скругленный прямоугольник 9"/>
          <p:cNvSpPr/>
          <p:nvPr/>
        </p:nvSpPr>
        <p:spPr>
          <a:xfrm>
            <a:off x="685800" y="3200400"/>
            <a:ext cx="373392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 применения и доз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ружно, наносят на поврежденную поверхность, захватывая окружающие здоровые тк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0"/>
          <p:cNvSpPr/>
          <p:nvPr/>
        </p:nvSpPr>
        <p:spPr>
          <a:xfrm>
            <a:off x="5029200" y="3048120"/>
            <a:ext cx="2362320" cy="33526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352680"/>
              <a:gd name="textAreaBottom" fmla="*/ 3237480 h 3352680"/>
            </a:gdLst>
            <a:ahLst/>
            <a:rect l="textAreaLeft" t="textAreaTop" r="textAreaRight" b="textAreaBottom"/>
            <a:pathLst>
              <a:path w="21600" h="30654">
                <a:moveTo>
                  <a:pt x="3600" y="0"/>
                </a:moveTo>
                <a:arcTo wR="3600" hR="3600" stAng="16200000" swAng="-5400000"/>
                <a:lnTo>
                  <a:pt x="0" y="27054"/>
                </a:lnTo>
                <a:arcTo wR="3600" hR="3600" stAng="10800000" swAng="-5400000"/>
                <a:lnTo>
                  <a:pt x="18000" y="30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жие послеоперационные и посттравматические рубцы, ячмень, блефарит (воспаление век и ресниц), ссадины, порезы, нарушения целостности кожных покров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1"/>
          <p:cNvSpPr/>
          <p:nvPr/>
        </p:nvSpPr>
        <p:spPr>
          <a:xfrm>
            <a:off x="685800" y="502920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 применения и доз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ружно, наносят на поврежденную поверхность, захватывая окружающие здоровые тк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2"/>
          <p:cNvSpPr/>
          <p:nvPr/>
        </p:nvSpPr>
        <p:spPr>
          <a:xfrm>
            <a:off x="4876920" y="1447920"/>
            <a:ext cx="3733560" cy="144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истик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нтисептическое средств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группы красите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еновато-золотистые комочки или золотисто-зеленый порошок. Трудно растворим в воде (1:50) и спир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3"/>
          <p:cNvSpPr/>
          <p:nvPr/>
        </p:nvSpPr>
        <p:spPr>
          <a:xfrm>
            <a:off x="609480" y="1447920"/>
            <a:ext cx="373392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зрачная, интенсивно зеленого цвета жидкость с запахом спирт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 по компонентам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риллиантовый зеленый, вода, этан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ленка» – это обыкновенный краситель (то-то он так хорошо красится и долго держится). Он, как и йод, является антисептиком, но более слабым и мягким, он слегка стимулирует заживление ран и, в отличие от йода, не сушит кожу. Следует употреблять именно зеленку, а не йод, при обработке заметных поверхностей (размером с пятирублевую монету и выше), а также чувствительной кожи (например, у младенцев). Во многих странах вместо зеленки употребляют Меркурохром. Так как у них «зелёнка» вообще не использу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йод вместо зеленки (или наоборот) используют для обработки царапин, а также кожи ВОКРУГ ран для дезинфекции, и в тех случаях, когда необходимо подсушить кожу. Кроме того, йод применяют всегда, когда необходимо стимулировать приток крови к мягким тканям - в первую очередь в случае различных ушибов и растяжений. С этой целью на поверхность НЕПОВРЕЖДЕННОЙ кожи наносится так называемая йодная с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кроорганизмы и их строение,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греч. βακτήριον — палочка) — группа микроорганизмов, в строении клетки которых отсутствует оформленное ядро, а весь наследственный материал расположен в центре кле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Содержимое 3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начение бакте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их жизнедеятельности происходит разложение и минерализация органических веществ отмерших растений и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 вместе с грибами и лишайниками разрушают горные породы, участвуя тем самым в начальных стадиях почвообразовательны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чнокислые бактерии используются в приготовлении разнообразных молочных продуктов (сметаны, простокваши, масла, сыра и др.). Они же способствуют консервированию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 широко используются в современной биотехнологии для промышленного получения молочной, масляной, уксусной и пропионовой кислот, ацетона, бутилового спирт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цессе их жизнедеятельности образуются биологически активные вещества — антибиотики, витамины, аминокис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онец, бактерии являются объектом для исследований в области генетики, биохимии, биофизики, космической биолог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ицательная роль принадлежит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болезнетворны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атогенны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ктер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пособны проникать в ткани растений, животных и человека и выделять при этом вещества, угнетающие защитные силы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ры борьбы с болезнетворными бакте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Пр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высушив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ногие бактерии погибают, у других - замедляется жизне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стериз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гревание до 60-70 градусов в течении 10-20 минут, уничтожаются только вегетативные формы бактер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свобождение среды от всех бактерий и их зачатков достигается пламенем, кипячением, насыщением паром под давлением (120-130 градус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хлажд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иостанавливает жизне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вышение концентрации со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рушают обмен веществ и ведут к гибели бактерий (засолка, засахаривани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ислая реакция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накопление молочной кислоты) губительно действует на бактерии ( при квашении, консервирован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ямой солнечный с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несколько минут или часов убивает почти все бактерии (за исключением фототрофных). Используют для стерилизации (ультрофиолетовые лучи) воды, посуды, воздуха в операционных, родильных домах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). Дл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дезинфе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 соли тяжелых металлов (ртуть, медь, серебро, хлор, йод, перекись водорода, марганцево-кислый калий, борную кислоту, карболовую кислоту, креозол, формалин и друг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 Использование антисептиков (йод, зелёнка, перекись водорода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следовательская ч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оборудование для проведения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ть мазки из полости носа, ротовой полости и с ладо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ти бактерии на стерильную поверхность питательной среды (в трёх чашах Петр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ать одну половину чаш антисептиком (зеленк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ить чаши в тёплое место (постоянной температурой, но не на батарею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крыть чаши  через 24 часа после  начала опыта, провести сравнительный анализ роста колоний бакте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Вскрыть чаши через 48 часов после начала опыта, провести сравнительный анализ роста колоний бактер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крыть чаши  через 72  часа часа после  начала опыта, провести сравнительный анализ роста колоний бакте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сти итоги (выводы) проведенной исследовательск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ма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е антисептиков на микроорг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следования является: практическим путем определить - как антисептики на примере раствора бриллиантового  зеленого («зелёнки») действуют на враждебные человеку  микроорг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чашки Петри (стерильная питательная сре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одноразовых палочки (для взятия маз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иллиантового зелёного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ая помощь в проведении исследовательской работы принадлежит Лалетиной Светлане Николаевне ( заведующей отделением лабораторной диагностики городской больницы №14 г.Екатеринбур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кскурсия в отделение лабораторной ди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Irina\Desktop\нпк\фото для дани нпк\Фото532.jpg"/>
          <p:cNvPicPr/>
          <p:nvPr/>
        </p:nvPicPr>
        <p:blipFill>
          <a:blip r:embed="rId1"/>
          <a:stretch/>
        </p:blipFill>
        <p:spPr>
          <a:xfrm>
            <a:off x="2286000" y="2286000"/>
            <a:ext cx="4160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C:\Users\Irina\Desktop\нпк\фото для дани нпк\Фото515.jpg"/>
          <p:cNvPicPr/>
          <p:nvPr/>
        </p:nvPicPr>
        <p:blipFill>
          <a:blip r:embed="rId1"/>
          <a:stretch/>
        </p:blipFill>
        <p:spPr>
          <a:xfrm>
            <a:off x="1295280" y="609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6" descr="C:\Users\Irina\Desktop\нпк\фото для дани нпк\Фото521.jpg"/>
          <p:cNvPicPr/>
          <p:nvPr/>
        </p:nvPicPr>
        <p:blipFill>
          <a:blip r:embed="rId2"/>
          <a:stretch/>
        </p:blipFill>
        <p:spPr>
          <a:xfrm>
            <a:off x="4952880" y="609480"/>
            <a:ext cx="3205440" cy="23068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8" descr="C:\Users\Irina\Desktop\нпк\фото для дани нпк\Фото520.jpg"/>
          <p:cNvPicPr/>
          <p:nvPr/>
        </p:nvPicPr>
        <p:blipFill>
          <a:blip r:embed="rId3"/>
          <a:stretch/>
        </p:blipFill>
        <p:spPr>
          <a:xfrm>
            <a:off x="533520" y="32767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9" descr="C:\Users\Irina\Desktop\нпк\фото для дани нпк\Фото519.jpg"/>
          <p:cNvPicPr/>
          <p:nvPr/>
        </p:nvPicPr>
        <p:blipFill>
          <a:blip r:embed="rId4"/>
          <a:stretch/>
        </p:blipFill>
        <p:spPr>
          <a:xfrm>
            <a:off x="3200400" y="3276720"/>
            <a:ext cx="2666880" cy="19047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10" descr="C:\Users\Irina\Desktop\нпк\фото для дани нпк\Фото526.jpg"/>
          <p:cNvPicPr/>
          <p:nvPr/>
        </p:nvPicPr>
        <p:blipFill>
          <a:blip r:embed="rId5"/>
          <a:stretch/>
        </p:blipFill>
        <p:spPr>
          <a:xfrm>
            <a:off x="6019920" y="3200400"/>
            <a:ext cx="2652480" cy="1989000"/>
          </a:xfrm>
          <a:prstGeom prst="rect">
            <a:avLst/>
          </a:prstGeom>
          <a:ln w="0">
            <a:noFill/>
          </a:ln>
        </p:spPr>
      </p:pic>
      <p:sp>
        <p:nvSpPr>
          <p:cNvPr id="326" name="Овал 11"/>
          <p:cNvSpPr/>
          <p:nvPr/>
        </p:nvSpPr>
        <p:spPr>
          <a:xfrm>
            <a:off x="2362320" y="5410080"/>
            <a:ext cx="4038480" cy="990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то то, что «выращивают»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C:\Users\Irina\Desktop\нпк\фото для дани нпк\Фото535.jpg"/>
          <p:cNvPicPr/>
          <p:nvPr/>
        </p:nvPicPr>
        <p:blipFill>
          <a:blip r:embed="rId1"/>
          <a:stretch/>
        </p:blipFill>
        <p:spPr>
          <a:xfrm>
            <a:off x="914400" y="16574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C:\Users\Irina\Desktop\нпк\фото для дани нпк\Фото533.jpg"/>
          <p:cNvPicPr/>
          <p:nvPr/>
        </p:nvPicPr>
        <p:blipFill>
          <a:blip r:embed="rId2"/>
          <a:stretch/>
        </p:blipFill>
        <p:spPr>
          <a:xfrm>
            <a:off x="4572000" y="3657600"/>
            <a:ext cx="353844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бор мазков из полости рта, носа и р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Содержимое 3" descr="C:\Users\Irina\Desktop\нпк\фото для дани нпк\SDC11918.JPG"/>
          <p:cNvPicPr/>
          <p:nvPr/>
        </p:nvPicPr>
        <p:blipFill>
          <a:blip r:embed="rId1"/>
          <a:stretch/>
        </p:blipFill>
        <p:spPr>
          <a:xfrm>
            <a:off x="914400" y="1447920"/>
            <a:ext cx="3124080" cy="23619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C:\Users\Irina\Desktop\нпк\фото для дани нпк\SDC11925.JPG"/>
          <p:cNvPicPr/>
          <p:nvPr/>
        </p:nvPicPr>
        <p:blipFill>
          <a:blip r:embed="rId2"/>
          <a:stretch/>
        </p:blipFill>
        <p:spPr>
          <a:xfrm>
            <a:off x="5181480" y="1436760"/>
            <a:ext cx="3075120" cy="23731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5" descr="C:\Users\Irina\Desktop\нпк\фото для дани нпк\SDC11927.JPG"/>
          <p:cNvPicPr/>
          <p:nvPr/>
        </p:nvPicPr>
        <p:blipFill>
          <a:blip r:embed="rId3"/>
          <a:stretch/>
        </p:blipFill>
        <p:spPr>
          <a:xfrm>
            <a:off x="3251160" y="4343400"/>
            <a:ext cx="30355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сев бактерий на стерильную питательную сре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Содержимое 3" descr="C:\Users\Irina\Desktop\нпк\фото для дани нпк\SDC11919.JPG"/>
          <p:cNvPicPr/>
          <p:nvPr/>
        </p:nvPicPr>
        <p:blipFill>
          <a:blip r:embed="rId1"/>
          <a:stretch/>
        </p:blipFill>
        <p:spPr>
          <a:xfrm>
            <a:off x="1295280" y="2057400"/>
            <a:ext cx="3932280" cy="28954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C:\Users\Irina\Desktop\нпк\фото для дани нпк\SDC11920.JPG"/>
          <p:cNvPicPr/>
          <p:nvPr/>
        </p:nvPicPr>
        <p:blipFill>
          <a:blip r:embed="rId2"/>
          <a:stretch/>
        </p:blipFill>
        <p:spPr>
          <a:xfrm>
            <a:off x="5486400" y="3990960"/>
            <a:ext cx="31449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несение антисептика («зелёнка») на одну из половин каждой чашки Петр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Содержимое 3" descr="C:\Users\Irina\Desktop\нпк\фото для дани нпк\SDC11921.JPG"/>
          <p:cNvPicPr/>
          <p:nvPr/>
        </p:nvPicPr>
        <p:blipFill>
          <a:blip r:embed="rId1"/>
          <a:stretch/>
        </p:blipFill>
        <p:spPr>
          <a:xfrm>
            <a:off x="1143000" y="1981080"/>
            <a:ext cx="3398760" cy="29718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C:\Users\Irina\Desktop\нпк\фото для дани нпк\SDC11931.JPG"/>
          <p:cNvPicPr/>
          <p:nvPr/>
        </p:nvPicPr>
        <p:blipFill>
          <a:blip r:embed="rId2"/>
          <a:stretch/>
        </p:blipFill>
        <p:spPr>
          <a:xfrm>
            <a:off x="5105520" y="3848040"/>
            <a:ext cx="34686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Содержимое 3" descr="C:\Users\Irina\Desktop\нпк\фото для дани нпк\SDC11932.JPG"/>
          <p:cNvPicPr/>
          <p:nvPr/>
        </p:nvPicPr>
        <p:blipFill>
          <a:blip r:embed="rId1"/>
          <a:stretch/>
        </p:blipFill>
        <p:spPr>
          <a:xfrm>
            <a:off x="1828800" y="1752480"/>
            <a:ext cx="51195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равнительный анализ роста колоний бактерий через 24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Users\Irina\Desktop\фото\SDC11933.JPG"/>
          <p:cNvPicPr/>
          <p:nvPr/>
        </p:nvPicPr>
        <p:blipFill>
          <a:blip r:embed="rId1"/>
          <a:stretch/>
        </p:blipFill>
        <p:spPr>
          <a:xfrm>
            <a:off x="1295280" y="228600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344" name="Скругленный прямоугольник 4"/>
          <p:cNvSpPr/>
          <p:nvPr/>
        </p:nvSpPr>
        <p:spPr>
          <a:xfrm>
            <a:off x="5486400" y="1371600"/>
            <a:ext cx="3276720" cy="487692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4876920"/>
              <a:gd name="textAreaBottom" fmla="*/ 4717080 h 487692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сутки (24 часа) на всех трёх образцах  заметен рост колоний бактерий в той части чашки Петри, которая была не обработана антисептиком, то есть «зелёнко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C:\Users\Irina\Desktop\фото\SDC11935.JPG"/>
          <p:cNvPicPr/>
          <p:nvPr/>
        </p:nvPicPr>
        <p:blipFill>
          <a:blip r:embed="rId1"/>
          <a:stretch/>
        </p:blipFill>
        <p:spPr>
          <a:xfrm>
            <a:off x="4791240" y="1152360"/>
            <a:ext cx="3146400" cy="24386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C:\Users\Irina\Desktop\фото\SDC11936.JPG"/>
          <p:cNvPicPr/>
          <p:nvPr/>
        </p:nvPicPr>
        <p:blipFill>
          <a:blip r:embed="rId2"/>
          <a:stretch/>
        </p:blipFill>
        <p:spPr>
          <a:xfrm>
            <a:off x="1133640" y="1152360"/>
            <a:ext cx="2920680" cy="240192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C:\Users\Irina\Desktop\фото\SDC11938.JPG"/>
          <p:cNvPicPr/>
          <p:nvPr/>
        </p:nvPicPr>
        <p:blipFill>
          <a:blip r:embed="rId3"/>
          <a:stretch/>
        </p:blipFill>
        <p:spPr>
          <a:xfrm>
            <a:off x="3035160" y="3968640"/>
            <a:ext cx="27687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антисептиков (йода и зелёнки) на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потеза 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знать способность антисептиков обеззараживать микроорганизмы, то можно при небольших порезах или ссадинах, в домашних условиях помочь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равнительный анализ роста колоний бактерий через 48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Irina\Desktop\фото\SDC11942.JPG"/>
          <p:cNvPicPr/>
          <p:nvPr/>
        </p:nvPicPr>
        <p:blipFill>
          <a:blip r:embed="rId1"/>
          <a:stretch/>
        </p:blipFill>
        <p:spPr>
          <a:xfrm>
            <a:off x="1407960" y="1427040"/>
            <a:ext cx="2749680" cy="21146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C:\Users\Irina\Desktop\фото\SDC11943.JPG"/>
          <p:cNvPicPr/>
          <p:nvPr/>
        </p:nvPicPr>
        <p:blipFill>
          <a:blip r:embed="rId2"/>
          <a:stretch/>
        </p:blipFill>
        <p:spPr>
          <a:xfrm>
            <a:off x="1103400" y="4017960"/>
            <a:ext cx="2901960" cy="22114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C:\Users\Irina\Desktop\фото\SDC11941.JPG"/>
          <p:cNvPicPr/>
          <p:nvPr/>
        </p:nvPicPr>
        <p:blipFill>
          <a:blip r:embed="rId3"/>
          <a:stretch/>
        </p:blipFill>
        <p:spPr>
          <a:xfrm>
            <a:off x="4687920" y="1427040"/>
            <a:ext cx="2670120" cy="21384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7"/>
          <p:cNvSpPr/>
          <p:nvPr/>
        </p:nvSpPr>
        <p:spPr>
          <a:xfrm>
            <a:off x="4343400" y="3962520"/>
            <a:ext cx="3886200" cy="2438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48 часов наблюдается значительный  рост бактерий, но при визуальном рассмотрении заметно, что в обработанной половине чашки Петри бактерий «выросло» гораздо меньше ( особенно это хорошо видно на образце №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равнительный анализ роста колоний бактерий через 72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Users\Irina\Desktop\фото\SDC11944.JPG"/>
          <p:cNvPicPr/>
          <p:nvPr/>
        </p:nvPicPr>
        <p:blipFill>
          <a:blip r:embed="rId1"/>
          <a:stretch/>
        </p:blipFill>
        <p:spPr>
          <a:xfrm>
            <a:off x="1030320" y="4248000"/>
            <a:ext cx="2670120" cy="20606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5" descr="C:\Users\Irina\Desktop\фото\SDC11941.JPG"/>
          <p:cNvPicPr/>
          <p:nvPr/>
        </p:nvPicPr>
        <p:blipFill>
          <a:blip r:embed="rId2"/>
          <a:stretch/>
        </p:blipFill>
        <p:spPr>
          <a:xfrm>
            <a:off x="4687920" y="1884240"/>
            <a:ext cx="2590920" cy="19065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C:\Users\Irina\Desktop\фото\SDC11946.JPG"/>
          <p:cNvPicPr/>
          <p:nvPr/>
        </p:nvPicPr>
        <p:blipFill>
          <a:blip r:embed="rId3"/>
          <a:stretch/>
        </p:blipFill>
        <p:spPr>
          <a:xfrm>
            <a:off x="1103400" y="1884240"/>
            <a:ext cx="2597040" cy="190656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7"/>
          <p:cNvSpPr/>
          <p:nvPr/>
        </p:nvSpPr>
        <p:spPr>
          <a:xfrm>
            <a:off x="4724280" y="3962520"/>
            <a:ext cx="3657600" cy="2438280"/>
          </a:xfrm>
          <a:prstGeom prst="rect">
            <a:avLst/>
          </a:prstGeom>
          <a:solidFill>
            <a:srgbClr val="bbe0e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72 часа наблюдается рост колоний бактерий во всех трёх чашках Петри. В образце номер 3 (посев с рук) рост бактерий в обработанной «зелёнкой» половине минима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80880" y="0"/>
          <a:ext cx="8534520" cy="6581880"/>
        </p:xfrm>
        <a:graphic>
          <a:graphicData uri="http://schemas.openxmlformats.org/drawingml/2006/table">
            <a:tbl>
              <a:tblPr/>
              <a:tblGrid>
                <a:gridCol w="2845080"/>
                <a:gridCol w="2844720"/>
                <a:gridCol w="2844720"/>
              </a:tblGrid>
              <a:tr h="99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ли видимые колонии бакте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работанная «зелёнкой» часть чашки Пет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анная «зелёнкой» часть чашки Пет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оп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24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заме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заме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48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72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тоги и  выводы проведенной исследователь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ю, что поставленная мной  цель проекта - практическим путем определить - как антисептики на примере раствора бриллиантового  зеленого («зелёнки») действуют на враждебные человеку  микроорганизмы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игнута полност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сследования было доказано, что применение антисептиков эффективно в борьбе с болезнетворными бактерия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2766960"/>
            <a:ext cx="8553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что такое антисептики и как они влияют на микроорганиз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виды антисептики, подробно узнать о химической антисеп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о строением микроорганизмов (бактерий) и их классифик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ным путём, в домашних условиях, «вырастить» колонии бакте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влияние антисептиков («зелёнки» ) на жизнедеятельность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тодологической основой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ются научные знания по химии, биологии, медицине и фармацев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исследовании были использованы следующие мет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оретически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литературы и статей интернета по теме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ий –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опытов по выращиванию колоний бактерий и влиянии на них антисептиков в домашни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0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исеп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лат. </a:t>
            </a:r>
            <a:r>
              <a:rPr b="0" i="1" lang="la-VA" sz="28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тив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eptic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гниение) — система мероприятий, направленных на уничтожение микроорганизмов в ране, патологическом очаге, органах и тканях, а также в организме больного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н был введён в 1750 году английским хирургом Джоном Принг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оретической части исследования я узн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иды антисептики существуют (химическая, биологическая, физическая, механическая и смешанна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ействует химическая антисептика на микроорган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имическая антисе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ействие на микроорганизмы химическими веществами, обладающими бактерицидным или бактериостатическим действ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 ним, как раз, относя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Й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риллиантового зелёного раствор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зелён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у меня сразу возникла масса вопросо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что это вообще такое?  Как их производят и из чего? Как они «работают»? И почему иногда мы используем «зелёнку», а иногда й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створ йода спир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Скругленный прямоугольник 8"/>
          <p:cNvSpPr/>
          <p:nvPr/>
        </p:nvSpPr>
        <p:spPr>
          <a:xfrm>
            <a:off x="457200" y="914400"/>
            <a:ext cx="2362320" cy="43434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4343400"/>
              <a:gd name="textAreaBottom" fmla="*/ 4228200 h 4343400"/>
            </a:gdLst>
            <a:ahLst/>
            <a:rect l="textAreaLeft" t="textAreaTop" r="textAreaRight" b="textAreaBottom"/>
            <a:pathLst>
              <a:path w="21600" h="39711">
                <a:moveTo>
                  <a:pt x="3600" y="0"/>
                </a:moveTo>
                <a:arcTo wR="3600" hR="3600" stAng="16200000" swAng="-5400000"/>
                <a:lnTo>
                  <a:pt x="0" y="36111"/>
                </a:lnTo>
                <a:arcTo wR="3600" hR="3600" stAng="10800000" swAng="-5400000"/>
                <a:lnTo>
                  <a:pt x="18000" y="39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ания к применению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ы й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наружно для обработки ран, операционного поля, для лечения грибковых заболеваний кожи, а также как отвлекающее средство при воспалительных заболеваниях дыхательных пу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9"/>
          <p:cNvSpPr/>
          <p:nvPr/>
        </p:nvSpPr>
        <p:spPr>
          <a:xfrm>
            <a:off x="3048120" y="4572000"/>
            <a:ext cx="3962160" cy="19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бочные эффекты и осложне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лечен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ами й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озможны развитие насморка, кожной сыпи, лихорадки, появление крови в моче и другие признаки неперенос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0"/>
          <p:cNvSpPr/>
          <p:nvPr/>
        </p:nvSpPr>
        <p:spPr>
          <a:xfrm>
            <a:off x="3124080" y="762120"/>
            <a:ext cx="3962520" cy="19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ые свойств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ы й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местном применении оказывают противомикробное (антисептическое), раздражающее, отвлекающее и противовоспалительное действие. При приеме внутрь нормализуют функцию щитовидной желез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1"/>
          <p:cNvSpPr/>
          <p:nvPr/>
        </p:nvSpPr>
        <p:spPr>
          <a:xfrm>
            <a:off x="4800600" y="2819520"/>
            <a:ext cx="3809880" cy="1752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авила примене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наружном применен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ом й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мазывают поверхность кожи, при наличии ран смазывают кожу у краев ран, не нанося на раневую поверх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Ирина</cp:lastModifiedBy>
  <dcterms:modified xsi:type="dcterms:W3CDTF">2013-03-19T13:23:00Z</dcterms:modified>
  <cp:revision>4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