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6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27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D3-5233-432E-85BA-451D9691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B0F-71B5-4B85-A17C-6A715E76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527-09A3-4779-BCE7-FFBABB27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98E-4927-4FF5-9655-BB530C7A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6CE-28AA-434F-BA9D-6BDD290F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0173-2B70-4ABE-AFC6-4A594BC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F89-6597-41F7-9589-53C124C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DCA-3502-4F77-B3BD-503F42E5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DC6-6B35-44AF-888A-2B47FF8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4B5-EAE8-4945-90A8-0C959504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C5C5-1169-4C65-B90A-649CE11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33B-F435-4E56-8705-6ECBA10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271-AD0B-40F3-A454-2BB963D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47D0-EC16-48AD-84C6-698622C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B280-C3D1-468C-852C-B1F12FD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36B-75C6-43BA-AB52-331ED801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F34C-DDAA-43E1-BEC6-493C92E4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F93-38EB-48AF-9E99-0FEE4B8B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660-883C-4033-96D8-424501DB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424-5424-4C8E-8E10-AD0E7F45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40A-A14A-4403-9693-E25E2DA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BA6-709B-4E75-B5A3-459B790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51F-B284-4DA2-B7CA-002F5B2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1F1-A1C4-4B1D-951C-80AAF52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Rectangle 10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6" name="Rectangle 13"/>
            <p:cNvSpPr/>
            <p:nvPr/>
          </p:nvSpPr>
          <p:spPr>
            <a:xfrm flipH="1" rot="10800000">
              <a:off x="8686800" y="353880"/>
              <a:ext cx="75960" cy="649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 rot="10800000">
              <a:off x="8813520" y="58176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Rectangle 16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8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Rectangle 19"/>
            <p:cNvSpPr/>
            <p:nvPr/>
          </p:nvSpPr>
          <p:spPr>
            <a:xfrm flipH="1" rot="5400000">
              <a:off x="5572800" y="3468960"/>
              <a:ext cx="75960" cy="649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20"/>
            <p:cNvSpPr/>
            <p:nvPr/>
          </p:nvSpPr>
          <p:spPr>
            <a:xfrm rot="5400000">
              <a:off x="5689800" y="345312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A93E-3C2D-4848-B8A5-26A30BF9DE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Group 21"/>
          <p:cNvGrpSpPr/>
          <p:nvPr/>
        </p:nvGrpSpPr>
        <p:grpSpPr>
          <a:xfrm>
            <a:off x="304920" y="152280"/>
            <a:ext cx="761760" cy="1067040"/>
            <a:chOff x="304920" y="152280"/>
            <a:chExt cx="761760" cy="1067040"/>
          </a:xfrm>
        </p:grpSpPr>
        <p:sp>
          <p:nvSpPr>
            <p:cNvPr id="19" name="AutoShape 22"/>
            <p:cNvSpPr/>
            <p:nvPr/>
          </p:nvSpPr>
          <p:spPr>
            <a:xfrm>
              <a:off x="304920" y="152280"/>
              <a:ext cx="7617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416160" y="183600"/>
              <a:ext cx="650160" cy="103104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031040"/>
                <a:gd name="textAreaBottom" fmla="*/ 1031400 h 103104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755280" y="684000"/>
              <a:ext cx="109440" cy="201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777600" y="684000"/>
              <a:ext cx="74160" cy="190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789480" y="687600"/>
              <a:ext cx="44280" cy="154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802080" y="687600"/>
              <a:ext cx="20160" cy="13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770040" y="264960"/>
              <a:ext cx="82800" cy="1908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811440" y="266040"/>
              <a:ext cx="36000" cy="186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773280" y="266040"/>
              <a:ext cx="34920" cy="188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763920" y="199440"/>
              <a:ext cx="86040" cy="61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819000" y="26604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779760" y="266040"/>
              <a:ext cx="21960" cy="188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777600" y="199440"/>
              <a:ext cx="55080" cy="619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822240" y="266040"/>
              <a:ext cx="16920" cy="183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783000" y="266040"/>
              <a:ext cx="12600" cy="18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795600" y="199440"/>
              <a:ext cx="28440" cy="60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805320" y="199440"/>
              <a:ext cx="9360" cy="60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432360" y="476280"/>
              <a:ext cx="298440" cy="4730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416160" y="923760"/>
              <a:ext cx="533160" cy="2952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532080" y="879480"/>
              <a:ext cx="402840" cy="4608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947880" y="1135080"/>
              <a:ext cx="34920" cy="842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1046520" y="1044360"/>
              <a:ext cx="18720" cy="79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925200" y="821160"/>
              <a:ext cx="114480" cy="108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750960" y="476280"/>
              <a:ext cx="135720" cy="208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755280" y="477360"/>
              <a:ext cx="128520" cy="2066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760680" y="477360"/>
              <a:ext cx="118800" cy="206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765000" y="477360"/>
              <a:ext cx="111240" cy="206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770040" y="477360"/>
              <a:ext cx="105120" cy="2066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74360" y="477360"/>
              <a:ext cx="96480" cy="206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779760" y="477360"/>
              <a:ext cx="86760" cy="206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783720" y="477360"/>
              <a:ext cx="79560" cy="206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89480" y="479160"/>
              <a:ext cx="70920" cy="2044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95600" y="479160"/>
              <a:ext cx="63720" cy="2044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98840" y="479160"/>
              <a:ext cx="55080" cy="204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803160" y="479160"/>
              <a:ext cx="47520" cy="2044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00920" y="550440"/>
              <a:ext cx="52200" cy="122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45920" y="450360"/>
              <a:ext cx="132480" cy="219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9"/>
            <p:cNvSpPr/>
            <p:nvPr/>
          </p:nvSpPr>
          <p:spPr>
            <a:xfrm>
              <a:off x="628920" y="458640"/>
              <a:ext cx="109080" cy="1296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92720" y="654120"/>
              <a:ext cx="156960" cy="73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71480" y="452160"/>
              <a:ext cx="90000" cy="194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2"/>
            <p:cNvSpPr/>
            <p:nvPr/>
          </p:nvSpPr>
          <p:spPr>
            <a:xfrm>
              <a:off x="651240" y="458640"/>
              <a:ext cx="73440" cy="129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822240" y="661680"/>
              <a:ext cx="108360" cy="53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86240" y="454320"/>
              <a:ext cx="55080" cy="15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5"/>
            <p:cNvSpPr/>
            <p:nvPr/>
          </p:nvSpPr>
          <p:spPr>
            <a:xfrm>
              <a:off x="663840" y="458640"/>
              <a:ext cx="42480" cy="129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838080" y="671760"/>
              <a:ext cx="68040" cy="36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802080" y="455040"/>
              <a:ext cx="25200" cy="13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8"/>
            <p:cNvSpPr/>
            <p:nvPr/>
          </p:nvSpPr>
          <p:spPr>
            <a:xfrm>
              <a:off x="674640" y="458640"/>
              <a:ext cx="20160" cy="129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855360" y="677520"/>
              <a:ext cx="32760" cy="23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811440" y="763560"/>
              <a:ext cx="44280" cy="313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1"/>
            <p:cNvSpPr/>
            <p:nvPr/>
          </p:nvSpPr>
          <p:spPr>
            <a:xfrm>
              <a:off x="799920" y="744120"/>
              <a:ext cx="63360" cy="136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2"/>
            <p:cNvSpPr/>
            <p:nvPr/>
          </p:nvSpPr>
          <p:spPr>
            <a:xfrm>
              <a:off x="819000" y="763560"/>
              <a:ext cx="26280" cy="313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3"/>
            <p:cNvSpPr/>
            <p:nvPr/>
          </p:nvSpPr>
          <p:spPr>
            <a:xfrm>
              <a:off x="811440" y="744120"/>
              <a:ext cx="3816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4"/>
            <p:cNvSpPr/>
            <p:nvPr/>
          </p:nvSpPr>
          <p:spPr>
            <a:xfrm>
              <a:off x="826560" y="763560"/>
              <a:ext cx="9360" cy="313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5"/>
            <p:cNvSpPr/>
            <p:nvPr/>
          </p:nvSpPr>
          <p:spPr>
            <a:xfrm>
              <a:off x="822240" y="744120"/>
              <a:ext cx="16920" cy="136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90280" y="727560"/>
              <a:ext cx="57600" cy="50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51840" y="710640"/>
              <a:ext cx="61560" cy="50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942480" y="699480"/>
              <a:ext cx="44280" cy="313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95320" y="727560"/>
              <a:ext cx="39240" cy="424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963720" y="721080"/>
              <a:ext cx="45360" cy="41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950760" y="708120"/>
              <a:ext cx="31680" cy="20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902160" y="730080"/>
              <a:ext cx="25200" cy="33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973080" y="727560"/>
              <a:ext cx="29880" cy="31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960480" y="712440"/>
              <a:ext cx="13680" cy="12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74440" y="709920"/>
              <a:ext cx="60480" cy="360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83080" y="70992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90280" y="712440"/>
              <a:ext cx="20160" cy="1548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798840" y="669960"/>
              <a:ext cx="161280" cy="694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826560" y="718920"/>
              <a:ext cx="47520" cy="19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928440" y="684000"/>
              <a:ext cx="42480" cy="30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613800" y="480960"/>
              <a:ext cx="106200" cy="101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620280" y="605160"/>
              <a:ext cx="42480" cy="39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491760" y="957240"/>
              <a:ext cx="58320" cy="55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6160" y="838800"/>
              <a:ext cx="44280" cy="26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748800" y="805320"/>
              <a:ext cx="36000" cy="20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01200" y="480960"/>
              <a:ext cx="108360" cy="101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604440" y="483120"/>
              <a:ext cx="99720" cy="950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604440" y="483120"/>
              <a:ext cx="93240" cy="907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607320" y="483840"/>
              <a:ext cx="87120" cy="820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607320" y="483840"/>
              <a:ext cx="80640" cy="774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610920" y="487440"/>
              <a:ext cx="74160" cy="69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612720" y="487440"/>
              <a:ext cx="66960" cy="637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613800" y="4885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616320" y="488520"/>
              <a:ext cx="54000" cy="52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617040" y="490320"/>
              <a:ext cx="47880" cy="46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617040" y="492120"/>
              <a:ext cx="42480" cy="39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620280" y="49212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609480" y="606240"/>
              <a:ext cx="42480" cy="41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10920" y="606240"/>
              <a:ext cx="39240" cy="3960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10920" y="6080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10920" y="608040"/>
              <a:ext cx="36000" cy="33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12720" y="609840"/>
              <a:ext cx="32040" cy="302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612720" y="6098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613800" y="609840"/>
              <a:ext cx="26280" cy="24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613800" y="609840"/>
              <a:ext cx="23040" cy="23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6"/>
            <p:cNvSpPr/>
            <p:nvPr/>
          </p:nvSpPr>
          <p:spPr>
            <a:xfrm>
              <a:off x="616320" y="610560"/>
              <a:ext cx="21960" cy="20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7"/>
            <p:cNvSpPr/>
            <p:nvPr/>
          </p:nvSpPr>
          <p:spPr>
            <a:xfrm>
              <a:off x="616320" y="61056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8"/>
            <p:cNvSpPr/>
            <p:nvPr/>
          </p:nvSpPr>
          <p:spPr>
            <a:xfrm>
              <a:off x="617040" y="610560"/>
              <a:ext cx="15840" cy="15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9"/>
            <p:cNvSpPr/>
            <p:nvPr/>
          </p:nvSpPr>
          <p:spPr>
            <a:xfrm>
              <a:off x="617040" y="610560"/>
              <a:ext cx="13680" cy="136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0"/>
            <p:cNvSpPr/>
            <p:nvPr/>
          </p:nvSpPr>
          <p:spPr>
            <a:xfrm>
              <a:off x="475920" y="960840"/>
              <a:ext cx="58320" cy="55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1"/>
            <p:cNvSpPr/>
            <p:nvPr/>
          </p:nvSpPr>
          <p:spPr>
            <a:xfrm>
              <a:off x="477720" y="96084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2"/>
            <p:cNvSpPr/>
            <p:nvPr/>
          </p:nvSpPr>
          <p:spPr>
            <a:xfrm>
              <a:off x="479160" y="960840"/>
              <a:ext cx="50760" cy="48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3"/>
            <p:cNvSpPr/>
            <p:nvPr/>
          </p:nvSpPr>
          <p:spPr>
            <a:xfrm>
              <a:off x="479160" y="9615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"/>
            <p:cNvSpPr/>
            <p:nvPr/>
          </p:nvSpPr>
          <p:spPr>
            <a:xfrm>
              <a:off x="479160" y="961560"/>
              <a:ext cx="45360" cy="42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"/>
            <p:cNvSpPr/>
            <p:nvPr/>
          </p:nvSpPr>
          <p:spPr>
            <a:xfrm>
              <a:off x="481320" y="96156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7800 h 37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6"/>
            <p:cNvSpPr/>
            <p:nvPr/>
          </p:nvSpPr>
          <p:spPr>
            <a:xfrm>
              <a:off x="482040" y="96372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7"/>
            <p:cNvSpPr/>
            <p:nvPr/>
          </p:nvSpPr>
          <p:spPr>
            <a:xfrm>
              <a:off x="482040" y="963720"/>
              <a:ext cx="32760" cy="31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1320"/>
                <a:gd name="textAreaBottom" fmla="*/ 31320 h 3132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8"/>
            <p:cNvSpPr/>
            <p:nvPr/>
          </p:nvSpPr>
          <p:spPr>
            <a:xfrm>
              <a:off x="484200" y="965520"/>
              <a:ext cx="28440" cy="26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9"/>
            <p:cNvSpPr/>
            <p:nvPr/>
          </p:nvSpPr>
          <p:spPr>
            <a:xfrm>
              <a:off x="484200" y="965520"/>
              <a:ext cx="26280" cy="24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0"/>
            <p:cNvSpPr/>
            <p:nvPr/>
          </p:nvSpPr>
          <p:spPr>
            <a:xfrm>
              <a:off x="485280" y="965520"/>
              <a:ext cx="23040" cy="219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1"/>
            <p:cNvSpPr/>
            <p:nvPr/>
          </p:nvSpPr>
          <p:spPr>
            <a:xfrm>
              <a:off x="485280" y="965520"/>
              <a:ext cx="20160" cy="194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2"/>
            <p:cNvSpPr/>
            <p:nvPr/>
          </p:nvSpPr>
          <p:spPr>
            <a:xfrm>
              <a:off x="686160" y="833040"/>
              <a:ext cx="44280" cy="20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3"/>
            <p:cNvSpPr/>
            <p:nvPr/>
          </p:nvSpPr>
          <p:spPr>
            <a:xfrm>
              <a:off x="688320" y="833040"/>
              <a:ext cx="41400" cy="19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4"/>
            <p:cNvSpPr/>
            <p:nvPr/>
          </p:nvSpPr>
          <p:spPr>
            <a:xfrm>
              <a:off x="688320" y="833040"/>
              <a:ext cx="41400" cy="17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5"/>
            <p:cNvSpPr/>
            <p:nvPr/>
          </p:nvSpPr>
          <p:spPr>
            <a:xfrm>
              <a:off x="691560" y="833040"/>
              <a:ext cx="34920" cy="17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6"/>
            <p:cNvSpPr/>
            <p:nvPr/>
          </p:nvSpPr>
          <p:spPr>
            <a:xfrm>
              <a:off x="693720" y="833040"/>
              <a:ext cx="34920" cy="15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7"/>
            <p:cNvSpPr/>
            <p:nvPr/>
          </p:nvSpPr>
          <p:spPr>
            <a:xfrm>
              <a:off x="694800" y="833040"/>
              <a:ext cx="31680" cy="15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8"/>
            <p:cNvSpPr/>
            <p:nvPr/>
          </p:nvSpPr>
          <p:spPr>
            <a:xfrm>
              <a:off x="697680" y="834840"/>
              <a:ext cx="28440" cy="12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9"/>
            <p:cNvSpPr/>
            <p:nvPr/>
          </p:nvSpPr>
          <p:spPr>
            <a:xfrm>
              <a:off x="700200" y="8348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0"/>
            <p:cNvSpPr/>
            <p:nvPr/>
          </p:nvSpPr>
          <p:spPr>
            <a:xfrm>
              <a:off x="700920" y="834840"/>
              <a:ext cx="22320" cy="9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1"/>
            <p:cNvSpPr/>
            <p:nvPr/>
          </p:nvSpPr>
          <p:spPr>
            <a:xfrm>
              <a:off x="703080" y="83484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04520" y="834840"/>
              <a:ext cx="18720" cy="8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3"/>
            <p:cNvSpPr/>
            <p:nvPr/>
          </p:nvSpPr>
          <p:spPr>
            <a:xfrm>
              <a:off x="707400" y="834840"/>
              <a:ext cx="12600" cy="8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4"/>
            <p:cNvSpPr/>
            <p:nvPr/>
          </p:nvSpPr>
          <p:spPr>
            <a:xfrm>
              <a:off x="748800" y="801720"/>
              <a:ext cx="36000" cy="15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5"/>
            <p:cNvSpPr/>
            <p:nvPr/>
          </p:nvSpPr>
          <p:spPr>
            <a:xfrm>
              <a:off x="750960" y="801720"/>
              <a:ext cx="32760" cy="136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6"/>
            <p:cNvSpPr/>
            <p:nvPr/>
          </p:nvSpPr>
          <p:spPr>
            <a:xfrm>
              <a:off x="754200" y="803160"/>
              <a:ext cx="28440" cy="12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7"/>
            <p:cNvSpPr/>
            <p:nvPr/>
          </p:nvSpPr>
          <p:spPr>
            <a:xfrm>
              <a:off x="754200" y="803160"/>
              <a:ext cx="28440" cy="10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8"/>
            <p:cNvSpPr/>
            <p:nvPr/>
          </p:nvSpPr>
          <p:spPr>
            <a:xfrm>
              <a:off x="755280" y="803160"/>
              <a:ext cx="26640" cy="10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9"/>
            <p:cNvSpPr/>
            <p:nvPr/>
          </p:nvSpPr>
          <p:spPr>
            <a:xfrm>
              <a:off x="757440" y="80316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0"/>
            <p:cNvSpPr/>
            <p:nvPr/>
          </p:nvSpPr>
          <p:spPr>
            <a:xfrm>
              <a:off x="758520" y="8031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1"/>
            <p:cNvSpPr/>
            <p:nvPr/>
          </p:nvSpPr>
          <p:spPr>
            <a:xfrm>
              <a:off x="760680" y="803160"/>
              <a:ext cx="19080" cy="8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2"/>
            <p:cNvSpPr/>
            <p:nvPr/>
          </p:nvSpPr>
          <p:spPr>
            <a:xfrm>
              <a:off x="761760" y="803160"/>
              <a:ext cx="16560" cy="8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3"/>
            <p:cNvSpPr/>
            <p:nvPr/>
          </p:nvSpPr>
          <p:spPr>
            <a:xfrm>
              <a:off x="763920" y="80316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4"/>
            <p:cNvSpPr/>
            <p:nvPr/>
          </p:nvSpPr>
          <p:spPr>
            <a:xfrm>
              <a:off x="765000" y="80316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5"/>
            <p:cNvSpPr/>
            <p:nvPr/>
          </p:nvSpPr>
          <p:spPr>
            <a:xfrm>
              <a:off x="767160" y="803160"/>
              <a:ext cx="10440" cy="4320"/>
            </a:xfrm>
            <a:custGeom>
              <a:avLst/>
              <a:gdLst>
                <a:gd name="textAreaLeft" fmla="*/ 0 w 10440"/>
                <a:gd name="textAreaRight" fmla="*/ 10440 w 104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6"/>
            <p:cNvSpPr/>
            <p:nvPr/>
          </p:nvSpPr>
          <p:spPr>
            <a:xfrm>
              <a:off x="636480" y="516240"/>
              <a:ext cx="39240" cy="3780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7"/>
            <p:cNvSpPr/>
            <p:nvPr/>
          </p:nvSpPr>
          <p:spPr>
            <a:xfrm>
              <a:off x="623520" y="62100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8"/>
            <p:cNvSpPr/>
            <p:nvPr/>
          </p:nvSpPr>
          <p:spPr>
            <a:xfrm>
              <a:off x="495000" y="979560"/>
              <a:ext cx="20160" cy="20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9"/>
            <p:cNvSpPr/>
            <p:nvPr/>
          </p:nvSpPr>
          <p:spPr>
            <a:xfrm>
              <a:off x="707400" y="812520"/>
              <a:ext cx="244080" cy="536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0"/>
            <p:cNvSpPr/>
            <p:nvPr/>
          </p:nvSpPr>
          <p:spPr>
            <a:xfrm>
              <a:off x="638280" y="1012680"/>
              <a:ext cx="141480" cy="414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1"/>
            <p:cNvSpPr/>
            <p:nvPr/>
          </p:nvSpPr>
          <p:spPr>
            <a:xfrm>
              <a:off x="638280" y="1021320"/>
              <a:ext cx="138960" cy="284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2"/>
            <p:cNvSpPr/>
            <p:nvPr/>
          </p:nvSpPr>
          <p:spPr>
            <a:xfrm>
              <a:off x="639360" y="1025640"/>
              <a:ext cx="137880" cy="17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3"/>
            <p:cNvSpPr/>
            <p:nvPr/>
          </p:nvSpPr>
          <p:spPr>
            <a:xfrm>
              <a:off x="748080" y="1014840"/>
              <a:ext cx="53640" cy="58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4"/>
            <p:cNvSpPr/>
            <p:nvPr/>
          </p:nvSpPr>
          <p:spPr>
            <a:xfrm>
              <a:off x="783000" y="992520"/>
              <a:ext cx="88920" cy="8856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5"/>
            <p:cNvSpPr/>
            <p:nvPr/>
          </p:nvSpPr>
          <p:spPr>
            <a:xfrm>
              <a:off x="802080" y="988560"/>
              <a:ext cx="73440" cy="90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6"/>
            <p:cNvSpPr/>
            <p:nvPr/>
          </p:nvSpPr>
          <p:spPr>
            <a:xfrm>
              <a:off x="805320" y="992520"/>
              <a:ext cx="69840" cy="8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7"/>
            <p:cNvSpPr/>
            <p:nvPr/>
          </p:nvSpPr>
          <p:spPr>
            <a:xfrm>
              <a:off x="806400" y="994320"/>
              <a:ext cx="66960" cy="82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8"/>
            <p:cNvSpPr/>
            <p:nvPr/>
          </p:nvSpPr>
          <p:spPr>
            <a:xfrm>
              <a:off x="808560" y="997200"/>
              <a:ext cx="63360" cy="77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9"/>
            <p:cNvSpPr/>
            <p:nvPr/>
          </p:nvSpPr>
          <p:spPr>
            <a:xfrm>
              <a:off x="811440" y="999000"/>
              <a:ext cx="60480" cy="74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0"/>
            <p:cNvSpPr/>
            <p:nvPr/>
          </p:nvSpPr>
          <p:spPr>
            <a:xfrm>
              <a:off x="811440" y="1001520"/>
              <a:ext cx="58320" cy="69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1"/>
            <p:cNvSpPr/>
            <p:nvPr/>
          </p:nvSpPr>
          <p:spPr>
            <a:xfrm>
              <a:off x="813960" y="1003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2"/>
            <p:cNvSpPr/>
            <p:nvPr/>
          </p:nvSpPr>
          <p:spPr>
            <a:xfrm>
              <a:off x="816120" y="1006200"/>
              <a:ext cx="51840" cy="637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3"/>
            <p:cNvSpPr/>
            <p:nvPr/>
          </p:nvSpPr>
          <p:spPr>
            <a:xfrm>
              <a:off x="816840" y="1008000"/>
              <a:ext cx="47880" cy="60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4"/>
            <p:cNvSpPr/>
            <p:nvPr/>
          </p:nvSpPr>
          <p:spPr>
            <a:xfrm>
              <a:off x="820080" y="1010880"/>
              <a:ext cx="44640" cy="5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5"/>
            <p:cNvSpPr/>
            <p:nvPr/>
          </p:nvSpPr>
          <p:spPr>
            <a:xfrm>
              <a:off x="822240" y="1014840"/>
              <a:ext cx="41400" cy="507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6"/>
            <p:cNvSpPr/>
            <p:nvPr/>
          </p:nvSpPr>
          <p:spPr>
            <a:xfrm>
              <a:off x="823320" y="1016640"/>
              <a:ext cx="37800" cy="4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0b800f12c739caea0dd94939624c2493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5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3" name="Rectangle 16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6" name="AutoShape 11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220" name="Rectangle 19"/>
            <p:cNvSpPr/>
            <p:nvPr/>
          </p:nvSpPr>
          <p:spPr>
            <a:xfrm flipH="1" rot="10800000">
              <a:off x="8686800" y="353880"/>
              <a:ext cx="75960" cy="649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 rot="10800000">
              <a:off x="8813520" y="58176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3" name="Rectangle 22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6" name="Rectangle 25"/>
            <p:cNvSpPr/>
            <p:nvPr/>
          </p:nvSpPr>
          <p:spPr>
            <a:xfrm flipH="1" rot="5400000">
              <a:off x="5572800" y="3468960"/>
              <a:ext cx="75960" cy="649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 rot="5400000">
              <a:off x="5689800" y="3453120"/>
              <a:ext cx="7632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D99-374C-4087-887D-DD4826A3B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2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123720" y="2133360"/>
            <a:ext cx="5257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оздействие антисептиков на микроорганиз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 Дани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риллиантового зелёного раст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йод и откуда он берется, мы более менее понимаем (он есть в таблице Менделеева и производится из водорослей), а зеленка или точ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иллиантового зелёного раст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ак написано на баночке) нам совсем не понятен. 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лковый словар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усского языка (Ожегов С., Шведова Н), где пишут: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ЕЛЕНК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, ж. (разг.). Лекарство - обеззараживающая жидкость зеленого цвета на спирту для лечения царапин, порезов, заболеваний кожи. Смазать зел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это не ответ на вопрос: что же такое зеленка по сути и из чего её делают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м запрос… так, что там на баночке написано?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 бриллиантового зеленого спиртовой 1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ищем е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7543800" y="3505320"/>
            <a:ext cx="1027080" cy="2087280"/>
          </a:xfrm>
          <a:prstGeom prst="rect">
            <a:avLst/>
          </a:prstGeom>
          <a:ln w="0">
            <a:noFill/>
          </a:ln>
        </p:spPr>
      </p:pic>
      <p:sp>
        <p:nvSpPr>
          <p:cNvPr id="295" name="Скругленный прямоугольник 9"/>
          <p:cNvSpPr/>
          <p:nvPr/>
        </p:nvSpPr>
        <p:spPr>
          <a:xfrm>
            <a:off x="685800" y="320040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 применения и доз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ужно, наносят на поврежденную поверхность, захватывая окружающие здоровые тк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0"/>
          <p:cNvSpPr/>
          <p:nvPr/>
        </p:nvSpPr>
        <p:spPr>
          <a:xfrm>
            <a:off x="5029200" y="3048120"/>
            <a:ext cx="2362320" cy="33526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352680"/>
              <a:gd name="textAreaBottom" fmla="*/ 3237480 h 335268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жие послеоперационные и посттравматические рубцы, ячмень, блефарит (воспаление век и ресниц), ссадины, порезы, нарушения целостности кожных покров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1"/>
          <p:cNvSpPr/>
          <p:nvPr/>
        </p:nvSpPr>
        <p:spPr>
          <a:xfrm>
            <a:off x="685800" y="502920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 применения и доз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ужно, наносят на поврежденную поверхность, захватывая окружающие здоровые тк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2"/>
          <p:cNvSpPr/>
          <p:nvPr/>
        </p:nvSpPr>
        <p:spPr>
          <a:xfrm>
            <a:off x="4876920" y="1447920"/>
            <a:ext cx="3733560" cy="144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сти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тисептическое средств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группы красите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еновато-золотистые комочки или золотисто-зеленый порошок. Трудно растворим в воде (1:50) и спи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3"/>
          <p:cNvSpPr/>
          <p:nvPr/>
        </p:nvSpPr>
        <p:spPr>
          <a:xfrm>
            <a:off x="609480" y="144792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зрачная, интенсивно зеленого цвета жидкость с запахом спирт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 по компонентам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риллиантовый зеленый, вода, этан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ленка» – это обыкновенный краситель (то-то он так хорошо красится и долго держится). Он, как и йод, является антисептиком, но более слабым и мягким, он слегка стимулирует заживление ран и, в отличие от йода, не сушит кожу. Следует употреблять именно зеленку, а не йод, при обработке заметных поверхностей (размером с пятирублевую монету и выше), а также чувствительной кожи (например, у младенцев). Во многих странах вместо зеленки употребляют Меркурохром. Так как у них «зелёнка» вообще не использу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йод вместо зеленки (или наоборот) используют для обработки царапин, а также кожи ВОКРУГ ран для дезинфекции, и в тех случаях, когда необходимо подсушить кожу. Кроме того, йод применяют всегда, когда необходимо стимулировать приток крови к мягким тканям - в первую очередь в случае различных ушибов и растяжений. С этой целью на поверхность НЕПОВРЕЖДЕННОЙ кожи наносится так называемая йодная с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кроорганизмы и их строение,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. βακτήριον — палочка) — группа микроорганизмов, в строении клетки которых отсутствует оформленное ядро, а весь наследственный материал расположен в центре кле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Содержимое 3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начение бакте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их жизнедеятельности происходит разложение и минерализация органических веществ отмерших растений 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 вместе с грибами и лишайниками разрушают горные породы, участвуя тем самым в начальных стадиях почвообразовательны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чнокислые бактерии используются в приготовлении разнообразных молочных продуктов (сметаны, простокваши, масла, сыра и др.). Они же способствуют консервированию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 широко используются в современной биотехнологии для промышленного получения молочной, масляной, уксусной и пропионовой кислот, ацетона, бутилового спирт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их жизнедеятельности образуются биологически активные вещества — антибиотики, витамины, аминокис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онец, бактерии являются объектом для исследований в области генетики, биохимии, биофизики, космической биолог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ицательная роль принадлежит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олезнетвор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атоген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ктер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пособны проникать в ткани растений, животных и человека и выделять при этом вещества, угнетающие защитные силы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ры борьбы с болезнетворными бакте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Пр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высушив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ногие бактерии погибают, у других - замедляется жизне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стер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гревание до 60-70 градусов в течении 10-20 минут, уничтожаются только вегетативные формы бакте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свобождение среды от всех бактерий и их зачатков достигается пламенем, кипячением, насыщением паром под давлением (120-130 градус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хлажд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останавливает жизне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ение концентрации со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рушают обмен веществ и ведут к гибели бактерий (засолка, засахаривани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слая реакция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накопление молочной кислоты) губительно действует на бактерии ( при квашении, консервирован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ямой солнечный 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несколько минут или часов убивает почти все бактерии (за исключением фототрофных). Используют для стерилизации (ультрофиолетовые лучи) воды, посуды, воздуха в операционных, родильных домах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. Дл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дезинфе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соли тяжелых металлов (ртуть, медь, серебро, хлор, йод, перекись водорода, марганцево-кислый калий, борную кислоту, карболовую кислоту, креозол, формалин и друг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 Использование антисептиков (йод, зелёнка, перекись водорода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следовательск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оборудование для проведения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ь мазки из полости носа, ротовой полости и с ладо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ти бактерии на стерильную поверхность питательной среды (в трёх чашах Пет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ать одну половину чаш антисептиком (зелен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ить чаши в тёплое место (постоянной температурой, но не на батарею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рыть чаши  через 24 часа после  начала опыта, провести сравнительный анализ роста колоний бак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Вскрыть чаши через 48 часов после начала опыта, провести сравнительный анализ роста колоний бактер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рыть чаши  через 72  часа часа после  начала опыта, провести сравнительный анализ роста колоний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сти итоги (выводы) проведенной исследовательск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ма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антисептиков на микро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ования является: практическим путем определить - как антисептики на примере раствора бриллиантового  зеленого («зелёнки») действуют на враждебные человеку  микро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чашки Петри (стерильная питательная сре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одноразовых палочки (для взятия маз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иллиантового зелёного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ая помощь в проведении исследовательской работы принадлежит Лалетиной Светлане Николаевне ( заведующей отделением лабораторной диагностики городской больницы №14 г.Екатеринбур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кскурсия в отделение лабораторной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Irina\Desktop\нпк\фото для дани нпк\Фото532.jpg"/>
          <p:cNvPicPr/>
          <p:nvPr/>
        </p:nvPicPr>
        <p:blipFill>
          <a:blip r:embed="rId1"/>
          <a:stretch/>
        </p:blipFill>
        <p:spPr>
          <a:xfrm>
            <a:off x="2286000" y="228600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Users\Irina\Desktop\нпк\фото для дани нпк\Фото515.jpg"/>
          <p:cNvPicPr/>
          <p:nvPr/>
        </p:nvPicPr>
        <p:blipFill>
          <a:blip r:embed="rId1"/>
          <a:stretch/>
        </p:blipFill>
        <p:spPr>
          <a:xfrm>
            <a:off x="1295280" y="609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6" descr="C:\Users\Irina\Desktop\нпк\фото для дани нпк\Фото521.jpg"/>
          <p:cNvPicPr/>
          <p:nvPr/>
        </p:nvPicPr>
        <p:blipFill>
          <a:blip r:embed="rId2"/>
          <a:stretch/>
        </p:blipFill>
        <p:spPr>
          <a:xfrm>
            <a:off x="4952880" y="609480"/>
            <a:ext cx="3205440" cy="23068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8" descr="C:\Users\Irina\Desktop\нпк\фото для дани нпк\Фото520.jpg"/>
          <p:cNvPicPr/>
          <p:nvPr/>
        </p:nvPicPr>
        <p:blipFill>
          <a:blip r:embed="rId3"/>
          <a:stretch/>
        </p:blipFill>
        <p:spPr>
          <a:xfrm>
            <a:off x="533520" y="32767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9" descr="C:\Users\Irina\Desktop\нпк\фото для дани нпк\Фото519.jpg"/>
          <p:cNvPicPr/>
          <p:nvPr/>
        </p:nvPicPr>
        <p:blipFill>
          <a:blip r:embed="rId4"/>
          <a:stretch/>
        </p:blipFill>
        <p:spPr>
          <a:xfrm>
            <a:off x="3200400" y="3276720"/>
            <a:ext cx="2666880" cy="19047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0" descr="C:\Users\Irina\Desktop\нпк\фото для дани нпк\Фото526.jpg"/>
          <p:cNvPicPr/>
          <p:nvPr/>
        </p:nvPicPr>
        <p:blipFill>
          <a:blip r:embed="rId5"/>
          <a:stretch/>
        </p:blipFill>
        <p:spPr>
          <a:xfrm>
            <a:off x="6019920" y="3200400"/>
            <a:ext cx="2652480" cy="1989000"/>
          </a:xfrm>
          <a:prstGeom prst="rect">
            <a:avLst/>
          </a:prstGeom>
          <a:ln w="0">
            <a:noFill/>
          </a:ln>
        </p:spPr>
      </p:pic>
      <p:sp>
        <p:nvSpPr>
          <p:cNvPr id="326" name="Овал 11"/>
          <p:cNvSpPr/>
          <p:nvPr/>
        </p:nvSpPr>
        <p:spPr>
          <a:xfrm>
            <a:off x="2362320" y="5410080"/>
            <a:ext cx="4038480" cy="990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то то, что «выращивают»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C:\Users\Irina\Desktop\нпк\фото для дани нпк\Фото535.jpg"/>
          <p:cNvPicPr/>
          <p:nvPr/>
        </p:nvPicPr>
        <p:blipFill>
          <a:blip r:embed="rId1"/>
          <a:stretch/>
        </p:blipFill>
        <p:spPr>
          <a:xfrm>
            <a:off x="914400" y="1657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C:\Users\Irina\Desktop\нпк\фото для дани нпк\Фото533.jpg"/>
          <p:cNvPicPr/>
          <p:nvPr/>
        </p:nvPicPr>
        <p:blipFill>
          <a:blip r:embed="rId2"/>
          <a:stretch/>
        </p:blipFill>
        <p:spPr>
          <a:xfrm>
            <a:off x="4572000" y="3657600"/>
            <a:ext cx="35384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бор мазков из полости рта, носа и р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Содержимое 3" descr="C:\Users\Irina\Desktop\нпк\фото для дани нпк\SDC11918.JPG"/>
          <p:cNvPicPr/>
          <p:nvPr/>
        </p:nvPicPr>
        <p:blipFill>
          <a:blip r:embed="rId1"/>
          <a:stretch/>
        </p:blipFill>
        <p:spPr>
          <a:xfrm>
            <a:off x="914400" y="1447920"/>
            <a:ext cx="3124080" cy="2361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C:\Users\Irina\Desktop\нпк\фото для дани нпк\SDC11925.JPG"/>
          <p:cNvPicPr/>
          <p:nvPr/>
        </p:nvPicPr>
        <p:blipFill>
          <a:blip r:embed="rId2"/>
          <a:stretch/>
        </p:blipFill>
        <p:spPr>
          <a:xfrm>
            <a:off x="5181480" y="1436760"/>
            <a:ext cx="3075120" cy="23731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5" descr="C:\Users\Irina\Desktop\нпк\фото для дани нпк\SDC11927.JPG"/>
          <p:cNvPicPr/>
          <p:nvPr/>
        </p:nvPicPr>
        <p:blipFill>
          <a:blip r:embed="rId3"/>
          <a:stretch/>
        </p:blipFill>
        <p:spPr>
          <a:xfrm>
            <a:off x="3251160" y="4343400"/>
            <a:ext cx="3035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сев бактерий на стерильную питательную сре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Содержимое 3" descr="C:\Users\Irina\Desktop\нпк\фото для дани нпк\SDC11919.JPG"/>
          <p:cNvPicPr/>
          <p:nvPr/>
        </p:nvPicPr>
        <p:blipFill>
          <a:blip r:embed="rId1"/>
          <a:stretch/>
        </p:blipFill>
        <p:spPr>
          <a:xfrm>
            <a:off x="1295280" y="2057400"/>
            <a:ext cx="3932280" cy="28954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C:\Users\Irina\Desktop\нпк\фото для дани нпк\SDC11920.JPG"/>
          <p:cNvPicPr/>
          <p:nvPr/>
        </p:nvPicPr>
        <p:blipFill>
          <a:blip r:embed="rId2"/>
          <a:stretch/>
        </p:blipFill>
        <p:spPr>
          <a:xfrm>
            <a:off x="5486400" y="3990960"/>
            <a:ext cx="31449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несение антисептика («зелёнка») на одну из половин каждой чашки Пет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Содержимое 3" descr="C:\Users\Irina\Desktop\нпк\фото для дани нпк\SDC11921.JPG"/>
          <p:cNvPicPr/>
          <p:nvPr/>
        </p:nvPicPr>
        <p:blipFill>
          <a:blip r:embed="rId1"/>
          <a:stretch/>
        </p:blipFill>
        <p:spPr>
          <a:xfrm>
            <a:off x="1143000" y="1981080"/>
            <a:ext cx="3398760" cy="29718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C:\Users\Irina\Desktop\нпк\фото для дани нпк\SDC11931.JPG"/>
          <p:cNvPicPr/>
          <p:nvPr/>
        </p:nvPicPr>
        <p:blipFill>
          <a:blip r:embed="rId2"/>
          <a:stretch/>
        </p:blipFill>
        <p:spPr>
          <a:xfrm>
            <a:off x="5105520" y="3848040"/>
            <a:ext cx="34686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одержимое 3" descr="C:\Users\Irina\Desktop\нпк\фото для дани нпк\SDC11932.JPG"/>
          <p:cNvPicPr/>
          <p:nvPr/>
        </p:nvPicPr>
        <p:blipFill>
          <a:blip r:embed="rId1"/>
          <a:stretch/>
        </p:blipFill>
        <p:spPr>
          <a:xfrm>
            <a:off x="1828800" y="1752480"/>
            <a:ext cx="51195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24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Irina\Desktop\фото\SDC11933.JPG"/>
          <p:cNvPicPr/>
          <p:nvPr/>
        </p:nvPicPr>
        <p:blipFill>
          <a:blip r:embed="rId1"/>
          <a:stretch/>
        </p:blipFill>
        <p:spPr>
          <a:xfrm>
            <a:off x="1295280" y="22860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344" name="Скругленный прямоугольник 4"/>
          <p:cNvSpPr/>
          <p:nvPr/>
        </p:nvSpPr>
        <p:spPr>
          <a:xfrm>
            <a:off x="5486400" y="1371600"/>
            <a:ext cx="3276720" cy="487692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876920"/>
              <a:gd name="textAreaBottom" fmla="*/ 4717080 h 487692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сутки (24 часа) на всех трёх образцах  заметен рост колоний бактерий в той части чашки Петри, которая была не обработана антисептиком, то есть «зелёнко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C:\Users\Irina\Desktop\фото\SDC11935.JPG"/>
          <p:cNvPicPr/>
          <p:nvPr/>
        </p:nvPicPr>
        <p:blipFill>
          <a:blip r:embed="rId1"/>
          <a:stretch/>
        </p:blipFill>
        <p:spPr>
          <a:xfrm>
            <a:off x="4791240" y="1152360"/>
            <a:ext cx="3146400" cy="24386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C:\Users\Irina\Desktop\фото\SDC11936.JPG"/>
          <p:cNvPicPr/>
          <p:nvPr/>
        </p:nvPicPr>
        <p:blipFill>
          <a:blip r:embed="rId2"/>
          <a:stretch/>
        </p:blipFill>
        <p:spPr>
          <a:xfrm>
            <a:off x="1133640" y="1152360"/>
            <a:ext cx="2920680" cy="24019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C:\Users\Irina\Desktop\фото\SDC11938.JPG"/>
          <p:cNvPicPr/>
          <p:nvPr/>
        </p:nvPicPr>
        <p:blipFill>
          <a:blip r:embed="rId3"/>
          <a:stretch/>
        </p:blipFill>
        <p:spPr>
          <a:xfrm>
            <a:off x="3035160" y="3968640"/>
            <a:ext cx="27687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антисептиков (йода и зелёнки) на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потеза 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нать способность антисептиков обеззараживать микроорганизмы, то можно при небольших порезах или ссадинах, в домашних условиях помочь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48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Irina\Desktop\фото\SDC11942.JPG"/>
          <p:cNvPicPr/>
          <p:nvPr/>
        </p:nvPicPr>
        <p:blipFill>
          <a:blip r:embed="rId1"/>
          <a:stretch/>
        </p:blipFill>
        <p:spPr>
          <a:xfrm>
            <a:off x="1407960" y="1427040"/>
            <a:ext cx="2749680" cy="2114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C:\Users\Irina\Desktop\фото\SDC11943.JPG"/>
          <p:cNvPicPr/>
          <p:nvPr/>
        </p:nvPicPr>
        <p:blipFill>
          <a:blip r:embed="rId2"/>
          <a:stretch/>
        </p:blipFill>
        <p:spPr>
          <a:xfrm>
            <a:off x="1103400" y="4017960"/>
            <a:ext cx="2901960" cy="22114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C:\Users\Irina\Desktop\фото\SDC11941.JPG"/>
          <p:cNvPicPr/>
          <p:nvPr/>
        </p:nvPicPr>
        <p:blipFill>
          <a:blip r:embed="rId3"/>
          <a:stretch/>
        </p:blipFill>
        <p:spPr>
          <a:xfrm>
            <a:off x="4687920" y="1427040"/>
            <a:ext cx="2670120" cy="21384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7"/>
          <p:cNvSpPr/>
          <p:nvPr/>
        </p:nvSpPr>
        <p:spPr>
          <a:xfrm>
            <a:off x="4343400" y="3962520"/>
            <a:ext cx="3886200" cy="243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48 часов наблюдается значительный  рост бактерий, но при визуальном рассмотрении заметно, что в обработанной половине чашки Петри бактерий «выросло» гораздо меньше ( особенно это хорошо видно на образце №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равнительный анализ роста колоний бактерий через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Users\Irina\Desktop\фото\SDC11944.JPG"/>
          <p:cNvPicPr/>
          <p:nvPr/>
        </p:nvPicPr>
        <p:blipFill>
          <a:blip r:embed="rId1"/>
          <a:stretch/>
        </p:blipFill>
        <p:spPr>
          <a:xfrm>
            <a:off x="1030320" y="4248000"/>
            <a:ext cx="2670120" cy="2060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C:\Users\Irina\Desktop\фото\SDC11941.JPG"/>
          <p:cNvPicPr/>
          <p:nvPr/>
        </p:nvPicPr>
        <p:blipFill>
          <a:blip r:embed="rId2"/>
          <a:stretch/>
        </p:blipFill>
        <p:spPr>
          <a:xfrm>
            <a:off x="4687920" y="1884240"/>
            <a:ext cx="2590920" cy="1906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C:\Users\Irina\Desktop\фото\SDC11946.JPG"/>
          <p:cNvPicPr/>
          <p:nvPr/>
        </p:nvPicPr>
        <p:blipFill>
          <a:blip r:embed="rId3"/>
          <a:stretch/>
        </p:blipFill>
        <p:spPr>
          <a:xfrm>
            <a:off x="1103400" y="1884240"/>
            <a:ext cx="2597040" cy="19065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4724280" y="3962520"/>
            <a:ext cx="3657600" cy="243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72 часа наблюдается рост колоний бактерий во всех трёх чашках Петри. В образце номер 3 (посев с рук) рост бактерий в обработанной «зелёнкой» половине минима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80880" y="0"/>
          <a:ext cx="8534520" cy="658188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99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ли видимые колонии бак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работанная «зелёнкой» часть чашки Пет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анная «зелёнкой» часть чашки Пет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2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48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72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тоги и  выводы проведенной 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ю, что поставленная мной  цель проекта - практическим путем определить - как антисептики на примере раствора бриллиантового  зеленого («зелёнки») действуют на враждебные человеку  микроорганизмы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игнута 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было доказано, что применение антисептиков эффективно в борьбе с болезнетворными бактерия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2766960"/>
            <a:ext cx="8553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что такое антисептики и как они влияют на микроорганиз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виды антисептики, подробно узнать о химической антисеп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о строением микроорганизмов (бактерий) и их классифик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м путём, в домашних условиях, «вырастить» колонии бакте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влияние антисептиков («зелёнки» ) на жизнедеятельность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ологической основой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ются научные знания по химии, биологии, медицине и фармацев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исследовании были использованы следующие 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тически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литературы и статей интернета по теме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ий 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опытов по выращиванию колоний бактерий и влиянии на них антисептиков в домашн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сеп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лат. </a:t>
            </a:r>
            <a:r>
              <a:rPr b="0" i="1" lang="la-VA" sz="28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тив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eptic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гниение) — система мероприятий, направленных на уничтожение микроорганизмов в ране, патологическом очаге, органах и тканях, а также в организме больного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н был введён в 1750 году английским хирургом Джоном Принг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етической части исследования я узн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антисептики существуют (химическая, биологическая, физическая, механическая и смешанна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йствует химическая антисептика на микроорган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имическая антисе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на микроорганизмы химическими веществами, обладающими бактерицидным или бактериостатическим дейст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 ним, как раз, относя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Й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риллиантового зелёного раствор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зелён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у меня сразу возникла масса вопросо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что это вообще такое?  Как их производят и из чего? Как они «работают»? И почему иногда мы используем «зелёнку», а иногда й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створ йода спир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Скругленный прямоугольник 8"/>
          <p:cNvSpPr/>
          <p:nvPr/>
        </p:nvSpPr>
        <p:spPr>
          <a:xfrm>
            <a:off x="457200" y="914400"/>
            <a:ext cx="2362320" cy="43434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4343400"/>
              <a:gd name="textAreaBottom" fmla="*/ 4228200 h 4343400"/>
            </a:gdLst>
            <a:ahLst/>
            <a:rect l="textAreaLeft" t="textAreaTop" r="textAreaRight" b="textAreaBottom"/>
            <a:pathLst>
              <a:path w="21600" h="39711">
                <a:moveTo>
                  <a:pt x="3600" y="0"/>
                </a:moveTo>
                <a:arcTo wR="3600" hR="3600" stAng="16200000" swAng="-5400000"/>
                <a:lnTo>
                  <a:pt x="0" y="36111"/>
                </a:lnTo>
                <a:arcTo wR="3600" hR="3600" stAng="10800000" swAng="-5400000"/>
                <a:lnTo>
                  <a:pt x="18000" y="39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ания к применени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ы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наружно для обработки ран, операционного поля, для лечения грибковых заболеваний кожи, а также как отвлекающее средство при воспалительных заболеваниях дыхательных пу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9"/>
          <p:cNvSpPr/>
          <p:nvPr/>
        </p:nvSpPr>
        <p:spPr>
          <a:xfrm>
            <a:off x="3048120" y="4572000"/>
            <a:ext cx="3962160" cy="19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бочные эффекты и осложне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лечен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ами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зможны развитие насморка, кожной сыпи, лихорадки, появление крови в моче и другие признаки неперенос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0"/>
          <p:cNvSpPr/>
          <p:nvPr/>
        </p:nvSpPr>
        <p:spPr>
          <a:xfrm>
            <a:off x="3124080" y="762120"/>
            <a:ext cx="3962520" cy="19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ые свойств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ы й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местном применении оказывают противомикробное (антисептическое), раздражающее, отвлекающее и противовоспалительное действие. При приеме внутрь нормализуют функцию щитовидной желез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1"/>
          <p:cNvSpPr/>
          <p:nvPr/>
        </p:nvSpPr>
        <p:spPr>
          <a:xfrm>
            <a:off x="4800600" y="2819520"/>
            <a:ext cx="3809880" cy="1752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авила примене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наружном применен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ом й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мазывают поверхность кожи, при наличии ран смазывают кожу у краев ран, не нанося на раневую поверх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</cp:lastModifiedBy>
  <dcterms:modified xsi:type="dcterms:W3CDTF">2013-03-19T13:23:00Z</dcterms:modified>
  <cp:revision>4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