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CAB-098C-482A-B5F3-4E057528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044-D453-4D78-B303-977469E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4B8-A722-4DDB-A34E-155396C8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C41-2AD9-41F6-B4F6-EED5E95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745-218B-4A3B-81E3-B08C398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ADC-1E4D-4123-BE12-AD207AB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635-D641-45EA-A401-BB52355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2BD-5F9F-40D9-B83B-5A8F746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C1E-EE60-4DB6-A3BC-4ACEB2D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63C-7FF1-440D-A540-E70A225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86F-059A-4AB4-A8D8-AF59F7E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C4A-6D38-4FB9-8DAF-0987312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95AC-4B9E-4AEC-8D7C-590BCB77F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от Незнайки и его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395280" y="2025720"/>
            <a:ext cx="3075120" cy="4832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25146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лыш-коротыш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утник, шалуни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ну, угадай-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го зват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от Вин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девочки готовили ёлочные игрушки к Новому году. Втроем они работали 3 часа. Сколько часов работала каждая и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6114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от Пульки с Буль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разре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сделать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ить вере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3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110600">
            <a:off x="4114440" y="3733560"/>
            <a:ext cx="1623960" cy="2738160"/>
          </a:xfrm>
          <a:custGeom>
            <a:avLst/>
            <a:gdLst/>
            <a:ahLst/>
            <a:rect l="l" t="t" r="r" b="b"/>
            <a:pathLst>
              <a:path w="987" h="1235">
                <a:moveTo>
                  <a:pt x="70" y="0"/>
                </a:moveTo>
                <a:cubicBezTo>
                  <a:pt x="45" y="38"/>
                  <a:pt x="44" y="77"/>
                  <a:pt x="32" y="121"/>
                </a:cubicBezTo>
                <a:cubicBezTo>
                  <a:pt x="33" y="164"/>
                  <a:pt x="0" y="529"/>
                  <a:pt x="108" y="599"/>
                </a:cubicBezTo>
                <a:cubicBezTo>
                  <a:pt x="116" y="612"/>
                  <a:pt x="121" y="627"/>
                  <a:pt x="131" y="637"/>
                </a:cubicBezTo>
                <a:cubicBezTo>
                  <a:pt x="136" y="642"/>
                  <a:pt x="147" y="639"/>
                  <a:pt x="153" y="644"/>
                </a:cubicBezTo>
                <a:cubicBezTo>
                  <a:pt x="163" y="652"/>
                  <a:pt x="167" y="666"/>
                  <a:pt x="176" y="675"/>
                </a:cubicBezTo>
                <a:cubicBezTo>
                  <a:pt x="182" y="681"/>
                  <a:pt x="191" y="685"/>
                  <a:pt x="199" y="690"/>
                </a:cubicBezTo>
                <a:cubicBezTo>
                  <a:pt x="239" y="770"/>
                  <a:pt x="188" y="680"/>
                  <a:pt x="237" y="735"/>
                </a:cubicBezTo>
                <a:cubicBezTo>
                  <a:pt x="252" y="751"/>
                  <a:pt x="262" y="770"/>
                  <a:pt x="275" y="788"/>
                </a:cubicBezTo>
                <a:cubicBezTo>
                  <a:pt x="294" y="815"/>
                  <a:pt x="338" y="820"/>
                  <a:pt x="366" y="834"/>
                </a:cubicBezTo>
                <a:cubicBezTo>
                  <a:pt x="547" y="824"/>
                  <a:pt x="474" y="852"/>
                  <a:pt x="548" y="781"/>
                </a:cubicBezTo>
                <a:cubicBezTo>
                  <a:pt x="589" y="646"/>
                  <a:pt x="516" y="548"/>
                  <a:pt x="388" y="515"/>
                </a:cubicBezTo>
                <a:cubicBezTo>
                  <a:pt x="368" y="518"/>
                  <a:pt x="347" y="518"/>
                  <a:pt x="328" y="523"/>
                </a:cubicBezTo>
                <a:cubicBezTo>
                  <a:pt x="290" y="533"/>
                  <a:pt x="270" y="575"/>
                  <a:pt x="244" y="599"/>
                </a:cubicBezTo>
                <a:cubicBezTo>
                  <a:pt x="234" y="633"/>
                  <a:pt x="227" y="668"/>
                  <a:pt x="207" y="697"/>
                </a:cubicBezTo>
                <a:cubicBezTo>
                  <a:pt x="202" y="721"/>
                  <a:pt x="185" y="742"/>
                  <a:pt x="184" y="766"/>
                </a:cubicBezTo>
                <a:cubicBezTo>
                  <a:pt x="182" y="837"/>
                  <a:pt x="179" y="931"/>
                  <a:pt x="199" y="1008"/>
                </a:cubicBezTo>
                <a:cubicBezTo>
                  <a:pt x="229" y="1124"/>
                  <a:pt x="383" y="1185"/>
                  <a:pt x="487" y="1213"/>
                </a:cubicBezTo>
                <a:cubicBezTo>
                  <a:pt x="521" y="1235"/>
                  <a:pt x="518" y="1224"/>
                  <a:pt x="555" y="1213"/>
                </a:cubicBezTo>
                <a:cubicBezTo>
                  <a:pt x="570" y="1215"/>
                  <a:pt x="585" y="1220"/>
                  <a:pt x="601" y="1220"/>
                </a:cubicBezTo>
                <a:cubicBezTo>
                  <a:pt x="641" y="1220"/>
                  <a:pt x="682" y="1217"/>
                  <a:pt x="722" y="1213"/>
                </a:cubicBezTo>
                <a:cubicBezTo>
                  <a:pt x="807" y="1204"/>
                  <a:pt x="851" y="1113"/>
                  <a:pt x="911" y="1069"/>
                </a:cubicBezTo>
                <a:cubicBezTo>
                  <a:pt x="936" y="1021"/>
                  <a:pt x="920" y="1050"/>
                  <a:pt x="957" y="993"/>
                </a:cubicBezTo>
                <a:cubicBezTo>
                  <a:pt x="962" y="985"/>
                  <a:pt x="972" y="970"/>
                  <a:pt x="972" y="970"/>
                </a:cubicBezTo>
                <a:cubicBezTo>
                  <a:pt x="980" y="918"/>
                  <a:pt x="987" y="887"/>
                  <a:pt x="987" y="834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57600" y="4800600"/>
            <a:ext cx="380880" cy="533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5715000"/>
            <a:ext cx="228600" cy="533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463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от Пон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2320" y="2971800"/>
            <a:ext cx="2748240" cy="337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1523880"/>
            <a:ext cx="5486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рендель в п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екается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минут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екаться 6 кренделей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м против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д, баба, внучка, Жучка, кошка и мышка тянули-тянули репку и, наконец, вытянули. Сколько глаз смотрело на репку?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80368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42670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вет: 12 гл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от Зн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8640" y="1371600"/>
            <a:ext cx="5257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етели галки и стали садиться на палки. Если на каждую палку сядет по галке, не хватит одной палки, а если на палку сядет по две галки, то одна палка останется лишней. Сколько было палок и сколько галок?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657520" cy="332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5410080"/>
            <a:ext cx="38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вет: 4 галки, 3 пал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Шпун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5334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животных 2 пра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ги, 2 левые, 2 с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сзади. Сколько ног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живот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851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ка от Зн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7080" y="17524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упил долгожданный декаб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зацвели 4 яблони, а потом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ивы. Сколько деревьев зацвело всего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ья зимой не цветут, а весной бы их зацвело 7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40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от Авос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566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1752480"/>
            <a:ext cx="5334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-за куста торчат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чьих у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там спря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ц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Торопы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т в поле дуб, а не дубе 8 веток. На каждой ветке по 2 крупные сливы. Сколько слив ты можешь со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37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Гу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онцов у трёх с половиной па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8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Владимировна</cp:lastModifiedBy>
  <dcterms:modified xsi:type="dcterms:W3CDTF">2010-11-23T14:06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