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F0E-31CA-47A2-A692-F8C86652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6F7-17BB-424E-AF33-A0C76153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3C3-152B-4FDE-9462-80D8B614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1D5-9CA2-49FB-8843-E8C21BEB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E2A-13AF-45B7-B386-6BD0D9E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B79-F4FC-4A6B-BE15-58745DC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E06-A04C-4364-BB11-D50F764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391-98B1-4B2A-97A6-1E97FD4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798-13D5-4A5A-973B-0A56F0E3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4BB-3774-46C5-AAA3-B31C883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020-1638-45C1-9C5F-E13F113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D4F-1140-42C5-A9AE-A76CE4C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809-C66C-4219-9A48-95205B703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3080" y="917280"/>
            <a:ext cx="48229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24349"/>
          <p:cNvPicPr/>
          <p:nvPr/>
        </p:nvPicPr>
        <p:blipFill>
          <a:blip r:embed="rId2"/>
          <a:stretch/>
        </p:blipFill>
        <p:spPr>
          <a:xfrm>
            <a:off x="6072120" y="3214800"/>
            <a:ext cx="25495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citronu_bummbas_l_0"/>
          <p:cNvPicPr/>
          <p:nvPr/>
        </p:nvPicPr>
        <p:blipFill>
          <a:blip r:embed="rId3"/>
          <a:stretch/>
        </p:blipFill>
        <p:spPr>
          <a:xfrm>
            <a:off x="3286080" y="328608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5"/>
          <p:cNvSpPr/>
          <p:nvPr/>
        </p:nvSpPr>
        <p:spPr>
          <a:xfrm>
            <a:off x="5183280" y="20001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29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4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5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39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0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4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7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49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0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2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4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5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59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0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2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4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5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59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0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 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1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5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0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8" name="AutoShape 7"/>
            <p:cNvSpPr/>
            <p:nvPr/>
          </p:nvSpPr>
          <p:spPr>
            <a:xfrm>
              <a:off x="7667640" y="1268280"/>
              <a:ext cx="358920" cy="72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9T16:38:05Z</dcterms:modified>
  <cp:revision>9</cp:revision>
  <dc:subject/>
  <dc:title>PowerPoint Presentation</dc:title>
</cp:coreProperties>
</file>