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CDF-FCB9-47F1-9BF1-D1BE770F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85D-C17C-4B13-9D15-2BC661ED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181-C117-4104-B2E2-ED6A9B43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86F-6EB8-4D36-832D-CE793CD2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2ED8-20D2-4F63-B537-9476B90C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276E-34A2-48F7-AD83-A857D6F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6340-E666-4726-A640-C5063098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FAFC-8E54-4742-A819-E913C875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D3C6-42A1-4DEC-BDBE-9DEFAE1B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4742-8C38-4616-825D-C109A0B3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ED98-27B6-4043-8B82-266FB26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C76-5E35-46D7-8B3C-3B793817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BAA5-06D4-4A68-9DBC-C3253A1D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FE6E-D9C4-4CC9-BC47-66E824C8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0C0A-F24F-4D9F-9483-082C884F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2F5D-41A9-4C0A-BC2B-67EB6941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346E-8039-4FA0-9798-C2C36A80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91D-0847-43BD-95F4-289FA5F6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7B6-443B-4D2E-84BD-494F5317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91D-0ECE-4525-8E33-3B314E3D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AA7-A50F-4276-802A-27898C5C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693-251A-4E2E-84B5-163A847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604-7E30-4CAC-8DC7-00586402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F0F-82EF-48F4-86F5-0C024A1B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345F-82E0-497F-B7F4-45791E9ECC2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0505-BE26-40F9-88CD-5101415E08F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7.png"/><Relationship Id="rId14" Type="http://schemas.openxmlformats.org/officeDocument/2006/relationships/image" Target="../media/image8.gif"/><Relationship Id="rId15" Type="http://schemas.openxmlformats.org/officeDocument/2006/relationships/hyperlink" Target="C:%5CUsers%5C&#1053;&#1072;&#1090;&#1072;&#1083;&#1100;&#1103;%5CDesktop%5C&#1084;&#1085;&#1077;%20&#1082;%20&#1091;&#1088;&#1086;&#1082;&#1091;%5C&#1086;&#1090;&#1082;&#1088;&#1099;&#1090;&#1099;&#1081;%20&#1091;&#1088;&#1086;&#1082;.ppt" TargetMode="External"/><Relationship Id="rId16" Type="http://schemas.openxmlformats.org/officeDocument/2006/relationships/hyperlink" Target="&#1086;&#1090;&#1082;&#1088;&#1099;&#1090;&#1099;&#1081; &#1091;&#1088;&#1086;&#1082;.ppt" TargetMode="External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pelikan"/>
          <p:cNvPicPr/>
          <p:nvPr/>
        </p:nvPicPr>
        <p:blipFill>
          <a:blip r:embed="rId1"/>
          <a:srcRect l="1570" t="52589" r="0" b="0"/>
          <a:stretch/>
        </p:blipFill>
        <p:spPr>
          <a:xfrm>
            <a:off x="3124080" y="5105520"/>
            <a:ext cx="3168720" cy="14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00220_"/>
          <p:cNvPicPr/>
          <p:nvPr/>
        </p:nvPicPr>
        <p:blipFill>
          <a:blip r:embed="rId2"/>
          <a:srcRect l="90721" t="0" r="0" b="0"/>
          <a:stretch/>
        </p:blipFill>
        <p:spPr>
          <a:xfrm>
            <a:off x="324000" y="4724280"/>
            <a:ext cx="433080" cy="1992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00220_"/>
          <p:cNvPicPr/>
          <p:nvPr/>
        </p:nvPicPr>
        <p:blipFill>
          <a:blip r:embed="rId3"/>
          <a:srcRect l="35916" t="0" r="50883" b="0"/>
          <a:stretch/>
        </p:blipFill>
        <p:spPr>
          <a:xfrm>
            <a:off x="179280" y="2421000"/>
            <a:ext cx="541440" cy="201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00220_"/>
          <p:cNvPicPr/>
          <p:nvPr/>
        </p:nvPicPr>
        <p:blipFill>
          <a:blip r:embed="rId4">
            <a:lum bright="24000"/>
          </a:blip>
          <a:srcRect l="0" t="51044" r="0" b="37626"/>
          <a:stretch/>
        </p:blipFill>
        <p:spPr>
          <a:xfrm>
            <a:off x="971640" y="189000"/>
            <a:ext cx="2016000" cy="50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00220_"/>
          <p:cNvPicPr/>
          <p:nvPr/>
        </p:nvPicPr>
        <p:blipFill>
          <a:blip r:embed="rId5"/>
          <a:srcRect l="64254" t="0" r="22498" b="0"/>
          <a:stretch/>
        </p:blipFill>
        <p:spPr>
          <a:xfrm>
            <a:off x="179280" y="189000"/>
            <a:ext cx="576360" cy="201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00220_"/>
          <p:cNvPicPr/>
          <p:nvPr/>
        </p:nvPicPr>
        <p:blipFill>
          <a:blip r:embed="rId6"/>
          <a:srcRect l="0" t="11329" r="0" b="75423"/>
          <a:stretch/>
        </p:blipFill>
        <p:spPr>
          <a:xfrm>
            <a:off x="3564000" y="189000"/>
            <a:ext cx="1944720" cy="64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00220_"/>
          <p:cNvPicPr/>
          <p:nvPr/>
        </p:nvPicPr>
        <p:blipFill>
          <a:blip r:embed="rId7"/>
          <a:srcRect l="0" t="37664" r="0" b="50883"/>
          <a:stretch/>
        </p:blipFill>
        <p:spPr>
          <a:xfrm>
            <a:off x="6012000" y="189000"/>
            <a:ext cx="201600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00220_"/>
          <p:cNvPicPr/>
          <p:nvPr/>
        </p:nvPicPr>
        <p:blipFill>
          <a:blip r:embed="rId8"/>
          <a:srcRect l="0" t="0" r="90721" b="0"/>
          <a:stretch/>
        </p:blipFill>
        <p:spPr>
          <a:xfrm>
            <a:off x="8459640" y="189000"/>
            <a:ext cx="433440" cy="199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00220_"/>
          <p:cNvPicPr/>
          <p:nvPr/>
        </p:nvPicPr>
        <p:blipFill>
          <a:blip r:embed="rId9">
            <a:lum bright="24000"/>
          </a:blip>
          <a:srcRect l="37626" t="0" r="51044" b="0"/>
          <a:stretch/>
        </p:blipFill>
        <p:spPr>
          <a:xfrm>
            <a:off x="8459640" y="2421000"/>
            <a:ext cx="5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00220_"/>
          <p:cNvPicPr/>
          <p:nvPr/>
        </p:nvPicPr>
        <p:blipFill>
          <a:blip r:embed="rId10"/>
          <a:srcRect l="22498" t="0" r="64254" b="0"/>
          <a:stretch/>
        </p:blipFill>
        <p:spPr>
          <a:xfrm>
            <a:off x="8388360" y="4653000"/>
            <a:ext cx="576360" cy="201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cat27"/>
          <p:cNvPicPr/>
          <p:nvPr/>
        </p:nvPicPr>
        <p:blipFill>
          <a:blip r:embed="rId11"/>
          <a:stretch/>
        </p:blipFill>
        <p:spPr>
          <a:xfrm>
            <a:off x="3886200" y="4270320"/>
            <a:ext cx="1574640" cy="2587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XTREE31"/>
          <p:cNvPicPr/>
          <p:nvPr/>
        </p:nvPicPr>
        <p:blipFill>
          <a:blip r:embed="rId12"/>
          <a:stretch/>
        </p:blipFill>
        <p:spPr>
          <a:xfrm>
            <a:off x="7391520" y="1295280"/>
            <a:ext cx="1549440" cy="2265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4" descr=""/>
          <p:cNvPicPr/>
          <p:nvPr/>
        </p:nvPicPr>
        <p:blipFill>
          <a:blip r:embed="rId13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119"/>
          <p:cNvPicPr/>
          <p:nvPr/>
        </p:nvPicPr>
        <p:blipFill>
          <a:blip r:embed="rId14"/>
          <a:stretch/>
        </p:blipFill>
        <p:spPr>
          <a:xfrm>
            <a:off x="0" y="2514600"/>
            <a:ext cx="1324080" cy="15825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5">
            <a:hlinkClick r:id="rId15"/>
          </p:cNvPr>
          <p:cNvSpPr/>
          <p:nvPr/>
        </p:nvSpPr>
        <p:spPr>
          <a:xfrm>
            <a:off x="7620120" y="64008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Calibri"/>
                <a:hlinkClick r:id="rId16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00220_"/>
          <p:cNvPicPr/>
          <p:nvPr/>
        </p:nvPicPr>
        <p:blipFill>
          <a:blip r:embed="rId17">
            <a:lum bright="24000"/>
          </a:blip>
          <a:srcRect l="0" t="37626" r="0" b="51044"/>
          <a:stretch/>
        </p:blipFill>
        <p:spPr>
          <a:xfrm>
            <a:off x="990720" y="6019920"/>
            <a:ext cx="2016000" cy="50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00220_"/>
          <p:cNvPicPr/>
          <p:nvPr/>
        </p:nvPicPr>
        <p:blipFill>
          <a:blip r:embed="rId18"/>
          <a:srcRect l="0" t="75423" r="0" b="11329"/>
          <a:stretch/>
        </p:blipFill>
        <p:spPr>
          <a:xfrm>
            <a:off x="6400800" y="5867280"/>
            <a:ext cx="194472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5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271 5.20231E-007 L -0.33993 5.20231E-007 L -0.33993 -0.6548 L 0.29271 -0.6548 L 0.29271 5.20231E-007 Z">
                                      <p:cBhvr>
                                        <p:cTn id="10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904 L -0.20973 0.27029 C -0.2533 0.31098 -0.31858 0.33456 -0.38629 0.33456 C -0.46389 0.33456 -0.5257 0.31098 -0.56962 0.27029 L -0.77639 0.0904 E">
                                      <p:cBhvr>
                                        <p:cTn id="13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473 0.09041 L -0.57518 -0.0904 C -0.53108 -0.13109 -0.46511 -0.15375 -0.39671 -0.15375 C -0.31823 -0.15375 -0.25573 -0.13109 -0.21164 -0.0904 L -0.00139 0.09041 E">
                                      <p:cBhvr>
                                        <p:cTn id="13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9041 L -0.20764 0.30313 C -0.25053 0.35099 -0.31493 0.37896 -0.38212 0.37896 C -0.45868 0.37896 -0.51997 0.35099 -0.5632 0.30313 L -0.76806 0.09041 E">
                                      <p:cBhvr>
                                        <p:cTn id="14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028 0.0904 L -0.57934 0.26104 C -0.5349 0.29965 -0.46858 0.32138 -0.39966 0.32138 C -0.32066 0.32138 -0.25747 0.29965 -0.2132 0.26104 L -0.00139 0.0904 E">
                                      <p:cBhvr>
                                        <p:cTn id="14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45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1-28T04:52:5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