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589-1A41-4975-9B6D-BB91A6F8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B68-E583-4F9B-9A66-4BE60547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F61-5884-44F8-9BDD-9DDBB024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787-7391-4EDB-94E9-120B6CFA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463B-8CFC-4022-8D29-2A819059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EC8-A86C-44C9-BECC-6816487D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6C03-27FA-45EE-B8E5-5365DC2D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9E07-943A-43E6-9E33-EBC085D4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FDDE-A72A-4292-81BF-9AAB86B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9983-C078-4C37-91BD-EFCDB44E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C1B9-0B1E-43B7-8FCF-B19398D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83E-18D4-470C-A731-246C064A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11A5-86A7-4550-81D7-B6234E7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DDF5-C52E-4F03-9813-92B7D5E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42A2-819F-42ED-A50A-0E224A68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FDA5-EFEA-4D17-A75B-24E58A5A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A8E7-21AC-4298-9F00-6F2E1E86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F18-1BB3-4468-9C84-4ED0131B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6C9-B177-4617-9C77-687F1A34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23A-D6DE-4C53-9C01-62D0C5F3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D44-7CC7-4692-823C-C78E9BF8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7AE-DBB6-4B44-92A9-902A94C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C4A-2AF6-4838-8286-30A0996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194-6A03-4875-BC2A-23BD3179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BCCF-F219-42F1-8312-BEB83AE7E0C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CCD-07B9-4429-9439-486691F1E20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7.png"/><Relationship Id="rId14" Type="http://schemas.openxmlformats.org/officeDocument/2006/relationships/image" Target="../media/image8.gif"/><Relationship Id="rId15" Type="http://schemas.openxmlformats.org/officeDocument/2006/relationships/hyperlink" Target="C:%5CUsers%5C&#1053;&#1072;&#1090;&#1072;&#1083;&#1100;&#1103;%5CDesktop%5C&#1084;&#1085;&#1077;%20&#1082;%20&#1091;&#1088;&#1086;&#1082;&#1091;%5C&#1086;&#1090;&#1082;&#1088;&#1099;&#1090;&#1099;&#1081;%20&#1091;&#1088;&#1086;&#1082;.ppt" TargetMode="External"/><Relationship Id="rId16" Type="http://schemas.openxmlformats.org/officeDocument/2006/relationships/hyperlink" Target="&#1086;&#1090;&#1082;&#1088;&#1099;&#1090;&#1099;&#1081; &#1091;&#1088;&#1086;&#1082;.ppt" TargetMode="External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pelikan"/>
          <p:cNvPicPr/>
          <p:nvPr/>
        </p:nvPicPr>
        <p:blipFill>
          <a:blip r:embed="rId1"/>
          <a:srcRect l="1570" t="52589" r="0" b="0"/>
          <a:stretch/>
        </p:blipFill>
        <p:spPr>
          <a:xfrm>
            <a:off x="3124080" y="5105520"/>
            <a:ext cx="3168720" cy="14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00220_"/>
          <p:cNvPicPr/>
          <p:nvPr/>
        </p:nvPicPr>
        <p:blipFill>
          <a:blip r:embed="rId2"/>
          <a:srcRect l="90721" t="0" r="0" b="0"/>
          <a:stretch/>
        </p:blipFill>
        <p:spPr>
          <a:xfrm>
            <a:off x="324000" y="4724280"/>
            <a:ext cx="433080" cy="1992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00220_"/>
          <p:cNvPicPr/>
          <p:nvPr/>
        </p:nvPicPr>
        <p:blipFill>
          <a:blip r:embed="rId3"/>
          <a:srcRect l="35916" t="0" r="50883" b="0"/>
          <a:stretch/>
        </p:blipFill>
        <p:spPr>
          <a:xfrm>
            <a:off x="179280" y="2421000"/>
            <a:ext cx="541440" cy="201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00220_"/>
          <p:cNvPicPr/>
          <p:nvPr/>
        </p:nvPicPr>
        <p:blipFill>
          <a:blip r:embed="rId4">
            <a:lum bright="24000"/>
          </a:blip>
          <a:srcRect l="0" t="51044" r="0" b="37626"/>
          <a:stretch/>
        </p:blipFill>
        <p:spPr>
          <a:xfrm>
            <a:off x="971640" y="189000"/>
            <a:ext cx="2016000" cy="50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00220_"/>
          <p:cNvPicPr/>
          <p:nvPr/>
        </p:nvPicPr>
        <p:blipFill>
          <a:blip r:embed="rId5"/>
          <a:srcRect l="64254" t="0" r="22498" b="0"/>
          <a:stretch/>
        </p:blipFill>
        <p:spPr>
          <a:xfrm>
            <a:off x="179280" y="189000"/>
            <a:ext cx="57636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00220_"/>
          <p:cNvPicPr/>
          <p:nvPr/>
        </p:nvPicPr>
        <p:blipFill>
          <a:blip r:embed="rId6"/>
          <a:srcRect l="0" t="11329" r="0" b="75423"/>
          <a:stretch/>
        </p:blipFill>
        <p:spPr>
          <a:xfrm>
            <a:off x="3564000" y="189000"/>
            <a:ext cx="1944720" cy="64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00220_"/>
          <p:cNvPicPr/>
          <p:nvPr/>
        </p:nvPicPr>
        <p:blipFill>
          <a:blip r:embed="rId7"/>
          <a:srcRect l="0" t="37664" r="0" b="50883"/>
          <a:stretch/>
        </p:blipFill>
        <p:spPr>
          <a:xfrm>
            <a:off x="6012000" y="189000"/>
            <a:ext cx="201600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00220_"/>
          <p:cNvPicPr/>
          <p:nvPr/>
        </p:nvPicPr>
        <p:blipFill>
          <a:blip r:embed="rId8"/>
          <a:srcRect l="0" t="0" r="90721" b="0"/>
          <a:stretch/>
        </p:blipFill>
        <p:spPr>
          <a:xfrm>
            <a:off x="8459640" y="189000"/>
            <a:ext cx="433440" cy="199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00220_"/>
          <p:cNvPicPr/>
          <p:nvPr/>
        </p:nvPicPr>
        <p:blipFill>
          <a:blip r:embed="rId9">
            <a:lum bright="24000"/>
          </a:blip>
          <a:srcRect l="37626" t="0" r="51044" b="0"/>
          <a:stretch/>
        </p:blipFill>
        <p:spPr>
          <a:xfrm>
            <a:off x="8459640" y="2421000"/>
            <a:ext cx="5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00220_"/>
          <p:cNvPicPr/>
          <p:nvPr/>
        </p:nvPicPr>
        <p:blipFill>
          <a:blip r:embed="rId10"/>
          <a:srcRect l="22498" t="0" r="64254" b="0"/>
          <a:stretch/>
        </p:blipFill>
        <p:spPr>
          <a:xfrm>
            <a:off x="8388360" y="4653000"/>
            <a:ext cx="576360" cy="201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cat27"/>
          <p:cNvPicPr/>
          <p:nvPr/>
        </p:nvPicPr>
        <p:blipFill>
          <a:blip r:embed="rId11"/>
          <a:stretch/>
        </p:blipFill>
        <p:spPr>
          <a:xfrm>
            <a:off x="3886200" y="4270320"/>
            <a:ext cx="1574640" cy="2587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XTREE31"/>
          <p:cNvPicPr/>
          <p:nvPr/>
        </p:nvPicPr>
        <p:blipFill>
          <a:blip r:embed="rId12"/>
          <a:stretch/>
        </p:blipFill>
        <p:spPr>
          <a:xfrm>
            <a:off x="7391520" y="1295280"/>
            <a:ext cx="1549440" cy="2265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4" descr=""/>
          <p:cNvPicPr/>
          <p:nvPr/>
        </p:nvPicPr>
        <p:blipFill>
          <a:blip r:embed="rId13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119"/>
          <p:cNvPicPr/>
          <p:nvPr/>
        </p:nvPicPr>
        <p:blipFill>
          <a:blip r:embed="rId14"/>
          <a:stretch/>
        </p:blipFill>
        <p:spPr>
          <a:xfrm>
            <a:off x="0" y="2514600"/>
            <a:ext cx="1324080" cy="15825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5">
            <a:hlinkClick r:id="rId15"/>
          </p:cNvPr>
          <p:cNvSpPr/>
          <p:nvPr/>
        </p:nvSpPr>
        <p:spPr>
          <a:xfrm>
            <a:off x="7620120" y="64008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Calibri"/>
                <a:hlinkClick r:id="rId16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00220_"/>
          <p:cNvPicPr/>
          <p:nvPr/>
        </p:nvPicPr>
        <p:blipFill>
          <a:blip r:embed="rId17">
            <a:lum bright="24000"/>
          </a:blip>
          <a:srcRect l="0" t="37626" r="0" b="51044"/>
          <a:stretch/>
        </p:blipFill>
        <p:spPr>
          <a:xfrm>
            <a:off x="990720" y="6019920"/>
            <a:ext cx="2016000" cy="50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00220_"/>
          <p:cNvPicPr/>
          <p:nvPr/>
        </p:nvPicPr>
        <p:blipFill>
          <a:blip r:embed="rId18"/>
          <a:srcRect l="0" t="75423" r="0" b="11329"/>
          <a:stretch/>
        </p:blipFill>
        <p:spPr>
          <a:xfrm>
            <a:off x="6400800" y="5867280"/>
            <a:ext cx="19447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271 5.20231E-007 L -0.33993 5.20231E-007 L -0.33993 -0.6548 L 0.29271 -0.6548 L 0.29271 5.20231E-007 Z">
                                      <p:cBhvr>
                                        <p:cTn id="10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904 L -0.20973 0.27029 C -0.2533 0.31098 -0.31858 0.33456 -0.38629 0.33456 C -0.46389 0.33456 -0.5257 0.31098 -0.56962 0.27029 L -0.77639 0.0904 E">
                                      <p:cBhvr>
                                        <p:cTn id="13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473 0.09041 L -0.57518 -0.0904 C -0.53108 -0.13109 -0.46511 -0.15375 -0.39671 -0.15375 C -0.31823 -0.15375 -0.25573 -0.13109 -0.21164 -0.0904 L -0.00139 0.09041 E">
                                      <p:cBhvr>
                                        <p:cTn id="13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9041 L -0.20764 0.30313 C -0.25053 0.35099 -0.31493 0.37896 -0.38212 0.37896 C -0.45868 0.37896 -0.51997 0.35099 -0.5632 0.30313 L -0.76806 0.09041 E">
                                      <p:cBhvr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028 0.0904 L -0.57934 0.26104 C -0.5349 0.29965 -0.46858 0.32138 -0.39966 0.32138 C -0.32066 0.32138 -0.25747 0.29965 -0.2132 0.26104 L -0.00139 0.0904 E">
                                      <p:cBhvr>
                                        <p:cTn id="14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1-28T04:52:5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