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8927-9AAA-42F7-86DB-21C099EF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30F4-6A3D-4C6C-BDC6-F42FC180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ACC8-B556-4E13-96BC-69E625C3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DCEE-BFA7-4BB2-B1F9-4C311581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75F1-370D-48A8-B7D4-5A70C4E7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89B-3965-452C-B23F-B69879A6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FA9D-9A27-4239-98AB-A4F6B4CD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5387-FF71-4C71-A433-6C49CB23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D6B7-8849-4DDD-B055-EBD95959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F389-6A34-4BC1-A3EB-CD54A0B1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3D25-7DF7-4220-BD9E-F45DC7C5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831C-23C1-470E-8FEA-0383B808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2F5E-147D-4149-88D1-79247840D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2971800" y="228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6058080" y="2286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Qua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723960" y="228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2629080" y="58165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administrativ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2933640" y="58165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teamwork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3162240" y="581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num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3238560" y="5816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2933640" y="58165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artistic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2933640" y="5600880"/>
            <a:ext cx="243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to work to tight dead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2743200" y="5600880"/>
            <a:ext cx="281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to work unde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2933640" y="581652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a sharp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2933640" y="58165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am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2933640" y="58165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crea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2933640" y="58165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d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2933640" y="58165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individ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2514600" y="58165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physical 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2933640" y="58165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39685E-006 L -0.2875 -0.68548 E">
                                      <p:cBhvr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30416 -0.675 E">
                                      <p:cBhvr>
                                        <p:cTn id="24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30416 -0.56389 E">
                                      <p:cBhvr>
                                        <p:cTn id="35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27917 -0.55278 E">
                                      <p:cBhvr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27917 -0.40833 E">
                                      <p:cBhvr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27084 -0.26389 E">
                                      <p:cBhvr>
                                        <p:cTn id="68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30416 -0.45278 E">
                                      <p:cBhvr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39685E-006 L -0.02084 -0.69658 E">
                                      <p:cBhvr>
                                        <p:cTn id="90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39685E-006 L -0.02084 -0.54116 E">
                                      <p:cBhvr>
                                        <p:cTn id="101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30416 -0.34167 E">
                                      <p:cBhvr>
                                        <p:cTn id="112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39685E-006 L -0.02084 -0.38575 E">
                                      <p:cBhvr>
                                        <p:cTn id="123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30416 -0.23055 E">
                                      <p:cBhvr>
                                        <p:cTn id="134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39685E-006 L 0.30416 -0.13043 E">
                                      <p:cBhvr>
                                        <p:cTn id="145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30416 -0.00833 E">
                                      <p:cBhvr>
                                        <p:cTn id="156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magine you ar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K:\илья\0_5e81_704cb326_XL.jpg"/>
          <p:cNvPicPr/>
          <p:nvPr/>
        </p:nvPicPr>
        <p:blipFill>
          <a:blip r:embed="rId1"/>
          <a:stretch/>
        </p:blipFill>
        <p:spPr>
          <a:xfrm>
            <a:off x="2057400" y="762120"/>
            <a:ext cx="4521240" cy="6095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K:\илья\31.jpg"/>
          <p:cNvPicPr/>
          <p:nvPr/>
        </p:nvPicPr>
        <p:blipFill>
          <a:blip r:embed="rId2"/>
          <a:stretch/>
        </p:blipFill>
        <p:spPr>
          <a:xfrm>
            <a:off x="3124080" y="880920"/>
            <a:ext cx="2293920" cy="5977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K:\илья\j0409335.jpg"/>
          <p:cNvPicPr/>
          <p:nvPr/>
        </p:nvPicPr>
        <p:blipFill>
          <a:blip r:embed="rId3"/>
          <a:stretch/>
        </p:blipFill>
        <p:spPr>
          <a:xfrm>
            <a:off x="380880" y="838080"/>
            <a:ext cx="8452080" cy="563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K:\илья\sportsinstructor_large.jpg"/>
          <p:cNvPicPr/>
          <p:nvPr/>
        </p:nvPicPr>
        <p:blipFill>
          <a:blip r:embed="rId4"/>
          <a:srcRect l="0" t="17964" r="0" b="0"/>
          <a:stretch/>
        </p:blipFill>
        <p:spPr>
          <a:xfrm>
            <a:off x="1752480" y="838080"/>
            <a:ext cx="4876920" cy="603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K:\илья\219388.jpg"/>
          <p:cNvPicPr/>
          <p:nvPr/>
        </p:nvPicPr>
        <p:blipFill>
          <a:blip r:embed="rId5"/>
          <a:stretch/>
        </p:blipFill>
        <p:spPr>
          <a:xfrm>
            <a:off x="228600" y="990720"/>
            <a:ext cx="8456760" cy="5586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K:\илья\1010.jpg"/>
          <p:cNvPicPr/>
          <p:nvPr/>
        </p:nvPicPr>
        <p:blipFill>
          <a:blip r:embed="rId6"/>
          <a:stretch/>
        </p:blipFill>
        <p:spPr>
          <a:xfrm>
            <a:off x="1523880" y="998640"/>
            <a:ext cx="586764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7037E-007 L -0.00034 0.26921 E">
                                      <p:cBhvr>
                                        <p:cTn id="185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38080" y="465624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y, you are looking for a job and name your occup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838080" y="57913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k if the employer has a vaca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838080" y="272736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y, you have a lot of vaca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838080" y="3362400"/>
            <a:ext cx="55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k about the employee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6019920" y="2895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) skil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6019920" y="33526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) abilit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5867280" y="3429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a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838080" y="4572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y, weather you accept the employee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838080" y="1592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ress that you are glad to hear th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838080" y="4013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swer the employer’s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6023520" y="380988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304920" y="27432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304920" y="16002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304920" y="4572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304920" y="33526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304920" y="3962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304920" y="46483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304920" y="5715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3"/>
          <p:cNvSpPr/>
          <p:nvPr/>
        </p:nvSpPr>
        <p:spPr>
          <a:xfrm>
            <a:off x="533520" y="304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4"/>
          <p:cNvSpPr/>
          <p:nvPr/>
        </p:nvSpPr>
        <p:spPr>
          <a:xfrm>
            <a:off x="533520" y="27432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5"/>
          <p:cNvSpPr/>
          <p:nvPr/>
        </p:nvSpPr>
        <p:spPr>
          <a:xfrm>
            <a:off x="533520" y="17226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6"/>
          <p:cNvSpPr/>
          <p:nvPr/>
        </p:nvSpPr>
        <p:spPr>
          <a:xfrm>
            <a:off x="533520" y="231624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7"/>
          <p:cNvSpPr/>
          <p:nvPr/>
        </p:nvSpPr>
        <p:spPr>
          <a:xfrm>
            <a:off x="533520" y="4419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8"/>
          <p:cNvSpPr/>
          <p:nvPr/>
        </p:nvSpPr>
        <p:spPr>
          <a:xfrm>
            <a:off x="533520" y="51814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92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192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192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192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92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192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192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192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92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192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192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192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92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192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3" dur="192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5" dur="192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92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192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2" dur="192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4" dur="192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92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192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1" dur="192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3" dur="192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92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192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0" dur="192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2" dur="192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0.00416 -0.6463 E">
                                      <p:cBhvr>
                                        <p:cTn id="357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7.40741E-007 L -0.00417 0.63518 E">
                                      <p:cBhvr>
                                        <p:cTn id="365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83 -0.03403 L -0.02083 0.5993 E">
                                      <p:cBhvr>
                                        <p:cTn id="36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6296E-006 L 0.00416 -0.66482 E">
                                      <p:cBhvr>
                                        <p:cTn id="371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4.07407E-006 L -0.00417 0.61296 E">
                                      <p:cBhvr>
                                        <p:cTn id="379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00417 0.62523 E">
                                      <p:cBhvr>
                                        <p:cTn id="381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0.03287 L -3.33333E-006 -0.12963 E">
                                      <p:cBhvr>
                                        <p:cTn id="385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57639 L 0.00416 0.11157 E">
                                      <p:cBhvr>
                                        <p:cTn id="395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-0.0033 -0.07731 E">
                                      <p:cBhvr>
                                        <p:cTn id="405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L -0.00417 -0.07731 E">
                                      <p:cBhvr>
                                        <p:cTn id="413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3.33333E-006 L -3.33333E-006 0.07037 E">
                                      <p:cBhvr>
                                        <p:cTn id="417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84 0.5993 L -0.00417 0.6993 E">
                                      <p:cBhvr>
                                        <p:cTn id="42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L 0.07083 0.06713 E">
                                      <p:cBhvr>
                                        <p:cTn id="437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7"/>
          <p:cNvSpPr/>
          <p:nvPr/>
        </p:nvSpPr>
        <p:spPr>
          <a:xfrm>
            <a:off x="5715000" y="33577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) skil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5715000" y="45007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) qua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5715000" y="39290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) 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27"/>
          <p:cNvGrpSpPr/>
          <p:nvPr/>
        </p:nvGrpSpPr>
        <p:grpSpPr>
          <a:xfrm>
            <a:off x="266760" y="3352680"/>
            <a:ext cx="5813280" cy="586080"/>
            <a:chOff x="266760" y="3352680"/>
            <a:chExt cx="5813280" cy="586080"/>
          </a:xfrm>
        </p:grpSpPr>
        <p:sp>
          <p:nvSpPr>
            <p:cNvPr id="95" name="TextBox 6"/>
            <p:cNvSpPr/>
            <p:nvPr/>
          </p:nvSpPr>
          <p:spPr>
            <a:xfrm>
              <a:off x="533160" y="3357360"/>
              <a:ext cx="554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k about the employee’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14"/>
            <p:cNvSpPr/>
            <p:nvPr/>
          </p:nvSpPr>
          <p:spPr>
            <a:xfrm>
              <a:off x="266760" y="335268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2"/>
          <p:cNvGrpSpPr/>
          <p:nvPr/>
        </p:nvGrpSpPr>
        <p:grpSpPr>
          <a:xfrm>
            <a:off x="266760" y="1981080"/>
            <a:ext cx="7810560" cy="677520"/>
            <a:chOff x="266760" y="1981080"/>
            <a:chExt cx="7810560" cy="677520"/>
          </a:xfrm>
        </p:grpSpPr>
        <p:sp>
          <p:nvSpPr>
            <p:cNvPr id="98" name="TextBox 5"/>
            <p:cNvSpPr/>
            <p:nvPr/>
          </p:nvSpPr>
          <p:spPr>
            <a:xfrm>
              <a:off x="533160" y="2077200"/>
              <a:ext cx="754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y, you have a lot of vacancies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5"/>
            <p:cNvSpPr/>
            <p:nvPr/>
          </p:nvSpPr>
          <p:spPr>
            <a:xfrm>
              <a:off x="266760" y="198108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3"/>
          <p:cNvGrpSpPr/>
          <p:nvPr/>
        </p:nvGrpSpPr>
        <p:grpSpPr>
          <a:xfrm>
            <a:off x="266760" y="2717640"/>
            <a:ext cx="8572320" cy="606960"/>
            <a:chOff x="266760" y="2717640"/>
            <a:chExt cx="8572320" cy="606960"/>
          </a:xfrm>
        </p:grpSpPr>
        <p:sp>
          <p:nvSpPr>
            <p:cNvPr id="101" name="TextBox 10"/>
            <p:cNvSpPr/>
            <p:nvPr/>
          </p:nvSpPr>
          <p:spPr>
            <a:xfrm>
              <a:off x="533160" y="2717640"/>
              <a:ext cx="830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ress that you are glad to hear that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16"/>
            <p:cNvSpPr/>
            <p:nvPr/>
          </p:nvSpPr>
          <p:spPr>
            <a:xfrm>
              <a:off x="266760" y="274320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1"/>
          <p:cNvGrpSpPr/>
          <p:nvPr/>
        </p:nvGrpSpPr>
        <p:grpSpPr>
          <a:xfrm>
            <a:off x="266760" y="304920"/>
            <a:ext cx="7810560" cy="1714320"/>
            <a:chOff x="266760" y="304920"/>
            <a:chExt cx="7810560" cy="1714320"/>
          </a:xfrm>
        </p:grpSpPr>
        <p:sp>
          <p:nvSpPr>
            <p:cNvPr id="104" name="TextBox 4"/>
            <p:cNvSpPr/>
            <p:nvPr/>
          </p:nvSpPr>
          <p:spPr>
            <a:xfrm>
              <a:off x="533160" y="1437840"/>
              <a:ext cx="754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k if the employer has a vacancy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266760" y="304920"/>
              <a:ext cx="7810560" cy="1068840"/>
              <a:chOff x="266760" y="304920"/>
              <a:chExt cx="7810560" cy="1068840"/>
            </a:xfrm>
          </p:grpSpPr>
          <p:sp>
            <p:nvSpPr>
              <p:cNvPr id="106" name="TextBox 3"/>
              <p:cNvSpPr/>
              <p:nvPr/>
            </p:nvSpPr>
            <p:spPr>
              <a:xfrm>
                <a:off x="533160" y="304920"/>
                <a:ext cx="75441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y, you are looking for a job and name your occupation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7"/>
              <p:cNvSpPr/>
              <p:nvPr/>
            </p:nvSpPr>
            <p:spPr>
              <a:xfrm>
                <a:off x="266760" y="30492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Group 26"/>
          <p:cNvGrpSpPr/>
          <p:nvPr/>
        </p:nvGrpSpPr>
        <p:grpSpPr>
          <a:xfrm>
            <a:off x="266760" y="5715000"/>
            <a:ext cx="8267760" cy="1134360"/>
            <a:chOff x="266760" y="5715000"/>
            <a:chExt cx="8267760" cy="1134360"/>
          </a:xfrm>
        </p:grpSpPr>
        <p:sp>
          <p:nvSpPr>
            <p:cNvPr id="109" name="TextBox 9"/>
            <p:cNvSpPr/>
            <p:nvPr/>
          </p:nvSpPr>
          <p:spPr>
            <a:xfrm>
              <a:off x="533160" y="5780520"/>
              <a:ext cx="8001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y, weather you accept the employee or not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18"/>
            <p:cNvSpPr/>
            <p:nvPr/>
          </p:nvSpPr>
          <p:spPr>
            <a:xfrm>
              <a:off x="266760" y="571500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25"/>
          <p:cNvGrpSpPr/>
          <p:nvPr/>
        </p:nvGrpSpPr>
        <p:grpSpPr>
          <a:xfrm>
            <a:off x="266760" y="5105520"/>
            <a:ext cx="7810560" cy="616680"/>
            <a:chOff x="266760" y="5105520"/>
            <a:chExt cx="7810560" cy="616680"/>
          </a:xfrm>
        </p:grpSpPr>
        <p:sp>
          <p:nvSpPr>
            <p:cNvPr id="112" name="TextBox 11"/>
            <p:cNvSpPr/>
            <p:nvPr/>
          </p:nvSpPr>
          <p:spPr>
            <a:xfrm>
              <a:off x="533160" y="5140800"/>
              <a:ext cx="754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swer the employer’s questions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19"/>
            <p:cNvSpPr/>
            <p:nvPr/>
          </p:nvSpPr>
          <p:spPr>
            <a:xfrm>
              <a:off x="266760" y="510552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9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9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0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7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5" dur="25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8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8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Некрасовы</dc:creator>
  <dc:description/>
  <dc:language>en-US</dc:language>
  <cp:lastModifiedBy>пользователь</cp:lastModifiedBy>
  <dcterms:modified xsi:type="dcterms:W3CDTF">2009-11-20T20:25:21Z</dcterms:modified>
  <cp:revision>18</cp:revision>
  <dc:subject/>
  <dc:title>Slide 1</dc:title>
</cp:coreProperties>
</file>