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F71-727B-4FDB-AD58-615C9B72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38D-829F-482D-BB2E-2EA14293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6F1-D8DE-42F0-AF1A-6E89BAD0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4EF-E11B-40FA-8F24-3C190E83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8695-F27E-49CA-AAA2-12FDC1A0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7884-777A-4246-8263-99D216EA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B2B0-87DF-4D55-8D06-7ABDFD1B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4BE2-9606-4667-BF38-824C40BC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058E-ACC5-49B7-B697-4B393964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8405-B310-409D-BB4D-ABF604AE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1C15-BC90-46C4-B112-4ABC18EC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C61-236F-4DB1-9686-8B42F559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AD42-E153-4D1F-83DB-16091CDB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3FCB-874E-4F5E-AA86-E7072505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E8F0-A030-4A68-A130-7AF931BA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5C72-C7A4-436E-BAB5-97A6EF2E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603C-3A9E-40B2-93FB-777107C2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06CEC-D92B-44F2-949B-B618F19A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550C-A973-4852-9688-C9E228B6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F1F2-E4AA-4839-B742-D6E78CC7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D1BE-8740-4BF3-97DC-2416FE6E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914B-7D32-464D-9DAF-CF5087B5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BFC-0079-4A4D-A185-3445C983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B212-852D-4232-9765-C8683B3C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05229-C5B9-4EF4-8154-82602752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711C4-E79E-4217-B202-790C2F1C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1222-B68D-46D1-9B94-39E73927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D8D72-02C6-4C78-9FA1-ACACD56F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D89F-D48F-4120-8652-D89E822F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0221-608A-4311-9E0D-7476CBFD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C91C-5ECF-4C87-8697-50A95BFF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718BB-1281-4988-B062-14044209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6109-724A-4FB8-982E-BBC3184F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636-C7E6-44A5-9A6F-9D4114D9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433C-00D4-4AA4-A1E4-E26B66A4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E913A-6D81-4B92-B9F1-CC232E13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4C18-7130-4059-AAA0-CF4CF58D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5E3BA-4B14-47BB-A9B0-7630780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D31A3-F1D8-428A-84A9-7252038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FEF8-97FF-4EDF-B85B-C0AAC087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2A328-6C7D-478B-AF54-5B5E4451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4988-8B65-482D-9807-BA60969D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A4B9-8942-42B0-8126-5E24E224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5EB17-4BF0-4F1B-BAB4-11CFAC8A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995-E71B-4A2D-AF7F-C3A9C891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8EC23-E1B2-4B75-BC48-651B08E9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1D693-4B72-4D89-A369-DC5B5074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4B24C-A8EF-437C-BCC6-A2045967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A6F29-9140-47AB-89E0-D5946EAD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7BA48-40CF-407F-B0C7-4B65AE11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91E1-CE19-4650-A4B3-66CA6D7F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2C9AD-EE98-4E67-92DA-EFD06A1E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0B974-FE72-4194-86A0-D93719B4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572B4-FAA2-4CBB-ADE6-C300362C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8F139-84D1-455D-B23D-41025D23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BDF-C055-458A-8298-FD9F013E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69734-81D4-41BA-8435-64CCC611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674-CFBF-4CEF-B6B6-298B39C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AD0-D46D-4C36-9DA7-FAE978D7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652-3A2D-4603-8B16-15ADC5B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3BE4-0A34-4A6C-911C-099CD139DF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074F-9047-4CDF-BB02-1F1DD885BA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BD21-EF69-49DE-A63C-0F9A834508A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36B4-374D-442A-B489-27DE12F7AF7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E8DE-83E8-49AC-A319-02B1872679B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71f28"/>
                </a:solidFill>
                <a:latin typeface="Verdana"/>
              </a:rPr>
              <a:t>Детская служба примирения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9766f"/>
                </a:solidFill>
                <a:latin typeface="Verdana"/>
              </a:rPr>
              <a:t>цели, задачи, организация, деятель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874800" y="4797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ЗАЧЕМ ЭТО НУЖНО И КАК ОНО РАБОТАЕ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620280"/>
            <a:ext cx="8183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141b"/>
                </a:solidFill>
                <a:latin typeface="Verdana"/>
              </a:rPr>
              <a:t>Алгоритм создания ДСП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бота службы по разрешению конфликтов. Реклама ее рабо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влечение и отбор в службу подростков, по своим психологическим качествам пригодным к медиационной деятельности и имеющих к ней жела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учение подростков навыкам медиации по отрасл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ведение разнообразных программ примирения среди подростков и статистических груп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оздание «волонтерских ступеней» при развитии проект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75920"/>
            <a:ext cx="8183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0141b"/>
                </a:solidFill>
                <a:latin typeface="Verdana"/>
              </a:rPr>
              <a:t>Организация деятельности ДСП. </a:t>
            </a:r>
            <a:br>
              <a:rPr sz="2500"/>
            </a:br>
            <a:r>
              <a:rPr b="1" lang="ru-RU" sz="2500" spc="-1" strike="noStrike">
                <a:solidFill>
                  <a:srgbClr val="50141b"/>
                </a:solidFill>
                <a:latin typeface="Verdana"/>
              </a:rPr>
              <a:t>ЧТО ПОТРЕБУЕТСЯ КРОМЕ ЖЕЛАНИЯ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9640" y="1557360"/>
            <a:ext cx="8143920" cy="438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П по согласованию   с   администрацией   школы    предоставляется помещение для работы, а также возможность использовать иные ресурсы школ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айт школы  распространяет информацию о деятельности службы среди педагогов и школьник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П имеет право пользоваться услугами психолога, социального педагога и других специалистов школы по надоб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Администрация школы содействует службе примирения в организации взаимодействия с социальными службами и другими организация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одительская общественность может принимать участие в отдельных видах восстановительных программ по согласованию с другими участник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549360"/>
            <a:ext cx="8183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Работа службы со школьным сообществом. </a:t>
            </a:r>
            <a:br>
              <a:rPr sz="2900"/>
            </a:b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ЗНАЧЕНИЕ РАБОТЫ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62864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5000"/>
          </a:bodyPr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Урегулирование конфликтных ситуаций, перевод их из «острых» в «пассивные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Привлечение лидеров подростковых групп, в том числе экстремистского порядка, реорганизация этих групп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Привлечение детей и подростков  группы социального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казание поддержки: кураторство старших школьников над младшими, выпускников над школьник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496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50141b"/>
                </a:solidFill>
                <a:latin typeface="Verdana"/>
              </a:rPr>
              <a:t>ИЗ КОГО СОСТОИТ ДЕТСКАЯ СЛУЖБА ПРИМИРЕНИЯ?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1483920"/>
            <a:ext cx="8183520" cy="453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чащиеся 8-11 классов, прошедшие обучение проведению примирительных программ – «волонтеры-альфа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уководитель    службы:    социальный    педагог,    психолог    или    ин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дагогический работник, может быть выпускни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«Волонтеры – бета» (обучаются 2-й год) из 6-7 классов и «волонтеры- юниоры» из 4-5 классов, обучаются 1-й год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80600" y="765000"/>
            <a:ext cx="73026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141b"/>
                </a:solidFill>
                <a:latin typeface="Verdana"/>
              </a:rPr>
              <a:t>Порядок работы службы примирения</a:t>
            </a:r>
            <a:br>
              <a:rPr sz="25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3280" y="1196640"/>
            <a:ext cx="8183520" cy="482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 получает информацию о случаях от педагогов, учащихся, администрации школы, членов службы примир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    принимает   решение    о   возможности    примирительной    программы    в    каждом    конкретном    случае    самостоятель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имирительная программа начинается в случае согласия сторон на участие, при необходимости необходимо согласие родителей, согласование с ОВД. Переговоры с проводит руководитель СП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 самостоятельно определяет сроки и этапы проведения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езультаты фиксируются в примирительном догово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 осуществляет контроль над выполнением договора,   но   не  несет  ответственность   за   их выполн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и возникновении проблем в выполнении обязательств СП помогает сторонам осознать причины трудностей и пути их преодо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мария\Downloads\Новая папка (3)\19037_html_m3da0014d.jpg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61275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243c"/>
                </a:solidFill>
                <a:latin typeface="Verdana"/>
                <a:ea typeface="Verdana"/>
              </a:rPr>
              <a:t>                                                       </a:t>
            </a:r>
            <a:r>
              <a:rPr b="1" lang="ru-RU" sz="3600" spc="-1" strike="noStrike">
                <a:solidFill>
                  <a:srgbClr val="30243c"/>
                </a:solidFill>
                <a:latin typeface="Verdana"/>
                <a:ea typeface="Verdana"/>
              </a:rPr>
              <a:t>Состав ДСП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3" name="Содержимое 4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254" name="Стрелка вправо 5"/>
          <p:cNvSpPr/>
          <p:nvPr/>
        </p:nvSpPr>
        <p:spPr>
          <a:xfrm>
            <a:off x="2700360" y="3573360"/>
            <a:ext cx="2808360" cy="14292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Выгнутая вниз стрелка 6"/>
          <p:cNvSpPr/>
          <p:nvPr/>
        </p:nvSpPr>
        <p:spPr>
          <a:xfrm>
            <a:off x="684360" y="5516640"/>
            <a:ext cx="3816360" cy="504720"/>
          </a:xfrm>
          <a:custGeom>
            <a:avLst/>
            <a:gdLst>
              <a:gd name="textAreaLeft" fmla="*/ 906480 w 3816360"/>
              <a:gd name="textAreaRight" fmla="*/ 2846520 w 381636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64" hR="21600" stAng="10800000" swAng="-5400000"/>
                <a:lnTo>
                  <a:pt x="10979" y="21600"/>
                </a:lnTo>
                <a:arcTo wR="10264" hR="21600" stAng="5400000" swAng="-3688914"/>
                <a:lnTo>
                  <a:pt x="21274" y="5400"/>
                </a:lnTo>
                <a:lnTo>
                  <a:pt x="20886" y="0"/>
                </a:lnTo>
                <a:lnTo>
                  <a:pt x="19845" y="5400"/>
                </a:lnTo>
                <a:lnTo>
                  <a:pt x="20202" y="5400"/>
                </a:lnTo>
                <a:arcTo wR="10264" hR="21600" stAng="1711086" swAng="3631987"/>
                <a:lnTo>
                  <a:pt x="10621" y="21587"/>
                </a:lnTo>
                <a:arcTo wR="10264" hR="21600" stAng="5456927" swAng="5343073"/>
                <a:close/>
              </a:path>
              <a:path fill="darkenLess" w="21600" h="21600">
                <a:moveTo>
                  <a:pt x="0" y="0"/>
                </a:moveTo>
                <a:arcTo wR="10264" hR="21600" stAng="10800000" swAng="-5400000"/>
                <a:lnTo>
                  <a:pt x="10979" y="21600"/>
                </a:lnTo>
                <a:arcTo wR="10264" hR="21600" stAng="5400000" swAng="56927"/>
                <a:lnTo>
                  <a:pt x="10621" y="21587"/>
                </a:lnTo>
                <a:arcTo wR="10264" hR="21600" stAng="5456927" swAng="5343073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Выгнутая вниз стрелка 7"/>
          <p:cNvSpPr/>
          <p:nvPr/>
        </p:nvSpPr>
        <p:spPr>
          <a:xfrm>
            <a:off x="2916360" y="5516640"/>
            <a:ext cx="3744720" cy="504720"/>
          </a:xfrm>
          <a:custGeom>
            <a:avLst/>
            <a:gdLst>
              <a:gd name="textAreaLeft" fmla="*/ 888840 w 3744720"/>
              <a:gd name="textAreaRight" fmla="*/ 2792880 w 37447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54" hR="21600" stAng="10800000" swAng="-5400000"/>
                <a:lnTo>
                  <a:pt x="10982" y="21600"/>
                </a:lnTo>
                <a:arcTo wR="10254" hR="21600" stAng="5400000" swAng="-3687508"/>
                <a:lnTo>
                  <a:pt x="21274" y="5400"/>
                </a:lnTo>
                <a:lnTo>
                  <a:pt x="20872" y="0"/>
                </a:lnTo>
                <a:lnTo>
                  <a:pt x="19818" y="5400"/>
                </a:lnTo>
                <a:lnTo>
                  <a:pt x="20182" y="5400"/>
                </a:lnTo>
                <a:arcTo wR="10254" hR="21600" stAng="1712492" swAng="3629545"/>
                <a:lnTo>
                  <a:pt x="10618" y="21586"/>
                </a:lnTo>
                <a:arcTo wR="10254" hR="21600" stAng="5457963" swAng="5342037"/>
                <a:close/>
              </a:path>
              <a:path fill="darkenLess" w="21600" h="21600">
                <a:moveTo>
                  <a:pt x="0" y="0"/>
                </a:moveTo>
                <a:arcTo wR="10254" hR="21600" stAng="10800000" swAng="-5400000"/>
                <a:lnTo>
                  <a:pt x="10982" y="21600"/>
                </a:lnTo>
                <a:arcTo wR="10254" hR="21600" stAng="5400000" swAng="57963"/>
                <a:lnTo>
                  <a:pt x="10618" y="21586"/>
                </a:lnTo>
                <a:arcTo wR="10254" hR="21600" stAng="5457963" swAng="5342037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Типы программ. КОНФЕРЕНЦИЯ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1557360"/>
            <a:ext cx="8215200" cy="438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5000"/>
          </a:bodyPr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едназначена для нормализации отношений внутри большой статистической группы (класса, кружка, команды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еализуется путем проведения в коллективе социоориентированной дискуссии по поводу сложившейся ситуации с анализом предпосылок к н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авлена на устранение причин конфликта, а не его последств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317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Типы программ. ЦЕЛЕВАЯ МЕДИАЦИЯ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000" y="112500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Восстановительный процесс по образцу социо-психологического тренинга между двумя сторонами и их доверителя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ковы последствия криминальной или конфликтной ситуации для ОБЕИХ сторон, и какие чувства они 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ытывают по поводу случившегося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кими средствами и инструментами данная ситуация может быть разрешена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к сделать так, чтобы она не повторилась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317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Типы программ. ОБЩИЕ ПРИНЦИПЫ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2" name="Содержимое 3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8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69192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141b"/>
                </a:solidFill>
                <a:latin typeface="Verdana"/>
              </a:rPr>
              <a:t>Процессы криминализации и маргинализации в школе сейчас очень сильны!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42920" y="1827360"/>
            <a:ext cx="7640640" cy="46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своение подростками криминальной культуры (языка, принципов, отношений, статус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чины: 1). подросток не может позитивным путем удовлетворить свои потребности в безопасности, признании и самореализаци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). Стремление подростков объединяться в группы, которым свойственна отгороженность от внешнего мир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). Процесс отторжения некоторых подростков (маргиналы - категория учащихся, которая желает получить более высокий статус (аутсайдеры, изгои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317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Типы программ. </a:t>
            </a:r>
            <a:br>
              <a:rPr sz="2900"/>
            </a:b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ЦЕЛЕВАЯ МЕДИАЦИЯ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1125360"/>
            <a:ext cx="8640720" cy="5732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интересы сторон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их потребности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чувства, возникшие у них в связи с произошедшей ситуацией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озможность возмещения ущерба самим нарушителем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способы предупреждения подобных ситуаций в будущем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то, каким образом сообщество может в дальнейшем участвовать в судьбе сторон конфликт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Типы программ. КРУГ ЗАБОТЫ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4920" y="1557360"/>
            <a:ext cx="8280360" cy="438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 Narrow"/>
              </a:rPr>
              <a:t>Проводится в случае угрозы социального сиротства, а так же ситуаций проживания утраты, насилия,  травли, игнорирования, психологического давл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Создается круг людей, которые могут оказать ребенку поддержку, распределяется ответственность между ни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Составляется реабилитационная программ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роводится вводная медиация с участием всех включенных в процесс сторон, медиации повторяются не реже 1 раза в месяц, пока не появится устойчиво-позитивная динамика в урегулировании ситуаци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3" descr=""/>
          <p:cNvPicPr/>
          <p:nvPr/>
        </p:nvPicPr>
        <p:blipFill>
          <a:blip r:embed="rId1"/>
          <a:stretch/>
        </p:blipFill>
        <p:spPr>
          <a:xfrm>
            <a:off x="171360" y="-23760"/>
            <a:ext cx="897912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3" descr=""/>
          <p:cNvPicPr/>
          <p:nvPr/>
        </p:nvPicPr>
        <p:blipFill>
          <a:blip r:embed="rId1"/>
          <a:stretch/>
        </p:blipFill>
        <p:spPr>
          <a:xfrm>
            <a:off x="-6480" y="-23760"/>
            <a:ext cx="932652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01320"/>
            <a:ext cx="81439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365a"/>
                </a:solidFill>
                <a:latin typeface="Verdana"/>
              </a:rPr>
              <a:t>ЧЕМ ЕЩЕ ЗАНИМАЕТСЯ СЛУЖБА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26828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паганда законопослушного поведения  и знания законов РФ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Пропаганда ЗОЖ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Пропаганда различных форм разрешения межличностных конфликт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ропаганда корректных детско-родительских отношени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 Пропаганда тесного общения людей разных поколени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Пропаганда этнотолерантного отношения к люд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620280"/>
            <a:ext cx="7313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300" spc="-1" strike="noStrike">
                <a:solidFill>
                  <a:srgbClr val="48365a"/>
                </a:solidFill>
                <a:latin typeface="Verdana"/>
              </a:rPr>
              <a:t>ИЗ ПЕРСОНАЛЬНЫХ РЕФЛЕКСИЙ  МЕДИАТОРОВ И УЧАСТНИКОВ ПРОГРАММ:</a:t>
            </a: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484000" y="1628640"/>
            <a:ext cx="6480360" cy="1368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Я НАУЧИЛАСЬ  СМОТРЕТЬ НА  СОБЫТИЯ  МИМ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ОЗОВЫХ И ЧЕРНЫХ ОЧКОВ…  ЖИЗНЬ  СЛОЖНЕ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ЧЕМ КАЖЕТСЯ!  И ЗАМЕТИЛА, ЧТО Я САМА СОВСЕМ 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ДЕАЛЬНАЯ ЛИЧНОСТЬ, МНОГО ЧТО ДЕЛАЮ НЕ ТАК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http://cs417019.vk.me/v417019440/1014/1ACHsMMj_dY.jpg"/>
          <p:cNvPicPr/>
          <p:nvPr/>
        </p:nvPicPr>
        <p:blipFill>
          <a:blip r:embed="rId1"/>
          <a:stretch/>
        </p:blipFill>
        <p:spPr>
          <a:xfrm>
            <a:off x="611280" y="1700280"/>
            <a:ext cx="1657080" cy="1243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http://cs402128.vk.me/v402128669/877d/Zggew9yTQdc.jpg"/>
          <p:cNvPicPr/>
          <p:nvPr/>
        </p:nvPicPr>
        <p:blipFill>
          <a:blip r:embed="rId2"/>
          <a:stretch/>
        </p:blipFill>
        <p:spPr>
          <a:xfrm>
            <a:off x="6516720" y="3068640"/>
            <a:ext cx="2158920" cy="1620720"/>
          </a:xfrm>
          <a:prstGeom prst="rect">
            <a:avLst/>
          </a:prstGeom>
          <a:ln w="0">
            <a:noFill/>
          </a:ln>
        </p:spPr>
      </p:pic>
      <p:sp>
        <p:nvSpPr>
          <p:cNvPr id="275" name="Содержимое 2"/>
          <p:cNvSpPr/>
          <p:nvPr/>
        </p:nvSpPr>
        <p:spPr>
          <a:xfrm>
            <a:off x="539640" y="3141720"/>
            <a:ext cx="5904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ВООБЩЕ ОТВЕЧАТЬ ЗА ДРУГИХ ЛЮДЕЙ ОКАЗЫВАЕТ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ТАК ТРУДНО!  БОИШЬСЯ ЗА НИХ БОЛЬШЕ, ЧЕМ ЗА СЕБ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ОСОБЕННО, КОГДА ВСЕ  КАК-ТО УЖЕ  НАЧИНАЕТ  У Н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ВЫПРАВЛЯТЬСЯ!  ХОДИШЬ, ДУМАЕШЬ: «ТОЛЬКО БЫ 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4d26"/>
                </a:solidFill>
                <a:latin typeface="Arial Narrow"/>
              </a:rPr>
              <a:t>СОРВАЛИСЬ!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6" descr="http://cs317817.vk.me/v317817224/60e2/XObCMWyleUY.jpg"/>
          <p:cNvPicPr/>
          <p:nvPr/>
        </p:nvPicPr>
        <p:blipFill>
          <a:blip r:embed="rId3"/>
          <a:stretch/>
        </p:blipFill>
        <p:spPr>
          <a:xfrm>
            <a:off x="611280" y="4941720"/>
            <a:ext cx="1328760" cy="1770120"/>
          </a:xfrm>
          <a:prstGeom prst="rect">
            <a:avLst/>
          </a:prstGeom>
          <a:ln w="0">
            <a:noFill/>
          </a:ln>
        </p:spPr>
      </p:pic>
      <p:sp>
        <p:nvSpPr>
          <p:cNvPr id="277" name="Содержимое 2"/>
          <p:cNvSpPr/>
          <p:nvPr/>
        </p:nvSpPr>
        <p:spPr>
          <a:xfrm>
            <a:off x="2050920" y="4797360"/>
            <a:ext cx="66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СЛИ БЫ ТОГДА В НАШИ С Т.М. ДЕЛА ВЛЕЗЛИ УЧИТЕЛ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ОДИТЕЛИ ТАМ, ТОЧНО МЫ БЫ  УЖЕ ВРАГАМИ  СТАЛИ НА ВС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ЖИЗНЬ, У ВЗРОСЛЫХ ЖЕ СВОИ  ПРАВИЛА… А  ТУТ НАШУ ССОР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ЗРУЛИЛИ  ПО ДЕЛУ, ВСЕ  ПРАВИЛЬНО СКАЗАЛИ, ЧТО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«ВОЗДУХ  ДЕЛИМ», ССОРИМСЯ ПО ВСЯКОЙ ЕРУНД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549000"/>
            <a:ext cx="8183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50141b"/>
                </a:solidFill>
                <a:latin typeface="Verdana"/>
                <a:ea typeface="Verdana"/>
              </a:rPr>
              <a:t>Продолжительность и последствия  любого конфликта между подростками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4360" y="148392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прессивные реакции обеих сторон – 2 д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Устойчивое личное противостояние – 4 д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овлечение в конфликт близкого окружения – 6 дне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«Разборки» в т.ч. с применением силы – на 7-8 ден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Раскол статистического коллектива – на 8-9 ден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Соревновательный эффект в отношениях «коллективов-осколков» - около 15 дне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идание конфликту статуса «причины» для будущих противостояний – по истечении 2-х недел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Обоснованный отказ от сотрудничества – далее всегда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137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0141b"/>
                </a:solidFill>
                <a:latin typeface="Verdana"/>
                <a:ea typeface="Verdana"/>
              </a:rPr>
              <a:t>Причины демонстративно-негативного, конфликтообразующего поведения у подростков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000" y="1628640"/>
            <a:ext cx="8496360" cy="511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тремление завоевать статус и его финансовое обеспечение  в школе путем противоправных действий (родители не могут защитить и финансово обеспечить)- привычка «легких денег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озможность повысить авторитет определенной категории подрост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да на правонарушение как некое испыта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пособ разрешения собственных проблем без участия взрослых и принятия более справедливого реш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Тактика разрушения связей является предметов активной социальной пропаган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75920"/>
            <a:ext cx="8183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Детская служба примирения (ДСП)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9640" y="1628640"/>
            <a:ext cx="8064720" cy="4680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руппа подростков с руководителем- взрослым (педагог, родитель, выпускник – у нас педагог), организационно вписывающаяся в структуру школ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Целью ее деятельности является содействие профилактике правонарушений и социальной реабилитации участников конфликтных и криминальных ситуаций на основе принципов примиряющего и восстановительного общественного правосуд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404280"/>
            <a:ext cx="7313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0141b"/>
                </a:solidFill>
                <a:latin typeface="Verdana"/>
              </a:rPr>
              <a:t>Детская служба примирения (ДСП)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4" descr="http://cs407925.vk.me/v407925044/8be3/YbQbVNCX2ZU.jpg"/>
          <p:cNvPicPr/>
          <p:nvPr/>
        </p:nvPicPr>
        <p:blipFill>
          <a:blip r:embed="rId1"/>
          <a:stretch/>
        </p:blipFill>
        <p:spPr>
          <a:xfrm>
            <a:off x="468360" y="1341360"/>
            <a:ext cx="8015400" cy="5183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2843280" y="3213000"/>
            <a:ext cx="46080" cy="716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Овал 6"/>
          <p:cNvSpPr/>
          <p:nvPr/>
        </p:nvSpPr>
        <p:spPr>
          <a:xfrm>
            <a:off x="3492360" y="3068640"/>
            <a:ext cx="1511280" cy="647640"/>
          </a:xfrm>
          <a:prstGeom prst="ellipse">
            <a:avLst/>
          </a:prstGeom>
          <a:solidFill>
            <a:srgbClr val="771f2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620640"/>
            <a:ext cx="8183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141b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50141b"/>
                </a:solidFill>
                <a:latin typeface="Verdana"/>
              </a:rPr>
              <a:t>ОСНОВНЫЕ  ЗАДАЧИ  ДСП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28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ведение восстановительных программ по зафиксированным обращениям и в ситуациях, носящих потенциально  криминальный характер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учение школьников методам урегулирования конфликтов некриминальными неконфликтными способа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620640"/>
            <a:ext cx="8183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141b"/>
                </a:solidFill>
                <a:latin typeface="Verdana"/>
              </a:rPr>
              <a:t>Принципы деятельности ДСП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000" y="1628640"/>
            <a:ext cx="8496360" cy="4313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«Принцип добровольности» (добровольное участие медиаторов в проекте, обязательное согласие сторон, вовлеченных в конфликт и их доверителей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«Принцип конфиденциальности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«Принцип нейтральности» (ШСП не выясняет вопрос о виновности/невиновности сторон, является независимым посредником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141b"/>
                </a:solidFill>
                <a:latin typeface="Verdana"/>
              </a:rPr>
              <a:t>Алгоритм создания ДСП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628280"/>
            <a:ext cx="8215200" cy="504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ведение обучающих семинаров для команды специалистов – психолога, социального педагог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Разработка, утверждения положения и пакета документ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ведение обучающих программ примирения, тренинг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ведение информационных встреч с подростками  о внедрении новой службы. Проект «ТЫ и ТВОЙ МИР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2:01:07Z</dcterms:created>
  <dc:creator>Газизова</dc:creator>
  <dc:description/>
  <dc:language>en-US</dc:language>
  <cp:lastModifiedBy>мария</cp:lastModifiedBy>
  <dcterms:modified xsi:type="dcterms:W3CDTF">2013-03-20T22:03:48Z</dcterms:modified>
  <cp:revision>18</cp:revision>
  <dc:subject/>
  <dc:title>Школьные службы примирения</dc:title>
</cp:coreProperties>
</file>