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D5C-38F8-41CD-B366-27FE3102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735-2AC2-44DA-8344-261754F7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2B9-E9D5-4113-8B12-67D4C0B0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D0D-08EE-4375-8BD8-FF7D241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7D4-626C-4EB4-AEB6-8341DA0B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EBD2-BBC4-4E6F-ADBD-32A5AB88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B79-74B3-4BF8-851A-23EF2A0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DAC9-EBA4-49E6-8A9F-554753E9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6502-C944-4484-BA08-BADEFDA0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7518-CF2B-481E-ACF8-CEFF89A1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F8B7-2D0C-4869-A8AB-E7DE90F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222-6310-4E95-8815-A44350E5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1186-58FE-4F61-9F9F-BB4000B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9D7-6FDE-440E-9175-5A73C47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82CA-5682-4AA0-AEE2-7ECA6E4B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8FBB-55EB-4136-97BA-03B78E7D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4E6-B34B-46F6-8D1F-4F3FC801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7E3E-99C6-41C8-855B-3DA1431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0559-EA11-4049-952F-68B77BA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12ED-E41F-43EE-85A6-6D259357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BAD9-1333-4D34-89EE-22BC101A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8E39-E1F1-4DDF-96AC-7A9DA7FD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C84-114C-4659-B8FE-8B55DF4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EEE8-CBCB-402E-ADEF-DBF8E2F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F1F6-9B01-4850-8916-9F533C8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0D5A-019A-4F5D-B857-5103D07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7C83-161D-4212-8D97-DEA8F6C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C277-3454-40F4-907B-70CC2019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A5CD-B80A-4547-A659-E620869C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7648-0288-455D-BE8B-2EE4D657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C5E8-E549-437C-9CEA-84C6C45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EEB5-1988-4D76-AA69-F96FBE4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9E26-2D17-44E0-A458-CC8A4EF5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830-55F5-4C29-8FD4-3DD884F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DEF6-F357-4BF6-AB4B-77016FA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DAA8-A3A0-466C-BC0E-DFF6B19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BAA2-3076-45DF-A578-986319D8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6F6E-2F20-45EA-8F02-9AF2581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F362-C6B1-4559-AB13-26F068D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62A4-2124-4301-8B72-25146E1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734F-BC7D-44E4-B5E8-8D8D369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733E-E348-4E6B-BA5F-692FCA38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DA08-A5A6-482E-B68E-401D621D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DB68-4B9E-421C-B765-00E2F75E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A35-B076-44D6-A9F8-F7C631A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AEAA-4F17-409C-9A0C-D9AD569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E78C-6D8E-4972-A2B3-47BDCF77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11216-B742-499E-AF9B-F005646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39B2-69CB-4544-910A-8CD6B98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DD5F-23AF-4F4F-9E35-C461A1F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FBC0-E964-4EBE-AC4E-5EFB288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B19D-A8E4-45AB-9D79-7F78BA1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2582-C4E5-478A-899A-BDA281D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429A-530C-4CAA-89AC-A397A87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7928-35B8-4CE0-B767-BE075FAF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E2C-1729-4D02-85F8-AF863FD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7997-D0B7-4801-91F7-7228C463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CAB-1D90-4A57-8AF2-5315602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0FF-06AC-4D73-9E1D-354E9B7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A2D-64E1-4816-B67E-C8BDDC7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1E88-EE03-48F6-A8DE-0EA5363E77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518C-B9A5-440F-8371-24B29E34D2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031F-8ED2-433C-82DE-A7D9D3D7AF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9761-2FC2-4A11-BBB2-9B991662A3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0F5-C75E-4776-90FF-B058A80ABF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1f28"/>
                </a:solidFill>
                <a:latin typeface="Verdana"/>
              </a:rPr>
              <a:t>Детская служба примирения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9766f"/>
                </a:solidFill>
                <a:latin typeface="Verdana"/>
              </a:rPr>
              <a:t>цели, задачи, организация, деяте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874800" y="4797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ЗАЧЕМ ЭТО НУЖНО И КАК ОНО РАБОТА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141b"/>
                </a:solidFill>
                <a:latin typeface="Verdana"/>
              </a:rPr>
              <a:t>Алгоритм создания ДСП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бота службы по разрешению конфликтов. Реклама ее рабо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влечение и отбор в службу подростков, по своим психологическим качествам пригодным к медиационной деятельности и имеющих к ней жел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учение подростков навыкам медиации по отрас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разнообразных программ примирения среди подростков и статистических груп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оздание «волонтерских ступеней» при развитии проект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Организация деятельности ДСП. </a:t>
            </a:r>
            <a:br>
              <a:rPr sz="2500"/>
            </a:b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ЧТО ПОТРЕБУЕТСЯ КРОМЕ ЖЕЛАНИЯ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1557360"/>
            <a:ext cx="814392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П по согласованию   с   администрацией   школы    предоставляется помещение для работы, а также возможность использовать иные ресурсы школ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айт школы  распространяет информацию о деятельности службы среди педагогов и школьник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П имеет право пользоваться услугами психолога, социального педагога и других специалистов школы по надоб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Администрация школы содействует службе примирения в организации взаимодействия с социальными службами и другими организация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одительская общественность может принимать участие в отдельных видах восстановительных программ по согласованию с другими участник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54936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Работа службы со школьным сообществом. </a:t>
            </a:r>
            <a:br>
              <a:rPr sz="2900"/>
            </a:b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ЗНАЧЕНИЕ РАБОТ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Урегулирование конфликтных ситуаций, перевод их из «острых» в «пассивные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ривлечение лидеров подростковых групп, в том числе экстремистского порядка, реорганизация этих групп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ривлечение детей и подростков  группы социального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казание поддержки: кураторство старших школьников над младшими, выпускников над школьник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496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ИЗ КОГО СОСТОИТ ДЕТСКАЯ СЛУЖБА ПРИМИРЕНИЯ?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1483920"/>
            <a:ext cx="8183520" cy="453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чащиеся 8-11 классов, прошедшие обучение проведению примирительных программ – «волонтеры-альфа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уководитель    службы:    социальный    педагог,    психолог    или    и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дагогический работник, может быть выпускн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Волонтеры – бета» (обучаются 2-й год) из 6-7 классов и «волонтеры- юниоры» из 4-5 классов, обучаются 1-й го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80600" y="765000"/>
            <a:ext cx="73026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Порядок работы службы примирения</a:t>
            </a:r>
            <a:br>
              <a:rPr sz="25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119664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получает информацию о случаях от педагогов, учащихся, администрации школы, членов службы примир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   принимает   решение    о   возможности    примирительной    программы    в    каждом    конкретном    случае    самостоятель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мирительная программа начинается в случае согласия сторон на участие, при необходимости необходимо согласие родителей, согласование с ОВД. Переговоры с проводит руководитель С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самостоятельно определяет сроки и этапы провед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ультаты фиксируются в примирительном догов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осуществляет контроль над выполнением договора,   но   не  несет  ответственность   за   их выполн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 возникновении проблем в выполнении обязательств СП помогает сторонам осознать причины трудностей и пути их преодо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мария\Downloads\Новая папка (3)\19037_html_m3da0014d.jpg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61275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243c"/>
                </a:solidFill>
                <a:latin typeface="Verdana"/>
                <a:ea typeface="Verdana"/>
              </a:rPr>
              <a:t>                                                       </a:t>
            </a:r>
            <a:r>
              <a:rPr b="1" lang="ru-RU" sz="3600" spc="-1" strike="noStrike">
                <a:solidFill>
                  <a:srgbClr val="30243c"/>
                </a:solidFill>
                <a:latin typeface="Verdana"/>
                <a:ea typeface="Verdana"/>
              </a:rPr>
              <a:t>Состав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Содержимое 4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254" name="Стрелка вправо 5"/>
          <p:cNvSpPr/>
          <p:nvPr/>
        </p:nvSpPr>
        <p:spPr>
          <a:xfrm>
            <a:off x="2700360" y="3573360"/>
            <a:ext cx="2808360" cy="1429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Выгнутая вниз стрелка 6"/>
          <p:cNvSpPr/>
          <p:nvPr/>
        </p:nvSpPr>
        <p:spPr>
          <a:xfrm>
            <a:off x="684360" y="5516640"/>
            <a:ext cx="3816360" cy="504720"/>
          </a:xfrm>
          <a:custGeom>
            <a:avLst/>
            <a:gdLst>
              <a:gd name="textAreaLeft" fmla="*/ 906480 w 3816360"/>
              <a:gd name="textAreaRight" fmla="*/ 2846520 w 3816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64" hR="21600" stAng="10800000" swAng="-5400000"/>
                <a:lnTo>
                  <a:pt x="10979" y="21600"/>
                </a:lnTo>
                <a:arcTo wR="10264" hR="21600" stAng="5400000" swAng="-3688914"/>
                <a:lnTo>
                  <a:pt x="21274" y="5400"/>
                </a:lnTo>
                <a:lnTo>
                  <a:pt x="20886" y="0"/>
                </a:lnTo>
                <a:lnTo>
                  <a:pt x="19845" y="5400"/>
                </a:lnTo>
                <a:lnTo>
                  <a:pt x="20202" y="5400"/>
                </a:lnTo>
                <a:arcTo wR="10264" hR="21600" stAng="1711086" swAng="3631987"/>
                <a:lnTo>
                  <a:pt x="10621" y="21587"/>
                </a:lnTo>
                <a:arcTo wR="10264" hR="21600" stAng="5456927" swAng="5343073"/>
                <a:close/>
              </a:path>
              <a:path fill="darkenLess" w="21600" h="21600">
                <a:moveTo>
                  <a:pt x="0" y="0"/>
                </a:moveTo>
                <a:arcTo wR="10264" hR="21600" stAng="10800000" swAng="-5400000"/>
                <a:lnTo>
                  <a:pt x="10979" y="21600"/>
                </a:lnTo>
                <a:arcTo wR="10264" hR="21600" stAng="5400000" swAng="56927"/>
                <a:lnTo>
                  <a:pt x="10621" y="21587"/>
                </a:lnTo>
                <a:arcTo wR="10264" hR="21600" stAng="5456927" swAng="5343073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Выгнутая вниз стрелка 7"/>
          <p:cNvSpPr/>
          <p:nvPr/>
        </p:nvSpPr>
        <p:spPr>
          <a:xfrm>
            <a:off x="2916360" y="5516640"/>
            <a:ext cx="3744720" cy="504720"/>
          </a:xfrm>
          <a:custGeom>
            <a:avLst/>
            <a:gdLst>
              <a:gd name="textAreaLeft" fmla="*/ 888840 w 3744720"/>
              <a:gd name="textAreaRight" fmla="*/ 2792880 w 3744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54" hR="21600" stAng="10800000" swAng="-5400000"/>
                <a:lnTo>
                  <a:pt x="10982" y="21600"/>
                </a:lnTo>
                <a:arcTo wR="10254" hR="21600" stAng="5400000" swAng="-3687508"/>
                <a:lnTo>
                  <a:pt x="21274" y="5400"/>
                </a:lnTo>
                <a:lnTo>
                  <a:pt x="20872" y="0"/>
                </a:lnTo>
                <a:lnTo>
                  <a:pt x="19818" y="5400"/>
                </a:lnTo>
                <a:lnTo>
                  <a:pt x="20182" y="5400"/>
                </a:lnTo>
                <a:arcTo wR="10254" hR="21600" stAng="1712492" swAng="3629545"/>
                <a:lnTo>
                  <a:pt x="10618" y="21586"/>
                </a:lnTo>
                <a:arcTo wR="10254" hR="21600" stAng="5457963" swAng="5342037"/>
                <a:close/>
              </a:path>
              <a:path fill="darkenLess" w="21600" h="21600">
                <a:moveTo>
                  <a:pt x="0" y="0"/>
                </a:moveTo>
                <a:arcTo wR="10254" hR="21600" stAng="10800000" swAng="-5400000"/>
                <a:lnTo>
                  <a:pt x="10982" y="21600"/>
                </a:lnTo>
                <a:arcTo wR="10254" hR="21600" stAng="5400000" swAng="57963"/>
                <a:lnTo>
                  <a:pt x="10618" y="21586"/>
                </a:lnTo>
                <a:arcTo wR="10254" hR="21600" stAng="5457963" swAng="5342037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КОНФЕРЕНЦИЯ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557360"/>
            <a:ext cx="821520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едназначена для нормализации отношений внутри большой статистической группы (класса, кружка, команды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еализуется путем проведения в коллективе социоориентированной дискуссии по поводу сложившейся ситуации с анализом предпосылок к н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авлена на устранение причин конфликта, а не его последств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ЦЕЛЕВАЯ МЕДИАЦИЯ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000" y="1125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Восстановительный процесс по образцу социо-психологического тренинга между двумя сторонами и их доверителя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овы последствия криминальной или конфликтной ситуации для ОБЕИХ сторон, и какие чувства они 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ытывают по поводу случившегос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ими средствами и инструментами данная ситуация может быть разрешена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 сделать так, чтобы она не повторилась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Типы программ. ОБЩИЕ ПРИНЦИП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Содержимое 3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8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691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Процессы криминализации и маргинализации в школе сейчас очень сильны!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42920" y="1827360"/>
            <a:ext cx="7640640" cy="46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воение подростками криминальной культуры (языка, принципов, отношений, статус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чины: 1). подросток не может позитивным путем удовлетворить свои потребности в безопасности, признании и самореализац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). Стремление подростков объединяться в группы, которым свойственна отгороженность от внешнего мир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). Процесс отторжения некоторых подростков (маргиналы - категория учащихся, которая желает получить более высокий статус (аутсайдеры, изгои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</a:t>
            </a:r>
            <a:br>
              <a:rPr sz="2900"/>
            </a:b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ЦЕЛЕВАЯ МЕДИАЦИЯ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интересы сторон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их потребн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чувства, возникшие у них в связи с произошедшей ситуацией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озможность возмещения ущерба самим нарушител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способы предупреждения подобных ситуаций в будущ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то, каким образом сообщество может в дальнейшем участвовать в судьбе сторон конфлик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КРУГ ЗАБОТ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4920" y="1557360"/>
            <a:ext cx="828036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 Narrow"/>
              </a:rPr>
              <a:t>Проводится в случае угрозы социального сиротства, а так же ситуаций проживания утраты, насилия,  травли, игнорирования, психологического давл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оздается круг людей, которые могут оказать ребенку поддержку, распределяется ответственность между ни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оставляется реабилитационная програм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оводится вводная медиация с участием всех включенных в процесс сторон, медиации повторяются не реже 1 раза в месяц, пока не появится устойчиво-позитивная динамика в урегулировании ситуаци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3" descr=""/>
          <p:cNvPicPr/>
          <p:nvPr/>
        </p:nvPicPr>
        <p:blipFill>
          <a:blip r:embed="rId1"/>
          <a:stretch/>
        </p:blipFill>
        <p:spPr>
          <a:xfrm>
            <a:off x="171360" y="-23760"/>
            <a:ext cx="89791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3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93265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365a"/>
                </a:solidFill>
                <a:latin typeface="Verdana"/>
              </a:rPr>
              <a:t>ЧЕМ ЕЩЕ ЗАНИМАЕТСЯ СЛУЖБ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26828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паганда законопослушного поведения  и знания законов РФ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Пропаганда ЗОЖ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Пропаганда различных форм разрешения межличностных конфликт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ропаганда корректных детско-родительских отношени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 Пропаганда тесного общения людей разных поколени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Пропаганда этнотолерантного отношения к люд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620280"/>
            <a:ext cx="7313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300" spc="-1" strike="noStrike">
                <a:solidFill>
                  <a:srgbClr val="48365a"/>
                </a:solidFill>
                <a:latin typeface="Verdana"/>
              </a:rPr>
              <a:t>ИЗ ПЕРСОНАЛЬНЫХ РЕФЛЕКСИЙ  МЕДИАТОРОВ И УЧАСТНИКОВ ПРОГРАММ: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484000" y="1628640"/>
            <a:ext cx="6480360" cy="136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Я НАУЧИЛАСЬ  СМОТРЕТЬ НА  СОБЫТИЯ  МИМ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ОЗОВЫХ И ЧЕРНЫХ ОЧКОВ…  ЖИЗНЬ  СЛОЖНЕ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ЕМ КАЖЕТСЯ!  И ЗАМЕТИЛА, ЧТО Я САМА СОВСЕМ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ДЕАЛЬНАЯ ЛИЧНОСТЬ, МНОГО ЧТО ДЕЛАЮ НЕ ТАК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http://cs417019.vk.me/v417019440/1014/1ACHsMMj_dY.jpg"/>
          <p:cNvPicPr/>
          <p:nvPr/>
        </p:nvPicPr>
        <p:blipFill>
          <a:blip r:embed="rId1"/>
          <a:stretch/>
        </p:blipFill>
        <p:spPr>
          <a:xfrm>
            <a:off x="611280" y="170028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cs402128.vk.me/v402128669/877d/Zggew9yTQdc.jpg"/>
          <p:cNvPicPr/>
          <p:nvPr/>
        </p:nvPicPr>
        <p:blipFill>
          <a:blip r:embed="rId2"/>
          <a:stretch/>
        </p:blipFill>
        <p:spPr>
          <a:xfrm>
            <a:off x="6516720" y="3068640"/>
            <a:ext cx="2158920" cy="1620720"/>
          </a:xfrm>
          <a:prstGeom prst="rect">
            <a:avLst/>
          </a:prstGeom>
          <a:ln w="0">
            <a:noFill/>
          </a:ln>
        </p:spPr>
      </p:pic>
      <p:sp>
        <p:nvSpPr>
          <p:cNvPr id="275" name="Содержимое 2"/>
          <p:cNvSpPr/>
          <p:nvPr/>
        </p:nvSpPr>
        <p:spPr>
          <a:xfrm>
            <a:off x="539640" y="3141720"/>
            <a:ext cx="590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ВООБЩЕ ОТВЕЧАТЬ ЗА ДРУГИХ ЛЮДЕЙ ОКАЗЫВАЕ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ТАК ТРУДНО!  БОИШЬСЯ ЗА НИХ БОЛЬШЕ, ЧЕМ ЗА СЕБ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ОСОБЕННО, КОГДА ВСЕ  КАК-ТО УЖЕ  НАЧИНАЕТ  У Н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ВЫПРАВЛЯТЬСЯ!  ХОДИШЬ, ДУМАЕШЬ: «ТОЛЬКО БЫ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СОРВАЛИСЬ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6" descr="http://cs317817.vk.me/v317817224/60e2/XObCMWyleUY.jpg"/>
          <p:cNvPicPr/>
          <p:nvPr/>
        </p:nvPicPr>
        <p:blipFill>
          <a:blip r:embed="rId3"/>
          <a:stretch/>
        </p:blipFill>
        <p:spPr>
          <a:xfrm>
            <a:off x="611280" y="4941720"/>
            <a:ext cx="1328760" cy="1770120"/>
          </a:xfrm>
          <a:prstGeom prst="rect">
            <a:avLst/>
          </a:prstGeom>
          <a:ln w="0">
            <a:noFill/>
          </a:ln>
        </p:spPr>
      </p:pic>
      <p:sp>
        <p:nvSpPr>
          <p:cNvPr id="277" name="Содержимое 2"/>
          <p:cNvSpPr/>
          <p:nvPr/>
        </p:nvSpPr>
        <p:spPr>
          <a:xfrm>
            <a:off x="2050920" y="4797360"/>
            <a:ext cx="66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СЛИ БЫ ТОГДА В НАШИ С Т.М. ДЕЛА ВЛЕЗЛИ УЧИТЕЛ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ОДИТЕЛИ ТАМ, ТОЧНО МЫ БЫ  УЖЕ ВРАГАМИ  СТАЛИ НА ВС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ИЗНЬ, У ВЗРОСЛЫХ ЖЕ СВОИ  ПРАВИЛА… А  ТУТ НАШУ ССОР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ЗРУЛИЛИ  ПО ДЕЛУ, ВСЕ  ПРАВИЛЬНО СКАЗАЛИ, ЧТ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«ВОЗДУХ  ДЕЛИМ», ССОРИМСЯ ПО ВСЯКОЙ ЕРУНД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50141b"/>
                </a:solidFill>
                <a:latin typeface="Verdana"/>
                <a:ea typeface="Verdana"/>
              </a:rPr>
              <a:t>Продолжительность и последствия  любого конфликта между подростками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прессивные реакции обеих сторон – 2 д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Устойчивое личное противостояние – 4 д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овлечение в конфликт близкого окружения – 6 дн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«Разборки» в т.ч. с применением силы – на 7-8 ден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аскол статистического коллектива – на 8-9 ден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ревновательный эффект в отношениях «коллективов-осколков» - около 15 дн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идание конфликту статуса «причины» для будущих противостояний – по истечении 2-х недел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Обоснованный отказ от сотрудничества – далее всегда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137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0141b"/>
                </a:solidFill>
                <a:latin typeface="Verdana"/>
                <a:ea typeface="Verdana"/>
              </a:rPr>
              <a:t>Причины демонстративно-негативного, конфликтообразующего поведения у подростков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628640"/>
            <a:ext cx="8496360" cy="511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ремление завоевать статус и его финансовое обеспечение  в школе путем противоправных действий (родители не могут защитить и финансово обеспечить)- привычка «легких денег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зможность повысить авторитет определенной категории подрост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да на правонарушение как некое испыта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особ разрешения собственных проблем без участия взрослых и принятия более справедливого ре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актика разрушения связей является предметов активной социальной пропаган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Детская служба примирения (ДСП)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62864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руппа подростков с руководителем- взрослым (педагог, родитель, выпускник – у нас педагог), организационно вписывающаяся в структуру школ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ю ее деятельности является содействие профилактике правонарушений и социальной реабилитации участников конфликтных и криминальных ситуаций на основе принципов примиряющего и восстановительного общественного правосуд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404280"/>
            <a:ext cx="7313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Детская служба примирения (ДСП)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4" descr="http://cs407925.vk.me/v407925044/8be3/YbQbVNCX2ZU.jpg"/>
          <p:cNvPicPr/>
          <p:nvPr/>
        </p:nvPicPr>
        <p:blipFill>
          <a:blip r:embed="rId1"/>
          <a:stretch/>
        </p:blipFill>
        <p:spPr>
          <a:xfrm>
            <a:off x="468360" y="1341360"/>
            <a:ext cx="8015400" cy="5183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843280" y="3213000"/>
            <a:ext cx="46080" cy="71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3492360" y="3068640"/>
            <a:ext cx="1511280" cy="647640"/>
          </a:xfrm>
          <a:prstGeom prst="ellipse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62064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ОСНОВНЫЕ  ЗАДАЧИ 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восстановительных программ по зафиксированным обращениям и в ситуациях, носящих потенциально  криминальный характе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учение школьников методам урегулирования конфликтов некриминальными неконфликтными способа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62064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Принципы деятельности ДС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1628640"/>
            <a:ext cx="8496360" cy="431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добровольности» (добровольное участие медиаторов в проекте, обязательное согласие сторон, вовлеченных в конфликт и их доверителей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конфиденциальности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нейтральности» (ШСП не выясняет вопрос о виновности/невиновности сторон, является независимым посредником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Алгоритм создания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62828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обучающих семинаров для команды специалистов – психолога, социального педаго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зработка, утверждения положения и пакета доку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обучающих программ примирения, тренинг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информационных встреч с подростками  о внедрении новой службы. Проект «ТЫ и ТВОЙ МИР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2:01:07Z</dcterms:created>
  <dc:creator>Газизова</dc:creator>
  <dc:description/>
  <dc:language>en-US</dc:language>
  <cp:lastModifiedBy>мария</cp:lastModifiedBy>
  <dcterms:modified xsi:type="dcterms:W3CDTF">2013-03-20T22:03:48Z</dcterms:modified>
  <cp:revision>18</cp:revision>
  <dc:subject/>
  <dc:title>Школьные службы примирения</dc:title>
</cp:coreProperties>
</file>