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FD94-D76E-403E-B15A-8FF86688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2A9B-9E4C-4B86-8B1D-93B3D95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A53D-76FD-44E6-A34E-1F16A3F4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DC3F-4986-43C9-A38B-0FAB65C7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BDE4-C22C-40D8-9AC7-D5917026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4686-8B69-4938-BF86-A9A15F58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8573-EF13-4511-BD5C-762AF9A2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AA12-4FBA-47F0-BC71-38FF6FC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9E76-C42D-4F04-8398-04C67DEF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09A3-B2D0-45B8-976A-9C52CBE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9478-2DAA-4683-9973-ABCD03C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86AA-3EFE-4A1D-A413-B79A2F41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5B6A-FAB0-42AD-B5C9-A4D2293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419F-5091-4A72-AB92-F621A8D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E9B9-7F41-4673-AC28-8A41F94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502-6D76-449B-AAE8-A357E634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9E32-093B-4B6A-8CE9-138C42DE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ADEC-FEE3-49FE-8BF4-702BCE0C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6C35-0CAA-45BB-8402-492DB231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9FE8-FDD0-4262-A23B-E4948689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3B80-0776-495E-A54A-3A5967F1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95DE-D2ED-4E93-A6FD-406D368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B2F1-5153-459F-A7BC-4975706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005C-CA9B-4C52-B596-F578DBB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93A7-0BB2-4D7B-92FF-5276F272FE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00"/>
                  </a:gs>
                  <a:gs pos="100000">
                    <a:srgbClr val="5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0000"/>
                  </a:gs>
                  <a:gs pos="100000">
                    <a:srgbClr val="5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e0000"/>
                </a:gs>
                <a:gs pos="100000">
                  <a:srgbClr val="5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5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00"/>
                  </a:gs>
                  <a:gs pos="100000">
                    <a:srgbClr val="5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0000"/>
                  </a:gs>
                  <a:gs pos="100000">
                    <a:srgbClr val="5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e0000"/>
                </a:gs>
                <a:gs pos="100000">
                  <a:srgbClr val="5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5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09BA-E214-497A-84FD-ADD7A2C143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rizgaloff-aleksey.narod.ru/pamjatnik4.html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Garamond"/>
              </a:rPr>
              <a:t>Фарид Яруллин 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позитор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арший лейтена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-4395960" y="3243960"/>
            <a:ext cx="12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Его пись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28760" y="4941720"/>
            <a:ext cx="828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зентацию выполнила Белянина Ксения ученица 7 «Н» клас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Из писем лейтенанта Ф. Яруллина: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В нашей победе не сомневайся " (из письма к жене 1943г.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.еду на фронт бить заклятого врага.(из письма к отцу 1941 г.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.Я бы желал лишь только одного – быть полезным Родине в ее борьбе против озверелого фашизма.(из письма к отцу 1942г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есто гиб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30_S_OERA_REKI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2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 flipH="1">
            <a:off x="1619280" y="260280"/>
            <a:ext cx="72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есто гибели Ф. Ярулли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Мемориал «Рыленки»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6" descr="1034614_original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5" name="Picture 4" descr="1034829_original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7" name="Picture 4" descr="1035159_original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1036029_original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416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036197_original"/>
          <p:cNvPicPr/>
          <p:nvPr/>
        </p:nvPicPr>
        <p:blipFill>
          <a:blip r:embed="rId2"/>
          <a:stretch/>
        </p:blipFill>
        <p:spPr>
          <a:xfrm>
            <a:off x="1116000" y="4653000"/>
            <a:ext cx="6985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1" name="Picture 4" descr="1037117_original"/>
          <p:cNvPicPr/>
          <p:nvPr/>
        </p:nvPicPr>
        <p:blipFill>
          <a:blip r:embed="rId1"/>
          <a:stretch/>
        </p:blipFill>
        <p:spPr>
          <a:xfrm>
            <a:off x="395280" y="115920"/>
            <a:ext cx="8497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Garamond"/>
              </a:rPr>
              <a:t>Соотечественники на месте захоронения</a:t>
            </a:r>
            <a:endParaRPr b="1" lang="en-US" sz="36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3" name="Picture 4" descr="000220_155878_Memorialnyj_kompleks_Rylenki"/>
          <p:cNvPicPr/>
          <p:nvPr/>
        </p:nvPicPr>
        <p:blipFill>
          <a:blip r:embed="rId1"/>
          <a:stretch/>
        </p:blipFill>
        <p:spPr>
          <a:xfrm>
            <a:off x="4788000" y="2133720"/>
            <a:ext cx="4032000" cy="4174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4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249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Место боёв сегодня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6" name="Picture 4" descr="3(2)"/>
          <p:cNvPicPr/>
          <p:nvPr/>
        </p:nvPicPr>
        <p:blipFill>
          <a:blip r:embed="rId1">
            <a:lum contrast="-16000"/>
          </a:blip>
          <a:stretch/>
        </p:blipFill>
        <p:spPr>
          <a:xfrm>
            <a:off x="250920" y="981000"/>
            <a:ext cx="5184720" cy="295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2(1)"/>
          <p:cNvPicPr/>
          <p:nvPr/>
        </p:nvPicPr>
        <p:blipFill>
          <a:blip r:embed="rId2"/>
          <a:stretch/>
        </p:blipFill>
        <p:spPr>
          <a:xfrm>
            <a:off x="4643280" y="3933720"/>
            <a:ext cx="4392720" cy="2808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5651640" y="949320"/>
            <a:ext cx="34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рытие автозаправочной станции компании «Татнефть» в Белорусии, где происходили ожесточённые бо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Цена войны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24000" y="1052640"/>
            <a:ext cx="8353440" cy="76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лоруссия - каждый четвёрт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тарстан- каждый втор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з Татарской республики на фронт было призвано более 700 тысяч бойцов. Количество погибших точно не было известно до самого последнего времени (обычно в печати давали 87 тысяч). Только недавно редакция “Книги памяти” Республики              Татарстан опубликовала цифру 350 тысяч – каждый второй призван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итель республики остался на полях сражений. Кроме того, 330 тысяч было ранено. Если учесть, что население республики составляло в 1940 году 1,9 млн.человек, то цена Победы для республики была неимоверно высо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5" descr="480904"/>
          <p:cNvPicPr/>
          <p:nvPr/>
        </p:nvPicPr>
        <p:blipFill>
          <a:blip r:embed="rId1"/>
          <a:stretch/>
        </p:blipFill>
        <p:spPr>
          <a:xfrm>
            <a:off x="4211640" y="0"/>
            <a:ext cx="4824360" cy="2852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_RF_2035"/>
          <p:cNvPicPr/>
          <p:nvPr/>
        </p:nvPicPr>
        <p:blipFill>
          <a:blip r:embed="rId2"/>
          <a:stretch/>
        </p:blipFill>
        <p:spPr>
          <a:xfrm>
            <a:off x="250920" y="404640"/>
            <a:ext cx="3673440" cy="295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_RF_1730"/>
          <p:cNvPicPr/>
          <p:nvPr/>
        </p:nvPicPr>
        <p:blipFill>
          <a:blip r:embed="rId3"/>
          <a:stretch/>
        </p:blipFill>
        <p:spPr>
          <a:xfrm>
            <a:off x="108000" y="3645000"/>
            <a:ext cx="4464000" cy="302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_RF_1764"/>
          <p:cNvPicPr/>
          <p:nvPr/>
        </p:nvPicPr>
        <p:blipFill>
          <a:blip r:embed="rId4"/>
          <a:stretch/>
        </p:blipFill>
        <p:spPr>
          <a:xfrm>
            <a:off x="4932360" y="3213000"/>
            <a:ext cx="4103640" cy="3240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«Балет «Шурале» - самое исполняемое произведение татарской национальной культуры</a:t>
            </a: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52" name="Picture 6" descr="shurale_350_auto"/>
          <p:cNvPicPr/>
          <p:nvPr/>
        </p:nvPicPr>
        <p:blipFill>
          <a:blip r:embed="rId1"/>
          <a:stretch/>
        </p:blipFill>
        <p:spPr>
          <a:xfrm>
            <a:off x="395280" y="1557360"/>
            <a:ext cx="4968720" cy="431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 flipH="1" flipV="1">
            <a:off x="6948360" y="5733360"/>
            <a:ext cx="392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724360" y="1628640"/>
            <a:ext cx="2664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атв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ит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х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захс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лб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онго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кра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лорусс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81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5922720"/>
            <a:ext cx="72216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933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цена из балета «Шурал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6" descr="shurale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Память потомков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48000" y="4292280"/>
            <a:ext cx="5338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на из улиц Казани носит имя Ф. Ярулл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сентябре 2005 года детской школе искусств города Мамадыша постановлением КМРТ присвоили имя композиторов Яруллиных ( Загидуллы, Фарида, Мирсаида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отив Детской школы искусств города Мамадыша установлен памятник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Ф.Яруллин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217" descr="Изображение 202"/>
          <p:cNvPicPr/>
          <p:nvPr/>
        </p:nvPicPr>
        <p:blipFill>
          <a:blip r:embed="rId2"/>
          <a:stretch/>
        </p:blipFill>
        <p:spPr>
          <a:xfrm>
            <a:off x="5580000" y="189000"/>
            <a:ext cx="3370320" cy="3698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21" descr="5_032"/>
          <p:cNvPicPr/>
          <p:nvPr/>
        </p:nvPicPr>
        <p:blipFill>
          <a:blip r:embed="rId3"/>
          <a:stretch/>
        </p:blipFill>
        <p:spPr>
          <a:xfrm>
            <a:off x="395280" y="1052640"/>
            <a:ext cx="3672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шат Низамиев «ЖЗК – Фарид Яруллин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.Хайруллина «Композиторы советского татарстан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шат Низамиев «Винтовка и песн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тарская газета «Татарстан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чные письма Фарида Ярул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-ресур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нига памяти Республики Татарст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2484360" y="17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Цель:</a:t>
            </a:r>
            <a:br>
              <a:rPr sz="4000"/>
            </a:b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исследовать последние годы жизни татарского композитора Фарида Яруллина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рать информацию о композито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личные письма Ф. Ярулл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ться с местами боевой славы, где погиб компози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ARULLIN_Farid_Zagidullovich_1"/>
          <p:cNvPicPr/>
          <p:nvPr/>
        </p:nvPicPr>
        <p:blipFill>
          <a:blip r:embed="rId1"/>
          <a:stretch/>
        </p:blipFill>
        <p:spPr>
          <a:xfrm>
            <a:off x="179280" y="115920"/>
            <a:ext cx="3870360" cy="4897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140360" y="1341360"/>
            <a:ext cx="4464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293"/>
                </a:solidFill>
                <a:latin typeface="Garamond"/>
              </a:rPr>
              <a:t>Фарид Яруллин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dfd293"/>
                </a:solidFill>
                <a:latin typeface="Garamond"/>
              </a:rPr>
              <a:t>основоположник татарского национального бале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187280" y="5516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Garamond"/>
              </a:rPr>
              <a:t>1914- 194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Жизненный путь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дился в Казани в 1914 год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ец известный татарский копозитор Загидулла Ярулл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0 – 33 годы- учёба в музыкальном техникуме в Каза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4-1939 годы –учёба в татарской оперной студии при Московской консерватории, во время которой много пишет для фортепиано, скрипки и виолончели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7-39 сочиняет балет «Шурале» по мотивам сказки Габдуллы Тукая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41 год 22 июня премьера балета «Шурале»…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8" name="Рисунок 215" descr="Н. Жиганов, Ф. Яруллин, А. Файзи с профессором Московской консерватории Г. И. Литинским. Москва, 1937 год"/>
          <p:cNvPicPr/>
          <p:nvPr/>
        </p:nvPicPr>
        <p:blipFill>
          <a:blip r:embed="rId1"/>
          <a:stretch/>
        </p:blipFill>
        <p:spPr>
          <a:xfrm>
            <a:off x="179280" y="189000"/>
            <a:ext cx="5113440" cy="5545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5940360" y="1844640"/>
            <a:ext cx="287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 Жиган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. Яруллин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 Файз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рофессором Московской консерватории  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Г. И. Литински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619280" y="5877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сква, 1937 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8137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Боевой путь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2" name="Picture 4" descr="4278"/>
          <p:cNvPicPr/>
          <p:nvPr/>
        </p:nvPicPr>
        <p:blipFill>
          <a:blip r:embed="rId1"/>
          <a:stretch/>
        </p:blipFill>
        <p:spPr>
          <a:xfrm>
            <a:off x="108000" y="333360"/>
            <a:ext cx="3240000" cy="4608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348000" y="1125360"/>
            <a:ext cx="55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4 июля 1941 года Ф.Яруллин добровольно становится солдатом Советской Арм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 месяца обучается в Ульяновском пехотном     училищ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сваивается звание лейтенан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ужит в  250-м стрелковом полку 82-й стрелковой дивизии в должности командира пулемётной рот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7 октября 1943 года погиб на территории Дубровинского района Витебской области Белорусс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хоронен в деревне Новая Тухин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41:41Z</dcterms:created>
  <dc:creator>1</dc:creator>
  <dc:description/>
  <dc:language>en-US</dc:language>
  <cp:lastModifiedBy>1</cp:lastModifiedBy>
  <dcterms:modified xsi:type="dcterms:W3CDTF">2013-02-24T17:29:41Z</dcterms:modified>
  <cp:revision>21</cp:revision>
  <dc:subject/>
  <dc:title>Фарид Яруллин </dc:title>
</cp:coreProperties>
</file>