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carbrake.wav" ContentType="audio/x-wav"/>
  <Override PartName="/ppt/media/image17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5.png" ContentType="image/png"/>
  <Override PartName="/ppt/media/applause.wav" ContentType="audio/x-wav"/>
  <Override PartName="/ppt/media/image33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18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48A-CE3F-4F2F-A991-A63D017F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9C9-1D34-49F1-A8BB-FE528711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17F-9F91-4E6F-8A21-ADB82983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75E-0495-42EE-93CE-60A01EE2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94C-E04C-4D65-8296-BFA84DB7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D08-F05F-4E93-8743-D73D95C6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D0A-3BDB-46E0-AC3D-7918215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5A4-21EF-4D50-902E-EC6ED6DA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586A-5804-47D4-8D63-3CE26A2F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8CE-D12C-4A1B-8E7F-B09314C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4A5D-AEA1-48C7-A199-8744C22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3B-4442-4530-A5EF-D80A742C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9A4B-5B59-4D98-A00D-EC44FF7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E4C-110C-4D0B-BED6-11C6849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1F48-4792-405C-9BE7-6082A6D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AD19-FCEE-49AB-99EA-31E9D0EA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6F90-EB70-43D4-96EF-C88CB66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814C-987E-4B22-AB7C-B9711F59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CB59-46ED-4A1A-BE95-4AC6DD6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3C9F-D6AE-4013-B29D-10F98AC4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5EF5-B006-4BB9-95BC-AD45AB5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57C7-4BFD-450B-A463-3BB2D16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CCE-1471-46AE-9724-0E7B4D41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DD77-91A7-4637-8F74-C993EFA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B15D-D14F-4A11-B57F-03D5F3B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A079-AE3A-4CDE-A520-50FEA30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38F3-7B4D-4CAF-8DDD-D51B4DDA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9BBC-BB97-4583-B586-540F692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4968-ED3A-4550-BBFA-838E63CB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9D64-6792-44C7-98A5-0C1E1F8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F6CB-4251-4A37-A35F-CA0819EE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D672-BAFF-4E95-97E8-88FF69A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4F16-1C7A-4587-94BA-EB5C5F1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EF-9B2D-44D4-97AC-74C971CE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7408-E178-4385-920B-E7922A9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C8B5-E4C2-4038-888D-A4AF76C7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2B0D-CCB8-4793-92A3-2524C63A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FCAB-560B-4C79-AAE8-4B5A88E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A36B-CC73-4A38-B48A-C619A97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F053-A945-42A3-B78D-E0EB5D8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110D-EE98-479A-B538-168CD2C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425BA-C0EC-458B-8A89-B82E138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5179-CB12-45C9-8CEA-6E68B583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6DF-B373-4112-95A3-7504943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0A1-DF40-4D75-8E19-CFF36F5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341-A72E-458A-ABA3-59A314D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F32-5A7B-4633-AB60-93C0B69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2BA-B188-400E-B065-6D752A7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721C-C02C-4491-B235-9779785E75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042-18FA-4757-9BB3-FAC46D8628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6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6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7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824-7894-492E-BDA8-9750DA1EED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746-724A-4BBA-B8CE-07966BD6E08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6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643120" y="85716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ФИЗИКА ЧЕЛОВЕЧЕСКОГО ОРГАНИЗ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ВЫПОЛНИ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Ученица 9  клас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Сергиенко Кс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Руководитель: учитель физики Даневич Н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7" name="Picture 10" descr="Витрувианский человек. Рисунок Леонардо да Винчи. Фото"/>
          <p:cNvPicPr/>
          <p:nvPr/>
        </p:nvPicPr>
        <p:blipFill>
          <a:blip r:embed="rId1"/>
          <a:stretch/>
        </p:blipFill>
        <p:spPr>
          <a:xfrm>
            <a:off x="0" y="2997360"/>
            <a:ext cx="3587760" cy="2690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ТЯЖЕСТИ, ВЕС, НЕВЕСОМ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илой тяжести называется сила, с которой любое тело притягивается Земл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Ускорение свободного падения для всех точек на поверхности Земли постоянно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=9,82 м/с</a:t>
            </a:r>
            <a:r>
              <a:rPr b="1" i="1" lang="ru-RU" sz="2400" spc="-1" strike="noStrike" baseline="30000">
                <a:solidFill>
                  <a:srgbClr val="2f1311"/>
                </a:solidFill>
                <a:latin typeface="Arial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995280" y="980640"/>
            <a:ext cx="362124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есом тела называется сила, с которой тело, действует на подставку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ли растягивает подвес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Хотя вес возникает в результате притяжения тела Землей, он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Е ВСЕГДА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равен силе тяжести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54764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Явление, при котором вес тела равен нулю называется невесомостью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В физиологии вес определяют как величину, пропорциональную силе, действующей со стороны жидкости в полукружных каналах внутреннего уха человека на нервные оконч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5029200" y="457200"/>
            <a:ext cx="3809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ание ускорения по сравнению с ускорением свободного падени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которое человек испытывает, находясь на Земле, называется перегрузкой. Большие перегрузки опасны для человека.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123640" y="6135840"/>
            <a:ext cx="29401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груз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4" name="Picture 8" descr="ves_peregr_primeri"/>
          <p:cNvPicPr/>
          <p:nvPr/>
        </p:nvPicPr>
        <p:blipFill>
          <a:blip r:embed="rId1"/>
          <a:stretch/>
        </p:blipFill>
        <p:spPr>
          <a:xfrm>
            <a:off x="1692360" y="189000"/>
            <a:ext cx="41720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Уже при ускорениях несколько больших, чем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, у человека нарушается зрение, и появляются галлюцинации. При перегрузках происходит замедление кровообращ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67080" y="3045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ускорении 5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, направленном вдоль тела в направлении ноги – голова, кровь утяжеляется настолько, что сердце не может гнать ее к голове. Человек испытывает ощущение «черной пелены» перед глазами и теряет созн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Если ускорение направлено в противоположную сторону (голова – ноги), перед глазами встает «красная пелена» и наступает потеря сознания от прилива крови к голов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791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Перегрузку в 10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человек  выдерживает не более 1 секунды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Возникновение перегрузок связывают со стартами космических кораблей,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при этом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космонавт испытывает перегрузки, равные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7 – 9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Большие перегрузки (до 10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) возникают при раскрытии парашюта, управляемом спуске космического аппарата, резком маневрировании на скоростном самолете, автомобильной аварии.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Методы борьбы с опасными перегрузками предложил  </a:t>
            </a:r>
            <a:br>
              <a:rPr sz="2200"/>
            </a:b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К.Э.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Циолковский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Один из них заключается в расположении тела космонавта так, чтобы ускорение было направлено перпендикулярно человеческо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му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тел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у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095880" y="3429000"/>
            <a:ext cx="27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горизонтальном положении тренированный человек способен переносить без вреда для здоровья нагрузку до  30</a:t>
            </a:r>
            <a:r>
              <a:rPr b="1" i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g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11" descr="16"/>
          <p:cNvPicPr/>
          <p:nvPr/>
        </p:nvPicPr>
        <p:blipFill>
          <a:blip r:embed="rId6"/>
          <a:stretch/>
        </p:blipFill>
        <p:spPr>
          <a:xfrm>
            <a:off x="6114960" y="0"/>
            <a:ext cx="277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НЕВЕСОМ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На практике в земных условиях состояние невесомости наблюдают: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а) при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иммерс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, т.е. погружен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тела в жидкость с плотностью, равной плотности тела. В этом случае вес тела уравновешивается архимедовой силой, тело становится «невесомым», приобретая способность свободно перемещаться в любом направлении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334120" y="2030400"/>
            <a:ext cx="3429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В невесомости у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человека наруш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етс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вестибуляр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ый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аппарат, зрени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е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кож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и мышеч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чувствительност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ь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ловек начинает такое ощущение,  как будто он падает или совершает полет вниз головой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1" descr="15"/>
          <p:cNvPicPr/>
          <p:nvPr/>
        </p:nvPicPr>
        <p:blipFill>
          <a:blip r:embed="rId3"/>
          <a:stretch/>
        </p:blipFill>
        <p:spPr>
          <a:xfrm>
            <a:off x="5940360" y="0"/>
            <a:ext cx="240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При невесомости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 происходит перераспределение массы циркулирующей крови: из нижней части тела она устремляется в верхнюю. Возрастающий поток крови к сердцу воспринимается нервными окончаниями, которые контролируют объем и давление крови; почки выделяют повышенное количество воды. Одновременно уменьшается чувство жажды, устанавливается отрицательный водный балан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286680" y="-27419400"/>
            <a:ext cx="360" cy="168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-114480" y="-10594800"/>
            <a:ext cx="91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264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6981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ще одно действие невесомости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сти и мышцы лишаются весовой нагру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есь характер двигательной активности приобретает новые черты: человек не ходит, а плавает в космическом корабле. Для перемещения как внутри корабля, так и вне его, большие преимущества приобретают руки, а не ног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ышцы начинают атрофироваться, меняется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Для того чтобы не допустить детринерованности, космонавты провод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ят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специальные комплексы тренировок.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9" name="Picture 6" descr="prod_60"/>
          <p:cNvPicPr/>
          <p:nvPr/>
        </p:nvPicPr>
        <p:blipFill>
          <a:blip r:embed="rId5"/>
          <a:stretch/>
        </p:blipFill>
        <p:spPr>
          <a:xfrm>
            <a:off x="6948360" y="260280"/>
            <a:ext cx="1908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УПРУГОСТИ И </a:t>
            </a:r>
            <a:br>
              <a:rPr sz="2600"/>
            </a:br>
            <a:r>
              <a:rPr b="0" lang="ru-RU" sz="2600" spc="-1" strike="noStrike">
                <a:solidFill>
                  <a:srgbClr val="f7d47d"/>
                </a:solidFill>
                <a:latin typeface="Arial"/>
                <a:ea typeface="Times New Roman"/>
              </a:rPr>
              <a:t>ОПОРНОДВИГАТЕЛЬНАЯ СИСТЕМА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Ходьба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в вертикальном положении обусловила ряд серьезных механических недостатков организма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Это возрастание нагрузок на позвоночник.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000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ля удержания мышц и обеспечения подвижности позвоночник человека приобрел сложную </a:t>
            </a:r>
            <a:r>
              <a:rPr b="1" i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образную форму, для поддержания которой, в свою очередь требуются большие нагрузки на мышцы и связки те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звоночник человека имеет сложное строение. Костная ткань собрана в нем в валики, по форме напоминающие маленькие барабаны, - позвон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ежду ними имеются межпозвонковые диски, состоящие из мягкой соединительной ткани и позволяющие позвонкам совершать смещ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4" name="Picture 13" descr="new_pa248"/>
          <p:cNvPicPr/>
          <p:nvPr/>
        </p:nvPicPr>
        <p:blipFill>
          <a:blip r:embed="rId3"/>
          <a:stretch/>
        </p:blipFill>
        <p:spPr>
          <a:xfrm>
            <a:off x="4459320" y="692280"/>
            <a:ext cx="398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66ff"/>
                </a:solidFill>
                <a:uFillTx/>
                <a:latin typeface="Arial"/>
                <a:ea typeface="Times New Roman"/>
              </a:rPr>
              <a:t>ЗАКОНЫ НЬЮТОНА И ЧЕЛОВЕК</a:t>
            </a:r>
            <a:r>
              <a:rPr b="0" lang="ru-RU" sz="4000" spc="-1" strike="noStrike" u="sng">
                <a:solidFill>
                  <a:srgbClr val="f7d47d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сли рассматривать человека как объект изучения физики, то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ы видим, что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ногие привычные нам действия полностью подчиняются законам механи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К нему, так же как и ко всем физическим телам применимы законы Ньюто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1" name="Picture 10" descr="newton_isaac_220"/>
          <p:cNvPicPr/>
          <p:nvPr/>
        </p:nvPicPr>
        <p:blipFill>
          <a:blip r:embed="rId3"/>
          <a:stretch/>
        </p:blipFill>
        <p:spPr>
          <a:xfrm>
            <a:off x="6084720" y="1628640"/>
            <a:ext cx="2833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63160" y="333000"/>
            <a:ext cx="36162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Как правило, позвоночный столб подвергается общему сжатию как под воздействием веса тела, которое на нем держится, так и под воздействием натяжения различных мышц и сухожилий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6" name="Picture 8" descr="Массаж спб"/>
          <p:cNvPicPr/>
          <p:nvPr/>
        </p:nvPicPr>
        <p:blipFill>
          <a:blip r:embed="rId1"/>
          <a:stretch/>
        </p:blipFill>
        <p:spPr>
          <a:xfrm>
            <a:off x="4500720" y="1484280"/>
            <a:ext cx="3639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менения позвоночного столба начинаются у человека уже с 18-летнего возраста, поэтому говорят, что позвоночник – наиболее рано стареющий орган тела человека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8" name="Picture 9" descr="01"/>
          <p:cNvPicPr/>
          <p:nvPr/>
        </p:nvPicPr>
        <p:blipFill>
          <a:blip r:embed="rId2"/>
          <a:stretch/>
        </p:blipFill>
        <p:spPr>
          <a:xfrm>
            <a:off x="4427640" y="1197000"/>
            <a:ext cx="4032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ТРЕНИЯ В СУСТАВАХ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Суставы человека похожи на шарниры: шаровой и цилиндрический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25448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657600" cy="2090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4648320" y="365760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я поверхность сустава, испытывающего трение, покрыто особой хрящеватой тканью, пропитанной синовиальной жидкостью.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4" name="Picture 12" descr="1202303223"/>
          <p:cNvPicPr/>
          <p:nvPr/>
        </p:nvPicPr>
        <p:blipFill>
          <a:blip r:embed="rId3"/>
          <a:stretch/>
        </p:blipFill>
        <p:spPr>
          <a:xfrm>
            <a:off x="1187280" y="3429000"/>
            <a:ext cx="3313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СРАВНЕНИЕ УДАРОВ СПОРТСМЕН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Оба они развили обычные человеческие способности к нанесению спортивных  ударов специальны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и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трениров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обоих случаях сила удара возникает за счет изменения импульса стоящего человека, ускоряющего наносящую удар руку  из состояния покоя до некоторой скорости,  на пути, равном размаху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685800" y="1371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равни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м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сил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ы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ударов двух спортсменов боксера и каратис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4" descr="83226"/>
          <p:cNvPicPr/>
          <p:nvPr/>
        </p:nvPicPr>
        <p:blipFill>
          <a:blip r:embed="rId3"/>
          <a:stretch/>
        </p:blipFill>
        <p:spPr>
          <a:xfrm>
            <a:off x="826920" y="2637000"/>
            <a:ext cx="3410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0"/>
          <p:cNvSpPr/>
          <p:nvPr/>
        </p:nvSpPr>
        <p:spPr>
          <a:xfrm>
            <a:off x="0" y="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График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</a:rPr>
              <a:t>и 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зависимости силы  удара 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</a:rPr>
              <a:t>спортсменов </a:t>
            </a:r>
            <a:br>
              <a:rPr sz="2800"/>
            </a:b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от времени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4788000" y="3227400"/>
            <a:ext cx="4013280" cy="363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F, 10</a:t>
            </a:r>
            <a:r>
              <a:rPr b="1" i="1" lang="ru-RU" sz="2200" spc="-1" strike="noStrike" baseline="30000">
                <a:solidFill>
                  <a:srgbClr val="6666ff"/>
                </a:solidFill>
                <a:latin typeface="Times New Roman"/>
              </a:rPr>
              <a:t>3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3000Н</a:t>
            </a:r>
            <a:r>
              <a:rPr b="1" i="1" lang="ru-RU" sz="2200" spc="-1" strike="noStrike">
                <a:solidFill>
                  <a:srgbClr val="6666ff"/>
                </a:solidFill>
                <a:latin typeface="Symbol"/>
                <a:ea typeface="Symbol"/>
              </a:rPr>
              <a:t>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,01с=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2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 =30Нс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3000 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      0,01      0,02  0,03   t, c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   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,01 c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Line 34"/>
          <p:cNvSpPr/>
          <p:nvPr/>
        </p:nvSpPr>
        <p:spPr>
          <a:xfrm>
            <a:off x="5662440" y="6006960"/>
            <a:ext cx="246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Line 35"/>
          <p:cNvSpPr/>
          <p:nvPr/>
        </p:nvSpPr>
        <p:spPr>
          <a:xfrm flipV="1">
            <a:off x="5662440" y="3424320"/>
            <a:ext cx="0" cy="25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Line 36"/>
          <p:cNvSpPr/>
          <p:nvPr/>
        </p:nvSpPr>
        <p:spPr>
          <a:xfrm>
            <a:off x="6183360" y="5919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6851520" y="59086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Line 38"/>
          <p:cNvSpPr/>
          <p:nvPr/>
        </p:nvSpPr>
        <p:spPr>
          <a:xfrm>
            <a:off x="7507440" y="59086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6227640" y="3751200"/>
            <a:ext cx="576360" cy="22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Line 40"/>
          <p:cNvSpPr/>
          <p:nvPr/>
        </p:nvSpPr>
        <p:spPr>
          <a:xfrm>
            <a:off x="5559480" y="37512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5559480" y="53802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Line 42"/>
          <p:cNvSpPr/>
          <p:nvPr/>
        </p:nvSpPr>
        <p:spPr>
          <a:xfrm>
            <a:off x="5559480" y="458964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Line 43"/>
          <p:cNvSpPr/>
          <p:nvPr/>
        </p:nvSpPr>
        <p:spPr>
          <a:xfrm>
            <a:off x="6443640" y="3745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Line 44"/>
          <p:cNvSpPr/>
          <p:nvPr/>
        </p:nvSpPr>
        <p:spPr>
          <a:xfrm>
            <a:off x="6969240" y="3751200"/>
            <a:ext cx="0" cy="225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Line 46"/>
          <p:cNvSpPr/>
          <p:nvPr/>
        </p:nvSpPr>
        <p:spPr>
          <a:xfrm>
            <a:off x="6227640" y="600696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Line 48"/>
          <p:cNvSpPr/>
          <p:nvPr/>
        </p:nvSpPr>
        <p:spPr>
          <a:xfrm>
            <a:off x="6227640" y="63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4" name="Group 52"/>
          <p:cNvGrpSpPr/>
          <p:nvPr/>
        </p:nvGrpSpPr>
        <p:grpSpPr>
          <a:xfrm>
            <a:off x="380880" y="2952720"/>
            <a:ext cx="4111920" cy="3905280"/>
            <a:chOff x="380880" y="2952720"/>
            <a:chExt cx="4111920" cy="3905280"/>
          </a:xfrm>
        </p:grpSpPr>
        <p:sp>
          <p:nvSpPr>
            <p:cNvPr id="395" name="Text Box 53"/>
            <p:cNvSpPr/>
            <p:nvPr/>
          </p:nvSpPr>
          <p:spPr>
            <a:xfrm>
              <a:off x="380880" y="2952720"/>
              <a:ext cx="4111920" cy="390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F, 10</a:t>
              </a:r>
              <a:r>
                <a:rPr b="1" i="1" lang="ru-RU" sz="2200" spc="-1" strike="noStrike" baseline="30000">
                  <a:solidFill>
                    <a:srgbClr val="6666ff"/>
                  </a:solidFill>
                  <a:latin typeface="Times New Roman"/>
                </a:rPr>
                <a:t>3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Н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300Н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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0,1с=30Нс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                             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1                   300 H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0    0,02          </a:t>
              </a:r>
              <a:r>
                <a:rPr b="1" i="1" lang="ru-RU" sz="2200" spc="-1" strike="noStrike" baseline="-25000">
                  <a:solidFill>
                    <a:srgbClr val="6666ff"/>
                  </a:solidFill>
                  <a:latin typeface="Times New Roman"/>
                </a:rPr>
                <a:t>0,1 c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     0,012  t,c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Line 54"/>
            <p:cNvSpPr/>
            <p:nvPr/>
          </p:nvSpPr>
          <p:spPr>
            <a:xfrm>
              <a:off x="1274400" y="5943600"/>
              <a:ext cx="252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Line 55"/>
            <p:cNvSpPr/>
            <p:nvPr/>
          </p:nvSpPr>
          <p:spPr>
            <a:xfrm flipV="1">
              <a:off x="1274400" y="3164400"/>
              <a:ext cx="0" cy="27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Line 56"/>
            <p:cNvSpPr/>
            <p:nvPr/>
          </p:nvSpPr>
          <p:spPr>
            <a:xfrm>
              <a:off x="157392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194616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Line 58"/>
            <p:cNvSpPr/>
            <p:nvPr/>
          </p:nvSpPr>
          <p:spPr>
            <a:xfrm>
              <a:off x="233856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Line 59"/>
            <p:cNvSpPr/>
            <p:nvPr/>
          </p:nvSpPr>
          <p:spPr>
            <a:xfrm>
              <a:off x="1169640" y="35157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>
              <a:off x="1169640" y="526788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1169640" y="44168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269748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>
              <a:off x="302004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336744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Text Box 65"/>
            <p:cNvSpPr/>
            <p:nvPr/>
          </p:nvSpPr>
          <p:spPr>
            <a:xfrm>
              <a:off x="1572120" y="5694120"/>
              <a:ext cx="1793160" cy="24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Line 66"/>
            <p:cNvSpPr/>
            <p:nvPr/>
          </p:nvSpPr>
          <p:spPr>
            <a:xfrm>
              <a:off x="1573920" y="5943600"/>
              <a:ext cx="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>
              <a:off x="3367440" y="5943600"/>
              <a:ext cx="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>
              <a:off x="1573920" y="6506640"/>
              <a:ext cx="179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411" name="Picture 74" descr="dzu"/>
          <p:cNvPicPr/>
          <p:nvPr/>
        </p:nvPicPr>
        <p:blipFill>
          <a:blip r:embed="rId3"/>
          <a:stretch/>
        </p:blipFill>
        <p:spPr>
          <a:xfrm>
            <a:off x="1042920" y="981000"/>
            <a:ext cx="1581120" cy="1798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7" descr="brucelee"/>
          <p:cNvPicPr/>
          <p:nvPr/>
        </p:nvPicPr>
        <p:blipFill>
          <a:blip r:embed="rId4"/>
          <a:stretch/>
        </p:blipFill>
        <p:spPr>
          <a:xfrm>
            <a:off x="5796000" y="907920"/>
            <a:ext cx="172872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Line 78"/>
          <p:cNvSpPr/>
          <p:nvPr/>
        </p:nvSpPr>
        <p:spPr>
          <a:xfrm>
            <a:off x="6804000" y="60213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Боксер передает большой импульс,  массе противника, сбивая его с ног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40000" y="328464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Каратист концентрирует  свой удар на очень маленьком участке тела и старается завершить его на небольшой глубине. Поэтому каратист легко может своим ударом разрушить ткани и кости противни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16" name="Picture 8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2770200" cy="288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u63_062401"/>
          <p:cNvPicPr/>
          <p:nvPr/>
        </p:nvPicPr>
        <p:blipFill>
          <a:blip r:embed="rId4"/>
          <a:stretch/>
        </p:blipFill>
        <p:spPr>
          <a:xfrm>
            <a:off x="5867280" y="0"/>
            <a:ext cx="19116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МЕХАНИЧЕСКАЯ РАБОТА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еханическая работа – физическая величина, равная произведению силы, действующей на тело, на перемещение, которое совершило тело под действием этой силы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 точки зрения физики, человек, удерживающий в руках груз, работу  не совершает. Так ли это на самом деле?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0575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876920" y="2590920"/>
                <a:ext cx="380988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озг непрерывно посылает волокнам мышц руки, удерживающей груз, электрические импульсы – управляющие сигнал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лучившая сигнал мышца сокращается, а затем расслабляе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работе мышцы в нее сплошным потоком идут нервные импульсы и пока одни волокна сокращаются, другие – отдыхаю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лучившая сигнал мышца сокращается, а затем расслабляе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400800" y="-8372520"/>
            <a:ext cx="3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0" y="-1936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5" name="Picture 12" descr="900b"/>
          <p:cNvPicPr/>
          <p:nvPr/>
        </p:nvPicPr>
        <p:blipFill>
          <a:blip r:embed="rId5"/>
          <a:stretch/>
        </p:blipFill>
        <p:spPr>
          <a:xfrm>
            <a:off x="5345280" y="1125360"/>
            <a:ext cx="37987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работе мышцы в нее идут нервные импульсы и пока одни волокна сокращаются, другие отдыхают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Н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пряжени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е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мышц требует непрерывного расходования энергии, приводящего к усталости мышц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К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гда рука устает, она начинает дрожать. </a:t>
            </a:r>
            <a:br>
              <a:rPr sz="2600"/>
            </a:b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накоплении мышечной усталости человек может уронить груз, упасть, потерять сознание. </a:t>
            </a:r>
            <a:br>
              <a:rPr sz="2600"/>
            </a:b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Человек 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тер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яет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энерги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ю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Е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сли расходуется энергия,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 то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совершается работа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.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То есть, человек совершает работу, просто удерживая груз, не перемещая его на какое-либо расстояние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СТАТИКА В ТЕЛЕ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ТАТИКА занимается изучением сил, действующих на тела, находящиеся в равновес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Значение сил, действующих в суставах и мышцах человека, очень важно для медицины (и прежде всего для лечения травм), не менее важно для научного подхода к занятиям спорто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400800" y="-13460400"/>
            <a:ext cx="360" cy="9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0" y="-4248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1" name="Picture 13" descr="Ra435107"/>
          <p:cNvPicPr/>
          <p:nvPr/>
        </p:nvPicPr>
        <p:blipFill>
          <a:blip r:embed="rId3"/>
          <a:stretch/>
        </p:blipFill>
        <p:spPr>
          <a:xfrm>
            <a:off x="468360" y="1628640"/>
            <a:ext cx="333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Если на тело не действуют другие тела, или действие тел скомпенсировано, то тело находится в покое или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 движется </a:t>
            </a:r>
            <a:br>
              <a:rPr sz="2800"/>
            </a:b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с постоянной скоростью.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Такое движение называют движением по инер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5"/>
              <p:cNvSpPr txBox="1"/>
              <p:nvPr/>
            </p:nvSpPr>
            <p:spPr>
              <a:xfrm>
                <a:off x="297000" y="5029200"/>
                <a:ext cx="8847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Пример рычага в руке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теле человека много рычаг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Очень интересно свойство этих рычагов – у них очень высокий коэффициент полезного действия, достигающий </a:t>
            </a:r>
            <a:br>
              <a:rPr sz="2400"/>
            </a:b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98 – 100%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Это объясняется тем, что в нем малы потери на трение .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4"/>
          <a:stretch/>
        </p:blipFill>
        <p:spPr>
          <a:xfrm>
            <a:off x="4029120" y="2216160"/>
            <a:ext cx="36208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Основными рабочими мышцами руки, отвечающими за перемещение предплечья, являются бицепс (двуглавая мышца) </a:t>
            </a:r>
            <a:br>
              <a:rPr sz="2600"/>
            </a:b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и трицепс (трехглавая мышца)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Как все мышц, они не могут создавать толкающих усилий – они могут только тянуть.</a:t>
            </a:r>
            <a:r>
              <a:rPr b="1" i="1" lang="ru-RU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23760" y="1389240"/>
            <a:ext cx="3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464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4800600" y="3692520"/>
            <a:ext cx="400212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гда человек поднимает одной рукой предмет, бицепс сокращается, а  трицепс удлиняется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гда человек опускает предмет, происходит противоположное.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9" name="Picture 14" descr="00047-009"/>
          <p:cNvPicPr/>
          <p:nvPr/>
        </p:nvPicPr>
        <p:blipFill>
          <a:blip r:embed="rId3"/>
          <a:stretch/>
        </p:blipFill>
        <p:spPr>
          <a:xfrm>
            <a:off x="4572000" y="189000"/>
            <a:ext cx="4356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  <a:ea typeface="Times New Roman"/>
              </a:rPr>
              <a:t>В своей работе я не рассматривала вопросы, связанные с  электрическими и электромагнитными  явлениями в организме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Мне кажется, что очень интересно изучить и биоритмы природы и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Не описаны мною также тепловые свойства и законы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тепловых явлений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 процесс зрения, то есть связи человеческого организма с оптическими явлени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400800" y="-8305920"/>
            <a:ext cx="3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-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5410080" y="4800600"/>
            <a:ext cx="3353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Интересны вопросы, связанные с обменом веществ  и влиянием радиоактивных явлений на наш организм.</a:t>
            </a:r>
            <a:r>
              <a:rPr b="1" i="1" lang="ru-RU" sz="2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5" name="Picture 13" descr="zlove1"/>
          <p:cNvPicPr/>
          <p:nvPr/>
        </p:nvPicPr>
        <p:blipFill>
          <a:blip r:embed="rId4"/>
          <a:stretch/>
        </p:blipFill>
        <p:spPr>
          <a:xfrm>
            <a:off x="5508720" y="33336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763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Типичным случаем использования инерции в живом мире являются прыжки: тело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человека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находится под действием силы, развиваемой мышцами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ног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лишь в начале прыжка, пока ноги не отделил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ь от земл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дальнейшем  никакого двигательного усилия уже не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ужно: тело движется вперед, преодолевая сопротивление воздуха и частично силу тяжести, исключительно вследствие инер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6" name="Picture 12" descr="IMG_3033%21"/>
          <p:cNvPicPr/>
          <p:nvPr/>
        </p:nvPicPr>
        <p:blipFill>
          <a:blip r:embed="rId3"/>
          <a:stretch/>
        </p:blipFill>
        <p:spPr>
          <a:xfrm>
            <a:off x="0" y="0"/>
            <a:ext cx="2782800" cy="4175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zatyajnoi-pryjok"/>
          <p:cNvPicPr/>
          <p:nvPr/>
        </p:nvPicPr>
        <p:blipFill>
          <a:blip r:embed="rId4"/>
          <a:stretch/>
        </p:blipFill>
        <p:spPr>
          <a:xfrm>
            <a:off x="755640" y="3500280"/>
            <a:ext cx="2413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I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ЛА – ПРИЧИНА УСКОР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корение прямо пропорционально действующей на тело силе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обратно пропорционально массе тел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07800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143000" y="4343400"/>
                <a:ext cx="6705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Растягивая динамометр двумя руками, человек может развить силу, равную по меньшей мере 100 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Упираясь ногами в петлю, он сможет тянуть веревку вверх с силой около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1000 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Развиваемая при этом сила называется становой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3" name="Picture 16" descr="n6001"/>
          <p:cNvPicPr/>
          <p:nvPr/>
        </p:nvPicPr>
        <p:blipFill>
          <a:blip r:embed="rId4"/>
          <a:stretch/>
        </p:blipFill>
        <p:spPr>
          <a:xfrm>
            <a:off x="4716360" y="0"/>
            <a:ext cx="4176720" cy="3298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0" descr="03a-i3"/>
          <p:cNvPicPr/>
          <p:nvPr/>
        </p:nvPicPr>
        <p:blipFill>
          <a:blip r:embed="rId5"/>
          <a:stretch/>
        </p:blipFill>
        <p:spPr>
          <a:xfrm>
            <a:off x="1187280" y="5972040"/>
            <a:ext cx="3810240" cy="885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274219502"/>
          <p:cNvPicPr/>
          <p:nvPr/>
        </p:nvPicPr>
        <p:blipFill>
          <a:blip r:embed="rId6"/>
          <a:stretch/>
        </p:blipFill>
        <p:spPr>
          <a:xfrm>
            <a:off x="5292720" y="304812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63160" y="404280"/>
            <a:ext cx="41641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о есть способы, с помощью которых можно увеличить значение силы, развиваемой человек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ам на помощь приходит </a:t>
            </a:r>
            <a:br>
              <a:rPr sz="2400"/>
            </a:b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II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закон Ньютона. Человек сможет развить большую силу, если будет двигаться с ускорени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этому, чтобы прыгнуть дальше, спортсмен разгоняется. Сильнее получатся и удар, если он сделан с размаха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7" name="Picture 12" descr="1198472872_07"/>
          <p:cNvPicPr/>
          <p:nvPr/>
        </p:nvPicPr>
        <p:blipFill>
          <a:blip r:embed="rId4"/>
          <a:stretch/>
        </p:blipFill>
        <p:spPr>
          <a:xfrm>
            <a:off x="4707000" y="907920"/>
            <a:ext cx="4437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723920" y="404640"/>
            <a:ext cx="4419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ышечная ткань обладает свойством сокращаться и растягиваться, ей присущи эластичность и упругость, то есть способность восстанавливать свою форму после прекращения действия деформирующего уси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этом упругие характеристики мышечной ткани выше, чем такие же  показатели искусственных материал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400800" y="-3905280"/>
            <a:ext cx="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3049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Источником» силы в теле человека являются мышц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теле человека их насчитывается около 600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8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Оказывается и третий закон Ньютона оказывается справедливым, если его рассматривать, применительно к челове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29120" y="1598760"/>
            <a:ext cx="3620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ила действия, равна силе противодейств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073400" y="31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305320" y="3933720"/>
                <a:ext cx="289404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0:41:22Z</dcterms:created>
  <dc:creator>Даневич Наталья</dc:creator>
  <dc:description/>
  <dc:language>en-US</dc:language>
  <cp:lastModifiedBy>кабинет11</cp:lastModifiedBy>
  <dcterms:modified xsi:type="dcterms:W3CDTF">2013-03-20T16:01:01Z</dcterms:modified>
  <cp:revision>36</cp:revision>
  <dc:subject/>
  <dc:title>РЕФЕРАТ ПО ФИЗИКЕ</dc:title>
</cp:coreProperties>
</file>