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carbrake.wav" ContentType="audio/x-wav"/>
  <Override PartName="/ppt/media/image17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8.jpeg" ContentType="image/jpeg"/>
  <Override PartName="/ppt/media/image29.jpeg" ContentType="image/jpeg"/>
  <Override PartName="/ppt/media/image35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5.png" ContentType="image/png"/>
  <Override PartName="/ppt/media/applause.wav" ContentType="audio/x-wav"/>
  <Override PartName="/ppt/media/image33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18.gif" ContentType="image/gif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7.jpeg" ContentType="image/jpeg"/>
  <Override PartName="/ppt/media/image1.wmf" ContentType="image/x-wmf"/>
  <Override PartName="/ppt/media/image31.jpeg" ContentType="image/jpeg"/>
  <Override PartName="/ppt/media/image14.gif" ContentType="image/gif"/>
  <Override PartName="/ppt/media/image15.jpeg" ContentType="image/jpeg"/>
  <Override PartName="/ppt/media/image16.jpeg" ContentType="image/jpeg"/>
  <Override PartName="/ppt/media/image1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729-EF0F-49AC-9EB6-944171B0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D29-9564-48EB-9470-8FB225A2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A23-87D1-4C57-974B-B4C72014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D6B-DF62-44C9-989B-3C9284D3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BDF7-CE95-4692-93CC-96968FFD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CCA0-236C-451A-824A-2F24812B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686C-1001-46EF-AE54-B73949F0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83A1-4C36-47CC-9CB0-81DEF344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589A-5B84-499D-977F-E8BB0A8F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D6B5-01F7-4DD1-B4A8-AC40BDC6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3F0A-15C7-489C-9527-51CF8595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90A-89CB-4F28-9FA2-2CD6407F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DA30-D582-4AB8-8A4A-E14B2311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F38C-DF4D-480B-B3F6-BABF8FCE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4E51-270F-401D-86AF-A55CF416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849B-ECA4-4C1E-ADCF-54878A2D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BA7A-BDCE-4805-BA74-CC29482D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4C26B-9C90-4B2F-A8EA-87518B42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8035F-7026-496F-A018-B284C862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0FC00-35BA-45D3-944C-29960A83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2CB0-F1DE-4558-9055-A7F656B2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1B262-95E4-4AEB-888A-C71CA731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AFE-B639-4881-9E2D-CEF4ABED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E9BBE-469B-4D6E-994F-CEB706BB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0F5D-B11D-4B5B-9BBD-7B526CE2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3B040-0583-435E-8F0D-3115FAA5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B5B1D-20F3-4A2B-BC6E-BA6A683E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23861-9EDD-446E-ABD6-39D6E5D8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87E75-F72D-44C8-88AF-AC5BA4DA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02DD4-CF02-4342-90AE-B6969BB1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CBEDA-8916-4210-BC7F-57445E90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E2F4D-BF70-4E2E-BEE1-EA544999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DD9E9-F942-4615-9E31-67CFC5C8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7E4-7569-41C1-A616-988D97BE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FBBFB-1A4D-4AF0-A15E-1655685F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9BE0D-E6FD-4947-904C-FF87F963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856D5-977D-41A1-B175-FC140C27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E9C56-8CFB-4B0D-B89A-04CCDDD0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840C8-1B16-41EA-A6C0-0033A182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C9213-FE58-4B92-ABA5-11429BDC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1C60D-8BCB-47E9-AE40-BFAA5D71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DF651-48CF-4E5F-8004-F1BC4078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0BF05-2D2C-470B-BF4D-056A6F53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F6E-39DD-4A8D-9B72-6FB9F2AA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607-C967-4002-B10C-48004ADE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92A-937F-4ADB-9BDE-81C3ADBB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BCE-4151-4F69-80DC-8F5AA013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B36-FB72-4BF5-B387-3EE783D3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1CBE-1C22-432F-AE65-F906466BC66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7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7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916F-E631-4B87-AD35-FCC0F8BCCB2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5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5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6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6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7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CCC0-01F0-478C-A312-C2FC6388A76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5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F373-4010-4E07-B072-A8D55B604B9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6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643120" y="857160"/>
            <a:ext cx="51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ФИЗИКА ЧЕЛОВЕЧЕСКОГО ОРГАНИЗМ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ВЫПОЛНИЛ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Ученица 9  класс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Сергиенко Кс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Руководитель: учитель физики Даневич Н.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7" name="Picture 10" descr="Витрувианский человек. Рисунок Леонардо да Винчи. Фото"/>
          <p:cNvPicPr/>
          <p:nvPr/>
        </p:nvPicPr>
        <p:blipFill>
          <a:blip r:embed="rId1"/>
          <a:stretch/>
        </p:blipFill>
        <p:spPr>
          <a:xfrm>
            <a:off x="0" y="2997360"/>
            <a:ext cx="3587760" cy="26906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  <a:ea typeface="Times New Roman"/>
              </a:rPr>
              <a:t>СИЛА ТЯЖЕСТИ, ВЕС, НЕВЕСОМОСТЬ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1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Силой тяжести называется сила, с которой любое тело притягивается Земле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Ускорение свободного падения для всех точек на поверхности Земли постоянно 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g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=9,82 м/с</a:t>
            </a:r>
            <a:r>
              <a:rPr b="1" i="1" lang="ru-RU" sz="2400" spc="-1" strike="noStrike" baseline="30000">
                <a:solidFill>
                  <a:srgbClr val="2f1311"/>
                </a:solidFill>
                <a:latin typeface="Arial"/>
                <a:ea typeface="Times New Roman"/>
              </a:rPr>
              <a:t>2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995280" y="980640"/>
            <a:ext cx="362124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Весом тела называется сила, с которой тело, действует на подставку,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или растягивает подвес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Хотя вес возникает в результате притяжения тела Землей, он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НЕ ВСЕГДА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равен силе тяжести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547640" y="5486400"/>
            <a:ext cx="5029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Явление, при котором вес тела равен нулю называется невесомостью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53316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  <a:ea typeface="Times New Roman"/>
              </a:rPr>
              <a:t>В физиологии вес определяют как величину, пропорциональную силе, действующей со стороны жидкости в полукружных каналах внутреннего уха человека на нервные окончан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5029200" y="457200"/>
            <a:ext cx="3809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растание ускорения по сравнению с ускорением свободного падения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, которое человек испытывает, находясь на Земле, называется перегрузкой. Большие перегрузки опасны для человека.</a:t>
            </a:r>
            <a:r>
              <a:rPr b="1" i="1" lang="ru-RU" sz="28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123640" y="6135840"/>
            <a:ext cx="294012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егруз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4" name="Picture 8" descr="ves_peregr_primeri"/>
          <p:cNvPicPr/>
          <p:nvPr/>
        </p:nvPicPr>
        <p:blipFill>
          <a:blip r:embed="rId1"/>
          <a:stretch/>
        </p:blipFill>
        <p:spPr>
          <a:xfrm>
            <a:off x="1692360" y="189000"/>
            <a:ext cx="41720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04560" y="12952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Уже при ускорениях несколько больших, чем 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g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, у человека нарушается зрение, и появляются галлюцинации. При перегрузках происходит замедление кровообращени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267080" y="304560"/>
            <a:ext cx="4572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При ускорении 5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g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, направленном вдоль тела в направлении ноги – голова, кровь утяжеляется настолько, что сердце не может гнать ее к голове. Человек испытывает ощущение «черной пелены» перед глазами и теряет сознани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Если ускорение направлено в противоположную сторону (голова – ноги), перед глазами встает «красная пелена» и наступает потеря сознания от прилива крови к голов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57913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Перегрузку в 10</a:t>
            </a:r>
            <a:r>
              <a:rPr b="1" i="1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g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человек  выдерживает не более 1 секунды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Возникновение перегрузок связывают со стартами космических кораблей, 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</a:rPr>
              <a:t>при этом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космонавт испытывает перегрузки, равные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7 – 9</a:t>
            </a:r>
            <a:r>
              <a:rPr b="1" i="1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g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Большие перегрузки (до 10</a:t>
            </a:r>
            <a:r>
              <a:rPr b="1" i="1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g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) возникают при раскрытии парашюта, управляемом спуске космического аппарата, резком маневрировании на скоростном самолете, автомобильной аварии.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Методы борьбы с опасными перегрузками предложил  </a:t>
            </a:r>
            <a:br>
              <a:rPr sz="2200"/>
            </a:br>
            <a:r>
              <a:rPr b="1" i="1" lang="ru-RU" sz="2200" spc="-1" strike="noStrike">
                <a:solidFill>
                  <a:srgbClr val="2f1311"/>
                </a:solidFill>
                <a:latin typeface="Arial"/>
              </a:rPr>
              <a:t>К.Э. 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Циолковский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Один из них заключается в расположении тела космонавта так, чтобы ускорение было направлено перпендикулярно человеческо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</a:rPr>
              <a:t>му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тел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</a:rPr>
              <a:t>у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6095880" y="3429000"/>
            <a:ext cx="2743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горизонтальном положении тренированный человек способен переносить без вреда для здоровья нагрузку до  30</a:t>
            </a:r>
            <a:r>
              <a:rPr b="1" i="1" lang="en-US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g</a:t>
            </a:r>
            <a:r>
              <a:rPr b="0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9" name="Picture 11" descr="16"/>
          <p:cNvPicPr/>
          <p:nvPr/>
        </p:nvPicPr>
        <p:blipFill>
          <a:blip r:embed="rId6"/>
          <a:stretch/>
        </p:blipFill>
        <p:spPr>
          <a:xfrm>
            <a:off x="6114960" y="0"/>
            <a:ext cx="2774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  <a:ea typeface="Times New Roman"/>
              </a:rPr>
              <a:t>НЕВЕСОМОСТЬ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На практике в земных условиях состояние невесомости наблюдают: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Arial"/>
              </a:rPr>
              <a:t>а) при 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иммерси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, т.е. погружени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i="1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тела в жидкость с плотностью, равной плотности тела. В этом случае вес тела уравновешивается архимедовой силой, тело становится «невесомым», приобретая способность свободно перемещаться в любом направлении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5334120" y="2030400"/>
            <a:ext cx="3429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Times New Roman"/>
              </a:rPr>
              <a:t>В невесомости у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человека наруш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</a:rPr>
              <a:t>ается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вестибулярн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</a:rPr>
              <a:t>ый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аппарат, зрени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</a:rPr>
              <a:t>е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, кожн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</a:rPr>
              <a:t>ая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и мышечн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</a:rPr>
              <a:t>ая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чувствительност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</a:rPr>
              <a:t>ь</a:t>
            </a:r>
            <a:r>
              <a:rPr b="1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Человек начинает такое ощущение,  как будто он падает или совершает полет вниз головой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3" name="Picture 11" descr="15"/>
          <p:cNvPicPr/>
          <p:nvPr/>
        </p:nvPicPr>
        <p:blipFill>
          <a:blip r:embed="rId3"/>
          <a:stretch/>
        </p:blipFill>
        <p:spPr>
          <a:xfrm>
            <a:off x="5940360" y="0"/>
            <a:ext cx="2400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373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При невесомости</a:t>
            </a:r>
            <a:r>
              <a:rPr b="1" i="1" lang="ru-RU" sz="2000" spc="-1" strike="noStrike">
                <a:solidFill>
                  <a:srgbClr val="2f1311"/>
                </a:solidFill>
                <a:latin typeface="Arial"/>
                <a:ea typeface="Times New Roman"/>
              </a:rPr>
              <a:t> происходит перераспределение массы циркулирующей крови: из нижней части тела она устремляется в верхнюю. Возрастающий поток крови к сердцу воспринимается нервными окончаниями, которые контролируют объем и давление крови; почки выделяют повышенное количество воды. Одновременно уменьшается чувство жажды, устанавливается отрицательный водный баланс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6286680" y="-27419400"/>
            <a:ext cx="360" cy="168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-114480" y="-10594800"/>
            <a:ext cx="91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7" name="Picture 8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264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6981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Еще одно действие невесомости</a:t>
            </a:r>
            <a:r>
              <a:rPr b="1" i="1" lang="ru-RU" sz="2800" spc="-1" strike="noStrike">
                <a:solidFill>
                  <a:srgbClr val="2f1311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Times New Roman"/>
              </a:rPr>
              <a:t>К</a:t>
            </a:r>
            <a:r>
              <a:rPr b="1" i="1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сти и мышцы лишаются весовой нагрузк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есь характер двигательной активности приобретает новые черты: человек не ходит, а плавает в космическом корабле. Для перемещения как внутри корабля, так и вне его, большие преимущества приобретают руки, а не ног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ышцы начинают атрофироваться, меняется</a:t>
            </a:r>
            <a:r>
              <a:rPr b="1" i="1" lang="ru-RU" sz="28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1" i="1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Для того чтобы не допустить детринерованности, космонавты провод</a:t>
            </a:r>
            <a:r>
              <a:rPr b="1" i="1" lang="ru-RU" sz="2800" spc="-1" strike="noStrike">
                <a:solidFill>
                  <a:srgbClr val="2f1311"/>
                </a:solidFill>
                <a:latin typeface="Times New Roman"/>
              </a:rPr>
              <a:t>ят</a:t>
            </a:r>
            <a:r>
              <a:rPr b="1" i="1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специальные комплексы тренировок.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9" name="Picture 6" descr="prod_60"/>
          <p:cNvPicPr/>
          <p:nvPr/>
        </p:nvPicPr>
        <p:blipFill>
          <a:blip r:embed="rId5"/>
          <a:stretch/>
        </p:blipFill>
        <p:spPr>
          <a:xfrm>
            <a:off x="6948360" y="260280"/>
            <a:ext cx="19083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7d47d"/>
                </a:solidFill>
                <a:latin typeface="Arial"/>
                <a:ea typeface="Times New Roman"/>
              </a:rPr>
              <a:t>СИЛА УПРУГОСТИ И </a:t>
            </a:r>
            <a:br>
              <a:rPr sz="2600"/>
            </a:br>
            <a:r>
              <a:rPr b="0" lang="ru-RU" sz="2600" spc="-1" strike="noStrike">
                <a:solidFill>
                  <a:srgbClr val="f7d47d"/>
                </a:solidFill>
                <a:latin typeface="Arial"/>
                <a:ea typeface="Times New Roman"/>
              </a:rPr>
              <a:t>ОПОРНОДВИГАТЕЛЬНАЯ СИСТЕМА ЧЕЛОВЕКА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1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Ходьба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в вертикальном положении обусловила ряд серьезных механических недостатков организма челове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Это возрастание нагрузок на позвоночник.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780000" y="155736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ля удержания мышц и обеспечения подвижности позвоночник человека приобрел сложную </a:t>
            </a:r>
            <a:r>
              <a:rPr b="1" i="1" lang="en-US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S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образную форму, для поддержания которой, в свою очередь требуются большие нагрузки на мышцы и связки тел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Позвоночник человека имеет сложное строение. Костная ткань собрана в нем в валики, по форме напоминающие маленькие барабаны, - позвон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Между ними имеются межпозвонковые диски, состоящие из мягкой соединительной ткани и позволяющие позвонкам совершать смещени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4" name="Picture 13" descr="new_pa248"/>
          <p:cNvPicPr/>
          <p:nvPr/>
        </p:nvPicPr>
        <p:blipFill>
          <a:blip r:embed="rId3"/>
          <a:stretch/>
        </p:blipFill>
        <p:spPr>
          <a:xfrm>
            <a:off x="4459320" y="692280"/>
            <a:ext cx="3987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66ff"/>
                </a:solidFill>
                <a:uFillTx/>
                <a:latin typeface="Arial"/>
                <a:ea typeface="Times New Roman"/>
              </a:rPr>
              <a:t>ЗАКОНЫ НЬЮТОНА И ЧЕЛОВЕК</a:t>
            </a:r>
            <a:r>
              <a:rPr b="0" lang="ru-RU" sz="4000" spc="-1" strike="noStrike" u="sng">
                <a:solidFill>
                  <a:srgbClr val="f7d47d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Если рассматривать человека как объект изучения физики, то 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мы видим, что 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ногие привычные нам действия полностью подчиняются законам механик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К нему, так же как и ко всем физическим телам применимы законы Ньютон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1" name="Picture 10" descr="newton_isaac_220"/>
          <p:cNvPicPr/>
          <p:nvPr/>
        </p:nvPicPr>
        <p:blipFill>
          <a:blip r:embed="rId3"/>
          <a:stretch/>
        </p:blipFill>
        <p:spPr>
          <a:xfrm>
            <a:off x="6084720" y="1628640"/>
            <a:ext cx="28339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263160" y="333000"/>
            <a:ext cx="36162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Как правило, позвоночный столб подвергается общему сжатию как под воздействием веса тела, которое на нем держится, так и под воздействием натяжения различных мышц и сухожилий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6" name="Picture 8" descr="Массаж спб"/>
          <p:cNvPicPr/>
          <p:nvPr/>
        </p:nvPicPr>
        <p:blipFill>
          <a:blip r:embed="rId1"/>
          <a:stretch/>
        </p:blipFill>
        <p:spPr>
          <a:xfrm>
            <a:off x="4500720" y="1484280"/>
            <a:ext cx="36399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зменения позвоночного столба начинаются у человека уже с 18-летнего возраста, поэтому говорят, что позвоночник – наиболее рано стареющий орган тела человека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8" name="Picture 9" descr="01"/>
          <p:cNvPicPr/>
          <p:nvPr/>
        </p:nvPicPr>
        <p:blipFill>
          <a:blip r:embed="rId2"/>
          <a:stretch/>
        </p:blipFill>
        <p:spPr>
          <a:xfrm>
            <a:off x="4427640" y="1197000"/>
            <a:ext cx="4032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  <a:ea typeface="Times New Roman"/>
              </a:rPr>
              <a:t>СИЛА ТРЕНИЯ В СУСТАВАХ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2f1311"/>
                </a:solidFill>
                <a:latin typeface="Arial"/>
                <a:ea typeface="Times New Roman"/>
              </a:rPr>
              <a:t>Суставы человека похожи на шарниры: шаровой и цилиндрический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254484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2" name="Picture 7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3657600" cy="2090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9"/>
          <p:cNvSpPr/>
          <p:nvPr/>
        </p:nvSpPr>
        <p:spPr>
          <a:xfrm>
            <a:off x="4648320" y="3657600"/>
            <a:ext cx="4495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ся поверхность сустава, испытывающего трение, покрыто особой хрящеватой тканью, пропитанной синовиальной жидкостью.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4" name="Picture 12" descr="1202303223"/>
          <p:cNvPicPr/>
          <p:nvPr/>
        </p:nvPicPr>
        <p:blipFill>
          <a:blip r:embed="rId3"/>
          <a:stretch/>
        </p:blipFill>
        <p:spPr>
          <a:xfrm>
            <a:off x="1187280" y="3429000"/>
            <a:ext cx="3313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  <a:ea typeface="Times New Roman"/>
              </a:rPr>
              <a:t>СРАВНЕНИЕ УДАРОВ СПОРТСМЕНОВ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Оба они развили обычные человеческие способности к нанесению спортивных  ударов специальны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ми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тренировк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В обоих случаях сила удара возникает за счет изменения импульса стоящего человека, ускоряющего наносящую удар руку  из состояния покоя до некоторой скорости,  на пути, равном размаху челове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685800" y="13716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c893e"/>
                </a:solidFill>
                <a:latin typeface="Times New Roman"/>
              </a:rPr>
              <a:t>С</a:t>
            </a:r>
            <a:r>
              <a:rPr b="1" i="1" lang="ru-RU" sz="24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равни</a:t>
            </a:r>
            <a:r>
              <a:rPr b="1" i="1" lang="ru-RU" sz="2400" spc="-1" strike="noStrike">
                <a:solidFill>
                  <a:srgbClr val="dc893e"/>
                </a:solidFill>
                <a:latin typeface="Times New Roman"/>
              </a:rPr>
              <a:t>м</a:t>
            </a:r>
            <a:r>
              <a:rPr b="1" i="1" lang="ru-RU" sz="24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 сил</a:t>
            </a:r>
            <a:r>
              <a:rPr b="1" i="1" lang="ru-RU" sz="2400" spc="-1" strike="noStrike">
                <a:solidFill>
                  <a:srgbClr val="dc893e"/>
                </a:solidFill>
                <a:latin typeface="Times New Roman"/>
              </a:rPr>
              <a:t>ы</a:t>
            </a:r>
            <a:r>
              <a:rPr b="1" i="1" lang="ru-RU" sz="24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 ударов двух спортсменов боксера и каратис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8" name="Picture 14" descr="83226"/>
          <p:cNvPicPr/>
          <p:nvPr/>
        </p:nvPicPr>
        <p:blipFill>
          <a:blip r:embed="rId3"/>
          <a:stretch/>
        </p:blipFill>
        <p:spPr>
          <a:xfrm>
            <a:off x="826920" y="2637000"/>
            <a:ext cx="3410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0"/>
          <p:cNvSpPr/>
          <p:nvPr/>
        </p:nvSpPr>
        <p:spPr>
          <a:xfrm>
            <a:off x="0" y="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График</a:t>
            </a:r>
            <a:r>
              <a:rPr b="1" i="1" lang="ru-RU" sz="2800" spc="-1" strike="noStrike">
                <a:solidFill>
                  <a:srgbClr val="dc893e"/>
                </a:solidFill>
                <a:latin typeface="Times New Roman"/>
              </a:rPr>
              <a:t>и </a:t>
            </a:r>
            <a:r>
              <a:rPr b="1" i="1" lang="ru-RU" sz="28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зависимости силы  удара </a:t>
            </a:r>
            <a:r>
              <a:rPr b="1" i="1" lang="ru-RU" sz="2800" spc="-1" strike="noStrike">
                <a:solidFill>
                  <a:srgbClr val="dc893e"/>
                </a:solidFill>
                <a:latin typeface="Times New Roman"/>
              </a:rPr>
              <a:t>спортсменов </a:t>
            </a:r>
            <a:br>
              <a:rPr sz="2800"/>
            </a:br>
            <a:r>
              <a:rPr b="1" i="1" lang="ru-RU" sz="28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от времени</a:t>
            </a:r>
            <a:r>
              <a:rPr b="1" i="1" lang="ru-RU" sz="28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0" name="Text Box 33"/>
          <p:cNvSpPr/>
          <p:nvPr/>
        </p:nvSpPr>
        <p:spPr>
          <a:xfrm>
            <a:off x="4788000" y="3227400"/>
            <a:ext cx="4013280" cy="363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F, 10</a:t>
            </a:r>
            <a:r>
              <a:rPr b="1" i="1" lang="ru-RU" sz="2200" spc="-1" strike="noStrike" baseline="30000">
                <a:solidFill>
                  <a:srgbClr val="6666ff"/>
                </a:solidFill>
                <a:latin typeface="Times New Roman"/>
              </a:rPr>
              <a:t>3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Н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     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3000Н</a:t>
            </a:r>
            <a:r>
              <a:rPr b="1" i="1" lang="ru-RU" sz="2200" spc="-1" strike="noStrike">
                <a:solidFill>
                  <a:srgbClr val="6666ff"/>
                </a:solidFill>
                <a:latin typeface="Symbol"/>
                <a:ea typeface="Symbol"/>
              </a:rPr>
              <a:t>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0,01с=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2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      =30Нс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1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  3000 Н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0      0,01      0,02  0,03   t, c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                 </a:t>
            </a:r>
            <a:r>
              <a:rPr b="1" i="1" lang="ru-RU" sz="2200" spc="-1" strike="noStrike">
                <a:solidFill>
                  <a:srgbClr val="6666ff"/>
                </a:solidFill>
                <a:latin typeface="Times New Roman"/>
              </a:rPr>
              <a:t>0,01 c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1" name="Line 34"/>
          <p:cNvSpPr/>
          <p:nvPr/>
        </p:nvSpPr>
        <p:spPr>
          <a:xfrm>
            <a:off x="5662440" y="6006960"/>
            <a:ext cx="246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2" name="Line 35"/>
          <p:cNvSpPr/>
          <p:nvPr/>
        </p:nvSpPr>
        <p:spPr>
          <a:xfrm flipV="1">
            <a:off x="5662440" y="3424320"/>
            <a:ext cx="0" cy="25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3" name="Line 36"/>
          <p:cNvSpPr/>
          <p:nvPr/>
        </p:nvSpPr>
        <p:spPr>
          <a:xfrm>
            <a:off x="6183360" y="59198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Line 37"/>
          <p:cNvSpPr/>
          <p:nvPr/>
        </p:nvSpPr>
        <p:spPr>
          <a:xfrm>
            <a:off x="6851520" y="590868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Line 38"/>
          <p:cNvSpPr/>
          <p:nvPr/>
        </p:nvSpPr>
        <p:spPr>
          <a:xfrm>
            <a:off x="7507440" y="590868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6" name="Rectangle 39"/>
          <p:cNvSpPr/>
          <p:nvPr/>
        </p:nvSpPr>
        <p:spPr>
          <a:xfrm>
            <a:off x="6227640" y="3751200"/>
            <a:ext cx="576360" cy="2255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Line 40"/>
          <p:cNvSpPr/>
          <p:nvPr/>
        </p:nvSpPr>
        <p:spPr>
          <a:xfrm>
            <a:off x="5559480" y="375120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Line 41"/>
          <p:cNvSpPr/>
          <p:nvPr/>
        </p:nvSpPr>
        <p:spPr>
          <a:xfrm>
            <a:off x="5559480" y="538020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Line 42"/>
          <p:cNvSpPr/>
          <p:nvPr/>
        </p:nvSpPr>
        <p:spPr>
          <a:xfrm>
            <a:off x="5559480" y="458964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Line 43"/>
          <p:cNvSpPr/>
          <p:nvPr/>
        </p:nvSpPr>
        <p:spPr>
          <a:xfrm>
            <a:off x="6443640" y="37450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Line 44"/>
          <p:cNvSpPr/>
          <p:nvPr/>
        </p:nvSpPr>
        <p:spPr>
          <a:xfrm>
            <a:off x="6969240" y="3751200"/>
            <a:ext cx="0" cy="2255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Line 46"/>
          <p:cNvSpPr/>
          <p:nvPr/>
        </p:nvSpPr>
        <p:spPr>
          <a:xfrm>
            <a:off x="6227640" y="6006960"/>
            <a:ext cx="0" cy="27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Line 48"/>
          <p:cNvSpPr/>
          <p:nvPr/>
        </p:nvSpPr>
        <p:spPr>
          <a:xfrm>
            <a:off x="6227640" y="630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94" name="Group 52"/>
          <p:cNvGrpSpPr/>
          <p:nvPr/>
        </p:nvGrpSpPr>
        <p:grpSpPr>
          <a:xfrm>
            <a:off x="380880" y="2952720"/>
            <a:ext cx="4111920" cy="3905280"/>
            <a:chOff x="380880" y="2952720"/>
            <a:chExt cx="4111920" cy="3905280"/>
          </a:xfrm>
        </p:grpSpPr>
        <p:sp>
          <p:nvSpPr>
            <p:cNvPr id="395" name="Text Box 53"/>
            <p:cNvSpPr/>
            <p:nvPr/>
          </p:nvSpPr>
          <p:spPr>
            <a:xfrm>
              <a:off x="380880" y="2952720"/>
              <a:ext cx="4111920" cy="3905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F, 10</a:t>
              </a:r>
              <a:r>
                <a:rPr b="1" i="1" lang="ru-RU" sz="2200" spc="-1" strike="noStrike" baseline="30000">
                  <a:solidFill>
                    <a:srgbClr val="6666ff"/>
                  </a:solidFill>
                  <a:latin typeface="Times New Roman"/>
                </a:rPr>
                <a:t>3</a:t>
              </a: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 Н</a:t>
              </a: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     </a:t>
              </a: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3</a:t>
              </a: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	</a:t>
              </a: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	</a:t>
              </a: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300Н</a:t>
              </a:r>
              <a:r>
                <a:rPr b="1" i="1" lang="ru-RU" sz="2200" spc="-1" strike="noStrike">
                  <a:solidFill>
                    <a:srgbClr val="6666ff"/>
                  </a:solidFill>
                  <a:latin typeface="Symbol"/>
                  <a:ea typeface="Symbol"/>
                </a:rPr>
                <a:t></a:t>
              </a: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0,1с=30Нс</a:t>
              </a: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                                  </a:t>
              </a: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1                   300 H</a:t>
              </a: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0    0,02          </a:t>
              </a:r>
              <a:r>
                <a:rPr b="1" i="1" lang="ru-RU" sz="2200" spc="-1" strike="noStrike" baseline="-25000">
                  <a:solidFill>
                    <a:srgbClr val="6666ff"/>
                  </a:solidFill>
                  <a:latin typeface="Times New Roman"/>
                </a:rPr>
                <a:t>0,1 c</a:t>
              </a:r>
              <a:r>
                <a:rPr b="1" i="1" lang="ru-RU" sz="2200" spc="-1" strike="noStrike">
                  <a:solidFill>
                    <a:srgbClr val="6666ff"/>
                  </a:solidFill>
                  <a:latin typeface="Times New Roman"/>
                </a:rPr>
                <a:t>          0,012  t,c</a:t>
              </a: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6" name="Line 54"/>
            <p:cNvSpPr/>
            <p:nvPr/>
          </p:nvSpPr>
          <p:spPr>
            <a:xfrm>
              <a:off x="1274400" y="5943600"/>
              <a:ext cx="252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Line 55"/>
            <p:cNvSpPr/>
            <p:nvPr/>
          </p:nvSpPr>
          <p:spPr>
            <a:xfrm flipV="1">
              <a:off x="1274400" y="3164400"/>
              <a:ext cx="0" cy="27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8" name="Line 56"/>
            <p:cNvSpPr/>
            <p:nvPr/>
          </p:nvSpPr>
          <p:spPr>
            <a:xfrm>
              <a:off x="1573920" y="5837040"/>
              <a:ext cx="0" cy="2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9" name="Line 57"/>
            <p:cNvSpPr/>
            <p:nvPr/>
          </p:nvSpPr>
          <p:spPr>
            <a:xfrm>
              <a:off x="1946160" y="5848920"/>
              <a:ext cx="0" cy="2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0" name="Line 58"/>
            <p:cNvSpPr/>
            <p:nvPr/>
          </p:nvSpPr>
          <p:spPr>
            <a:xfrm>
              <a:off x="2338560" y="5837040"/>
              <a:ext cx="0" cy="2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1" name="Line 59"/>
            <p:cNvSpPr/>
            <p:nvPr/>
          </p:nvSpPr>
          <p:spPr>
            <a:xfrm>
              <a:off x="1169640" y="35157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2" name="Line 60"/>
            <p:cNvSpPr/>
            <p:nvPr/>
          </p:nvSpPr>
          <p:spPr>
            <a:xfrm>
              <a:off x="1169640" y="526788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>
              <a:off x="1169640" y="441684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4" name="Line 62"/>
            <p:cNvSpPr/>
            <p:nvPr/>
          </p:nvSpPr>
          <p:spPr>
            <a:xfrm>
              <a:off x="2697480" y="5848920"/>
              <a:ext cx="0" cy="2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5" name="Line 63"/>
            <p:cNvSpPr/>
            <p:nvPr/>
          </p:nvSpPr>
          <p:spPr>
            <a:xfrm>
              <a:off x="3020040" y="5848920"/>
              <a:ext cx="0" cy="2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>
              <a:off x="3367440" y="5837040"/>
              <a:ext cx="0" cy="2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7" name="Text Box 65"/>
            <p:cNvSpPr/>
            <p:nvPr/>
          </p:nvSpPr>
          <p:spPr>
            <a:xfrm>
              <a:off x="1572120" y="5694120"/>
              <a:ext cx="1793160" cy="24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Line 66"/>
            <p:cNvSpPr/>
            <p:nvPr/>
          </p:nvSpPr>
          <p:spPr>
            <a:xfrm>
              <a:off x="1573920" y="5943600"/>
              <a:ext cx="0" cy="56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Line 67"/>
            <p:cNvSpPr/>
            <p:nvPr/>
          </p:nvSpPr>
          <p:spPr>
            <a:xfrm>
              <a:off x="3367440" y="5943600"/>
              <a:ext cx="0" cy="56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Line 68"/>
            <p:cNvSpPr/>
            <p:nvPr/>
          </p:nvSpPr>
          <p:spPr>
            <a:xfrm>
              <a:off x="1573920" y="6506640"/>
              <a:ext cx="179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411" name="Picture 74" descr="dzu"/>
          <p:cNvPicPr/>
          <p:nvPr/>
        </p:nvPicPr>
        <p:blipFill>
          <a:blip r:embed="rId3"/>
          <a:stretch/>
        </p:blipFill>
        <p:spPr>
          <a:xfrm>
            <a:off x="1042920" y="981000"/>
            <a:ext cx="1581120" cy="1798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7" descr="brucelee"/>
          <p:cNvPicPr/>
          <p:nvPr/>
        </p:nvPicPr>
        <p:blipFill>
          <a:blip r:embed="rId4"/>
          <a:stretch/>
        </p:blipFill>
        <p:spPr>
          <a:xfrm>
            <a:off x="5796000" y="907920"/>
            <a:ext cx="1728720" cy="2160720"/>
          </a:xfrm>
          <a:prstGeom prst="rect">
            <a:avLst/>
          </a:prstGeom>
          <a:ln w="0">
            <a:noFill/>
          </a:ln>
        </p:spPr>
      </p:pic>
      <p:sp>
        <p:nvSpPr>
          <p:cNvPr id="413" name="Line 78"/>
          <p:cNvSpPr/>
          <p:nvPr/>
        </p:nvSpPr>
        <p:spPr>
          <a:xfrm>
            <a:off x="6804000" y="602136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Боксер передает большой импульс,  массе противника, сбивая его с ног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40000" y="328464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Каратист концентрирует  свой удар на очень маленьком участке тела и старается завершить его на небольшой глубине. Поэтому каратист легко может своим ударом разрушить ткани и кости противни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16" name="Picture 8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2770200" cy="2881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u63_062401"/>
          <p:cNvPicPr/>
          <p:nvPr/>
        </p:nvPicPr>
        <p:blipFill>
          <a:blip r:embed="rId4"/>
          <a:stretch/>
        </p:blipFill>
        <p:spPr>
          <a:xfrm>
            <a:off x="5867280" y="0"/>
            <a:ext cx="19116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  <a:ea typeface="Times New Roman"/>
              </a:rPr>
              <a:t>МЕХАНИЧЕСКАЯ РАБОТА</a:t>
            </a: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Механическая работа – физическая величина, равная произведению силы, действующей на тело, на перемещение, которое совершило тело под действием этой силы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С точки зрения физики, человек, удерживающий в руках груз, работу  не совершает. Так ли это на самом деле?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40575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7"/>
              <p:cNvSpPr txBox="1"/>
              <p:nvPr/>
            </p:nvSpPr>
            <p:spPr>
              <a:xfrm>
                <a:off x="4876920" y="2590920"/>
                <a:ext cx="380988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Мозг непрерывно посылает волокнам мышц руки, удерживающей груз, электрические импульсы – управляющие сигнал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Получившая сигнал мышца сокращается, а затем расслабляетс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При работе мышцы в нее сплошным потоком идут нервные импульсы и пока одни волокна сокращаются, другие – отдыхают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Получившая сигнал мышца сокращается, а затем расслабляетс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6400800" y="-8372520"/>
            <a:ext cx="3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0" y="-1936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25" name="Picture 12" descr="900b"/>
          <p:cNvPicPr/>
          <p:nvPr/>
        </p:nvPicPr>
        <p:blipFill>
          <a:blip r:embed="rId5"/>
          <a:stretch/>
        </p:blipFill>
        <p:spPr>
          <a:xfrm>
            <a:off x="5345280" y="1125360"/>
            <a:ext cx="379872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и работе мышцы в нее идут нервные импульсы и пока одни волокна сокращаются, другие отдыхают.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f1311"/>
                </a:solidFill>
                <a:latin typeface="Times New Roman"/>
              </a:rPr>
              <a:t>Н</a:t>
            </a:r>
            <a:r>
              <a:rPr b="1" i="1" lang="ru-RU" sz="2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пряжени</a:t>
            </a:r>
            <a:r>
              <a:rPr b="1" i="1" lang="ru-RU" sz="2600" spc="-1" strike="noStrike">
                <a:solidFill>
                  <a:srgbClr val="2f1311"/>
                </a:solidFill>
                <a:latin typeface="Times New Roman"/>
              </a:rPr>
              <a:t>е</a:t>
            </a:r>
            <a:r>
              <a:rPr b="1" i="1" lang="ru-RU" sz="2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мышц требует непрерывного расходования энергии, приводящего к усталости мышц.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f1311"/>
                </a:solidFill>
                <a:latin typeface="Times New Roman"/>
              </a:rPr>
              <a:t>К</a:t>
            </a:r>
            <a:r>
              <a:rPr b="1" i="1" lang="ru-RU" sz="2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гда рука устает, она начинает дрожать. </a:t>
            </a:r>
            <a:br>
              <a:rPr sz="2600"/>
            </a:br>
            <a:r>
              <a:rPr b="1" i="1" lang="ru-RU" sz="2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и накоплении мышечной усталости человек может уронить груз, упасть, потерять сознание. </a:t>
            </a:r>
            <a:br>
              <a:rPr sz="2600"/>
            </a:br>
            <a:r>
              <a:rPr b="1" i="1" lang="ru-RU" sz="2600" spc="-1" strike="noStrike">
                <a:solidFill>
                  <a:srgbClr val="dc893e"/>
                </a:solidFill>
                <a:latin typeface="Times New Roman"/>
              </a:rPr>
              <a:t>Человек </a:t>
            </a:r>
            <a:r>
              <a:rPr b="1" i="1" lang="ru-RU" sz="26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тер</a:t>
            </a:r>
            <a:r>
              <a:rPr b="1" i="1" lang="ru-RU" sz="2600" spc="-1" strike="noStrike">
                <a:solidFill>
                  <a:srgbClr val="dc893e"/>
                </a:solidFill>
                <a:latin typeface="Times New Roman"/>
              </a:rPr>
              <a:t>яет</a:t>
            </a:r>
            <a:r>
              <a:rPr b="1" i="1" lang="ru-RU" sz="26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 энерги</a:t>
            </a:r>
            <a:r>
              <a:rPr b="1" i="1" lang="ru-RU" sz="2600" spc="-1" strike="noStrike">
                <a:solidFill>
                  <a:srgbClr val="dc893e"/>
                </a:solidFill>
                <a:latin typeface="Times New Roman"/>
              </a:rPr>
              <a:t>ю</a:t>
            </a:r>
            <a:r>
              <a:rPr b="1" i="1" lang="ru-RU" sz="2600" spc="-1" strike="noStrike">
                <a:solidFill>
                  <a:srgbClr val="2f1311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dc893e"/>
                </a:solidFill>
                <a:latin typeface="Times New Roman"/>
              </a:rPr>
              <a:t>Е</a:t>
            </a:r>
            <a:r>
              <a:rPr b="1" i="1" lang="ru-RU" sz="26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сли расходуется энергия,</a:t>
            </a:r>
            <a:r>
              <a:rPr b="1" i="1" lang="ru-RU" sz="2600" spc="-1" strike="noStrike">
                <a:solidFill>
                  <a:srgbClr val="dc893e"/>
                </a:solidFill>
                <a:latin typeface="Times New Roman"/>
              </a:rPr>
              <a:t> то</a:t>
            </a:r>
            <a:r>
              <a:rPr b="1" i="1" lang="ru-RU" sz="2600" spc="-1" strike="noStrike">
                <a:solidFill>
                  <a:srgbClr val="dc893e"/>
                </a:solidFill>
                <a:latin typeface="Times New Roman"/>
                <a:ea typeface="Times New Roman"/>
              </a:rPr>
              <a:t> совершается работа</a:t>
            </a:r>
            <a:r>
              <a:rPr b="1" i="1" lang="ru-RU" sz="2600" spc="-1" strike="noStrike">
                <a:solidFill>
                  <a:srgbClr val="dc893e"/>
                </a:solidFill>
                <a:latin typeface="Times New Roman"/>
              </a:rPr>
              <a:t>.</a:t>
            </a:r>
            <a:r>
              <a:rPr b="1" i="1" lang="ru-RU" sz="26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f1311"/>
                </a:solidFill>
                <a:latin typeface="Arial"/>
                <a:ea typeface="Times New Roman"/>
              </a:rPr>
              <a:t>То есть, человек совершает работу, просто удерживая груз, не перемещая его на какое-либо расстояние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  <a:ea typeface="Times New Roman"/>
              </a:rPr>
              <a:t>СТАТИКА В ТЕЛЕ ЧЕЛОВЕКА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9880" y="19810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СТАТИКА занимается изучением сил, действующих на тела, находящиеся в равновеси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Значение сил, действующих в суставах и мышцах человека, очень важно для медицины (и прежде всего для лечения травм), не менее важно для научного подхода к занятиям спортом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6400800" y="-13460400"/>
            <a:ext cx="360" cy="9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0" y="-4248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31" name="Picture 13" descr="Ra435107"/>
          <p:cNvPicPr/>
          <p:nvPr/>
        </p:nvPicPr>
        <p:blipFill>
          <a:blip r:embed="rId3"/>
          <a:stretch/>
        </p:blipFill>
        <p:spPr>
          <a:xfrm>
            <a:off x="468360" y="1628640"/>
            <a:ext cx="333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e-NO" sz="2800" spc="-1" strike="noStrike">
                <a:solidFill>
                  <a:srgbClr val="2f1311"/>
                </a:solidFill>
                <a:latin typeface="Arial"/>
              </a:rPr>
              <a:t>Если на тело не действуют другие тела, или действие тел скомпенсировано, то тело находится в покое или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se-NO" sz="2800" spc="-1" strike="noStrike">
                <a:solidFill>
                  <a:srgbClr val="2f1311"/>
                </a:solidFill>
                <a:latin typeface="Arial"/>
              </a:rPr>
              <a:t> движется </a:t>
            </a:r>
            <a:br>
              <a:rPr sz="2800"/>
            </a:br>
            <a:r>
              <a:rPr b="1" i="1" lang="se-NO" sz="2800" spc="-1" strike="noStrike">
                <a:solidFill>
                  <a:srgbClr val="2f1311"/>
                </a:solidFill>
                <a:latin typeface="Arial"/>
              </a:rPr>
              <a:t>с постоянной скоростью.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Такое движение называют движением по инерц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закон Ньюто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5"/>
              <p:cNvSpPr txBox="1"/>
              <p:nvPr/>
            </p:nvSpPr>
            <p:spPr>
              <a:xfrm>
                <a:off x="297000" y="5029200"/>
                <a:ext cx="88470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  <a:ea typeface="Times New Roman"/>
              </a:rPr>
              <a:t>Пример рычага в руке человека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1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В теле человека много рычагов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Очень интересно свойство этих рычагов – у них очень высокий коэффициент полезного действия, достигающий </a:t>
            </a:r>
            <a:br>
              <a:rPr sz="2400"/>
            </a:b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98 – 100%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Это объясняется тем, что в нем малы потери на трение .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34" name="Picture 6" descr=""/>
          <p:cNvPicPr/>
          <p:nvPr/>
        </p:nvPicPr>
        <p:blipFill>
          <a:blip r:embed="rId4"/>
          <a:stretch/>
        </p:blipFill>
        <p:spPr>
          <a:xfrm>
            <a:off x="4029120" y="2216160"/>
            <a:ext cx="362088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3810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ff00"/>
                </a:solidFill>
                <a:latin typeface="Arial"/>
                <a:ea typeface="Times New Roman"/>
              </a:rPr>
              <a:t>Основными рабочими мышцами руки, отвечающими за перемещение предплечья, являются бицепс (двуглавая мышца) </a:t>
            </a:r>
            <a:br>
              <a:rPr sz="2600"/>
            </a:br>
            <a:r>
              <a:rPr b="1" i="1" lang="ru-RU" sz="2600" spc="-1" strike="noStrike">
                <a:solidFill>
                  <a:srgbClr val="00ff00"/>
                </a:solidFill>
                <a:latin typeface="Arial"/>
                <a:ea typeface="Times New Roman"/>
              </a:rPr>
              <a:t>и трицепс (трехглавая мышца)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ff00"/>
                </a:solidFill>
                <a:latin typeface="Arial"/>
                <a:ea typeface="Times New Roman"/>
              </a:rPr>
              <a:t>Как все мышц, они не могут создавать толкающих усилий – они могут только тянуть.</a:t>
            </a:r>
            <a:r>
              <a:rPr b="1" i="1" lang="ru-RU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23760" y="1389240"/>
            <a:ext cx="36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0" y="464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4800600" y="3692520"/>
            <a:ext cx="400212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огда человек поднимает одной рукой предмет, бицепс сокращается, а  трицепс удлиняется.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Когда человек опускает предмет, происходит противоположное.</a:t>
            </a:r>
            <a:r>
              <a:rPr b="1" i="1" lang="ru-RU" sz="26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39" name="Picture 14" descr="00047-009"/>
          <p:cNvPicPr/>
          <p:nvPr/>
        </p:nvPicPr>
        <p:blipFill>
          <a:blip r:embed="rId3"/>
          <a:stretch/>
        </p:blipFill>
        <p:spPr>
          <a:xfrm>
            <a:off x="4572000" y="189000"/>
            <a:ext cx="43560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ff"/>
                </a:solidFill>
                <a:latin typeface="Arial"/>
                <a:ea typeface="Times New Roman"/>
              </a:rPr>
              <a:t>В своей работе я не рассматривала вопросы, связанные с  электрическими и электромагнитными  явлениями в организме челове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Мне кажется, что очень интересно изучить и биоритмы природы и челове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c893e"/>
                </a:solidFill>
                <a:latin typeface="Arial"/>
                <a:ea typeface="Times New Roman"/>
              </a:rPr>
              <a:t>Не описаны мною также тепловые свойства и законы</a:t>
            </a:r>
            <a:r>
              <a:rPr b="1" i="1" lang="ru-RU" sz="2400" spc="-1" strike="noStrike">
                <a:solidFill>
                  <a:srgbClr val="dc893e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dc893e"/>
                </a:solidFill>
                <a:latin typeface="Arial"/>
                <a:ea typeface="Times New Roman"/>
              </a:rPr>
              <a:t>тепловых явлений</a:t>
            </a:r>
            <a:r>
              <a:rPr b="1" i="1" lang="ru-RU" sz="2400" spc="-1" strike="noStrike">
                <a:solidFill>
                  <a:srgbClr val="dc893e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dc893e"/>
                </a:solidFill>
                <a:latin typeface="Arial"/>
                <a:ea typeface="Times New Roman"/>
              </a:rPr>
              <a:t> процесс зрения, то есть связи человеческого организма с оптическими явления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6400800" y="-8305920"/>
            <a:ext cx="3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0" y="-19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5410080" y="4800600"/>
            <a:ext cx="3353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Интересны вопросы, связанные с обменом веществ  и влиянием радиоактивных явлений на наш организм.</a:t>
            </a:r>
            <a:r>
              <a:rPr b="1" i="1" lang="ru-RU" sz="2400" spc="-1" strike="noStrike">
                <a:solidFill>
                  <a:srgbClr val="66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45" name="Picture 13" descr="zlove1"/>
          <p:cNvPicPr/>
          <p:nvPr/>
        </p:nvPicPr>
        <p:blipFill>
          <a:blip r:embed="rId4"/>
          <a:stretch/>
        </p:blipFill>
        <p:spPr>
          <a:xfrm>
            <a:off x="5508720" y="333360"/>
            <a:ext cx="2857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276360" y="45720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Типичным случаем использования инерции в живом мире являются прыжки: тело 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человека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находится под действием силы, развиваемой мышцами 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ног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,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лишь в начале прыжка, пока ноги не отделил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сь от земл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В дальнейшем  никакого двигательного усилия уже не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нужно: тело движется вперед, преодолевая сопротивление воздуха и частично силу тяжести, исключительно вследствие инерци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6" name="Picture 12" descr="IMG_3033%21"/>
          <p:cNvPicPr/>
          <p:nvPr/>
        </p:nvPicPr>
        <p:blipFill>
          <a:blip r:embed="rId3"/>
          <a:stretch/>
        </p:blipFill>
        <p:spPr>
          <a:xfrm>
            <a:off x="0" y="0"/>
            <a:ext cx="2782800" cy="4175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4" descr="zatyajnoi-pryjok"/>
          <p:cNvPicPr/>
          <p:nvPr/>
        </p:nvPicPr>
        <p:blipFill>
          <a:blip r:embed="rId4"/>
          <a:stretch/>
        </p:blipFill>
        <p:spPr>
          <a:xfrm>
            <a:off x="755640" y="3500280"/>
            <a:ext cx="2413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I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КОН НЬЮТО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ИЛА – ПРИЧИНА УСКОР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корение прямо пропорционально действующей на тело силе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обратно пропорционально массе тела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078000" y="30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1143000" y="4343400"/>
                <a:ext cx="670572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Растягивая динамометр двумя руками, человек может развить силу, равную по меньшей мере 100 Н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Упираясь ногами в петлю, он сможет тянуть веревку вверх с силой около </a:t>
            </a:r>
            <a:br>
              <a:rPr sz="2800"/>
            </a:b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1000 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Развиваемая при этом сила называется становой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3" name="Picture 16" descr="n6001"/>
          <p:cNvPicPr/>
          <p:nvPr/>
        </p:nvPicPr>
        <p:blipFill>
          <a:blip r:embed="rId4"/>
          <a:stretch/>
        </p:blipFill>
        <p:spPr>
          <a:xfrm>
            <a:off x="4716360" y="0"/>
            <a:ext cx="4176720" cy="3298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0" descr="03a-i3"/>
          <p:cNvPicPr/>
          <p:nvPr/>
        </p:nvPicPr>
        <p:blipFill>
          <a:blip r:embed="rId5"/>
          <a:stretch/>
        </p:blipFill>
        <p:spPr>
          <a:xfrm>
            <a:off x="1187280" y="5972040"/>
            <a:ext cx="3810240" cy="885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2" descr="274219502"/>
          <p:cNvPicPr/>
          <p:nvPr/>
        </p:nvPicPr>
        <p:blipFill>
          <a:blip r:embed="rId6"/>
          <a:stretch/>
        </p:blipFill>
        <p:spPr>
          <a:xfrm>
            <a:off x="5292720" y="3048120"/>
            <a:ext cx="3476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63160" y="404280"/>
            <a:ext cx="41641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Но есть способы, с помощью которых можно увеличить значение силы, развиваемой человеко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Нам на помощь приходит </a:t>
            </a:r>
            <a:br>
              <a:rPr sz="2400"/>
            </a:b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II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закон Ньютона. Человек сможет развить большую силу, если будет двигаться с ускорение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Поэтому, чтобы прыгнуть дальше, спортсмен разгоняется. Сильнее получатся и удар, если он сделан с размаха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7" name="Picture 12" descr="1198472872_07"/>
          <p:cNvPicPr/>
          <p:nvPr/>
        </p:nvPicPr>
        <p:blipFill>
          <a:blip r:embed="rId4"/>
          <a:stretch/>
        </p:blipFill>
        <p:spPr>
          <a:xfrm>
            <a:off x="4707000" y="907920"/>
            <a:ext cx="44370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723920" y="404640"/>
            <a:ext cx="4419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Мышечная ткань обладает свойством сокращаться и растягиваться, ей присущи эластичность и упругость, то есть способность восстанавливать свою форму после прекращения действия деформирующего усил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При этом упругие характеристики мышечной ткани выше, чем такие же  показатели искусственных материалов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6400800" y="-3905280"/>
            <a:ext cx="36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30492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«Источником» силы в теле человека являются мышц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теле человека их насчитывается около 600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1" name="Picture 8" descr=""/>
          <p:cNvPicPr/>
          <p:nvPr/>
        </p:nvPicPr>
        <p:blipFill>
          <a:blip r:embed="rId3"/>
          <a:stretch/>
        </p:blipFill>
        <p:spPr>
          <a:xfrm>
            <a:off x="457200" y="2362320"/>
            <a:ext cx="38098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II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ЗАКОН НЬЮТО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1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Оказывается и третий закон Ньютона оказывается справедливым, если его рассматривать, применительно к человеку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029120" y="1598760"/>
            <a:ext cx="36208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C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  <a:ea typeface="Times New Roman"/>
              </a:rPr>
              <a:t>ила действия, равна силе противодейств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4073400" y="31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305320" y="3933720"/>
                <a:ext cx="289404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10:41:22Z</dcterms:created>
  <dc:creator>Даневич Наталья</dc:creator>
  <dc:description/>
  <dc:language>en-US</dc:language>
  <cp:lastModifiedBy>кабинет11</cp:lastModifiedBy>
  <dcterms:modified xsi:type="dcterms:W3CDTF">2013-03-20T16:01:01Z</dcterms:modified>
  <cp:revision>36</cp:revision>
  <dc:subject/>
  <dc:title>РЕФЕРАТ ПО ФИЗИКЕ</dc:title>
</cp:coreProperties>
</file>