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B63A-2216-4F23-A5FE-8C63DDF97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5C41-51E1-423D-BA63-E5C7C2D2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C499-9ABC-41B0-9523-6228A834C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D03D-CFC5-470D-B204-67756E0B2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D2BB7-CDF5-492A-B28D-D9C555EBF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CB9A-11FD-4B6C-8F9F-D5BDDE98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E9DD-8C62-47A9-A834-2F71F95F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E0E0-578D-4B29-AC0F-0DF3B587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98DA-E2DD-4C79-832C-0588BB59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D432-7789-4A08-AFA8-0805E4F16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3555-483A-4443-92DC-B4A50304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F171-A024-4A02-92FD-8DD73A92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249F-1534-4D5D-9F0B-10A47F61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29C9-34DA-499D-8BC5-02CDF312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F627-D08F-441E-AB83-28C62100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A15A-F24E-40F6-BC00-E7CC4A212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88FD-B3DE-46C7-B543-47B8CE2DA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00C1-C563-4122-B8E9-302411E3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D3DF-716E-45C6-827D-BF5E65EC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F82A-B4F1-49D1-9E3E-93A00F88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FC52-C6F3-4801-A1CA-828C520A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C5FE-4CCC-465D-9850-224191B5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8490-57EC-48F6-8968-006060D2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58E0-4111-45DE-9103-1762F8FB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1C35-E1CD-4EC5-A4B7-1F6488F1B14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2AC8-AB8A-4D9E-8779-14A53D92E1B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         </a:t>
            </a: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Спорт </a:t>
            </a:r>
            <a:r>
              <a:rPr b="1" lang="tt-RU" sz="2800" spc="-1" strike="noStrike">
                <a:solidFill>
                  <a:srgbClr val="ffffb7"/>
                </a:solidFill>
                <a:latin typeface="Arial Black"/>
              </a:rPr>
              <a:t>һәм    сәламәтлек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385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ffb7"/>
                </a:solidFill>
                <a:latin typeface="Arial Black"/>
              </a:rPr>
              <a:t>Спорт тарихы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0" name="Picture 4" descr="сканирование002"/>
          <p:cNvPicPr/>
          <p:nvPr/>
        </p:nvPicPr>
        <p:blipFill>
          <a:blip r:embed="rId1"/>
          <a:stretch/>
        </p:blipFill>
        <p:spPr>
          <a:xfrm>
            <a:off x="1600200" y="2133720"/>
            <a:ext cx="663480" cy="1371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сканирование003"/>
          <p:cNvPicPr/>
          <p:nvPr/>
        </p:nvPicPr>
        <p:blipFill>
          <a:blip r:embed="rId2"/>
          <a:stretch/>
        </p:blipFill>
        <p:spPr>
          <a:xfrm>
            <a:off x="5722920" y="2666880"/>
            <a:ext cx="135432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ffb7"/>
                </a:solidFill>
                <a:latin typeface="Arial Black"/>
              </a:rPr>
              <a:t>Олимпия ярышлары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" name="Picture 4" descr="сканирование004"/>
          <p:cNvPicPr/>
          <p:nvPr/>
        </p:nvPicPr>
        <p:blipFill>
          <a:blip r:embed="rId1"/>
          <a:stretch/>
        </p:blipFill>
        <p:spPr>
          <a:xfrm>
            <a:off x="3657600" y="2362320"/>
            <a:ext cx="219852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ffb7"/>
                </a:solidFill>
                <a:latin typeface="Arial Black"/>
              </a:rPr>
              <a:t>Олимпиада талисманы - Аю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5" name="Picture 6" descr="сканирование005"/>
          <p:cNvPicPr/>
          <p:nvPr/>
        </p:nvPicPr>
        <p:blipFill>
          <a:blip r:embed="rId1"/>
          <a:stretch/>
        </p:blipFill>
        <p:spPr>
          <a:xfrm>
            <a:off x="3962520" y="2500200"/>
            <a:ext cx="1655640" cy="11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2295720"/>
            <a:ext cx="76320" cy="55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Picture 4" descr="сканирование003"/>
          <p:cNvPicPr/>
          <p:nvPr/>
        </p:nvPicPr>
        <p:blipFill>
          <a:blip r:embed="rId1"/>
          <a:stretch/>
        </p:blipFill>
        <p:spPr>
          <a:xfrm>
            <a:off x="1488960" y="2514600"/>
            <a:ext cx="725760" cy="1828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сканирование002"/>
          <p:cNvPicPr/>
          <p:nvPr/>
        </p:nvPicPr>
        <p:blipFill>
          <a:blip r:embed="rId2"/>
          <a:stretch/>
        </p:blipFill>
        <p:spPr>
          <a:xfrm>
            <a:off x="4784760" y="2666880"/>
            <a:ext cx="221292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ffb7"/>
                </a:solidFill>
                <a:latin typeface="Arial Black"/>
              </a:rPr>
              <a:t>Уриверсиада төзелешенең планы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Picture 4" descr="сканирование002"/>
          <p:cNvPicPr/>
          <p:nvPr/>
        </p:nvPicPr>
        <p:blipFill>
          <a:blip r:embed="rId1"/>
          <a:stretch/>
        </p:blipFill>
        <p:spPr>
          <a:xfrm>
            <a:off x="4267080" y="2717640"/>
            <a:ext cx="18655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5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ffb7"/>
                </a:solidFill>
                <a:latin typeface="Arial Black"/>
              </a:rPr>
              <a:t>Танылган спортчыларыбыз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Picture 4" descr="сканирование006"/>
          <p:cNvPicPr/>
          <p:nvPr/>
        </p:nvPicPr>
        <p:blipFill>
          <a:blip r:embed="rId1"/>
          <a:stretch/>
        </p:blipFill>
        <p:spPr>
          <a:xfrm>
            <a:off x="1798560" y="2286000"/>
            <a:ext cx="1630440" cy="1438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сканирование007"/>
          <p:cNvPicPr/>
          <p:nvPr/>
        </p:nvPicPr>
        <p:blipFill>
          <a:blip r:embed="rId2"/>
          <a:stretch/>
        </p:blipFill>
        <p:spPr>
          <a:xfrm>
            <a:off x="4724280" y="2473200"/>
            <a:ext cx="1231920" cy="13366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560" y="3962520"/>
            <a:ext cx="84582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Елена Исинбаева          Гөлнара Сәмитова       Динара Сафина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11" descr="сканирование008"/>
          <p:cNvPicPr/>
          <p:nvPr/>
        </p:nvPicPr>
        <p:blipFill>
          <a:blip r:embed="rId3"/>
          <a:stretch/>
        </p:blipFill>
        <p:spPr>
          <a:xfrm>
            <a:off x="7086600" y="2311560"/>
            <a:ext cx="138276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сканирование009"/>
          <p:cNvPicPr/>
          <p:nvPr/>
        </p:nvPicPr>
        <p:blipFill>
          <a:blip r:embed="rId1"/>
          <a:stretch/>
        </p:blipFill>
        <p:spPr>
          <a:xfrm>
            <a:off x="2438280" y="2362320"/>
            <a:ext cx="101304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сканирование005"/>
          <p:cNvPicPr/>
          <p:nvPr/>
        </p:nvPicPr>
        <p:blipFill>
          <a:blip r:embed="rId2"/>
          <a:stretch/>
        </p:blipFill>
        <p:spPr>
          <a:xfrm>
            <a:off x="5257800" y="2438280"/>
            <a:ext cx="1239840" cy="9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5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ffb7"/>
                </a:solidFill>
                <a:latin typeface="Arial Black"/>
              </a:rPr>
              <a:t>Татарстанның танылган футбол командасы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Picture 4" descr="сканирование003"/>
          <p:cNvPicPr/>
          <p:nvPr/>
        </p:nvPicPr>
        <p:blipFill>
          <a:blip r:embed="rId1"/>
          <a:stretch/>
        </p:blipFill>
        <p:spPr>
          <a:xfrm>
            <a:off x="3276720" y="2362320"/>
            <a:ext cx="23619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LIAS</cp:lastModifiedBy>
  <dcterms:modified xsi:type="dcterms:W3CDTF">2013-03-20T20:05:1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