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0035-202A-40BB-B7AF-41ADB3F8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892-31B1-4E24-9EC6-6E33A0F1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BAC6-FC40-44B9-A2DA-A54D74FA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D821-6683-420E-A837-FA58B5D6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13EB-22B1-4A57-B9E9-BD2553CF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B194-C816-48B3-827C-79E36EB4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202A-2DDE-4908-8AF2-8EB07032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5BE8-5B15-4BA2-A561-E622C578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2951-7EB6-42A6-9E08-C52FD616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4508-D6BA-40C2-AF59-AC624C4E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0779-CB9B-413A-AB5B-60913C34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F3E6-A80E-47B9-8B4B-AF2460D3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3FB9-B4F5-4469-B4FE-7DCA3EDA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3009-ADA6-49ED-AB69-E507EADD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B516-CCDA-49C5-BA8A-BE74A2A2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62EF-946E-4CE2-8A5E-25A3C49F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BCAA-59BD-4B2B-9B23-2EF316A3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4A3-8439-42F2-BFC4-9C3072C3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C12-24EC-40E0-B554-ED7FBDAB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FD2-5244-4F9A-93F4-538F6015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5EE-BEF3-4309-BD7B-EB05D551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2FD7-7F56-4003-BA1F-D3A343C3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531-E234-45AD-9703-7B26AD9E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B820-E0E4-44CB-ACE2-E28E035D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6CFD-B818-45E7-8466-933C0D50FA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3651-7652-4CC3-9C07-17D2120D835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Спорт </a:t>
            </a:r>
            <a:r>
              <a:rPr b="1" lang="tt-RU" sz="2800" spc="-1" strike="noStrike">
                <a:solidFill>
                  <a:srgbClr val="ffffb7"/>
                </a:solidFill>
                <a:latin typeface="Arial Black"/>
              </a:rPr>
              <a:t>һәм    сәламәтлек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b7"/>
                </a:solidFill>
                <a:latin typeface="Arial Black"/>
              </a:rPr>
              <a:t>Спорт тарихы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1600200" y="2133720"/>
            <a:ext cx="663480" cy="1371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сканирование003"/>
          <p:cNvPicPr/>
          <p:nvPr/>
        </p:nvPicPr>
        <p:blipFill>
          <a:blip r:embed="rId2"/>
          <a:stretch/>
        </p:blipFill>
        <p:spPr>
          <a:xfrm>
            <a:off x="5722920" y="2666880"/>
            <a:ext cx="13543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b7"/>
                </a:solidFill>
                <a:latin typeface="Arial Black"/>
              </a:rPr>
              <a:t>Олимпия ярышлары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Picture 4" descr="сканирование004"/>
          <p:cNvPicPr/>
          <p:nvPr/>
        </p:nvPicPr>
        <p:blipFill>
          <a:blip r:embed="rId1"/>
          <a:stretch/>
        </p:blipFill>
        <p:spPr>
          <a:xfrm>
            <a:off x="3657600" y="2362320"/>
            <a:ext cx="219852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b7"/>
                </a:solidFill>
                <a:latin typeface="Arial Black"/>
              </a:rPr>
              <a:t>Олимпиада талисманы - Аю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6" descr="сканирование005"/>
          <p:cNvPicPr/>
          <p:nvPr/>
        </p:nvPicPr>
        <p:blipFill>
          <a:blip r:embed="rId1"/>
          <a:stretch/>
        </p:blipFill>
        <p:spPr>
          <a:xfrm>
            <a:off x="3962520" y="2500200"/>
            <a:ext cx="1655640" cy="11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2295720"/>
            <a:ext cx="7632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4" descr="сканирование003"/>
          <p:cNvPicPr/>
          <p:nvPr/>
        </p:nvPicPr>
        <p:blipFill>
          <a:blip r:embed="rId1"/>
          <a:stretch/>
        </p:blipFill>
        <p:spPr>
          <a:xfrm>
            <a:off x="1488960" y="2514600"/>
            <a:ext cx="72576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сканирование002"/>
          <p:cNvPicPr/>
          <p:nvPr/>
        </p:nvPicPr>
        <p:blipFill>
          <a:blip r:embed="rId2"/>
          <a:stretch/>
        </p:blipFill>
        <p:spPr>
          <a:xfrm>
            <a:off x="4784760" y="2666880"/>
            <a:ext cx="221292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b7"/>
                </a:solidFill>
                <a:latin typeface="Arial Black"/>
              </a:rPr>
              <a:t>Уриверсиада төзелешенең планы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4267080" y="2717640"/>
            <a:ext cx="18655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b7"/>
                </a:solidFill>
                <a:latin typeface="Arial Black"/>
              </a:rPr>
              <a:t>Танылган спортчыларыбыз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4" descr="сканирование006"/>
          <p:cNvPicPr/>
          <p:nvPr/>
        </p:nvPicPr>
        <p:blipFill>
          <a:blip r:embed="rId1"/>
          <a:stretch/>
        </p:blipFill>
        <p:spPr>
          <a:xfrm>
            <a:off x="1798560" y="2286000"/>
            <a:ext cx="1630440" cy="1438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сканирование007"/>
          <p:cNvPicPr/>
          <p:nvPr/>
        </p:nvPicPr>
        <p:blipFill>
          <a:blip r:embed="rId2"/>
          <a:stretch/>
        </p:blipFill>
        <p:spPr>
          <a:xfrm>
            <a:off x="4724280" y="2473200"/>
            <a:ext cx="1231920" cy="1336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39625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Елена Исинбаева          Гөлнара Сәмитова       Динара Сафина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1" descr="сканирование008"/>
          <p:cNvPicPr/>
          <p:nvPr/>
        </p:nvPicPr>
        <p:blipFill>
          <a:blip r:embed="rId3"/>
          <a:stretch/>
        </p:blipFill>
        <p:spPr>
          <a:xfrm>
            <a:off x="7086600" y="2311560"/>
            <a:ext cx="13827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сканирование009"/>
          <p:cNvPicPr/>
          <p:nvPr/>
        </p:nvPicPr>
        <p:blipFill>
          <a:blip r:embed="rId1"/>
          <a:stretch/>
        </p:blipFill>
        <p:spPr>
          <a:xfrm>
            <a:off x="2438280" y="2362320"/>
            <a:ext cx="101304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сканирование005"/>
          <p:cNvPicPr/>
          <p:nvPr/>
        </p:nvPicPr>
        <p:blipFill>
          <a:blip r:embed="rId2"/>
          <a:stretch/>
        </p:blipFill>
        <p:spPr>
          <a:xfrm>
            <a:off x="5257800" y="2438280"/>
            <a:ext cx="123984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b7"/>
                </a:solidFill>
                <a:latin typeface="Arial Black"/>
              </a:rPr>
              <a:t>Татарстанның танылган футбол командасы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Picture 4" descr="сканирование003"/>
          <p:cNvPicPr/>
          <p:nvPr/>
        </p:nvPicPr>
        <p:blipFill>
          <a:blip r:embed="rId1"/>
          <a:stretch/>
        </p:blipFill>
        <p:spPr>
          <a:xfrm>
            <a:off x="3276720" y="2362320"/>
            <a:ext cx="23619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LIAS</cp:lastModifiedBy>
  <dcterms:modified xsi:type="dcterms:W3CDTF">2013-03-20T20:05:1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