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03E4-5152-4A89-86F2-45DD453DC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0B96-3D13-4708-A68E-DD6EDDAA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DD7F-F550-44E5-80BF-7809650D5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4FAA-36C8-40D4-8E1F-5875691D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E60C-48AA-4EC1-8D6B-F2614492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3A76-6EFA-401E-9322-F04525A9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0836-97FC-4E02-A1BD-644EF705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164A-0131-42A1-B91B-AE5EEC97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AE19-BA87-4151-B088-79DC38FB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862B-425B-4B3F-B506-81C7E3D3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195B-D7B2-44CA-873F-C11DD597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62E0-063C-4C75-B359-659FEBDA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29BF-CE14-4A74-ABC4-AFCD77F8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7044-6880-463B-BB0C-C350A115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02B1-4342-4FF1-B3C7-A3DC8EDE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3BE4-C691-4566-B312-86253DD1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EF07-6979-47CF-A92D-1010EC9C5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5CE94-3C34-466D-B228-93969AE6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66D1E-89E4-4A1B-99FC-1FC6F50D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08758-0B48-42D8-817A-5A6B36C3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D788D-114A-4B6D-9888-A731100B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06646-97B9-4F6D-ACDD-032C3231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EEC6-9F93-4EE7-BD51-C9D4D8D3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CFE1F-095B-4323-9BB4-8A6B63FB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82132-BB1A-4FFF-93CA-B1D89201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7FE92-EEAD-4780-9CC4-6A96A512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A75FC-354A-4FBD-A050-B642028F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6F119-5F82-4E00-8792-8A8D0742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65CE8-EC2C-4E85-AAC9-0BB62DAF6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E74C3-0EC9-4229-9B7C-05B4A9F5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4CEF5-F151-49D6-8406-97BFABF97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BD18B-2EF4-42AD-B6FF-0698D875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F1F58-CEBC-4D18-877D-279D82A2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022A-DDD4-47E6-A7F5-A28C2D23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3EEE3-7ED2-4158-BA74-D5C16F26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F06BD-D503-47E4-A057-867DB7F8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DBE78-56FF-411D-84E6-3B102B70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5D4E7-E1EB-473E-A1B9-CF97AD83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63D52-FD1E-47E6-95F7-8261F96A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C6B34-FF5E-4C63-900C-482CF91A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C9D44-6B54-4E6E-8F37-9758A41F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3586C-1D1F-45DF-B3B0-4CC1CC8BC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3CBEE-FE22-44D9-AEEF-34901A1AC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56797-8591-4557-A883-0B26AE491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70DB-51C9-4EBA-8884-48E9B10B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8B2D0-9F64-459D-BD1D-F1E3CBA2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53FDC-3F2E-4EC4-8B02-093EB333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FA42D-0454-4889-B3C7-95E4406F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26E0D-C18E-4E95-91C1-142A7A35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5EA96-4188-485A-B728-FE6C26DF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EA0DC-847D-4493-9E50-F024201A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669DD-0DC6-4528-B1FE-B9CB228A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A545B-DA70-4895-8B8F-2BA20521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0ACA8-36B2-4CCB-9ABD-D3BD289E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EEB57-C8E0-4C7D-9750-F08A1E8F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7849-6DAB-493F-9A10-E10BA0D5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03C82-CF3F-481F-9A95-1D543E881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AAB0-8016-420E-B85A-4F2526C9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F5E6-3B37-43C3-AA57-285DA822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116B-9D8E-4C04-875D-08EE2486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C399-FE48-447B-BDCD-D5DEE50A76EF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3320-4AFA-454E-950D-1B6126064C5B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BD40-FE81-44DE-8071-CBA245F210C5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B2EB-3BB6-4B22-A0D6-0873DA6A77C4}" type="slidenum">
              <a:rPr b="0" lang="ru-RU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E510-03CD-43D7-BAD5-2A3CBFA6C5BF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raipon.org/Portals/8/foto_news2/DSC04333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КОНСПЕКТ ЗАНЯТИЯ КУРСА </a:t>
            </a:r>
            <a:br>
              <a:rPr sz="3200"/>
            </a:br>
            <a:r>
              <a:rPr b="0" lang="ru-RU" sz="3600" spc="-1" strike="noStrike">
                <a:solidFill>
                  <a:srgbClr val="000000"/>
                </a:solidFill>
                <a:latin typeface="Franklin Gothic Medium"/>
              </a:rPr>
              <a:t>«ОСНОВЫ РЕЛИГИОЗНЫХ КУЛЬТУР И СВЕТСКОЙ ЭТИКИ» 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270792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Franklin Gothic Book"/>
                <a:ea typeface="Tunga"/>
              </a:rPr>
              <a:t>ТЕМА УРОКА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Franklin Gothic Book"/>
                <a:ea typeface="Tunga"/>
              </a:rPr>
              <a:t>«РЕЛИГИИ РОССИИ» 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Заголовок 1"/>
          <p:cNvSpPr/>
          <p:nvPr/>
        </p:nvSpPr>
        <p:spPr>
          <a:xfrm>
            <a:off x="684360" y="333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TextBox 5"/>
          <p:cNvSpPr/>
          <p:nvPr/>
        </p:nvSpPr>
        <p:spPr>
          <a:xfrm>
            <a:off x="4570560" y="458136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одготовила учитель начальных классов МБОУ «СОШ пос. Молодежный»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Макарова Юлия Михайловн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TextBox 6"/>
          <p:cNvSpPr/>
          <p:nvPr/>
        </p:nvSpPr>
        <p:spPr>
          <a:xfrm>
            <a:off x="2987640" y="6021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2012-2013 учебный год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ЗАПАДНАЯ СИБИРЬ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4711680" y="1676520"/>
            <a:ext cx="3173400" cy="2400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"/>
          <p:cNvPicPr/>
          <p:nvPr/>
        </p:nvPicPr>
        <p:blipFill>
          <a:blip r:embed="rId2"/>
          <a:stretch/>
        </p:blipFill>
        <p:spPr>
          <a:xfrm>
            <a:off x="2700360" y="3941640"/>
            <a:ext cx="3456000" cy="2484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3"/>
          <a:stretch/>
        </p:blipFill>
        <p:spPr>
          <a:xfrm>
            <a:off x="420840" y="1700280"/>
            <a:ext cx="37908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000000"/>
                </a:solidFill>
                <a:uFillTx/>
                <a:latin typeface="Franklin Gothic Medium"/>
              </a:rPr>
              <a:t>РЕЛИГИЯ</a:t>
            </a:r>
            <a:r>
              <a:rPr b="0" lang="ru-RU" sz="7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br>
              <a:rPr sz="7200"/>
            </a:br>
            <a:r>
              <a:rPr b="0" i="1" lang="ru-RU" sz="7200" spc="-1" strike="noStrike">
                <a:solidFill>
                  <a:srgbClr val="000000"/>
                </a:solidFill>
                <a:latin typeface="Franklin Gothic Medium"/>
              </a:rPr>
              <a:t>«БЛАГОЧЕСТИЕ, СВЯТЫНЯ»</a:t>
            </a:r>
            <a:endParaRPr b="0" lang="en-US" sz="7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5" name=""/>
          <p:cNvSpPr txBox="1"/>
          <p:nvPr/>
        </p:nvSpPr>
        <p:spPr>
          <a:xfrm rot="10800000">
            <a:off x="1546920" y="6126120"/>
            <a:ext cx="713916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ХРИСТИАНСТВО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755640" y="1531800"/>
            <a:ext cx="2376360" cy="23958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"/>
          <p:cNvPicPr/>
          <p:nvPr/>
        </p:nvPicPr>
        <p:blipFill>
          <a:blip r:embed="rId2"/>
          <a:stretch/>
        </p:blipFill>
        <p:spPr>
          <a:xfrm>
            <a:off x="6516720" y="1557360"/>
            <a:ext cx="1871640" cy="2158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"/>
          <p:cNvPicPr/>
          <p:nvPr/>
        </p:nvPicPr>
        <p:blipFill>
          <a:blip r:embed="rId3"/>
          <a:stretch/>
        </p:blipFill>
        <p:spPr>
          <a:xfrm>
            <a:off x="3184560" y="2774880"/>
            <a:ext cx="33321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ИСЛАМ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5724360" y="1413000"/>
            <a:ext cx="3024360" cy="2232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"/>
          <p:cNvPicPr/>
          <p:nvPr/>
        </p:nvPicPr>
        <p:blipFill>
          <a:blip r:embed="rId2"/>
          <a:stretch/>
        </p:blipFill>
        <p:spPr>
          <a:xfrm>
            <a:off x="468360" y="4199040"/>
            <a:ext cx="3286080" cy="2376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3"/>
          <a:stretch/>
        </p:blipFill>
        <p:spPr>
          <a:xfrm>
            <a:off x="3129120" y="2781360"/>
            <a:ext cx="295560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БУДДИЗМ (БУДДИЙСКИЙ ХРАМ)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763040" cy="55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ИУДАИЗМ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2484360" y="1855800"/>
            <a:ext cx="38880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Что вы можете рассказать о возникновении религий мира членам своей семьи?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Franklin Gothic Book"/>
              </a:rPr>
              <a:t>Что вам особенно запомнилось из сказанного на уроке?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Franklin Gothic Medium"/>
              </a:rPr>
              <a:t>ОБОБЩЕНИЕ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Franklin Gothic Medium"/>
              </a:rPr>
              <a:t>ИТОГ УРОК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Franklin Gothic Book"/>
              </a:rPr>
              <a:t>Будьте  добрыми, терпимыми, уважайте друг друга, дружите, любите людей и свою Родину</a:t>
            </a:r>
            <a:endParaRPr b="1" lang="en-US" sz="5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Franklin Gothic Medium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800" spc="-1" strike="noStrike">
                <a:solidFill>
                  <a:srgbClr val="000000"/>
                </a:solidFill>
                <a:latin typeface="바탕"/>
                <a:ea typeface="바탕"/>
              </a:rPr>
              <a:t>Составьте кроссворд по изученной теме</a:t>
            </a:r>
            <a:endParaRPr b="1" lang="en-US" sz="6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 rot="20253600">
            <a:off x="563040" y="1152360"/>
            <a:ext cx="7761600" cy="22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Россия – многонациональная страна и в ней представлены все мировые религиозные культуры;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В связи с участившимися межнациональными конфликтами на территории нашей страны важно воспитывать у детей толерантное отношение к людям с разными взглядами, идеалами, представлениями, верованиями.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АКТУАЛЬНОСТЬ ТЕМЫ УРОК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ЦЕЛЬ УРОК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0000"/>
                </a:solidFill>
                <a:latin typeface="Franklin Gothic Book"/>
                <a:ea typeface="Aharoni"/>
              </a:rPr>
              <a:t>Продолжить формирование знаний по возникновению религий мира.</a:t>
            </a:r>
            <a:endParaRPr b="1" lang="en-US" sz="5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Образовательные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Продолжить работу по формированию понятия «религия»;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Определение основополагающих идей религий мира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Воспитательные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Способствовать восприятию толерантного отношения к религиозным культурам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Умение взаимодействовать в группе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Развивающие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Умение работать с текстовым материалом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Умение аргументированно отвечать на вопросы;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Использование иллюстрированного материала для развития художественного восприятия;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Развитие воображения, мышления, внимания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ЗАДАЧИ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ЖИВУТ В РОССИИ РАЗНЫЕ НАРОДЫ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29" name="Picture 2" descr="Картинка 12 из 1661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341360"/>
            <a:ext cx="741708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Franklin Gothic Medium"/>
              </a:rPr>
              <a:t>ЦЕНТРАЛЬНАЯ РОССИИ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1" name="Picture 2" descr="http://im8-tub-ru.yandex.net/i?id=172434838-16-72"/>
          <p:cNvPicPr/>
          <p:nvPr/>
        </p:nvPicPr>
        <p:blipFill>
          <a:blip r:embed="rId1"/>
          <a:stretch/>
        </p:blipFill>
        <p:spPr>
          <a:xfrm>
            <a:off x="479520" y="1108080"/>
            <a:ext cx="3084480" cy="2246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395280" y="3846600"/>
            <a:ext cx="3600360" cy="2927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3"/>
          <a:stretch/>
        </p:blipFill>
        <p:spPr>
          <a:xfrm>
            <a:off x="4284720" y="2043000"/>
            <a:ext cx="39020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ЮЖНАЯ РОССИЯ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2843280" y="1459080"/>
            <a:ext cx="3241440" cy="2232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"/>
          <p:cNvPicPr/>
          <p:nvPr/>
        </p:nvPicPr>
        <p:blipFill>
          <a:blip r:embed="rId2"/>
          <a:stretch/>
        </p:blipFill>
        <p:spPr>
          <a:xfrm>
            <a:off x="395280" y="3213000"/>
            <a:ext cx="2924280" cy="2468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"/>
          <p:cNvPicPr/>
          <p:nvPr/>
        </p:nvPicPr>
        <p:blipFill>
          <a:blip r:embed="rId3"/>
          <a:stretch/>
        </p:blipFill>
        <p:spPr>
          <a:xfrm>
            <a:off x="4859280" y="3573360"/>
            <a:ext cx="352908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Franklin Gothic Medium"/>
              </a:rPr>
              <a:t>ПОВОЛЖЬЕ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900000" y="1397160"/>
            <a:ext cx="3456000" cy="2463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"/>
          <p:cNvPicPr/>
          <p:nvPr/>
        </p:nvPicPr>
        <p:blipFill>
          <a:blip r:embed="rId2"/>
          <a:stretch/>
        </p:blipFill>
        <p:spPr>
          <a:xfrm>
            <a:off x="4932360" y="1397160"/>
            <a:ext cx="3527280" cy="2463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"/>
          <p:cNvPicPr/>
          <p:nvPr/>
        </p:nvPicPr>
        <p:blipFill>
          <a:blip r:embed="rId3"/>
          <a:stretch/>
        </p:blipFill>
        <p:spPr>
          <a:xfrm>
            <a:off x="2124000" y="3933720"/>
            <a:ext cx="4392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 rot="19140000">
            <a:off x="-461880" y="756720"/>
            <a:ext cx="5211720" cy="108936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Franklin Gothic Medium"/>
              </a:rPr>
              <a:t>УРАЛ</a:t>
            </a:r>
            <a:endParaRPr b="0" lang="en-US" sz="6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749840" y="2619360"/>
            <a:ext cx="380664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 rot="19140000">
            <a:off x="-107640" y="2903040"/>
            <a:ext cx="4486320" cy="16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Franklin Gothic Book"/>
              </a:rPr>
              <a:t>   </a:t>
            </a:r>
            <a:r>
              <a:rPr b="1" i="1" lang="ru-RU" sz="2000" spc="-1" strike="noStrike">
                <a:solidFill>
                  <a:srgbClr val="ffffff"/>
                </a:solidFill>
                <a:latin typeface="Franklin Gothic Book"/>
              </a:rPr>
              <a:t>В центре нашей страны расположен удивительный край – Урал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Franklin Gothic Book"/>
              </a:rPr>
              <a:t>Природные богатства привлекали людей самых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Franklin Gothic Book"/>
              </a:rPr>
              <a:t>разных национальностей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3708360" y="260280"/>
            <a:ext cx="4751280" cy="18734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3708360" y="2217600"/>
            <a:ext cx="4751280" cy="16430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"/>
          <p:cNvPicPr/>
          <p:nvPr/>
        </p:nvPicPr>
        <p:blipFill>
          <a:blip r:embed="rId3"/>
          <a:stretch/>
        </p:blipFill>
        <p:spPr>
          <a:xfrm>
            <a:off x="3708360" y="3933720"/>
            <a:ext cx="475128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15:08:57Z</dcterms:created>
  <dc:creator>Радик</dc:creator>
  <dc:description/>
  <dc:language>en-US</dc:language>
  <cp:lastModifiedBy>Макарова</cp:lastModifiedBy>
  <dcterms:modified xsi:type="dcterms:W3CDTF">2013-03-21T16:09:21Z</dcterms:modified>
  <cp:revision>10</cp:revision>
  <dc:subject/>
  <dc:title>Конспект занятия курса  «Основы религиозных культур и светской этики»</dc:title>
</cp:coreProperties>
</file>