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4625-54D5-46E0-8C38-DD8137437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4AD6-3AA9-4F71-A429-FBD28B59A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F41C-14E3-4B59-9C36-EB758CE95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1866-F4DF-4EB4-8771-056495E04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48C14-931A-4BE7-81BD-D8E4738DF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1885C-14EE-4BC7-B38E-58AFF1CCA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9AFA8-9BAC-4CA7-8790-F6598EE3C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C930D-4605-4305-AF0B-A9421599E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75FBC-F86E-4203-B93F-A888F1AD1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E073C-9284-466D-881E-8F7F2F066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3E59C-D9B9-4D6D-AB87-80E3FA2A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5EC5-CE76-4579-863A-68D5BAD8E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768F8-E680-4F52-9C95-38AAF584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98151-0854-4593-BE2F-054E307D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67698-A6FC-4A7C-8F9A-A8462669D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047A9-AC41-4EAF-BEEB-A56460AF2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78AE5-73A8-40F6-921D-D368BC983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07BE8-37EE-40FE-8474-C61F07FB4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02C4D-F6C5-45E5-8B6A-5527A3EE4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1F807-EC21-49BA-92A3-4EEE5B591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98F53-B32E-4154-9BE6-674A8A0ED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3D591-4FF8-4442-8082-4874E557E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94FE-62EE-4FD7-B539-1D0C51A23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40CB3-4CF8-401C-92ED-5B5CA0BC9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A610A-794E-4B8F-88E6-3157C449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DEB7E-C64C-41B6-9519-5500FBEF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826C2-26DB-475F-850B-8BEA9DE7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8E4F4-160D-4B2E-8CDE-277F48C1D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925C9-3239-4332-8453-771B119F7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95657-EBC9-4A3A-A04D-E6680DAF3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BAC19-7690-416A-B6D7-BCBAAFD25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F00F8-1F61-4D60-9A9B-9E63198B6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D7D3F-9700-4BBC-A676-8FECF6FF3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155E-1893-48AC-9C51-F4D1AE403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E1ACB-970D-49B9-80BE-4A4E54EDE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AC487-5E6F-40B1-97EF-AB5A00911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24888-4A84-4584-8D6E-26D28BB58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FCEE7-976E-44A1-8373-F5786FC1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A681F-CED2-4E43-B25F-3B8CEACB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2DADB-6AB7-4056-8A76-F720C17F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227F9-BFED-4623-80B2-4A307F22B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04250-2F9B-44DB-8B2C-8848C63D5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7AE3C-9CB8-408A-AE9B-1424CD688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93319-C4F8-4425-B437-018AE979E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F9E1-B76C-430A-A86E-B94D5D0D7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FFB55-80BE-4917-9B65-4C500D5A6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46003-67A6-4EB9-A157-52771199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5E95C-52E0-431D-A7D0-F7173CE5A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11427-1157-4F0D-89D2-2DDCF853F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DC933-25ED-487E-A6E7-959DDD495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0ECF6-C7B2-4AFC-8E20-19DFCB6D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2D07C-D0FE-4E82-BA55-9F9293C7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3FC05-12C7-479F-9FD1-70461063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3851D-F8DE-45B7-89A2-3031D10F2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80FFB-D0B9-4098-ABDA-9BDE3C48B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0187-5CEF-41E9-922A-1F14A974A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3CE7B-64AF-444A-8865-BAB6CA66D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C188-D003-4742-A4A9-D0030909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9BBC-1EBF-46C1-9D53-D097FCAD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9D03-C4D5-4280-B765-3436B541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13A99-246F-484B-B036-545FC3E55D5D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CC453-CF38-420E-8962-2BA81A6F5642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A8FE7-03FD-44B6-9E6F-AE894BD5DD96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BA5E-CF6B-4FD8-957C-3914719F0680}" type="slidenum">
              <a:rPr b="0" lang="ru-RU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6F609-595D-4242-A1BD-92CD83B750FE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raipon.org/Portals/8/foto_news2/DSC04333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172872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Medium"/>
              </a:rPr>
              <a:t>КОНСПЕКТ ЗАНЯТИЯ КУРСА </a:t>
            </a:r>
            <a:br>
              <a:rPr sz="3200"/>
            </a:br>
            <a:r>
              <a:rPr b="0" lang="ru-RU" sz="3600" spc="-1" strike="noStrike">
                <a:solidFill>
                  <a:srgbClr val="000000"/>
                </a:solidFill>
                <a:latin typeface="Franklin Gothic Medium"/>
              </a:rPr>
              <a:t>«ОСНОВЫ РЕЛИГИОЗНЫХ КУЛЬТУР И СВЕТСКОЙ ЭТИКИ» 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2707920"/>
            <a:ext cx="6400800" cy="136836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Franklin Gothic Book"/>
                <a:ea typeface="Tunga"/>
              </a:rPr>
              <a:t>ТЕМА УРОКА 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Franklin Gothic Book"/>
                <a:ea typeface="Tunga"/>
              </a:rPr>
              <a:t>«РЕЛИГИИ РОССИИ» </a:t>
            </a:r>
            <a:endParaRPr b="1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Заголовок 1"/>
          <p:cNvSpPr/>
          <p:nvPr/>
        </p:nvSpPr>
        <p:spPr>
          <a:xfrm>
            <a:off x="684360" y="333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TextBox 5"/>
          <p:cNvSpPr/>
          <p:nvPr/>
        </p:nvSpPr>
        <p:spPr>
          <a:xfrm>
            <a:off x="4570560" y="4581360"/>
            <a:ext cx="41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Подготовила учитель начальных классов МБОУ «СОШ пос. Молодежный»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Макарова Юлия Михайловна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TextBox 6"/>
          <p:cNvSpPr/>
          <p:nvPr/>
        </p:nvSpPr>
        <p:spPr>
          <a:xfrm>
            <a:off x="2987640" y="602136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2012-2013 учебный год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822240" y="1096920"/>
            <a:ext cx="320040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700520" y="1096920"/>
            <a:ext cx="320040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ЗАПАДНАЯ СИБИРЬ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1"/>
          <a:stretch/>
        </p:blipFill>
        <p:spPr>
          <a:xfrm>
            <a:off x="4711680" y="1676520"/>
            <a:ext cx="3173400" cy="24001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"/>
          <p:cNvPicPr/>
          <p:nvPr/>
        </p:nvPicPr>
        <p:blipFill>
          <a:blip r:embed="rId2"/>
          <a:stretch/>
        </p:blipFill>
        <p:spPr>
          <a:xfrm>
            <a:off x="2700360" y="3941640"/>
            <a:ext cx="3456000" cy="24847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"/>
          <p:cNvPicPr/>
          <p:nvPr/>
        </p:nvPicPr>
        <p:blipFill>
          <a:blip r:embed="rId3"/>
          <a:stretch/>
        </p:blipFill>
        <p:spPr>
          <a:xfrm>
            <a:off x="420840" y="1700280"/>
            <a:ext cx="37908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 u="sng">
                <a:solidFill>
                  <a:srgbClr val="000000"/>
                </a:solidFill>
                <a:uFillTx/>
                <a:latin typeface="Franklin Gothic Medium"/>
              </a:rPr>
              <a:t>РЕЛИГИЯ</a:t>
            </a:r>
            <a:r>
              <a:rPr b="0" lang="ru-RU" sz="7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br>
              <a:rPr sz="7200"/>
            </a:br>
            <a:r>
              <a:rPr b="0" i="1" lang="ru-RU" sz="7200" spc="-1" strike="noStrike">
                <a:solidFill>
                  <a:srgbClr val="000000"/>
                </a:solidFill>
                <a:latin typeface="Franklin Gothic Medium"/>
              </a:rPr>
              <a:t>«БЛАГОЧЕСТИЕ, СВЯТЫНЯ»</a:t>
            </a:r>
            <a:endParaRPr b="0" lang="en-US" sz="7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5" name=""/>
          <p:cNvSpPr txBox="1"/>
          <p:nvPr/>
        </p:nvSpPr>
        <p:spPr>
          <a:xfrm rot="10800000">
            <a:off x="1546920" y="6126120"/>
            <a:ext cx="713916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ХРИСТИАНСТВО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755640" y="1531800"/>
            <a:ext cx="2376360" cy="23958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3" descr=""/>
          <p:cNvPicPr/>
          <p:nvPr/>
        </p:nvPicPr>
        <p:blipFill>
          <a:blip r:embed="rId2"/>
          <a:stretch/>
        </p:blipFill>
        <p:spPr>
          <a:xfrm>
            <a:off x="6516720" y="1557360"/>
            <a:ext cx="1871640" cy="21589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4" descr=""/>
          <p:cNvPicPr/>
          <p:nvPr/>
        </p:nvPicPr>
        <p:blipFill>
          <a:blip r:embed="rId3"/>
          <a:stretch/>
        </p:blipFill>
        <p:spPr>
          <a:xfrm>
            <a:off x="3184560" y="2774880"/>
            <a:ext cx="33321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ИСЛАМ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5724360" y="1413000"/>
            <a:ext cx="3024360" cy="22320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3" descr=""/>
          <p:cNvPicPr/>
          <p:nvPr/>
        </p:nvPicPr>
        <p:blipFill>
          <a:blip r:embed="rId2"/>
          <a:stretch/>
        </p:blipFill>
        <p:spPr>
          <a:xfrm>
            <a:off x="468360" y="4199040"/>
            <a:ext cx="3286080" cy="23763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"/>
          <p:cNvPicPr/>
          <p:nvPr/>
        </p:nvPicPr>
        <p:blipFill>
          <a:blip r:embed="rId3"/>
          <a:stretch/>
        </p:blipFill>
        <p:spPr>
          <a:xfrm>
            <a:off x="3129120" y="2781360"/>
            <a:ext cx="295560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БУДДИЗМ (БУДДИЙСКИЙ ХРАМ)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763040" cy="55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ИУДАИЗМ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2484360" y="1855800"/>
            <a:ext cx="388800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822240" y="1096920"/>
            <a:ext cx="320040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Franklin Gothic Book"/>
              </a:rPr>
              <a:t>Что вы можете рассказать о возникновении религий мира членам своей семьи?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700520" y="1096920"/>
            <a:ext cx="320040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Franklin Gothic Book"/>
              </a:rPr>
              <a:t>Что вам особенно запомнилось из сказанного на уроке?</a:t>
            </a:r>
            <a:endParaRPr b="1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Franklin Gothic Medium"/>
              </a:rPr>
              <a:t>ОБОБЩЕНИЕ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Franklin Gothic Medium"/>
              </a:rPr>
              <a:t>ИТОГ УРОКА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Franklin Gothic Book"/>
              </a:rPr>
              <a:t>Будьте  добрыми, терпимыми, уважайте друг друга, дружите, любите людей и свою Родину</a:t>
            </a:r>
            <a:endParaRPr b="1" lang="en-US" sz="5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Franklin Gothic Medium"/>
              </a:rPr>
              <a:t>ДОМАШНЕЕ ЗАДАНИЕ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800" spc="-1" strike="noStrike">
                <a:solidFill>
                  <a:srgbClr val="000000"/>
                </a:solidFill>
                <a:latin typeface="바탕"/>
                <a:ea typeface="바탕"/>
              </a:rPr>
              <a:t>Составьте кроссворд по изученной теме</a:t>
            </a:r>
            <a:endParaRPr b="1" lang="en-US" sz="6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 rot="20253600">
            <a:off x="563040" y="1152360"/>
            <a:ext cx="7761600" cy="22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Narrow"/>
              </a:rPr>
              <a:t>СПАСИБО ЗА ВНИМАНИЕ!</a:t>
            </a:r>
            <a:endParaRPr b="0" lang="en-US" sz="66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22240" y="1096920"/>
            <a:ext cx="320040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Россия – многонациональная страна и в ней представлены все мировые религиозные культуры;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700520" y="1096920"/>
            <a:ext cx="320040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В связи с участившимися межнациональными конфликтами на территории нашей страны важно воспитывать у детей толерантное отношение к людям с разными взглядами, идеалами, представлениями, верованиями.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АКТУАЛЬНОСТЬ ТЕМЫ УРОКА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바탕"/>
                <a:ea typeface="바탕"/>
              </a:rPr>
              <a:t>ЦЕЛЬ УРОКА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600" spc="-1" strike="noStrike">
                <a:solidFill>
                  <a:srgbClr val="000000"/>
                </a:solidFill>
                <a:latin typeface="Franklin Gothic Book"/>
                <a:ea typeface="Aharoni"/>
              </a:rPr>
              <a:t>Продолжить формирование знаний по возникновению религий мира.</a:t>
            </a:r>
            <a:endParaRPr b="1" lang="en-US" sz="5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822240" y="1096920"/>
            <a:ext cx="320040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Franklin Gothic Book"/>
              </a:rPr>
              <a:t>Образовательные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Продолжить работу по формированию понятия «религия»;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Определение основополагающих идей религий мира.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Franklin Gothic Book"/>
              </a:rPr>
              <a:t>Воспитательные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Способствовать восприятию толерантного отношения к религиозным культурам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Умение взаимодействовать в группе.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700520" y="1096920"/>
            <a:ext cx="320040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Franklin Gothic Book"/>
              </a:rPr>
              <a:t>Развивающие 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Умение работать с текстовым материалом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Умение аргументированно отвечать на вопросы;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Использование иллюстрированного материала для развития художественного восприятия;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Развитие воображения, мышления, внимания.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ЗАДАЧИ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ЖИВУТ В РОССИИ РАЗНЫЕ НАРОДЫ…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29" name="Picture 2" descr="Картинка 12 из 16618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341360"/>
            <a:ext cx="741708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Franklin Gothic Medium"/>
              </a:rPr>
              <a:t>ЦЕНТРАЛЬНАЯ РОССИИ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31" name="Picture 2" descr="http://im8-tub-ru.yandex.net/i?id=172434838-16-72"/>
          <p:cNvPicPr/>
          <p:nvPr/>
        </p:nvPicPr>
        <p:blipFill>
          <a:blip r:embed="rId1"/>
          <a:stretch/>
        </p:blipFill>
        <p:spPr>
          <a:xfrm>
            <a:off x="479520" y="1108080"/>
            <a:ext cx="3084480" cy="22464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" descr=""/>
          <p:cNvPicPr/>
          <p:nvPr/>
        </p:nvPicPr>
        <p:blipFill>
          <a:blip r:embed="rId2"/>
          <a:stretch/>
        </p:blipFill>
        <p:spPr>
          <a:xfrm>
            <a:off x="395280" y="3846600"/>
            <a:ext cx="3600360" cy="29271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"/>
          <p:cNvPicPr/>
          <p:nvPr/>
        </p:nvPicPr>
        <p:blipFill>
          <a:blip r:embed="rId3"/>
          <a:stretch/>
        </p:blipFill>
        <p:spPr>
          <a:xfrm>
            <a:off x="4284720" y="2043000"/>
            <a:ext cx="390204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ЮЖНАЯ РОССИЯ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35" name="Picture 3" descr=""/>
          <p:cNvPicPr/>
          <p:nvPr/>
        </p:nvPicPr>
        <p:blipFill>
          <a:blip r:embed="rId1"/>
          <a:stretch/>
        </p:blipFill>
        <p:spPr>
          <a:xfrm>
            <a:off x="2843280" y="1459080"/>
            <a:ext cx="3241440" cy="22320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" descr=""/>
          <p:cNvPicPr/>
          <p:nvPr/>
        </p:nvPicPr>
        <p:blipFill>
          <a:blip r:embed="rId2"/>
          <a:stretch/>
        </p:blipFill>
        <p:spPr>
          <a:xfrm>
            <a:off x="395280" y="3213000"/>
            <a:ext cx="2924280" cy="24685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"/>
          <p:cNvPicPr/>
          <p:nvPr/>
        </p:nvPicPr>
        <p:blipFill>
          <a:blip r:embed="rId3"/>
          <a:stretch/>
        </p:blipFill>
        <p:spPr>
          <a:xfrm>
            <a:off x="4859280" y="3573360"/>
            <a:ext cx="352908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Franklin Gothic Medium"/>
              </a:rPr>
              <a:t>ПОВОЛЖЬЕ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39" name="Picture 3" descr=""/>
          <p:cNvPicPr/>
          <p:nvPr/>
        </p:nvPicPr>
        <p:blipFill>
          <a:blip r:embed="rId1"/>
          <a:stretch/>
        </p:blipFill>
        <p:spPr>
          <a:xfrm>
            <a:off x="900000" y="1397160"/>
            <a:ext cx="3456000" cy="24634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"/>
          <p:cNvPicPr/>
          <p:nvPr/>
        </p:nvPicPr>
        <p:blipFill>
          <a:blip r:embed="rId2"/>
          <a:stretch/>
        </p:blipFill>
        <p:spPr>
          <a:xfrm>
            <a:off x="4932360" y="1397160"/>
            <a:ext cx="3527280" cy="2463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"/>
          <p:cNvPicPr/>
          <p:nvPr/>
        </p:nvPicPr>
        <p:blipFill>
          <a:blip r:embed="rId3"/>
          <a:stretch/>
        </p:blipFill>
        <p:spPr>
          <a:xfrm>
            <a:off x="2124000" y="3933720"/>
            <a:ext cx="4392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 rot="19140000">
            <a:off x="-461880" y="756720"/>
            <a:ext cx="5211720" cy="108936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Franklin Gothic Medium"/>
              </a:rPr>
              <a:t>УРАЛ</a:t>
            </a:r>
            <a:endParaRPr b="0" lang="en-US" sz="6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749840" y="2619360"/>
            <a:ext cx="3806640" cy="33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 rot="19140000">
            <a:off x="-107640" y="2903040"/>
            <a:ext cx="4486320" cy="16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Franklin Gothic Book"/>
              </a:rPr>
              <a:t>   </a:t>
            </a:r>
            <a:r>
              <a:rPr b="1" i="1" lang="ru-RU" sz="2000" spc="-1" strike="noStrike">
                <a:solidFill>
                  <a:srgbClr val="ffffff"/>
                </a:solidFill>
                <a:latin typeface="Franklin Gothic Book"/>
              </a:rPr>
              <a:t>В центре нашей страны расположен удивительный край – Урал.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Franklin Gothic Book"/>
              </a:rPr>
              <a:t>Природные богатства привлекали людей самых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Franklin Gothic Book"/>
              </a:rPr>
              <a:t>разных национальностей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3708360" y="260280"/>
            <a:ext cx="4751280" cy="18734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"/>
          <p:cNvPicPr/>
          <p:nvPr/>
        </p:nvPicPr>
        <p:blipFill>
          <a:blip r:embed="rId2"/>
          <a:stretch/>
        </p:blipFill>
        <p:spPr>
          <a:xfrm>
            <a:off x="3708360" y="2217600"/>
            <a:ext cx="4751280" cy="16430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"/>
          <p:cNvPicPr/>
          <p:nvPr/>
        </p:nvPicPr>
        <p:blipFill>
          <a:blip r:embed="rId3"/>
          <a:stretch/>
        </p:blipFill>
        <p:spPr>
          <a:xfrm>
            <a:off x="3708360" y="3933720"/>
            <a:ext cx="475128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31T15:08:57Z</dcterms:created>
  <dc:creator>Радик</dc:creator>
  <dc:description/>
  <dc:language>en-US</dc:language>
  <cp:lastModifiedBy>Макарова</cp:lastModifiedBy>
  <dcterms:modified xsi:type="dcterms:W3CDTF">2013-03-21T16:09:21Z</dcterms:modified>
  <cp:revision>10</cp:revision>
  <dc:subject/>
  <dc:title>Конспект занятия курса  «Основы религиозных культур и светской этики»</dc:title>
</cp:coreProperties>
</file>