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2D3-FAC5-423C-BBDC-75C8853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BDF-B6C7-487E-906F-2CA1BEB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F73-9DAA-4AE3-8C97-DD1C129D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A4C-7E4E-494E-957B-3392AA7D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D13-D625-443D-BE2D-8B972646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F7B-2635-414D-A0B6-993F0C73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AF9-718A-43C0-ABBD-5DCBE9A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85E-FB9A-4D99-AA1D-19B8297D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0BE-6D09-4093-969F-AABCF4DE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F8B-1F54-4D59-90CA-0426614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8F8-9622-49A2-B53C-B422638F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E36-7340-4450-9CE9-24C02A2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C33-7A56-4075-B78A-A89266635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51055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зентацию 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обучающиеся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рбунов Р., Голубев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читель истории  Войнова А.Ю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коррекционной  школы-интернат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Саяногорска Республики Хака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-304920" y="7621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й  милый край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447920" y="2590920"/>
            <a:ext cx="6705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я  Хакасия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касия является частью Саяно - Алтайского нагорья и Хакасско – Минусинской котлов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о указу Петр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в марте 1707г. в Хакасии был сооружён ост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Хакасия прошла нелегкий исторический путь, однако хакасский народ сохранил свою культуру и самобытность,   древние памятники – курганы с каменными изваяниями, на которых выбиты рисунки и надписи. В настоящее время на территории Хакасии насчитывается приблизительно 30 тысяч курганов, стел и писаниц. Хакасию называютуник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ическим памят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 открытым н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457200" y="274680"/>
            <a:ext cx="7162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рия Хакас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304920" y="0"/>
            <a:ext cx="8191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рическая справка Хакаси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-1371600" y="1523880"/>
            <a:ext cx="10210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Предки человека поселились на территориях  Саяно-Алтайского нагорья и Хакасско-Минусинской котловины свыше 300 тысяч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Время появления “человека Разумного”на территории Хака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датируется не позже 34 тыс. лет назад.    В течение тысячеле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на территории  современной Хакасиисталкивались многочис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Культуры угро-финских, иранских, Древнетюркских  народ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  <a:ea typeface="Arial"/>
              </a:rPr>
              <a:t>определенное влияние оказывали  древнекитайские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380880" y="34290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еспублика Хакасия – 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административно- террито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бразование, входящее 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на правах её равноправного  субъекта.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ходит в состав Сибирск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ого  Федерального о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октября 1930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акасскому народу предоставлена государственность в форме автономной 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3 июля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991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г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Автономная область  преобразована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Республику Хака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C:\Documents and Settings\Саша\Мои документы\Мои рисунки\20081222010931-8009.jpg"/>
          <p:cNvPicPr/>
          <p:nvPr/>
        </p:nvPicPr>
        <p:blipFill>
          <a:blip r:embed="rId1"/>
          <a:stretch/>
        </p:blipFill>
        <p:spPr>
          <a:xfrm>
            <a:off x="533520" y="304920"/>
            <a:ext cx="358128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C:\Documents and Settings\Саша\Мои документы\Мои рисунки\20081222011514-8193.jpg"/>
          <p:cNvPicPr/>
          <p:nvPr/>
        </p:nvPicPr>
        <p:blipFill>
          <a:blip r:embed="rId2"/>
          <a:stretch/>
        </p:blipFill>
        <p:spPr>
          <a:xfrm>
            <a:off x="640080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Times New Roman"/>
              </a:rPr>
              <a:t>В состав Республики    входят г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бакан, Саяногорск, Черногорск, Абаза, Сорск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Times New Roman"/>
              </a:rPr>
              <a:t>Столицей Республики Хакаси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г.Аба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Times New Roman"/>
              </a:rPr>
              <a:t>Районы Хака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тайский, Аскизский, Усть-Абаканский, Бейский, Боградский, Орджоникидзевский, Таштыпский, Ширин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90720" y="228600"/>
            <a:ext cx="74865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ые города Хакасии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28600" y="152280"/>
            <a:ext cx="8610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Численность  населения  </a:t>
            </a:r>
            <a:endParaRPr b="0" i="1" lang="en-US" sz="4400" spc="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 </a:t>
            </a:r>
            <a:r>
              <a:rPr b="0" i="1" lang="en-US" sz="44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8100000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Хакасии</a:t>
            </a:r>
            <a:endParaRPr b="0" i="1" lang="en-US" sz="4400" spc="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04920" y="1219320"/>
            <a:ext cx="853416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Чис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остоянного населения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спублики Хакаси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свыше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541 тыс.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челове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в Абакане –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164тыс.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 городской местности   проживает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387 тыс. челове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 сельской – 159 тыс. человек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6765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Республика богата природными лечебными ресурсами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земными минеральными водами, водами озер, содержащимися в озерах лечебными минеральными грязями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аиболее известные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еро Шира, Беле, Утичье, Алтайское, Тус, Шунет, Ханкуль и ряд более мелких оз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114800" y="12952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747864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G_9403[1]"/>
          <p:cNvPicPr/>
          <p:nvPr/>
        </p:nvPicPr>
        <p:blipFill>
          <a:blip r:embed="rId2"/>
          <a:stretch/>
        </p:blipFill>
        <p:spPr>
          <a:xfrm>
            <a:off x="4797360" y="1670040"/>
            <a:ext cx="4187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04920" y="380880"/>
            <a:ext cx="304776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В республ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живае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русские - 80,3 %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хакасы - 12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немцы – 1,7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украинцы 1,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татары - 0,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белорусы - 0,7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Иные - 3,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380880" y="304920"/>
            <a:ext cx="396252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4492800" y="103320"/>
            <a:ext cx="4694040" cy="944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380880" y="304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Национальный состав Хака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800600" y="1066680"/>
            <a:ext cx="37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и на территории Хакасии были укоренены православие и традиционные религиозные верования хакасского народа –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Язы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xakassiya-27"/>
          <p:cNvPicPr/>
          <p:nvPr/>
        </p:nvPicPr>
        <p:blipFill>
          <a:blip r:embed="rId2"/>
          <a:stretch/>
        </p:blipFill>
        <p:spPr>
          <a:xfrm>
            <a:off x="4187880" y="3041640"/>
            <a:ext cx="2981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Arial Black"/>
              </a:rPr>
              <a:t>ХАКАСИЯ МО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БОГАТА ТЫ КРАСОТА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ГЛАЗА ТВОИХ ОЗЕР, КАК ЗЕРК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 КОСАМИ ЛЕЖАТ ВЕРШИНЫ ГОР.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060560" y="1182600"/>
            <a:ext cx="4054320" cy="11224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2971800" y="2286000"/>
            <a:ext cx="44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А СТЕПЬ ТВОЯ ШИРО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ВЕСНОЮ ВСЯ В ЦВЕТ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ДУША ПОЕТ, СМОТРЮ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НА ЭТУ КРАСОТУ…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3276720" y="34290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ПЕЩЕРАМИ БОГ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ХАКАСИЯ МО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Я В ЭТОТ МИР ПОДЗЕМ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С РОЖДЕНЬЯ ВЛЮБЛЕН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572000" y="4572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А ГЛАВНОЕ БОГАТ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ХАКАСИИ МОЕЙ – 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ЛЮБОВ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ДУШЕВ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ДРУЖ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ДОБРОТА ЛЮД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9:27:10Z</dcterms:created>
  <dc:creator>Pozitronika</dc:creator>
  <dc:description/>
  <dc:language>en-US</dc:language>
  <cp:lastModifiedBy>user</cp:lastModifiedBy>
  <dcterms:modified xsi:type="dcterms:W3CDTF">2013-03-20T06:13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