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CB6-FDB6-4F3F-A38F-358A9EF8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7A10-A2CF-431E-A779-7CCE5E64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235-08D5-4C68-80C8-34D95F0E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B25F-E27A-4A25-B5C5-0C4158BC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5BA7-2222-4240-91D7-10A1A6C8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4B4-D630-4277-BBC6-CD65A9B9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C1D3-20D4-4537-A7F7-B1195430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1630-CC0F-4AE8-AA8A-4461ACA2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C8B-B8CC-49E1-95B7-CF97264B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2F4-BFA9-4313-90FB-672D8871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BB37-7E47-44FF-82E3-7A8C6075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B4E6-CC91-43F1-92F5-B4C333F3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6B4A-F61C-458B-A2C5-07CCE4FF48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51055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зентацию 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готовили: обучающиеся 9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рбунов Р., Голубев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уководитель: учитель истории  Войнова А.Ю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БОУ коррекционной  школы-интерната №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Саяногорска Республики Хакас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-304920" y="762120"/>
            <a:ext cx="88394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Мой  милый край,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1447920" y="2590920"/>
            <a:ext cx="67053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моя  Хакасия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акасия является частью Саяно - Алтайского нагорья и Хакасско – Минусинской котлов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По указу Петра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в марте 1707г. в Хакасии был сооружён остр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Хакасия прошла нелегкий исторический путь, однако хакасский народ сохранил свою культуру и самобытность,   древние памятники – курганы с каменными изваяниями, на которых выбиты рисунки и надписи. В настоящее время на территории Хакасии насчитывается приблизительно 30 тысяч курганов, стел и писаниц. Хакасию называютуникаль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рхеологическим памятн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д открытым не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457200" y="274680"/>
            <a:ext cx="7162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История Хакаси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5"/>
          <p:cNvSpPr txBox="1"/>
          <p:nvPr/>
        </p:nvSpPr>
        <p:spPr>
          <a:xfrm>
            <a:off x="304920" y="0"/>
            <a:ext cx="8191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Историческая справка Хакасии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-1371600" y="1523880"/>
            <a:ext cx="102106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  <a:ea typeface="Arial"/>
              </a:rPr>
              <a:t>   </a:t>
            </a:r>
            <a:r>
              <a:rPr b="1" lang="ru-RU" sz="1600" spc="-1" strike="noStrike">
                <a:solidFill>
                  <a:srgbClr val="996633"/>
                </a:solidFill>
                <a:latin typeface="Arial"/>
                <a:ea typeface="Arial"/>
              </a:rPr>
              <a:t>Предки человека поселились на территориях  Саяно-Алтайского нагорья и Хакасско-Минусинской котловины свыше 300 тысяч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Arial"/>
                <a:ea typeface="Arial"/>
              </a:rPr>
              <a:t>   </a:t>
            </a:r>
            <a:r>
              <a:rPr b="1" lang="ru-RU" sz="1600" spc="-1" strike="noStrike">
                <a:solidFill>
                  <a:srgbClr val="996633"/>
                </a:solidFill>
                <a:latin typeface="Arial"/>
                <a:ea typeface="Arial"/>
              </a:rPr>
              <a:t>Время появления “человека Разумного”на территории Хака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Arial"/>
                <a:ea typeface="Arial"/>
              </a:rPr>
              <a:t>датируется не позже 34 тыс. лет назад.    В течение тысячеле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Arial"/>
                <a:ea typeface="Arial"/>
              </a:rPr>
              <a:t>на территории  современной Хакасиисталкивались многочислен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Arial"/>
                <a:ea typeface="Arial"/>
              </a:rPr>
              <a:t>Культуры угро-финских, иранских, Древнетюркских  народ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Arial"/>
                <a:ea typeface="Arial"/>
              </a:rPr>
              <a:t>определенное влияние оказывали  древнекитайские госуда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380880" y="34290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Республика Хакасия – </a:t>
            </a:r>
            <a:br>
              <a:rPr sz="2400"/>
            </a:b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административно- территор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образование, входящее  в со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Российской Федерации </a:t>
            </a:r>
            <a:br>
              <a:rPr sz="2400"/>
            </a:b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на правах её равноправного  субъекта. 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Входит в состав Сибирск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ого  Федерального ок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октября 1930 го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хакасскому народу предоставлена государственность в форме автономной обла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3 июля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1991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 го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Автономная область  преобразована 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Республику Хака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3" descr="C:\Documents and Settings\Саша\Мои документы\Мои рисунки\20081222010931-8009.jpg"/>
          <p:cNvPicPr/>
          <p:nvPr/>
        </p:nvPicPr>
        <p:blipFill>
          <a:blip r:embed="rId1"/>
          <a:stretch/>
        </p:blipFill>
        <p:spPr>
          <a:xfrm>
            <a:off x="533520" y="304920"/>
            <a:ext cx="3581280" cy="19810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C:\Documents and Settings\Саша\Мои документы\Мои рисунки\20081222011514-8193.jpg"/>
          <p:cNvPicPr/>
          <p:nvPr/>
        </p:nvPicPr>
        <p:blipFill>
          <a:blip r:embed="rId2"/>
          <a:stretch/>
        </p:blipFill>
        <p:spPr>
          <a:xfrm>
            <a:off x="6400800" y="228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cc"/>
                </a:solidFill>
                <a:latin typeface="Times New Roman"/>
              </a:rPr>
              <a:t>В состав Республики    входят гор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Абакан, Саяногорск, Черногорск, Абаза, Сорск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Times New Roman"/>
              </a:rPr>
              <a:t>Столицей Республики Хакасия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99"/>
                </a:solidFill>
                <a:latin typeface="Times New Roman"/>
              </a:rPr>
              <a:t>г.Абак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cc"/>
                </a:solidFill>
                <a:latin typeface="Times New Roman"/>
              </a:rPr>
              <a:t>Районы Хакас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лтайский, Аскизский, Усть-Абаканский, Бейский, Боградский, Орджоникидзевский, Таштыпский, Ширинск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990720" y="228600"/>
            <a:ext cx="748656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ые города Хакасии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28600" y="152280"/>
            <a:ext cx="86104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cap="rnd"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8100000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Численность  населения  </a:t>
            </a:r>
            <a:endParaRPr b="0" i="1" lang="en-US" sz="4400" spc="1" strike="noStrike">
              <a:ln cap="rnd"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cap="rnd"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8100000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 </a:t>
            </a:r>
            <a:r>
              <a:rPr b="0" i="1" lang="en-US" sz="4400" spc="1" strike="noStrike">
                <a:ln cap="rnd"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8100000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Хакасии</a:t>
            </a:r>
            <a:endParaRPr b="0" i="1" lang="en-US" sz="4400" spc="1" strike="noStrike">
              <a:ln cap="rnd"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04920" y="1219320"/>
            <a:ext cx="8534160" cy="50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Числ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постоянного населения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Республики Хакасия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свыше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541 тыс.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человек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99"/>
                </a:solidFill>
                <a:latin typeface="Times New Roman"/>
              </a:rPr>
              <a:t>в Абакане –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99"/>
                </a:solidFill>
                <a:latin typeface="Times New Roman"/>
              </a:rPr>
              <a:t>164тыс.</a:t>
            </a:r>
            <a:r>
              <a:rPr b="1" lang="ru-RU" sz="36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99"/>
                </a:solidFill>
                <a:latin typeface="Times New Roman"/>
              </a:rPr>
              <a:t>челове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В городской местности   проживает 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387 тыс. человек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в сельской – 159 тыс. человек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167652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Республика богата природными лечебными ресурсами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земными минеральными водами, водами озер, содержащимися в озерах лечебными минеральными грязями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Наиболее известные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зеро Шира, Беле, Утичье, Алтайское, Тус, Шунет, Ханкуль и ряд более мелких оз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4114800" y="129528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4" descr=""/>
          <p:cNvPicPr/>
          <p:nvPr/>
        </p:nvPicPr>
        <p:blipFill>
          <a:blip r:embed="rId1"/>
          <a:stretch/>
        </p:blipFill>
        <p:spPr>
          <a:xfrm>
            <a:off x="324000" y="103320"/>
            <a:ext cx="7478640" cy="1066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IMG_9403[1]"/>
          <p:cNvPicPr/>
          <p:nvPr/>
        </p:nvPicPr>
        <p:blipFill>
          <a:blip r:embed="rId2"/>
          <a:stretch/>
        </p:blipFill>
        <p:spPr>
          <a:xfrm>
            <a:off x="4797360" y="1670040"/>
            <a:ext cx="41878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304920" y="380880"/>
            <a:ext cx="304776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В республ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живает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русские - 80,3 %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хакасы - 12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немцы – 1,7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украинцы 1,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татары - 0,8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белорусы - 0,7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Иные - 3,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380880" y="304920"/>
            <a:ext cx="396252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" name="Прямоугольник 4" descr=""/>
          <p:cNvPicPr/>
          <p:nvPr/>
        </p:nvPicPr>
        <p:blipFill>
          <a:blip r:embed="rId1"/>
          <a:stretch/>
        </p:blipFill>
        <p:spPr>
          <a:xfrm>
            <a:off x="4492800" y="103320"/>
            <a:ext cx="4694040" cy="9442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380880" y="30492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Национальный состав Хака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4800600" y="1066680"/>
            <a:ext cx="3733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чески на территории Хакасии были укоренены православие и традиционные религиозные верования хакасского народа – 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Язы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xakassiya-27"/>
          <p:cNvPicPr/>
          <p:nvPr/>
        </p:nvPicPr>
        <p:blipFill>
          <a:blip r:embed="rId2"/>
          <a:stretch/>
        </p:blipFill>
        <p:spPr>
          <a:xfrm>
            <a:off x="4187880" y="3041640"/>
            <a:ext cx="29811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Arial Black"/>
              </a:rPr>
              <a:t>ХАКАСИЯ МО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БОГАТА ТЫ КРАСОТАМ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ГЛАЗА ТВОИХ ОЗЕР, КАК ЗЕРК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И КОСАМИ ЛЕЖАТ ВЕРШИНЫ ГОР.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5" descr=""/>
          <p:cNvPicPr/>
          <p:nvPr/>
        </p:nvPicPr>
        <p:blipFill>
          <a:blip r:embed="rId1"/>
          <a:stretch/>
        </p:blipFill>
        <p:spPr>
          <a:xfrm>
            <a:off x="1060560" y="1182600"/>
            <a:ext cx="4054320" cy="11224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7"/>
          <p:cNvSpPr/>
          <p:nvPr/>
        </p:nvSpPr>
        <p:spPr>
          <a:xfrm>
            <a:off x="2971800" y="2286000"/>
            <a:ext cx="449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Arial"/>
              </a:rPr>
              <a:t>А СТЕПЬ ТВОЯ ШИРО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Arial"/>
              </a:rPr>
              <a:t>ВЕСНОЮ ВСЯ В ЦВЕТ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Arial"/>
              </a:rPr>
              <a:t>ДУША ПОЕТ, СМОТРЮ КОГ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6633"/>
                </a:solidFill>
                <a:latin typeface="Arial"/>
              </a:rPr>
              <a:t>НА ЭТУ КРАСОТУ…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3276720" y="342900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Arial"/>
              </a:rPr>
              <a:t>ПЕЩЕРАМИ БОГ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00ff"/>
                </a:solidFill>
                <a:latin typeface="Arial"/>
              </a:rPr>
              <a:t>ХАКАСИЯ МО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Arial"/>
              </a:rPr>
              <a:t>Я В ЭТОТ МИР ПОДЗЕМ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Arial"/>
              </a:rPr>
              <a:t>С РОЖДЕНЬЯ ВЛЮБЛЕНА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4572000" y="45720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А ГЛАВНОЕ БОГАТ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ХАКАСИИ МОЕЙ – </a:t>
            </a:r>
            <a:br>
              <a:rPr sz="1600"/>
            </a:b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ЛЮБОВ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ДУШЕВН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ДРУЖБ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И ДОБРОТА ЛЮДЕ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09:27:10Z</dcterms:created>
  <dc:creator>Pozitronika</dc:creator>
  <dc:description/>
  <dc:language>en-US</dc:language>
  <cp:lastModifiedBy>user</cp:lastModifiedBy>
  <dcterms:modified xsi:type="dcterms:W3CDTF">2013-03-20T06:13:53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