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23C-420B-4F29-858F-74CBD68A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AEE6-A15F-4EC4-8FC6-2421AF29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4D4-C9D8-42EF-829F-CF8723BF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3528-A1EE-46C1-A5DB-0F759766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BDD-E974-4CE5-8355-B66B2686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D76-D058-4EE8-8DB0-04180A36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3C6-85D8-4FB1-810E-46E6A34C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9F4-D74C-4088-8CDD-8832CC1A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75C-7C19-49D6-BFCE-D9E32AD3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D607-7869-491D-AD25-59704695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020-8D82-4B96-943D-58453E04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6634-03C7-4EB7-B015-1844F46D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5D61-AE7C-4573-BB18-3DFF4D669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2666880"/>
            <a:ext cx="6095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y room. The furniture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752480" y="533520"/>
            <a:ext cx="601992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Say it in English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права о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лева о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еред      напроти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д         н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          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ко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533520"/>
            <a:ext cx="9372600" cy="31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.Слева от зеркала находится картин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. Справа от шкафа для одежды находится двер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. Напротив двери стоит стол и 2 кресл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. На полу лежит красивый кове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. На стене висит яркая картин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3733920"/>
            <a:ext cx="929628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. Рядом с креслом стоит  современный торше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.Над столом висит ламп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. Под креслом находится котено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.Котенок находится на коврик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. Вешалка находится в прихоже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286000" y="2786040"/>
            <a:ext cx="395136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ee you on Friday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133720" y="609480"/>
            <a:ext cx="510516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</a:rPr>
              <a:t>Today is the... th of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1676520"/>
            <a:ext cx="1028520" cy="47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87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2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3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68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76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2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17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9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88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505320" y="1905120"/>
            <a:ext cx="38098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4 мая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5 апреля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6 марта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3 ноября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 января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2 февра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23 апр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22 ию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21 ию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447920" y="914400"/>
            <a:ext cx="70102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</a:rPr>
              <a:t>Today is the ___ th of ___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9640" y="836640"/>
            <a:ext cx="4224600" cy="523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My flat 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large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little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nice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modern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cosy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new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old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light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comfortable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716360" y="907920"/>
            <a:ext cx="352764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оя квартира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больш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алень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раси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овремен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ют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о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тар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ветл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доб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7280" y="4365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486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08360" y="2637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549360"/>
            <a:ext cx="3876840" cy="56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It has some room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living ro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bedroom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study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children`s room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kitchen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hall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toilet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bathroom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51280" y="0"/>
            <a:ext cx="5076720" cy="616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на имее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есколько комна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гости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паль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абин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дет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ух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рихож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уал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ан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1557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2205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3640" y="47242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285264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342900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407664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219320" y="289080"/>
            <a:ext cx="7619760" cy="62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еб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There is a ... in the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There are 2 ... in the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wardro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wall-un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bookca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bookshel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mirr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carp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rmcha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cha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floor lam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219320" y="457200"/>
            <a:ext cx="693396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Translate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е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нижный шка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шкаф для одеж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енка    ковер   кресло       ковр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еркало   торш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ухн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хож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сти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анная        кабин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етская комн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043080" y="380880"/>
            <a:ext cx="3057840" cy="609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дло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bo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n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n front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pposi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n the left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n the right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e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ext 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n the middle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33520" y="380880"/>
            <a:ext cx="3057480" cy="609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дло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bo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n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n front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pposi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n the left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n the right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e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ext 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n the middle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86200" y="1295280"/>
            <a:ext cx="28288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ере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проти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лева о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права о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коло, ряд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коло, ряд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середи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14479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24382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3429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5410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21T01:42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