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D41-D68E-430B-860E-94D00BC9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04D-13DB-4051-87D4-19288AED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49A-E1C4-4574-89B0-69F3A4BE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89B-E86C-432C-B9AA-287F02C5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74E-3C68-41B4-B3A8-A2426ABA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569-241C-41FE-9B4A-ECCD7B14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6B9-B506-4F38-AA0E-364A4872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6C8-E5FD-4986-87AF-8C50822F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151-E5E6-404D-8472-5269CCC1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698-47DB-40E1-BCFC-9CF445C3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A40-B098-4540-AE8D-1912A3B1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8F5-3102-47A3-B04F-F48FFCF3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52FD-623E-49C0-9ECD-4A20014D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666880"/>
            <a:ext cx="6095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y room. The furniture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52480" y="533520"/>
            <a:ext cx="601992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ay it in English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рава о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лева 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ед      напроти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д         н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         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ко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533520"/>
            <a:ext cx="937260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.Слева от зеркала находится карти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. Справа от шкафа для одежды находится двер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. Напротив двери стоит стол и 2 кресл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. На полу лежит красивый кове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. На стене висит яркая карти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3733920"/>
            <a:ext cx="92962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. Рядом с креслом стоит  современный торше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.Над столом висит ламп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. Под креслом находится котен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.Котенок находится на коврик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. Вешалка находится в прихоже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286000" y="2786040"/>
            <a:ext cx="395136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e you on Friday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3720" y="609480"/>
            <a:ext cx="510516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Today is the... th of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1676520"/>
            <a:ext cx="10285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87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2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3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68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7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2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17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9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88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05320" y="1905120"/>
            <a:ext cx="38098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4 мая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5 апреля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6 марта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3 ноября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 января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 февра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3 апр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2 ию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1 ию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47920" y="914400"/>
            <a:ext cx="70102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Today is the ___ th of ___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9640" y="836640"/>
            <a:ext cx="4224600" cy="523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My flat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large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little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nice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modern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cosy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new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old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light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comfortable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16360" y="907920"/>
            <a:ext cx="35276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оя квартира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оль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алень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рас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овреме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ют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о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тар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вет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доб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4365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486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2637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549360"/>
            <a:ext cx="387684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It has some room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living 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edroom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study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children`s room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kitchen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hall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toilet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athroom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51280" y="0"/>
            <a:ext cx="5076720" cy="61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на имее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есколько комна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ости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паль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аби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дет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ух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ихож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уал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а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1557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2205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4724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285264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42900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407664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219320" y="289080"/>
            <a:ext cx="7619760" cy="62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б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here is a ... in the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here are 2 ... in the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wardro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wall-un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bookca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booksh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mirr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carp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rmcha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cha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floor la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219320" y="457200"/>
            <a:ext cx="693396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ranslate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нижный шка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шкаф для одеж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а    ковер   кресло       ковр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еркало   торш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хн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хож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сти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анная        каби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тская комн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043080" y="380880"/>
            <a:ext cx="3057840" cy="609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л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bo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n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 fron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ppos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n the lef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n the righ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ext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 the middl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3520" y="380880"/>
            <a:ext cx="3057480" cy="609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л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bo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n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 fron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ppos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n the lef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n the righ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ext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 the middl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86200" y="1295280"/>
            <a:ext cx="28288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е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проти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лева 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рава 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коло, ряд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коло, ряд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середи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4479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2438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429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410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21T01:42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