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BE4-25B0-4850-B934-B2271200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B46-26A7-4686-A1F5-E0E32BA5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467-5BA1-403B-8BC4-D8C19F1A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9AE-3A7A-4B56-88B8-11623D91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0FDFD-0599-43FC-92A3-A55C7830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9DF89-B65E-4EB4-A3CD-07AD3EC9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4068A-8AA0-4D1F-8BA5-5BEFCAE0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431C7-BE12-428A-889D-F46AE5F1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0C3A9-40A4-41ED-A931-9B96BA1C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BA6A3-28E4-4669-AADC-03CAFAC3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809F3-C41C-4AA2-9C35-7B481C6D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F92-6B34-4392-8F6A-A5077D11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46607-6EFE-480F-9F7C-23A9C59F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2BF14-6567-475D-8167-8B8400EE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F1466-AB7F-4519-9B9B-21F203CA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DE20D-F5C0-4F9B-B929-A75ABDD0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C646F-203D-4A49-AB2D-3D4EC060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553-6149-433F-B6A8-38029026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F22-9452-4C7A-8CD4-98A07465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F78-2E3C-485B-A9BC-3CA10F39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0BC-C9C5-43A2-AD93-02C51F5D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647-67AD-4515-9E6C-4845A8BA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488-4F33-4683-9CED-11288603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858-7AA3-456C-A529-6E088685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5095-0A16-4D0E-B4FD-426909A72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1573-7AB9-4569-B280-85C39AF1D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cc00ff"/>
                </a:solidFill>
                <a:latin typeface="Times New Roman"/>
              </a:rPr>
              <a:t>Семья</a:t>
            </a:r>
            <a:endParaRPr b="0" lang="en-US" sz="1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248000" cy="424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20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Помогите найти деткам родител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Корова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жеребенок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ко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Кошка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теленок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Зайчиха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щенок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пе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Лошадь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котенок  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бы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Собака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зайчонок    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ко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-5291640"/>
            <a:ext cx="206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8100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Семья – это группа живущих      вместе родственников.</a:t>
            </a:r>
            <a:br>
              <a:rPr sz="4800"/>
            </a:b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                (словарь русского языка С.И.Ожегов)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Семья – это родители и дети.</a:t>
            </a:r>
            <a:br>
              <a:rPr sz="4800"/>
            </a:b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современная действительность)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45370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4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91960"/>
            <a:ext cx="7859880" cy="60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При солнышке тепло, при матери добро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6857640"/>
            <a:ext cx="1332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7520" y="260280"/>
            <a:ext cx="62895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600"/>
                            </p:stCondLst>
                            <p:childTnLst>
                              <p:par>
                                <p:cTn id="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00360" y="285264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868840" cy="4292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12000" y="1700280"/>
            <a:ext cx="2911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7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Качества счастливой семь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39640" y="1275480"/>
            <a:ext cx="5903280" cy="5530320"/>
            <a:chOff x="2339640" y="1275480"/>
            <a:chExt cx="5903280" cy="5530320"/>
          </a:xfrm>
        </p:grpSpPr>
        <p:sp>
          <p:nvSpPr>
            <p:cNvPr id="100" name="_s38933"/>
            <p:cNvSpPr/>
            <p:nvPr/>
          </p:nvSpPr>
          <p:spPr>
            <a:xfrm flipH="1" flipV="1">
              <a:off x="4113720" y="325224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38932"/>
            <p:cNvSpPr/>
            <p:nvPr/>
          </p:nvSpPr>
          <p:spPr>
            <a:xfrm>
              <a:off x="2775960" y="2084400"/>
              <a:ext cx="1504800" cy="14367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ол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пере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близким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8931"/>
            <p:cNvSpPr/>
            <p:nvPr/>
          </p:nvSpPr>
          <p:spPr>
            <a:xfrm flipH="1">
              <a:off x="3825360" y="4307400"/>
              <a:ext cx="732240" cy="159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38930"/>
            <p:cNvSpPr/>
            <p:nvPr/>
          </p:nvSpPr>
          <p:spPr>
            <a:xfrm>
              <a:off x="2339640" y="3907440"/>
              <a:ext cx="1504800" cy="14360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заим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поним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38929"/>
            <p:cNvSpPr/>
            <p:nvPr/>
          </p:nvSpPr>
          <p:spPr>
            <a:xfrm flipH="1">
              <a:off x="4638960" y="4794120"/>
              <a:ext cx="327600" cy="64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8928"/>
            <p:cNvSpPr/>
            <p:nvPr/>
          </p:nvSpPr>
          <p:spPr>
            <a:xfrm>
              <a:off x="3560040" y="5369760"/>
              <a:ext cx="1504800" cy="143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Вер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38927"/>
            <p:cNvSpPr/>
            <p:nvPr/>
          </p:nvSpPr>
          <p:spPr>
            <a:xfrm>
              <a:off x="5618520" y="4791600"/>
              <a:ext cx="32400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8926"/>
            <p:cNvSpPr/>
            <p:nvPr/>
          </p:nvSpPr>
          <p:spPr>
            <a:xfrm>
              <a:off x="5518440" y="5369760"/>
              <a:ext cx="1504080" cy="14360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ружб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38925"/>
            <p:cNvSpPr/>
            <p:nvPr/>
          </p:nvSpPr>
          <p:spPr>
            <a:xfrm>
              <a:off x="6023160" y="4304880"/>
              <a:ext cx="732960" cy="16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38924"/>
            <p:cNvSpPr/>
            <p:nvPr/>
          </p:nvSpPr>
          <p:spPr>
            <a:xfrm>
              <a:off x="6738840" y="3907440"/>
              <a:ext cx="1504080" cy="1436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Терп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38923"/>
            <p:cNvSpPr/>
            <p:nvPr/>
          </p:nvSpPr>
          <p:spPr>
            <a:xfrm flipV="1">
              <a:off x="5878800" y="325224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38922"/>
            <p:cNvSpPr/>
            <p:nvPr/>
          </p:nvSpPr>
          <p:spPr>
            <a:xfrm>
              <a:off x="6302880" y="2084400"/>
              <a:ext cx="1504080" cy="14367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Уваж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38921"/>
            <p:cNvSpPr/>
            <p:nvPr/>
          </p:nvSpPr>
          <p:spPr>
            <a:xfrm flipV="1">
              <a:off x="5290560" y="2711160"/>
              <a:ext cx="0" cy="71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38920"/>
            <p:cNvSpPr/>
            <p:nvPr/>
          </p:nvSpPr>
          <p:spPr>
            <a:xfrm>
              <a:off x="4538160" y="1275480"/>
              <a:ext cx="1504080" cy="14360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Любов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38919"/>
            <p:cNvSpPr/>
            <p:nvPr/>
          </p:nvSpPr>
          <p:spPr>
            <a:xfrm>
              <a:off x="4538160" y="3430080"/>
              <a:ext cx="1504080" cy="1436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Семь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10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e0000"/>
                </a:solidFill>
                <a:latin typeface="Times New Roman"/>
              </a:rPr>
              <a:t>Государство – это большая семья, </a:t>
            </a:r>
            <a:br>
              <a:rPr sz="6000"/>
            </a:br>
            <a:r>
              <a:rPr b="1" lang="en-US" sz="6000" spc="-1" strike="noStrike">
                <a:solidFill>
                  <a:srgbClr val="de0000"/>
                </a:solidFill>
                <a:latin typeface="Times New Roman"/>
              </a:rPr>
              <a:t>а семья – это маленькое государство.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Великий философ Конфу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630828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1720800">
            <a:off x="1979280" y="4652640"/>
            <a:ext cx="1638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Допишите 5 определений счастливой семь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600"/>
                </a:solidFill>
                <a:latin typeface="Times New Roman"/>
              </a:rPr>
              <a:t>Семья будет счастливой если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246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750"/>
                            </p:stCondLst>
                            <p:childTnLst>
                              <p:par>
                                <p:cTn id="13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250"/>
                            </p:stCondLst>
                            <p:childTnLst>
                              <p:par>
                                <p:cTn id="1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4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Объясните послови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Родители трудолюбивы и дети не ленив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Где любовь да совет там и горя н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Кто детям потакает, тот потом слезы пролива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Детей наказывай стыдом, а не грозою и бич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96360" y="189000"/>
            <a:ext cx="1349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"/>
                            </p:stCondLst>
                            <p:childTnLst>
                              <p:par>
                                <p:cTn id="1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700"/>
                            </p:stCondLst>
                            <p:childTnLst>
                              <p:par>
                                <p:cTn id="1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700"/>
                            </p:stCondLst>
                            <p:childTnLst>
                              <p:par>
                                <p:cTn id="1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700"/>
                            </p:stCondLst>
                            <p:childTnLst>
                              <p:par>
                                <p:cTn id="18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4700"/>
                            </p:stCondLst>
                            <p:childTnLst>
                              <p:par>
                                <p:cTn id="1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4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1:34:10Z</dcterms:created>
  <dc:creator>1</dc:creator>
  <dc:description/>
  <dc:language>en-US</dc:language>
  <cp:lastModifiedBy>1</cp:lastModifiedBy>
  <dcterms:modified xsi:type="dcterms:W3CDTF">2008-02-08T07:23:33Z</dcterms:modified>
  <cp:revision>7</cp:revision>
  <dc:subject/>
  <dc:title>Слайд 1</dc:title>
</cp:coreProperties>
</file>