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84D-442A-40FA-A550-FE6D3E7E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EDA-E379-4BAC-AB11-FACBE38D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8CA-D28B-4DC8-9463-BAB0DAA1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C0C-ABDB-4B69-A1E5-216CCC79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31F-18DC-4822-BA83-99EBF7F9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A485-781B-49FC-9EAE-387C184B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EDBB-38A5-480A-B417-B23A58C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5A8-6B74-40EF-867D-39F8A63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FF0-C3D9-44EF-B911-FBD1366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F141-5DB8-483F-84AD-002E09C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5E3-9787-4D83-B10A-218820E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135-8417-48D0-9D4D-4F03B7FF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8B81-F299-4E04-9E1A-0DBEDC8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93DC-3F93-4283-BE14-9A29253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0AE3-F67B-458C-AFEE-1303D24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8891-7D3D-4E31-9003-F563CB0C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77CA-2B9F-416B-80CD-60EB1DD0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C47-13FD-443B-A55F-7585F933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F70-1694-4712-857B-293AB812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B9C-CFCF-4713-80EF-8B86C2E3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B36-F068-42C6-9B96-4C36074B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081-674C-4A7B-9340-E4A727F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933-B6DE-4F07-B9CD-BC3BEFC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FB5-A70A-4ED6-8E12-68DF4DDA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B325-0296-4983-8236-1912020478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19D-E09C-4B36-A114-A42E3A783B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ez-mousosh4.narod.ru/" TargetMode="External"/><Relationship Id="rId2" Type="http://schemas.openxmlformats.org/officeDocument/2006/relationships/hyperlink" Target="http://www.bez-mousosh4.narod.ru/" TargetMode="External"/><Relationship Id="rId3" Type="http://schemas.openxmlformats.org/officeDocument/2006/relationships/hyperlink" Target="http://www.bez-mousosh4.narod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56144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ЩЕШКОЛЬНОЕ РОДИТЕЛЬСКОЕ СОБР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02.10.2012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ГБОУ СОШ № 4 п.г.т.Безенчук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2012-2013 учебный го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2332080"/>
          <a:ext cx="8137800" cy="4244760"/>
        </p:xfrm>
        <a:graphic>
          <a:graphicData uri="http://schemas.openxmlformats.org/drawingml/2006/table">
            <a:tbl>
              <a:tblPr/>
              <a:tblGrid>
                <a:gridCol w="3457800"/>
                <a:gridCol w="2448000"/>
                <a:gridCol w="22320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именование критерия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-201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2-2013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учащихся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24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37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класс-комплектов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3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3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воспитанников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5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дошкольных групп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мена  - 636 чел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мена - 101 чел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ГОС- 1-2 классы - штатный реж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ГОС- 5 классы - режим эксперимен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10-11 классы - профильное обуч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оциально- экономический профи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женер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ведение ОРКСЭ в 4-5 класс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Курс «Основы религиозных культур и светской этик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 полученном в ГБОУ СОШ № 4 п.г.т. Безенчук оборудован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мплекты оборудования для обучения детей - инвалидов в рамках региональной программы «Доступная среда» - 6 единиц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утбуки учительские - 10 единиц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ноблок учительский -1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утбук ученический-7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еспроводная точка доступа -1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орудование для реализации ФГОС на ступени начального общего образования- 29 единиц (2 комплекта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хнологическое оборудование  по  региональной программе «Индустриализация  школьных пищеблоков- 43 единиц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уплена  компьютерная техника на сумму 309 000 (тыс.) рублей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4.09.12 получено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енических ноутбуков - 28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ноблоков- 2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еспроводных точек доступа - 2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61480" y="433080"/>
            <a:ext cx="778716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пективы развития ОУ и задачи на следующий отчетный период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(2012-2013 учебный  год)*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должить работу по реализации ФГОС второго поколения на ступени начального общего образования  в штатном режиме (1-2 классы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работать механизм внедрения ФГОС второго поколения на ступени основного общего образования в экспериментальном режиме (5 класс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ть условия для реализации программ профильного обучения на ступени среднего (полного) общего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должить  мониторинговую деятельность по качеству обучения  учащихся на всех ступеня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56800" y="499680"/>
            <a:ext cx="773460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пективы развития ОУ и задачи на следующий отчетный период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(2012-2013 учебный  год)*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вести показатели охвата горячим питанием учащихся  до 95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должить работу по совершенствованию инфраструктуры 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ть создание условий, способствующих развитию личности, адаптированной к условиям современной жизни, сохранению здоровья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*в соответствии с целями и задачами региональной  и федеральной системы образов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Адрес сайта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http://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bez-</a:t>
            </a: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ousosh4.narod.ru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55640" y="472428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АСУ     </a:t>
            </a: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 http://80.234.35.17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2:34:49Z</dcterms:created>
  <dc:creator>Физика</dc:creator>
  <dc:description/>
  <dc:language>en-US</dc:language>
  <cp:lastModifiedBy>Admin</cp:lastModifiedBy>
  <dcterms:modified xsi:type="dcterms:W3CDTF">2013-03-20T13:14:33Z</dcterms:modified>
  <cp:revision>2</cp:revision>
  <dc:subject/>
  <dc:title>Слайд 1</dc:title>
</cp:coreProperties>
</file>