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B4D-4E78-4FF4-BF58-1ABC7608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971-7662-43A3-889E-9510E36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ADE-1E82-424F-8BEE-18FAE86B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613-58DB-4DD1-A108-FBA33566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932F-6A95-4E17-8250-CD92B8DD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FC2B-5E63-4357-A0DF-26F96F9D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9485-3B8B-4A77-8289-6A8F5167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B5AF-D4AB-4274-8827-FDB4205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0FB2-B13A-4C03-A312-173AA7E5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C203-A621-483B-A871-54BF348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2B41-AE41-4451-81A7-ECF8A0C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EB7-D514-4FAD-A9D4-1D8C03C4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AE06-FDA1-4B2E-B2AA-7BF932A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9D78-992D-4D4B-8929-7AD9EDF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057A-1944-4099-AA6F-6DD0B471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ADB7-5659-4D87-BBB8-7A080E4A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1D91-B881-4FD5-9E00-1802B640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B49-F6F7-4C2F-8106-EA101555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E18-4725-4E8C-82AE-7EE6DB6D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24E-7A3D-4F19-8118-FC050114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2DB-7F2F-45C3-9AC8-217483BD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6F5-01BC-4BAB-83AA-DA82417E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6CC-8717-4EFD-BB26-15626EA3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923-6A84-466C-953E-F480FB59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5BCB-2F17-4960-ACC6-4167D0F4B8A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98BF-12BF-4F4D-A267-2ABB1F80090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ez-mousosh4.narod.ru/" TargetMode="External"/><Relationship Id="rId2" Type="http://schemas.openxmlformats.org/officeDocument/2006/relationships/hyperlink" Target="http://www.bez-mousosh4.narod.ru/" TargetMode="External"/><Relationship Id="rId3" Type="http://schemas.openxmlformats.org/officeDocument/2006/relationships/hyperlink" Target="http://www.bez-mousosh4.narod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74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56144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БЩЕШКОЛЬНОЕ РОДИТЕЛЬСКОЕ СОБРА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02.10.2012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ГБОУ СОШ № 4 п.г.т.Безенчук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2012-2013 учебный год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2332080"/>
          <a:ext cx="8137800" cy="4244760"/>
        </p:xfrm>
        <a:graphic>
          <a:graphicData uri="http://schemas.openxmlformats.org/drawingml/2006/table">
            <a:tbl>
              <a:tblPr/>
              <a:tblGrid>
                <a:gridCol w="3457800"/>
                <a:gridCol w="2448000"/>
                <a:gridCol w="22320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именование критерия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-2012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2-2013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учащихся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24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37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класс-комплектов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3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3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воспитанников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2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5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дошкольных групп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мена  - 636 чел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мена - 101 чел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ГОС- 1-2 классы - штатный реж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ГОС- 5 классы - режим эксперимен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10-11 классы - профильное обучен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оциально- экономический профи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женер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ведение ОРКСЭ в 4-5 класс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(Курс «Основы религиозных культур и светской этик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формация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 полученном в ГБОУ СОШ № 4 п.г.т. Безенчук оборудован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мплекты оборудования для обучения детей - инвалидов в рамках региональной программы «Доступная среда» - 6 единиц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утбуки учительские - 10 единиц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ноблок учительский -1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утбук ученический-7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еспроводная точка доступа -1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орудование для реализации ФГОС на ступени начального общего образования- 29 единиц (2 комплекта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ехнологическое оборудование  по  региональной программе «Индустриализация  школьных пищеблоков- 43 единиц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уплена  компьютерная техника на сумму 309 000 (тыс.) рублей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24.09.12 получено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енических ноутбуков - 28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ноблоков- 2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еспроводных точек доступа - 2 ш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61480" y="433080"/>
            <a:ext cx="778716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пективы развития ОУ и задачи на следующий отчетный период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(2012-2013 учебный  год)*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должить работу по реализации ФГОС второго поколения на ступени начального общего образования  в штатном режиме (1-2 классы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работать механизм внедрения ФГОС второго поколения на ступени основного общего образования в экспериментальном режиме (5 класс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еспечить условия для реализации программ профильного обучения на ступени среднего (полного) общего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должить  мониторинговую деятельность по качеству обучения  учащихся на всех ступеня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56800" y="499680"/>
            <a:ext cx="773460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пективы развития ОУ и задачи на следующий отчетный период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(2012-2013 учебный  год)*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овести показатели охвата горячим питанием учащихся  до 95%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должить работу по совершенствованию инфраструктуры О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еспечить создание условий, способствующих развитию личности, адаптированной к условиям современной жизни, сохранению здоровья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*в соответствии с целями и задачами региональной  и федеральной системы образов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Адрес сайта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http://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bez-</a:t>
            </a: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ousosh4.narod.ru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55640" y="472428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АСУ     </a:t>
            </a:r>
            <a:r>
              <a:rPr b="1" i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 http://80.234.35.17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2:34:49Z</dcterms:created>
  <dc:creator>Физика</dc:creator>
  <dc:description/>
  <dc:language>en-US</dc:language>
  <cp:lastModifiedBy>Admin</cp:lastModifiedBy>
  <dcterms:modified xsi:type="dcterms:W3CDTF">2013-03-20T13:14:33Z</dcterms:modified>
  <cp:revision>2</cp:revision>
  <dc:subject/>
  <dc:title>Слайд 1</dc:title>
</cp:coreProperties>
</file>